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3D4-CE6C-4F39-AD21-C5FB7CB4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125-B468-4B9A-A7E6-1197748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6E7-8362-4189-A38C-B3A1713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A7C-958D-4AE9-A0F3-70F5738B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3BB1-7E7F-457F-B070-972C6185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CDE-645E-451A-B99E-6597733E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F05-8C80-4747-8F42-E320BCA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B50-FD84-4B9E-A2FC-D944D81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550-9CBB-4B62-AC3D-434645B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A7AB-0C64-485F-AB7F-56F497B7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67C-8D68-4B8B-B7EC-1A88734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8A5-5E50-4E86-8B7D-74B28EDF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B9B-0D87-4D62-8BDA-30B60F8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EBD3-2162-41E4-ADF9-6477FFF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73D-1FFD-4C3A-82E8-04EC51F0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12F-8886-4E6C-BDE2-7A767E42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9783-199A-4851-A347-DF4F85A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C4CE-7894-4141-A2EE-F6EACCE8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9C38-56AA-4B90-909D-D87FDAFD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AC13-EDC9-4488-8AF2-302DA637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A490-AB5F-4545-B95D-0AD9D7C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2CEC-B95E-44D3-8644-4F7E39F3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E41-56DA-4C2D-9438-55F3E3C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E42D-ED24-4E55-9B7E-F035D37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E387-36ED-4EF8-B54B-F246ADC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1DAB-B210-4BBF-8BE0-90B8458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C6DA-1A4F-43E5-8523-5F634BBF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DEEC-6692-4C13-AC03-0660259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922B-360D-444C-AE8A-E734E3F7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167A-8A48-4CDC-B72E-FE011AD6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F1E5-8AE5-49B1-AE8B-C0FF8972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C5AC-8D00-4E9A-B7D4-15942F28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B35E-4A87-4561-85B7-672FE18E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F9E-DD4E-455B-835A-6EEDB13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2FC0-4D45-48D3-9169-C346A24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14B6-E64E-4B6F-9196-A4EE856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8E84-C8B0-445E-B796-0100E05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118B-4763-4324-B501-72FC4C7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366F9-AA38-4403-A2C7-5081A96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8D4C-A962-4059-AA64-8361E19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0268-966A-478D-9C64-4918998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BB25-4DD8-485C-B22C-8BC753F2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95F4-833E-46ED-B478-AB3DFFAE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826-440A-4FA3-AECD-A410FD6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9A-8A93-4A40-8FEE-0B3912C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4C7-A7A2-48E1-9781-770557B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0EB-7A58-4B32-B4CA-FDEF81A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B40-705D-4D21-BD53-E13A727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55E7E0-9D19-41F7-A264-795D4ABAB54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1E93F-E518-4466-B568-0013A20453D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5F098-EB6D-49BF-8BCB-EA0435C3BD3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11227-3582-45DA-B3E5-4C6542CB6E5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600" spc="-1" strike="noStrike" cap="all">
                <a:solidFill>
                  <a:srgbClr val="000000"/>
                </a:solidFill>
                <a:latin typeface="Trebuchet MS"/>
              </a:rPr>
              <a:t>23 </a:t>
            </a:r>
            <a:r>
              <a:rPr b="1" lang="ru-RU" sz="6600" spc="-1" strike="noStrike" cap="all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февраля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День защитника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388120" y="551736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ябичкин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етский сад №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800" spc="-1" strike="noStrike" cap="all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Загадки на военную тематику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8" name="Содержимое 3" descr="4181502.jpg"/>
          <p:cNvPicPr/>
          <p:nvPr/>
        </p:nvPicPr>
        <p:blipFill>
          <a:blip r:embed="rId1"/>
          <a:stretch/>
        </p:blipFill>
        <p:spPr>
          <a:xfrm>
            <a:off x="107640" y="4221000"/>
            <a:ext cx="3520800" cy="2506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9" name="Прямоугольник 5"/>
          <p:cNvSpPr/>
          <p:nvPr/>
        </p:nvSpPr>
        <p:spPr>
          <a:xfrm>
            <a:off x="3420000" y="1845000"/>
            <a:ext cx="4571640" cy="2222640"/>
          </a:xfrm>
          <a:prstGeom prst="rect">
            <a:avLst/>
          </a:prstGeom>
          <a:gradFill rotWithShape="0">
            <a:gsLst>
              <a:gs pos="0">
                <a:srgbClr val="f6eafb"/>
              </a:gs>
              <a:gs pos="100000">
                <a:srgbClr val="e1b9ed"/>
              </a:gs>
            </a:gsLst>
            <a:lin ang="5400000"/>
          </a:gradFill>
          <a:ln>
            <a:solidFill>
              <a:srgbClr val="ac66bb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Хожу в железном    панцире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 Бронею весь обшитый.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Стреляю я снарядами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Arial"/>
              </a:rPr>
              <a:t>   Я очень грозный с ви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одержимое 3" descr="submarine-wallpaper-1366x768.jpg"/>
          <p:cNvPicPr/>
          <p:nvPr/>
        </p:nvPicPr>
        <p:blipFill>
          <a:blip r:embed="rId1"/>
          <a:stretch/>
        </p:blipFill>
        <p:spPr>
          <a:xfrm>
            <a:off x="827640" y="2781000"/>
            <a:ext cx="6634800" cy="3729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1" name="Прямоугольник 6"/>
          <p:cNvSpPr/>
          <p:nvPr/>
        </p:nvSpPr>
        <p:spPr>
          <a:xfrm>
            <a:off x="2051640" y="260640"/>
            <a:ext cx="4571640" cy="3075840"/>
          </a:xfrm>
          <a:prstGeom prst="rect">
            <a:avLst/>
          </a:prstGeom>
          <a:gradFill rotWithShape="0">
            <a:gsLst>
              <a:gs pos="0">
                <a:srgbClr val="ffede9"/>
              </a:gs>
              <a:gs pos="100000">
                <a:srgbClr val="ffbdae"/>
              </a:gs>
            </a:gsLst>
            <a:lin ang="5400000"/>
          </a:gradFill>
          <a:ln>
            <a:solidFill>
              <a:srgbClr val="de6c3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Под водой железный кит,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   Днем и ночью кит не спит.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Днем и ночью под водой</a:t>
            </a:r>
            <a:br>
              <a:rPr sz="2800"/>
            </a:br>
            <a:r>
              <a:rPr b="0" lang="ru-RU" sz="2800" spc="-1" strike="noStrike">
                <a:solidFill>
                  <a:schemeClr val="dk1"/>
                </a:solidFill>
                <a:latin typeface="Trebuchet MS"/>
              </a:rPr>
              <a:t>Охраняет мо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>
            <a:off x="179640" y="188640"/>
            <a:ext cx="3149640" cy="2649960"/>
          </a:xfrm>
          <a:prstGeom prst="rect">
            <a:avLst/>
          </a:prstGeom>
          <a:gradFill rotWithShape="0">
            <a:gsLst>
              <a:gs pos="0">
                <a:srgbClr val="ffede9"/>
              </a:gs>
              <a:gs pos="100000">
                <a:srgbClr val="ffbdae"/>
              </a:gs>
            </a:gsLst>
            <a:lin ang="5400000"/>
          </a:gradFill>
          <a:ln>
            <a:solidFill>
              <a:srgbClr val="de6c3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Без разгона ввысь взлетаю,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Стрекозу напоминаю.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Отправляется в полет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Trebuchet MS"/>
              </a:rPr>
              <a:t>Наш Российск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vertolet-076.jpg"/>
          <p:cNvPicPr/>
          <p:nvPr/>
        </p:nvPicPr>
        <p:blipFill>
          <a:blip r:embed="rId1"/>
          <a:stretch/>
        </p:blipFill>
        <p:spPr>
          <a:xfrm>
            <a:off x="2915640" y="2925000"/>
            <a:ext cx="5018040" cy="3763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555640" y="116640"/>
            <a:ext cx="3077640" cy="1461240"/>
          </a:xfrm>
          <a:prstGeom prst="rect">
            <a:avLst/>
          </a:prstGeom>
          <a:gradFill rotWithShape="0">
            <a:gsLst>
              <a:gs pos="0">
                <a:srgbClr val="fff5ed"/>
              </a:gs>
              <a:gs pos="100000">
                <a:srgbClr val="ffdebc"/>
              </a:gs>
            </a:gsLst>
            <a:lin ang="5400000"/>
          </a:gradFill>
          <a:ln>
            <a:solidFill>
              <a:srgbClr val="f9b63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Ходит город-великан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На работу в океан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Содержимое 3" descr="ivan_golubetc_08.jpg"/>
          <p:cNvPicPr/>
          <p:nvPr/>
        </p:nvPicPr>
        <p:blipFill>
          <a:blip r:embed="rId1"/>
          <a:stretch/>
        </p:blipFill>
        <p:spPr>
          <a:xfrm>
            <a:off x="899640" y="1772640"/>
            <a:ext cx="6462000" cy="4846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ословицы и поговорки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4788000" y="980640"/>
            <a:ext cx="3333240" cy="19998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179640" y="1124640"/>
            <a:ext cx="6336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одины своей ни сил ни жизни не жа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на –мать умей за неё посто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ю нужны смекалка, отвага и зак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ть солдата береги свя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 тот солдат, который не мечтает стать генера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лого пуля боится, смелого штык не бер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за правое дело стоит, тот всегда побе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я дура , штык 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яжело в ученье, легко в б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смел, тот и на коня 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Анатолий\Desktop\kreml-moskwa.jpg"/>
          <p:cNvPicPr/>
          <p:nvPr/>
        </p:nvPicPr>
        <p:blipFill>
          <a:blip r:embed="rId1"/>
          <a:srcRect l="0" t="0" r="9416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486900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Trebuchet MS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1979640" y="404640"/>
            <a:ext cx="4571640" cy="5576040"/>
          </a:xfrm>
          <a:prstGeom prst="rect">
            <a:avLst/>
          </a:prstGeom>
          <a:solidFill>
            <a:srgbClr val="ffffff"/>
          </a:solidFill>
          <a:ln>
            <a:solidFill>
              <a:srgbClr val="ac66bb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dk1"/>
                </a:solidFill>
                <a:uFillTx/>
                <a:latin typeface="Trebuchet MS"/>
              </a:rPr>
              <a:t>Будущий муж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У меня пока игруш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Танки, пестики, хлопуш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Железные солда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Бронепоезд, автом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 когда настанет ср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Чтоб в армию пойти спокойно мо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Я с ребятами в иг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Тренируюсь во дв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Мы играем там в «Зарницу»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арисовали мне границ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а посту я! Стерег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Раз доверили – смог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 родители в ок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Глядят вслед с тревогой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Не переживайте вы за сы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Я же – будущий мужчи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В. Косови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260640"/>
            <a:ext cx="75207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ая арм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вооруженные силы нашей родины, которая защищает ее честь, независимость и свободу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6" name="Picture 3" descr="C:\Users\Анатолий\Desktop\1425996558_078033_14.jpg"/>
          <p:cNvPicPr/>
          <p:nvPr/>
        </p:nvPicPr>
        <p:blipFill>
          <a:blip r:embed="rId1"/>
          <a:stretch/>
        </p:blipFill>
        <p:spPr>
          <a:xfrm>
            <a:off x="971640" y="2493000"/>
            <a:ext cx="6670800" cy="3918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640" y="90864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вооруженные силы РФ входя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сухопутные войск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оенно-воздушные силы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ракетные  войска стратегического назначения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военно-морской флот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– войска противовоздушной обороны страны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Сухопутные войс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Объект 5" descr=""/>
          <p:cNvPicPr/>
          <p:nvPr/>
        </p:nvPicPr>
        <p:blipFill>
          <a:blip r:embed="rId1"/>
          <a:stretch/>
        </p:blipFill>
        <p:spPr>
          <a:xfrm>
            <a:off x="467640" y="692640"/>
            <a:ext cx="3312000" cy="2351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0" name="Объект 4" descr=""/>
          <p:cNvPicPr/>
          <p:nvPr/>
        </p:nvPicPr>
        <p:blipFill>
          <a:blip r:embed="rId2"/>
          <a:stretch/>
        </p:blipFill>
        <p:spPr>
          <a:xfrm>
            <a:off x="4716000" y="692640"/>
            <a:ext cx="3271680" cy="237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1" name="Рисунок 6" descr=""/>
          <p:cNvPicPr/>
          <p:nvPr/>
        </p:nvPicPr>
        <p:blipFill>
          <a:blip r:embed="rId3"/>
          <a:stretch/>
        </p:blipFill>
        <p:spPr>
          <a:xfrm>
            <a:off x="107640" y="3789000"/>
            <a:ext cx="4319280" cy="2478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2" name="Рисунок 7" descr=""/>
          <p:cNvPicPr/>
          <p:nvPr/>
        </p:nvPicPr>
        <p:blipFill>
          <a:blip r:embed="rId4"/>
          <a:stretch/>
        </p:blipFill>
        <p:spPr>
          <a:xfrm>
            <a:off x="4716000" y="3933000"/>
            <a:ext cx="3358800" cy="223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83" name="TextBox 8"/>
          <p:cNvSpPr/>
          <p:nvPr/>
        </p:nvSpPr>
        <p:spPr>
          <a:xfrm>
            <a:off x="1115640" y="3213000"/>
            <a:ext cx="187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Trebuchet MS"/>
              </a:rPr>
              <a:t>Рак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5652000" y="31410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ртилл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1547640" y="629856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х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5868000" y="6237360"/>
            <a:ext cx="100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оенно-воздушные силы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8" name="Объект 4" descr=""/>
          <p:cNvPicPr/>
          <p:nvPr/>
        </p:nvPicPr>
        <p:blipFill>
          <a:blip r:embed="rId1"/>
          <a:stretch/>
        </p:blipFill>
        <p:spPr>
          <a:xfrm>
            <a:off x="467640" y="3501000"/>
            <a:ext cx="3520800" cy="2409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89" name="Объект 5" descr=""/>
          <p:cNvPicPr/>
          <p:nvPr/>
        </p:nvPicPr>
        <p:blipFill>
          <a:blip r:embed="rId2"/>
          <a:stretch/>
        </p:blipFill>
        <p:spPr>
          <a:xfrm>
            <a:off x="2843640" y="692640"/>
            <a:ext cx="5055480" cy="226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0" name="TextBox 6"/>
          <p:cNvSpPr/>
          <p:nvPr/>
        </p:nvSpPr>
        <p:spPr>
          <a:xfrm>
            <a:off x="5004000" y="3213000"/>
            <a:ext cx="30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омбардировочные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4500000" y="551736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ртол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7776360" cy="90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Ракетные войска стратегического назначения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611640" y="1268640"/>
            <a:ext cx="7006680" cy="4968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4" name="TextBox 5"/>
          <p:cNvSpPr/>
          <p:nvPr/>
        </p:nvSpPr>
        <p:spPr>
          <a:xfrm>
            <a:off x="2195640" y="6309360"/>
            <a:ext cx="34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шина бое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оенно-морской флот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226080" y="764640"/>
            <a:ext cx="3697560" cy="2478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204360" cy="2488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8" name="Рисунок 6" descr=""/>
          <p:cNvPicPr/>
          <p:nvPr/>
        </p:nvPicPr>
        <p:blipFill>
          <a:blip r:embed="rId3"/>
          <a:stretch/>
        </p:blipFill>
        <p:spPr>
          <a:xfrm>
            <a:off x="1907640" y="3717000"/>
            <a:ext cx="5053320" cy="2794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9" name="TextBox 7"/>
          <p:cNvSpPr/>
          <p:nvPr/>
        </p:nvSpPr>
        <p:spPr>
          <a:xfrm>
            <a:off x="1115640" y="328500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рская ав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6156000" y="3285000"/>
            <a:ext cx="23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водная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492000" y="648864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оево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6768360" cy="54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Войска противовоздушной обороны страны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179640" y="1340640"/>
            <a:ext cx="4450680" cy="280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4" name="Объект 5" descr=""/>
          <p:cNvPicPr/>
          <p:nvPr/>
        </p:nvPicPr>
        <p:blipFill>
          <a:blip r:embed="rId2"/>
          <a:stretch/>
        </p:blipFill>
        <p:spPr>
          <a:xfrm>
            <a:off x="4500000" y="4221000"/>
            <a:ext cx="3520800" cy="2422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5" name="TextBox 6"/>
          <p:cNvSpPr/>
          <p:nvPr/>
        </p:nvSpPr>
        <p:spPr>
          <a:xfrm>
            <a:off x="4716000" y="3645000"/>
            <a:ext cx="26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молеты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2267640" y="630936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енитные р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61</TotalTime>
  <Application>LibreOffice/7.4.7.2$Linux_X86_64 LibreOffice_project/40$Build-2</Application>
  <AppVersion>15.0000</AppVersion>
  <Words>293</Words>
  <Paragraphs>75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56:54Z</dcterms:created>
  <dc:creator>лена</dc:creator>
  <dc:description/>
  <dc:language>en-US</dc:language>
  <cp:lastModifiedBy>Анатолий</cp:lastModifiedBy>
  <dcterms:modified xsi:type="dcterms:W3CDTF">2017-04-23T19:11:55Z</dcterms:modified>
  <cp:revision>18</cp:revision>
  <dc:subject/>
  <dc:title>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