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858-43F5-499B-822D-22D52BD8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ACB-A0C8-46D7-BC14-C5DE37D4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407-DE66-4961-9638-30727FA7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59C-DB13-44AB-A2C6-90B44B77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7EF4-4011-4E3D-8671-40203567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C574-7892-42DF-9AC0-EB8B5C14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058A-C1C5-4E97-876F-683F499B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23DE-F9C3-4A46-9E78-9E6AAE1C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42CC-609B-492D-92FB-89AFBD8F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B36E-DBEF-4F5B-A8E8-AEB2F78C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6A32-153F-4485-934B-A9C7E0E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3D0-00D5-4703-BE7B-232C0F9E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0F56-12F0-4CF0-96DB-B218130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42D2-971D-47FF-A60C-19C0E661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9FC0-C25C-445E-91F1-9C6B5ACA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6A87-0652-47C5-91BF-D4C180FF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25C5-0EB8-4577-A585-306B9EAE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F380B-4184-4057-B072-F2DC71F5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75C7-25C0-4B63-BF58-1C03F7F7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2C3E3-329D-4F4C-BA29-C34CF64B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C6237-D723-4285-9FE5-BDE694EB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AD48-45F4-4878-937B-7D1A19FB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354-7E5F-4A18-9704-0BD2B54F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679A-BDA8-48B3-BF4B-FC36AD66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68E8-C921-4CFA-B384-E943F78D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9EAF-2833-4CF7-B35D-5B04DC4C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2665-2729-49FA-AAE9-078717F7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7B7A-BAB2-4524-8598-343BDAAD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0D22-0EFD-48F5-96C2-6F8E8888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AB17-5A4B-4A80-A3FE-685D068A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ADC43-804E-4718-8F83-0FB39A38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F69D-FCD6-4B0F-8ACD-D249BFBA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5F06-0CB3-4B00-866F-F8745BC6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3D1-3229-41B4-B09F-F3D79C90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62D1-B134-4318-AC87-13C5261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7D8E-1FCD-4BEF-B0C5-1AC2B091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2C9E3-A54F-4B7F-BF4D-15CCCDD9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9B7B-ED2B-4B76-878F-3242882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AF49-41F0-409D-AB94-7553CBDD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D01F3-D3C7-4BB4-B940-536AADEB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99DD4-DA80-4748-BE45-1BE79DC4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C0CD-8A2A-4FBD-BB82-FEC9DD3C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41DA-1B0C-4F2D-920D-A64503DF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A13-6E70-4D0A-A785-3D497B5C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AA5-86E3-44C4-912B-297F4F8E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93E-30A0-4407-AB13-D881AB0E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4AE-D10F-441A-9C26-D964DB53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911-5E76-4E33-AE66-C1750093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A8388F-271A-469D-9D1A-D1372081BDCF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17888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539A81-4F88-4408-B649-ADD92CDB905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32B68E-5528-4935-AAAE-69A8074D13C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11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73F8C0-877D-43EC-9378-080AA9E2DC2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6600" spc="-1" strike="noStrike" cap="all">
                <a:solidFill>
                  <a:srgbClr val="000000"/>
                </a:solidFill>
                <a:latin typeface="Trebuchet MS"/>
              </a:rPr>
              <a:t>23 </a:t>
            </a:r>
            <a:r>
              <a:rPr b="1" lang="ru-RU" sz="6600" spc="-1" strike="noStrike" cap="all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февраля</a:t>
            </a:r>
            <a:endParaRPr b="0" lang="ru-RU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520" cy="110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День защитника от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5388120" y="5517360"/>
            <a:ext cx="33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готовила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ябичкина Н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Детский сад №1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800" spc="-1" strike="noStrike" cap="all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Загадки на военную тематику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8" name="Содержимое 3" descr="4181502.jpg"/>
          <p:cNvPicPr/>
          <p:nvPr/>
        </p:nvPicPr>
        <p:blipFill>
          <a:blip r:embed="rId1"/>
          <a:stretch/>
        </p:blipFill>
        <p:spPr>
          <a:xfrm>
            <a:off x="107640" y="4221000"/>
            <a:ext cx="3520800" cy="2506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09" name="Прямоугольник 5"/>
          <p:cNvSpPr/>
          <p:nvPr/>
        </p:nvSpPr>
        <p:spPr>
          <a:xfrm>
            <a:off x="3420000" y="1845000"/>
            <a:ext cx="4571640" cy="2222640"/>
          </a:xfrm>
          <a:prstGeom prst="rect">
            <a:avLst/>
          </a:prstGeom>
          <a:gradFill rotWithShape="0">
            <a:gsLst>
              <a:gs pos="0">
                <a:srgbClr val="f6eafb"/>
              </a:gs>
              <a:gs pos="100000">
                <a:srgbClr val="e1b9ed"/>
              </a:gs>
            </a:gsLst>
            <a:lin ang="5400000"/>
          </a:gradFill>
          <a:ln>
            <a:solidFill>
              <a:srgbClr val="ac66bb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Arial"/>
              </a:rPr>
              <a:t>Хожу в железном    панцире,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Arial"/>
              </a:rPr>
              <a:t> Бронею весь обшитый.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Arial"/>
              </a:rPr>
              <a:t>Стреляю я снарядами,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Arial"/>
              </a:rPr>
              <a:t>   Я очень грозный с ви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Содержимое 3" descr="submarine-wallpaper-1366x768.jpg"/>
          <p:cNvPicPr/>
          <p:nvPr/>
        </p:nvPicPr>
        <p:blipFill>
          <a:blip r:embed="rId1"/>
          <a:stretch/>
        </p:blipFill>
        <p:spPr>
          <a:xfrm>
            <a:off x="827640" y="2781000"/>
            <a:ext cx="6634800" cy="3729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11" name="Прямоугольник 6"/>
          <p:cNvSpPr/>
          <p:nvPr/>
        </p:nvSpPr>
        <p:spPr>
          <a:xfrm>
            <a:off x="2051640" y="260640"/>
            <a:ext cx="4571640" cy="3075840"/>
          </a:xfrm>
          <a:prstGeom prst="rect">
            <a:avLst/>
          </a:prstGeom>
          <a:gradFill rotWithShape="0">
            <a:gsLst>
              <a:gs pos="0">
                <a:srgbClr val="ffede9"/>
              </a:gs>
              <a:gs pos="100000">
                <a:srgbClr val="ffbdae"/>
              </a:gs>
            </a:gsLst>
            <a:lin ang="5400000"/>
          </a:gradFill>
          <a:ln>
            <a:solidFill>
              <a:srgbClr val="de6c3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rebuchet MS"/>
              </a:rPr>
              <a:t>Под водой железный кит,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Trebuchet MS"/>
              </a:rPr>
              <a:t>   Днем и ночью кит не спит.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Trebuchet MS"/>
              </a:rPr>
              <a:t>Днем и ночью под водой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Trebuchet MS"/>
              </a:rPr>
              <a:t>Охраняет мой п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5"/>
          <p:cNvSpPr/>
          <p:nvPr/>
        </p:nvSpPr>
        <p:spPr>
          <a:xfrm>
            <a:off x="179640" y="188640"/>
            <a:ext cx="3149640" cy="2649960"/>
          </a:xfrm>
          <a:prstGeom prst="rect">
            <a:avLst/>
          </a:prstGeom>
          <a:gradFill rotWithShape="0">
            <a:gsLst>
              <a:gs pos="0">
                <a:srgbClr val="ffede9"/>
              </a:gs>
              <a:gs pos="100000">
                <a:srgbClr val="ffbdae"/>
              </a:gs>
            </a:gsLst>
            <a:lin ang="5400000"/>
          </a:gradFill>
          <a:ln>
            <a:solidFill>
              <a:srgbClr val="de6c3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rebuchet MS"/>
              </a:rPr>
              <a:t>Без разгона ввысь взлетаю,</a:t>
            </a:r>
            <a:br>
              <a:rPr sz="2400"/>
            </a:br>
            <a:r>
              <a:rPr b="0" lang="ru-RU" sz="2400" spc="-1" strike="noStrike">
                <a:solidFill>
                  <a:schemeClr val="dk1"/>
                </a:solidFill>
                <a:latin typeface="Trebuchet MS"/>
              </a:rPr>
              <a:t>Стрекозу напоминаю.</a:t>
            </a:r>
            <a:br>
              <a:rPr sz="2400"/>
            </a:br>
            <a:r>
              <a:rPr b="0" lang="ru-RU" sz="2400" spc="-1" strike="noStrike">
                <a:solidFill>
                  <a:schemeClr val="dk1"/>
                </a:solidFill>
                <a:latin typeface="Trebuchet MS"/>
              </a:rPr>
              <a:t>Отправляется в полет</a:t>
            </a:r>
            <a:br>
              <a:rPr sz="2400"/>
            </a:br>
            <a:r>
              <a:rPr b="0" lang="ru-RU" sz="2400" spc="-1" strike="noStrike">
                <a:solidFill>
                  <a:schemeClr val="dk1"/>
                </a:solidFill>
                <a:latin typeface="Trebuchet MS"/>
              </a:rPr>
              <a:t>Наш Российск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vertolet-076.jpg"/>
          <p:cNvPicPr/>
          <p:nvPr/>
        </p:nvPicPr>
        <p:blipFill>
          <a:blip r:embed="rId1"/>
          <a:stretch/>
        </p:blipFill>
        <p:spPr>
          <a:xfrm>
            <a:off x="2915640" y="2925000"/>
            <a:ext cx="5018040" cy="37634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555640" y="116640"/>
            <a:ext cx="3077640" cy="1461240"/>
          </a:xfrm>
          <a:prstGeom prst="rect">
            <a:avLst/>
          </a:prstGeom>
          <a:gradFill rotWithShape="0">
            <a:gsLst>
              <a:gs pos="0">
                <a:srgbClr val="fff5ed"/>
              </a:gs>
              <a:gs pos="100000">
                <a:srgbClr val="ffdebc"/>
              </a:gs>
            </a:gsLst>
            <a:lin ang="5400000"/>
          </a:gradFill>
          <a:ln>
            <a:solidFill>
              <a:srgbClr val="f9b63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</a:rPr>
              <a:t>Ходит город-великан</a:t>
            </a:r>
            <a:br>
              <a:rPr sz="2400"/>
            </a:br>
            <a:r>
              <a:rPr b="0" lang="ru-RU" sz="2400" spc="-1" strike="noStrike">
                <a:solidFill>
                  <a:schemeClr val="dk1"/>
                </a:solidFill>
                <a:latin typeface="Arial"/>
              </a:rPr>
              <a:t>На работу в океан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Содержимое 3" descr="ivan_golubetc_08.jpg"/>
          <p:cNvPicPr/>
          <p:nvPr/>
        </p:nvPicPr>
        <p:blipFill>
          <a:blip r:embed="rId1"/>
          <a:stretch/>
        </p:blipFill>
        <p:spPr>
          <a:xfrm>
            <a:off x="899640" y="1772640"/>
            <a:ext cx="6462000" cy="48463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1640" y="332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ословицы и поговорки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Рисунок 4" descr=""/>
          <p:cNvPicPr/>
          <p:nvPr/>
        </p:nvPicPr>
        <p:blipFill>
          <a:blip r:embed="rId1"/>
          <a:stretch/>
        </p:blipFill>
        <p:spPr>
          <a:xfrm>
            <a:off x="4788000" y="980640"/>
            <a:ext cx="3333240" cy="19998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6"/>
          <p:cNvSpPr/>
          <p:nvPr/>
        </p:nvSpPr>
        <p:spPr>
          <a:xfrm>
            <a:off x="179640" y="1124640"/>
            <a:ext cx="63363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одины своей ни сил ни жизни не жа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на –мать умей за неё посто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ю нужны смекалка, отвага и зак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сть солдата береги свя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 тот солдат, который не мечтает стать генера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лого пуля боится, смелого штык не бер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то за правое дело стоит, тот всегда побе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ля дура , штык молод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яжело в ученье, легко в б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то смел, тот и на коня 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Анатолий\Desktop\kreml-moskwa.jpg"/>
          <p:cNvPicPr/>
          <p:nvPr/>
        </p:nvPicPr>
        <p:blipFill>
          <a:blip r:embed="rId1"/>
          <a:srcRect l="0" t="0" r="9416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0" y="486900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Trebuchet MS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1979640" y="404640"/>
            <a:ext cx="4571640" cy="5576040"/>
          </a:xfrm>
          <a:prstGeom prst="rect">
            <a:avLst/>
          </a:prstGeom>
          <a:solidFill>
            <a:srgbClr val="ffffff"/>
          </a:solidFill>
          <a:ln>
            <a:solidFill>
              <a:srgbClr val="ac66bb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chemeClr val="dk1"/>
                </a:solidFill>
                <a:uFillTx/>
                <a:latin typeface="Trebuchet MS"/>
              </a:rPr>
              <a:t>Будущий муж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У меня пока игруш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Танки, пестики, хлопуш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Железные солда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Бронепоезд, автом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А когда настанет ср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Чтоб в армию пойти спокойно мо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Я с ребятами в иг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Тренируюсь во дв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Мы играем там в «Зарницу»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Нарисовали мне границ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На посту я! Стерег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Раз доверили – смог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А родители в ок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Глядят вслед с тревогой м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Не переживайте вы за сы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Я же – будущий мужчи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В. Косовиц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3640" y="260640"/>
            <a:ext cx="752076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йская арм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вооруженные силы нашей родины, которая защищает ее честь, независимость и свободу.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6" name="Picture 3" descr="C:\Users\Анатолий\Desktop\1425996558_078033_14.jpg"/>
          <p:cNvPicPr/>
          <p:nvPr/>
        </p:nvPicPr>
        <p:blipFill>
          <a:blip r:embed="rId1"/>
          <a:stretch/>
        </p:blipFill>
        <p:spPr>
          <a:xfrm>
            <a:off x="971640" y="2493000"/>
            <a:ext cx="6670800" cy="3918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5640" y="90864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вооруженные силы РФ входя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сухопутные войск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военно-воздушные силы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– ракетные  войска стратегического назначения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– военно-морской флот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– войска противовоздушной обороны страны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7640" y="116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Сухопутные войс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9" name="Объект 5" descr=""/>
          <p:cNvPicPr/>
          <p:nvPr/>
        </p:nvPicPr>
        <p:blipFill>
          <a:blip r:embed="rId1"/>
          <a:stretch/>
        </p:blipFill>
        <p:spPr>
          <a:xfrm>
            <a:off x="467640" y="692640"/>
            <a:ext cx="3312000" cy="2351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80" name="Объект 4" descr=""/>
          <p:cNvPicPr/>
          <p:nvPr/>
        </p:nvPicPr>
        <p:blipFill>
          <a:blip r:embed="rId2"/>
          <a:stretch/>
        </p:blipFill>
        <p:spPr>
          <a:xfrm>
            <a:off x="4716000" y="692640"/>
            <a:ext cx="3271680" cy="2376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81" name="Рисунок 6" descr=""/>
          <p:cNvPicPr/>
          <p:nvPr/>
        </p:nvPicPr>
        <p:blipFill>
          <a:blip r:embed="rId3"/>
          <a:stretch/>
        </p:blipFill>
        <p:spPr>
          <a:xfrm>
            <a:off x="107640" y="3789000"/>
            <a:ext cx="4319280" cy="2478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82" name="Рисунок 7" descr=""/>
          <p:cNvPicPr/>
          <p:nvPr/>
        </p:nvPicPr>
        <p:blipFill>
          <a:blip r:embed="rId4"/>
          <a:stretch/>
        </p:blipFill>
        <p:spPr>
          <a:xfrm>
            <a:off x="4716000" y="3933000"/>
            <a:ext cx="3358800" cy="2232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83" name="TextBox 8"/>
          <p:cNvSpPr/>
          <p:nvPr/>
        </p:nvSpPr>
        <p:spPr>
          <a:xfrm>
            <a:off x="1115640" y="3213000"/>
            <a:ext cx="187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Trebuchet MS"/>
              </a:rPr>
              <a:t>Ракет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5652000" y="31410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ртилле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1547640" y="6298560"/>
            <a:ext cx="34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х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5868000" y="6237360"/>
            <a:ext cx="100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а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7640" y="116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Военно-воздушные силы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8" name="Объект 4" descr=""/>
          <p:cNvPicPr/>
          <p:nvPr/>
        </p:nvPicPr>
        <p:blipFill>
          <a:blip r:embed="rId1"/>
          <a:stretch/>
        </p:blipFill>
        <p:spPr>
          <a:xfrm>
            <a:off x="467640" y="3501000"/>
            <a:ext cx="3520800" cy="2409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89" name="Объект 5" descr=""/>
          <p:cNvPicPr/>
          <p:nvPr/>
        </p:nvPicPr>
        <p:blipFill>
          <a:blip r:embed="rId2"/>
          <a:stretch/>
        </p:blipFill>
        <p:spPr>
          <a:xfrm>
            <a:off x="2843640" y="692640"/>
            <a:ext cx="5055480" cy="22633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90" name="TextBox 6"/>
          <p:cNvSpPr/>
          <p:nvPr/>
        </p:nvSpPr>
        <p:spPr>
          <a:xfrm>
            <a:off x="5004000" y="3213000"/>
            <a:ext cx="302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омбардировочные истреб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4500000" y="5517360"/>
            <a:ext cx="22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ртолет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640" y="332640"/>
            <a:ext cx="7776360" cy="902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Ракетные войска стратегического назначения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611640" y="1268640"/>
            <a:ext cx="7006680" cy="4968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94" name="TextBox 5"/>
          <p:cNvSpPr/>
          <p:nvPr/>
        </p:nvSpPr>
        <p:spPr>
          <a:xfrm>
            <a:off x="2195640" y="6309360"/>
            <a:ext cx="345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ашина боев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Военно-морской флот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Объект 4" descr=""/>
          <p:cNvPicPr/>
          <p:nvPr/>
        </p:nvPicPr>
        <p:blipFill>
          <a:blip r:embed="rId1"/>
          <a:stretch/>
        </p:blipFill>
        <p:spPr>
          <a:xfrm>
            <a:off x="226080" y="764640"/>
            <a:ext cx="3697560" cy="24782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97" name="Объект 5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3204360" cy="2488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98" name="Рисунок 6" descr=""/>
          <p:cNvPicPr/>
          <p:nvPr/>
        </p:nvPicPr>
        <p:blipFill>
          <a:blip r:embed="rId3"/>
          <a:stretch/>
        </p:blipFill>
        <p:spPr>
          <a:xfrm>
            <a:off x="1907640" y="3717000"/>
            <a:ext cx="5053320" cy="2794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99" name="TextBox 7"/>
          <p:cNvSpPr/>
          <p:nvPr/>
        </p:nvSpPr>
        <p:spPr>
          <a:xfrm>
            <a:off x="1115640" y="328500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орская ав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6156000" y="3285000"/>
            <a:ext cx="23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водная л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3492000" y="6488640"/>
            <a:ext cx="28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оево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6768360" cy="542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000000"/>
                </a:solidFill>
                <a:latin typeface="Trebuchet MS"/>
              </a:rPr>
              <a:t>Войска противовоздушной обороны страны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179640" y="1340640"/>
            <a:ext cx="4450680" cy="2808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04" name="Объект 5" descr=""/>
          <p:cNvPicPr/>
          <p:nvPr/>
        </p:nvPicPr>
        <p:blipFill>
          <a:blip r:embed="rId2"/>
          <a:stretch/>
        </p:blipFill>
        <p:spPr>
          <a:xfrm>
            <a:off x="4500000" y="4221000"/>
            <a:ext cx="3520800" cy="2422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05" name="TextBox 6"/>
          <p:cNvSpPr/>
          <p:nvPr/>
        </p:nvSpPr>
        <p:spPr>
          <a:xfrm>
            <a:off x="4716000" y="3645000"/>
            <a:ext cx="266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амолеты истреб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2267640" y="630936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енитные ра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161</TotalTime>
  <Application>LibreOffice/7.4.7.2$Linux_X86_64 LibreOffice_project/40$Build-2</Application>
  <AppVersion>15.0000</AppVersion>
  <Words>293</Words>
  <Paragraphs>75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0:56:54Z</dcterms:created>
  <dc:creator>лена</dc:creator>
  <dc:description/>
  <dc:language>en-US</dc:language>
  <cp:lastModifiedBy>Анатолий</cp:lastModifiedBy>
  <dcterms:modified xsi:type="dcterms:W3CDTF">2017-04-23T19:11:55Z</dcterms:modified>
  <cp:revision>18</cp:revision>
  <dc:subject/>
  <dc:title>23 февр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