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14E-2A4C-41CC-8B39-878991FA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570-CC96-42B2-B9A6-0B24693F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633-4C12-4563-8CEF-9EBDB928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AF0-33C0-45C0-9E3D-B432389F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830-136B-440C-9028-27288A34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F51-10BB-4F8E-841A-E256A64B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9B9-2A96-4CED-831D-62D4D796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B49-707C-48B0-A4AE-3A2EE3A0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685-A037-417A-8094-B5F45083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0AF-34F7-4E74-A896-34E25CD6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22E-BBB4-45EF-A940-10EB5616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6E6-EACF-4D47-9B5F-0EB86F6F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1D38-07FD-470F-8DEC-5C0ADD7281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268280"/>
            <a:ext cx="756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6000" spc="-1" strike="noStrike">
                <a:solidFill>
                  <a:srgbClr val="b00000"/>
                </a:solidFill>
                <a:latin typeface="Times New Roman"/>
              </a:rPr>
              <a:t>8 «б» клас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0920" y="3860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топись 2014-2017 г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ез чтения нет 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581280" cy="2679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003640" y="2681280"/>
            <a:ext cx="34131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151207_115028"/>
          <p:cNvPicPr/>
          <p:nvPr/>
        </p:nvPicPr>
        <p:blipFill>
          <a:blip r:embed="rId1"/>
          <a:stretch/>
        </p:blipFill>
        <p:spPr>
          <a:xfrm>
            <a:off x="468360" y="1484280"/>
            <a:ext cx="4368600" cy="369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20160420_092349"/>
          <p:cNvPicPr/>
          <p:nvPr/>
        </p:nvPicPr>
        <p:blipFill>
          <a:blip r:embed="rId2"/>
          <a:stretch/>
        </p:blipFill>
        <p:spPr>
          <a:xfrm>
            <a:off x="4843440" y="654120"/>
            <a:ext cx="3976560" cy="3224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1188720" y="5589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крашаем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508720" y="39258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выставке кукол. Образовательное собы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разовательное событ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3988080" cy="283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572000" y="3957480"/>
            <a:ext cx="4176720" cy="25909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985680" y="4737240"/>
            <a:ext cx="358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асибо нашим родителям за помощь в оформлении  класса на образовательном событии «Золотое кольцо России»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5783760" y="1773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аствуем в образовательном событии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20150922_121731"/>
          <p:cNvPicPr/>
          <p:nvPr/>
        </p:nvPicPr>
        <p:blipFill>
          <a:blip r:embed="rId1"/>
          <a:stretch/>
        </p:blipFill>
        <p:spPr>
          <a:xfrm>
            <a:off x="2050920" y="1751040"/>
            <a:ext cx="5834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Андрей\Desktop\мой класс\20170421_182332.jpg"/>
          <p:cNvPicPr/>
          <p:nvPr/>
        </p:nvPicPr>
        <p:blipFill>
          <a:blip r:embed="rId1"/>
          <a:stretch/>
        </p:blipFill>
        <p:spPr>
          <a:xfrm>
            <a:off x="1692360" y="1268280"/>
            <a:ext cx="6048360" cy="4951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кскурсия в Спасскую церков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дацане Ринпоче Багш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20160329_102348"/>
          <p:cNvPicPr/>
          <p:nvPr/>
        </p:nvPicPr>
        <p:blipFill>
          <a:blip r:embed="rId1"/>
          <a:stretch/>
        </p:blipFill>
        <p:spPr>
          <a:xfrm>
            <a:off x="1116000" y="1557360"/>
            <a:ext cx="3675240" cy="331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Андрей\Desktop\мой класс\20160329_102153.jpg"/>
          <p:cNvPicPr/>
          <p:nvPr/>
        </p:nvPicPr>
        <p:blipFill>
          <a:blip r:embed="rId2"/>
          <a:stretch/>
        </p:blipFill>
        <p:spPr>
          <a:xfrm>
            <a:off x="4856040" y="1197000"/>
            <a:ext cx="3792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Андрей\Desktop\мой класс\20170118_153303.jpg"/>
          <p:cNvPicPr/>
          <p:nvPr/>
        </p:nvPicPr>
        <p:blipFill>
          <a:blip r:embed="rId1"/>
          <a:stretch/>
        </p:blipFill>
        <p:spPr>
          <a:xfrm>
            <a:off x="1547640" y="1214280"/>
            <a:ext cx="6656400" cy="4992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но- шашечный турни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ствуем в постановке мини-спектакля в СКО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20161123_153632"/>
          <p:cNvPicPr/>
          <p:nvPr/>
        </p:nvPicPr>
        <p:blipFill>
          <a:blip r:embed="rId1"/>
          <a:stretch/>
        </p:blipFill>
        <p:spPr>
          <a:xfrm>
            <a:off x="971640" y="1557360"/>
            <a:ext cx="3352680" cy="401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20160517_150533"/>
          <p:cNvPicPr/>
          <p:nvPr/>
        </p:nvPicPr>
        <p:blipFill>
          <a:blip r:embed="rId2"/>
          <a:stretch/>
        </p:blipFill>
        <p:spPr>
          <a:xfrm>
            <a:off x="4859280" y="1415880"/>
            <a:ext cx="357192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Экскурсия в Этнографический музей народов Забайкаль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20160329_095926"/>
          <p:cNvPicPr/>
          <p:nvPr/>
        </p:nvPicPr>
        <p:blipFill>
          <a:blip r:embed="rId1"/>
          <a:stretch/>
        </p:blipFill>
        <p:spPr>
          <a:xfrm>
            <a:off x="900000" y="1711440"/>
            <a:ext cx="3834000" cy="286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20160329_093435"/>
          <p:cNvPicPr/>
          <p:nvPr/>
        </p:nvPicPr>
        <p:blipFill>
          <a:blip r:embed="rId2"/>
          <a:stretch/>
        </p:blipFill>
        <p:spPr>
          <a:xfrm>
            <a:off x="4859280" y="2637000"/>
            <a:ext cx="3687840" cy="32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5445000"/>
            <a:ext cx="296244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астер-класс «Очумелые руч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20170407_182707"/>
          <p:cNvPicPr/>
          <p:nvPr/>
        </p:nvPicPr>
        <p:blipFill>
          <a:blip r:embed="rId1"/>
          <a:stretch/>
        </p:blipFill>
        <p:spPr>
          <a:xfrm>
            <a:off x="755640" y="549360"/>
            <a:ext cx="3672000" cy="4792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600440" y="552600"/>
            <a:ext cx="4286520" cy="3384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4943880" y="400536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йонной библиоте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Windows.old\Users\User\Desktop\Мой класс\Музей боевой славы 30 октября 2015\SAM_7405.JPG"/>
          <p:cNvPicPr/>
          <p:nvPr/>
        </p:nvPicPr>
        <p:blipFill>
          <a:blip r:embed="rId1"/>
          <a:stretch/>
        </p:blipFill>
        <p:spPr>
          <a:xfrm>
            <a:off x="1908000" y="119700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2300760" y="53229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неклассное мероприя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анда класса на брейн-ринг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блионочь-20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20170421_191816"/>
          <p:cNvPicPr/>
          <p:nvPr/>
        </p:nvPicPr>
        <p:blipFill>
          <a:blip r:embed="rId1"/>
          <a:stretch/>
        </p:blipFill>
        <p:spPr>
          <a:xfrm>
            <a:off x="1042920" y="1413000"/>
            <a:ext cx="3171960" cy="324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690358745"/>
          <p:cNvPicPr/>
          <p:nvPr/>
        </p:nvPicPr>
        <p:blipFill>
          <a:blip r:embed="rId2"/>
          <a:stretch/>
        </p:blipFill>
        <p:spPr>
          <a:xfrm>
            <a:off x="5292720" y="1584360"/>
            <a:ext cx="277164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3419640" y="4870440"/>
            <a:ext cx="28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тегенова Юлия – капитан команды-победителя брейн-ринга Библионочь-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нейка Памяти-2017 для учащихся гимназии, жителей села, участников республиканского мотопробег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20170505_113146"/>
          <p:cNvPicPr/>
          <p:nvPr/>
        </p:nvPicPr>
        <p:blipFill>
          <a:blip r:embed="rId1"/>
          <a:stretch/>
        </p:blipFill>
        <p:spPr>
          <a:xfrm>
            <a:off x="4859280" y="3141720"/>
            <a:ext cx="3841920" cy="295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65040" y="1878120"/>
            <a:ext cx="43880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09320" y="47592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Экскурсия в музей Боевой сла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" descr="C:\Windows.old\Users\User\Desktop\Мой класс\Музей боевой славы 30 октября 2015\SAM_7427.JPG"/>
          <p:cNvPicPr/>
          <p:nvPr/>
        </p:nvPicPr>
        <p:blipFill>
          <a:blip r:embed="rId1"/>
          <a:stretch/>
        </p:blipFill>
        <p:spPr>
          <a:xfrm>
            <a:off x="1979640" y="1484280"/>
            <a:ext cx="5808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Windows.old\Users\User\Desktop\Мой класс\Музей боевой славы 30 октября 2015\SAM_7409.JPG"/>
          <p:cNvPicPr/>
          <p:nvPr/>
        </p:nvPicPr>
        <p:blipFill>
          <a:blip r:embed="rId1"/>
          <a:stretch/>
        </p:blipFill>
        <p:spPr>
          <a:xfrm>
            <a:off x="1258920" y="692280"/>
            <a:ext cx="3697200" cy="27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Windows.old\Users\User\Desktop\Мой класс\Музей боевой славы 30 октября 2015\SAM_7419.JPG"/>
          <p:cNvPicPr/>
          <p:nvPr/>
        </p:nvPicPr>
        <p:blipFill>
          <a:blip r:embed="rId2"/>
          <a:stretch/>
        </p:blipFill>
        <p:spPr>
          <a:xfrm>
            <a:off x="5594400" y="1197000"/>
            <a:ext cx="2646360" cy="35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Windows.old\Users\User\Desktop\Мой класс\Музей боевой славы 30 октября 2015\SAM_7415.JPG"/>
          <p:cNvPicPr/>
          <p:nvPr/>
        </p:nvPicPr>
        <p:blipFill>
          <a:blip r:embed="rId3"/>
          <a:stretch/>
        </p:blipFill>
        <p:spPr>
          <a:xfrm>
            <a:off x="1692360" y="3573360"/>
            <a:ext cx="36957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районном краеведческом муз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C:\Users\Андрей\Desktop\мой класс\SAM_7536.JPG"/>
          <p:cNvPicPr/>
          <p:nvPr/>
        </p:nvPicPr>
        <p:blipFill>
          <a:blip r:embed="rId1"/>
          <a:stretch/>
        </p:blipFill>
        <p:spPr>
          <a:xfrm>
            <a:off x="1619280" y="1341360"/>
            <a:ext cx="63374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 гостях у тружениц тыла Седуновой Антонины Николаевны и Мелентьевой Анны Викторовны, с. Ирки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E:\Иркилик\DSC04354.JPG"/>
          <p:cNvPicPr/>
          <p:nvPr/>
        </p:nvPicPr>
        <p:blipFill>
          <a:blip r:embed="rId1"/>
          <a:stretch/>
        </p:blipFill>
        <p:spPr>
          <a:xfrm>
            <a:off x="900000" y="2276640"/>
            <a:ext cx="3829320" cy="300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E:\Иркилик\DSC04368.JPG"/>
          <p:cNvPicPr/>
          <p:nvPr/>
        </p:nvPicPr>
        <p:blipFill>
          <a:blip r:embed="rId2"/>
          <a:stretch/>
        </p:blipFill>
        <p:spPr>
          <a:xfrm>
            <a:off x="4932360" y="3027240"/>
            <a:ext cx="370188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C:\Users\Андрей\AppData\Local\Microsoft\Windows\Temporary Internet Files\Content.Word\20160411_104941.jpg"/>
          <p:cNvPicPr/>
          <p:nvPr/>
        </p:nvPicPr>
        <p:blipFill>
          <a:blip r:embed="rId1"/>
          <a:stretch/>
        </p:blipFill>
        <p:spPr>
          <a:xfrm>
            <a:off x="2627280" y="1862280"/>
            <a:ext cx="4608720" cy="41288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1619280" y="90792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гаринский урок в Прибайкальской межпоселенческой библиот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Windows.old\Users\User\Desktop\Мой класс\Тур выходного дня 6 ноября 2015\SAM_7502.JPG"/>
          <p:cNvPicPr/>
          <p:nvPr/>
        </p:nvPicPr>
        <p:blipFill>
          <a:blip r:embed="rId1"/>
          <a:stretch/>
        </p:blipFill>
        <p:spPr>
          <a:xfrm>
            <a:off x="512640" y="476280"/>
            <a:ext cx="4145040" cy="31082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828720" y="3789360"/>
            <a:ext cx="390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вы проводите каникулы?  Возможно, сидя около компьютера или телевизора? Нам это не подходит! За время каникул мы съездили в город Улан-Удэ, посетили экспериментарий, бассейн, боулинг, 3D-кинотеат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ередаваемые ощущ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039920" cy="3024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5219640" y="1413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оул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ур выходного д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Windows.old\Users\User\Desktop\Мой класс\Тур выходного дня 6 ноября 2015\SAM_7478.JPG"/>
          <p:cNvPicPr/>
          <p:nvPr/>
        </p:nvPicPr>
        <p:blipFill>
          <a:blip r:embed="rId1"/>
          <a:stretch/>
        </p:blipFill>
        <p:spPr>
          <a:xfrm>
            <a:off x="971640" y="131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Windows.old\Users\User\Desktop\Мой класс\Тур выходного дня 6 ноября 2015\SAM_7464.JPG"/>
          <p:cNvPicPr/>
          <p:nvPr/>
        </p:nvPicPr>
        <p:blipFill>
          <a:blip r:embed="rId2"/>
          <a:stretch/>
        </p:blipFill>
        <p:spPr>
          <a:xfrm>
            <a:off x="5435640" y="1887480"/>
            <a:ext cx="3093840" cy="28418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6304320" y="47260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ар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1482120" y="468468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здоровом теле – здоровый ду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Андрей</cp:lastModifiedBy>
  <dcterms:modified xsi:type="dcterms:W3CDTF">2018-04-01T05:26:28Z</dcterms:modified>
  <cp:revision>57</cp:revision>
  <dc:subject/>
  <dc:title>Слайд 1</dc:title>
</cp:coreProperties>
</file>