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FBF1-D778-49FD-9491-2C7ABF984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1674-06DB-4F84-9D37-A0C82DFB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C1EF-B9CA-4FBA-980D-7A18292A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88F7-C2EE-4911-A6E3-AE98358C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04CE-4E5C-46C4-AC4C-A3587DC4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B73F-96A0-4535-9440-08B4D770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8187-98DC-4A7B-B0E1-A810BAC2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31CC-534B-428E-BC2B-6A64C051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2C34-2FB0-4CDC-B5C7-E3823E57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841C-4DC0-4AD6-9E47-160DF88E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2D75-8491-43AD-AF5F-E8E5DE6E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3715-CA49-43C5-A7B2-B5BB921F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22ED-54F8-4323-B883-7B0D31FB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673F-6705-48F3-828C-C2F1AC15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7BCD-062B-45C1-8E18-7A4F3CBD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8EBB-40AC-46A7-8665-561206315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A693-6438-405E-BE3B-389863AF4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EFE1F-46C3-4721-A337-4D11169F3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6C36E-028C-4A21-BC0D-156DBDD1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31373-C46A-41FF-B655-C72B925A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08C39-D6BE-436F-A976-B388883A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1D101-35E2-4777-BD49-FC6DFB99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E2DD-7131-48CC-8AEC-6F3758C6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C1095-472A-468A-9179-C525D138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C65FC-BFD7-4F63-BC40-CFFECA94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8D64E-6F0C-439E-B4D7-A6FD77BE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A0653-CD97-4E8F-8D1E-5E9FCF8B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DF067-B05A-4EF3-A883-D4F3F665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361AC-6361-4921-BDB4-5AA2AED8B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093B5-4C1B-47D4-A0E9-F2B6F109B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87A88-3345-4C8B-8448-083A6FE18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01EC8-6EED-42E6-9586-A88C792B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AAF95-EFC1-44F0-8EB9-1C4D7055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A247-AACA-486C-BE52-98B54278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A060A-826C-41F4-BEEF-775E8A17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81DB6-3260-4DC7-93DB-B2C0559F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1B9A0-B4FC-4EB3-AD2D-066F0A5E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8FC75-32BF-41DD-A09F-44D7FF50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C4161-239A-4FB7-A2CF-5EB6A112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A5896-0154-4198-AEE4-91D83F4E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1B4D7-1DFB-4E35-AD35-B62CE65A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16E04-F0F5-4A01-A050-43ABB9E10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B4659-863F-4F91-BAC2-0715863E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A71F9-AD82-4687-BD5A-C51A5463A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7B52-F46F-42E4-BAE5-D20CE168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49ACD-A63B-4D89-9CAE-DAB01EE3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512BC-724A-45FE-9AA0-9994499E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34A75-9C2F-4D01-85B0-349EE24B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B54C0-F212-48D1-A659-3083FBD3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F22E1-69A9-482E-BB81-770C6CAA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769DC-91BA-4FD0-B634-9ABD3281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3722C-51DB-4582-AF07-7B00A427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5A82B-32C6-4D08-92C0-984D9C2D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D4DFF-3E81-4686-AE35-479C8114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58DA3-858D-438B-83A9-4EA94632A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BAAE-1F55-4AFE-8FC6-59E8EEFA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CCB0F-3EE9-49A2-A267-7A1D9A9AB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5710D-18BB-4B40-8152-E76F4DC34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13555-9773-40AF-BE60-FA78F61F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46332-2DFF-49EA-BB47-DE4B1FE8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98B51-E83D-429B-BC79-B8300168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744FB-29A0-4E45-9276-EE8A87CA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C874F-FA54-4E81-885D-29000196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D5AE0-198B-451D-8F17-C670D6B2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45417-194C-4D75-9E30-A08D80AC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CC410-CD0D-4E39-9297-0A6CE3DC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B95E-8F97-4AC4-B63E-CE75BA76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435EB-8F9D-4E90-B29E-3BB6F41D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93BEF-EBAB-4AE4-A3B3-B99BA5CE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B4DDC-F4C9-4F11-AC97-0394478D8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74830-8DC6-40EB-A642-39467B2D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65F7C-BFC0-4A60-9723-E94B3FD0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6D7CF-AAD7-4623-84D0-1AF94302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2A645-DCDE-421B-BFFB-C8A17E12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E488E-EDBE-4024-BA86-AC11DAF6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F6BB2-D0DF-42ED-AC67-8DEC88C7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FA1BA-8828-4844-B5FC-2DD655D5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6D21-F06F-4BF2-89CF-68291CED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6CC1E-8EA8-4BC9-ACCF-64812CF3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8B36A-8AB0-402D-9524-2BA6099D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B57E9-0A75-46A3-9EDA-A3336DD1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FFC38-0F20-43B4-9A29-1513F9716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227A7-378F-49DA-8F3E-44A13FF7C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4590-FE36-4C0B-B2F0-C2788241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2D0D-8C03-47FC-88BD-E8881B477CC1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0AA5-91F8-460C-8CCC-AAC1D6940587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C547-B3E8-4008-8D18-24A5B5190829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009A-0EEE-4D24-AA27-15849279FB67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BAA5-9731-450C-B472-22ED3F21FCBC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C92D-E93B-4073-AC91-EE530FF284CD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3f4f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bf5f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79B7-7C99-4CBF-9F14-068623FD0967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Деление на 10 100 1000 с остатком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4508280"/>
            <a:ext cx="7407000" cy="1584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e56"/>
                </a:solidFill>
                <a:latin typeface="Times New Roman"/>
                <a:ea typeface="Times New Roman"/>
              </a:rPr>
              <a:t>Тройнова Виктория Борисовн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e56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e56"/>
                </a:solidFill>
                <a:latin typeface="Times New Roman"/>
                <a:ea typeface="Times New Roman"/>
              </a:rPr>
              <a:t>ГОБОУ ЦППРК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e56"/>
                </a:solidFill>
                <a:latin typeface="Times New Roman"/>
                <a:ea typeface="Times New Roman"/>
              </a:rPr>
              <a:t>Великий Новгород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Для самых сообразительных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844280"/>
            <a:ext cx="749952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снегохода 28 км\ч. Верно ли, что за полтора часа он пройдет 56 км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Продолжите предложения:</a:t>
            </a:r>
            <a:br>
              <a:rPr sz="3900"/>
            </a:br>
            <a:endParaRPr b="0" lang="en-US" sz="39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600" y="1447560"/>
            <a:ext cx="7169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Мне понравилось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Я бы хотел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Я испытывал трудности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Я научился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уроке наши глаза внимательно смотрят и всё …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уроке наши глаза внимательно смотрят и всё                </a:t>
            </a:r>
            <a:r>
              <a:rPr b="0" lang="ru-RU" sz="3200" spc="-1" strike="noStrike">
                <a:solidFill>
                  <a:srgbClr val="0070c0"/>
                </a:solidFill>
                <a:latin typeface="Corbel"/>
              </a:rPr>
              <a:t>ВИДЯ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уроке наши глаза внимательно смотрят и всё                </a:t>
            </a:r>
            <a:r>
              <a:rPr b="0" lang="ru-RU" sz="3200" spc="-1" strike="noStrike">
                <a:solidFill>
                  <a:srgbClr val="0070c0"/>
                </a:solidFill>
                <a:latin typeface="Corbel"/>
              </a:rPr>
              <a:t>ВИДЯ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уроке наши уши слушают и всё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уроке наши глаза внимательно смотрят и всё                </a:t>
            </a:r>
            <a:r>
              <a:rPr b="0" lang="ru-RU" sz="3200" spc="-1" strike="noStrike">
                <a:solidFill>
                  <a:srgbClr val="0070c0"/>
                </a:solidFill>
                <a:latin typeface="Corbel"/>
              </a:rPr>
              <a:t>ВИДЯ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уроке наши уши слушают и всё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                           </a:t>
            </a:r>
            <a:r>
              <a:rPr b="0" lang="ru-RU" sz="3200" spc="-1" strike="noStrike">
                <a:solidFill>
                  <a:srgbClr val="0070c0"/>
                </a:solidFill>
                <a:latin typeface="Corbel"/>
              </a:rPr>
              <a:t>СЛЫША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уроке наши глаза внимательно смотрят и всё                </a:t>
            </a:r>
            <a:r>
              <a:rPr b="0" lang="ru-RU" sz="3200" spc="-1" strike="noStrike">
                <a:solidFill>
                  <a:srgbClr val="0070c0"/>
                </a:solidFill>
                <a:latin typeface="Corbel"/>
              </a:rPr>
              <a:t>ВИДЯ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уроке наши уши слушают и всё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                           </a:t>
            </a:r>
            <a:r>
              <a:rPr b="0" lang="ru-RU" sz="3200" spc="-1" strike="noStrike">
                <a:solidFill>
                  <a:srgbClr val="0070c0"/>
                </a:solidFill>
                <a:latin typeface="Corbel"/>
              </a:rPr>
              <a:t>СЛЫША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олова хорошо …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уроке наши глаза внимательно смотрят и всё                </a:t>
            </a:r>
            <a:r>
              <a:rPr b="0" lang="ru-RU" sz="3200" spc="-1" strike="noStrike">
                <a:solidFill>
                  <a:srgbClr val="0070c0"/>
                </a:solidFill>
                <a:latin typeface="Corbel"/>
              </a:rPr>
              <a:t>ВИДЯ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уроке наши уши слушают и всё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                           </a:t>
            </a:r>
            <a:r>
              <a:rPr b="0" lang="ru-RU" sz="3200" spc="-1" strike="noStrike">
                <a:solidFill>
                  <a:srgbClr val="0070c0"/>
                </a:solidFill>
                <a:latin typeface="Corbel"/>
              </a:rPr>
              <a:t>СЛЫША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олова хорошо            </a:t>
            </a:r>
            <a:r>
              <a:rPr b="0" lang="ru-RU" sz="3200" spc="-1" strike="noStrike">
                <a:solidFill>
                  <a:srgbClr val="0070c0"/>
                </a:solidFill>
                <a:latin typeface="Corbel"/>
              </a:rPr>
              <a:t>ДУМАЕ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Найди лишний пример</a:t>
            </a:r>
            <a:endParaRPr b="0" lang="en-US" sz="3900" spc="-1" strike="noStrike">
              <a:solidFill>
                <a:srgbClr val="006b8d"/>
              </a:solidFill>
              <a:latin typeface="Corbe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34960" y="907920"/>
          <a:ext cx="7499520" cy="5123160"/>
        </p:xfrm>
        <a:graphic>
          <a:graphicData uri="http://schemas.openxmlformats.org/drawingml/2006/table">
            <a:tbl>
              <a:tblPr/>
              <a:tblGrid>
                <a:gridCol w="3749760"/>
                <a:gridCol w="3749760"/>
              </a:tblGrid>
              <a:tr h="259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*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*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*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*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2: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: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1: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8:1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5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: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: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: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: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:1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:1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: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:1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Реши задачи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дка шла со скоростью 10 км\ч и прошла по реке 40 км. Сколько времени шла лодка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лет летел 4 ч со скоростью 800 км\ч. Сколько километров пролетел самолет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езд проехал 300 км за 5 ч. Определи скорость поезд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10:03:27Z</dcterms:created>
  <dc:creator>Тамара</dc:creator>
  <dc:description/>
  <dc:language>en-US</dc:language>
  <cp:lastModifiedBy>Тамара</cp:lastModifiedBy>
  <dcterms:modified xsi:type="dcterms:W3CDTF">2018-02-19T18:36:54Z</dcterms:modified>
  <cp:revision>22</cp:revision>
  <dc:subject/>
  <dc:title>Деление на 10 100 1000 с остатком</dc:title>
</cp:coreProperties>
</file>