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90A-93C9-4696-8FB0-E3E41712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B93-02E9-4B84-9D4C-EF31D4B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3F8-9A50-4159-824F-B3DCA1C6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152-55F9-478C-99E3-816B39FE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C7B2-DE90-4044-8A4A-0DC89114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D3F8-6F27-4C06-8812-A37A3BD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30CC-7E04-4E0B-B1DB-2248ED0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D42-451C-41AD-A9F6-FA2FA9E7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5F02-9D08-4C8E-8726-DFCA4BF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9C6F-D1E3-4EAE-9463-BAA867C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00C0-FA17-41F6-A226-407893A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3FF-3949-480C-B484-CC2AB77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5AFD-2537-4A87-8AE5-D557496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FF2-2A59-47C3-897B-AABFE12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5375-4421-4AF3-9A32-23B998AE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6A4B-BECA-4EBD-A47A-A2BB7B8A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FE1-3155-49DA-B5FC-B8BE01A5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555F-D735-42E9-8436-B3706BA2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E79E-E155-444D-9DED-79B329E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7209-AEB5-4DDB-94BB-FB1A402B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B1FD-CEA3-4AE0-BFC3-FB51F1B0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6BF6-E658-4BFA-905B-A9FE8BAE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805-47A5-46AF-936E-6974E31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6939-9895-45CD-BDE8-CC23F8A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DD41-7927-4D64-A390-6C620B9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FFD8-BAAE-4DFF-B4A2-62419C0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660B-94E9-4D2F-AA6D-C52AC67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0191-3458-4999-8C3F-283D946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A8EF-944D-4D47-AF88-0F90A32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0B8B-03F0-4B15-AF92-00099B7C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1678-2763-48E2-99DD-BFE8F76A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D8FA-3598-4449-AA29-57CBBAED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B739-83ED-492E-B884-C64841C2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EBE-273B-4BDC-8ECD-A0EB2BF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17AD-3F19-4086-9A80-9BB369C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7623-DE28-4EB6-9BC8-652B83E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2519-589A-4D59-AAA4-917E6C1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B5D1-7508-4691-BD02-BEA87CF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58FC-7EE8-4948-B425-312594F9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CBE1-1A3F-4538-A5CA-337233D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83FF-8A26-4703-92B1-815C1D4A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70C2-5437-4BBA-9617-1A5D75D4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60C2-0614-411C-B5CC-2958E83F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A510-3C30-407F-AAFB-6D0124AD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9A4-400E-4E5D-87B5-89832197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412F-4D1B-44F1-837D-B383494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03B4-CDA8-42B2-B8A3-87578FA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D9FE-2FD7-451D-9ADC-6BCCDAA7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0465-6AB8-4C33-B43A-E5C52571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B2AA-6FDC-42E8-905E-23F3903D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4AA0-5955-4296-85F0-1716667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F446-A4AA-43B3-9988-6B1DC21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8D1D-77DB-4AD8-9DE4-9BBE173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AE20-378C-4F7E-B912-E9EC9AB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14CF5-C6CD-43F8-8E33-4A21D8E9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DA2-EA45-482D-A9E4-55B7707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8AEA-8919-4F6A-8EB2-FCE68CB5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B643-7F20-4AA2-979D-D6505817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94B0-D0E1-4B95-94B8-1EA2635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428EB-525C-4FBF-92E9-DF09350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A8D9-A55D-48D6-9254-12CA4C58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19449-4E13-4AA6-B8D2-4A7AAD0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0C60-6D04-4EB5-90F0-2A2529A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B2F8-759A-410D-AEA5-7045145F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90A9-9B5E-4F4C-8505-DA46C17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60C3C-D328-490F-8095-3CA8B50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F6A-BE77-490A-9709-8965018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F9B1-BEFC-46B6-9FDB-8701067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223E-BD51-4C3E-9AB7-11D9B93F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50DAC-BDF2-4BD9-9160-DDDEF4F6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AA5B-BEBC-4DCF-AD93-F484A7B2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79BE-B455-4613-886A-17D7869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2A72-76F8-457D-A6C8-067156AC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BB35-C56F-4F44-973F-5FA96BD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A828-77DF-49D4-8D6B-72BE149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9759-7D3B-4DA8-A577-8287070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34687-138A-4DDC-A30C-D968982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C9C-C83E-4FB8-971A-C2D228F0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EC67-A40D-40BB-84A8-F5BAB34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3867-2CB6-4C85-9AC2-64A176D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14BE-FD37-4D0F-A2A1-251E9D3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FB502-C970-4BCA-AB5F-E4FCEDF9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1FA3-E9BF-40DD-91C2-FB2C2E70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CA4-CC7A-497B-944D-A8D5AC9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28A-5C5A-4CCB-B0AC-72A6E3149E65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2A51-FED0-4211-BF8B-6E383E65EDA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BD3E-75D6-49A0-82EE-8523C51006A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4D96-562A-480A-BBD8-F02240C98CE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C24-C357-4AD9-959F-187023C9554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8FE7-2623-4E64-A2BC-AF18104650E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B2D-2D9D-4254-8821-3A58ED351FA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еление на 10 100 1000 с остатком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508280"/>
            <a:ext cx="7407000" cy="158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Тройнова Виктория Борис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ГОБОУ ЦППР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56"/>
                </a:solidFill>
                <a:latin typeface="Times New Roman"/>
                <a:ea typeface="Times New Roman"/>
              </a:rPr>
              <a:t>Великий Новгоро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ля самых сообразительных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снегохода 28 км\ч. Верно ли, что за полтора часа он пройдет 56 км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родолжите предложения: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447560"/>
            <a:ext cx="716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Мне понравилось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бы хотел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испытывал трудности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Я научился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ова хорошо 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глаза внимательно смотрят и всё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ВИДЯ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е наши уши слушают и вс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ЛЫШ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ова хорошо            </a:t>
            </a: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ДУМ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йди лишний пример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34960" y="907920"/>
          <a:ext cx="7499520" cy="51231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*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*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*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*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: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: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: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: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: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: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Реши задач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ка шла со скоростью 10 км\ч и прошла по реке 40 км. Сколько времени шла лод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летел 4 ч со скоростью 800 км\ч. Сколько километров пролетел самолет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 проехал 300 км за 5 ч. Определи скорость поез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10:03:27Z</dcterms:created>
  <dc:creator>Тамара</dc:creator>
  <dc:description/>
  <dc:language>en-US</dc:language>
  <cp:lastModifiedBy>Тамара</cp:lastModifiedBy>
  <dcterms:modified xsi:type="dcterms:W3CDTF">2018-02-19T18:36:54Z</dcterms:modified>
  <cp:revision>22</cp:revision>
  <dc:subject/>
  <dc:title>Деление на 10 100 1000 с остатком</dc:title>
</cp:coreProperties>
</file>