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2F6-6C7E-4A4E-B526-B1FE8F93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FD0-EFAE-4501-8D4A-A4B7D8C2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21C-ABFB-4F72-AB4F-656EBE50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BDF-9530-495B-B33B-C8F6078F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4BBE-C22F-40DF-92B8-F015F13D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93A6-BD0F-4472-BBA8-C0EEE4D6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BDEE-A9FC-4AD4-9CB7-B2693010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9649-62EB-42E1-9FDD-E9FF3B14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A4C6-407B-4E1A-AB85-8F9799D3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3F03-1FA1-45F1-9DA7-C1051E4E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2934-EF59-466F-88C0-40F25CF1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798-FD47-46EB-AFDB-9BFC5966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A72C-B725-46D7-A8FC-D0AB931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FB31-D371-4CB1-B89E-6EFDD987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C045-9847-415F-98D0-16E4596B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43D5-B67B-404B-8589-77475E0D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D0D8-DA74-4554-9E81-1F94B582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A5F-C2C2-45BE-9824-EEB6AB67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D8C-5F59-4309-BB7B-09BBC79C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57D-FCC2-4783-BA26-A62AF51F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4F8-A605-4B48-96A8-E6B7F006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2B9-F523-405E-AD77-FC6FC032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533-376B-4E38-92C8-DAA360A0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D10-862A-4978-92AF-7050084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8CC-77A1-4AC4-BD0C-BF0F67E9C9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71FD-A550-4C0D-A345-50E67802B703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1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556400" cy="23763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лава 8. </a:t>
            </a:r>
            <a:r>
              <a:rPr b="1" lang="ru-RU" sz="3600" spc="-1" strike="noStrike" u="sng">
                <a:solidFill>
                  <a:srgbClr val="a50021"/>
                </a:solidFill>
                <a:uFillTx/>
                <a:latin typeface="Times New Roman"/>
              </a:rPr>
              <a:t>Полисы Греции и их борьба с персидским нашествием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Земледельцы Аттики теряют землю и свобод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9)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/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, вопросы, конспект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71640" y="4437000"/>
            <a:ext cx="7345440" cy="17287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ссмотреть систему жизни области Аттика, где находился знаменитейший город Афины. Установить главную причину, почему греки попадали в долговое рабство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76720" y="620640"/>
            <a:ext cx="5867280" cy="2448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SzPct val="120000"/>
              <a:buFont typeface="Times New Roman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Times New Roman"/>
              </a:rPr>
              <a:t>Вспомните, когда были разрушены Микены</a:t>
            </a:r>
            <a:r>
              <a:rPr b="1" lang="en-US" sz="2200" spc="-1" strike="noStrike">
                <a:solidFill>
                  <a:srgbClr val="9900ff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2 века спустя </a:t>
            </a:r>
            <a:r>
              <a:rPr b="1" lang="ru-RU" sz="2200" spc="-1" strike="noStrike" u="sng">
                <a:solidFill>
                  <a:srgbClr val="9900ff"/>
                </a:solidFill>
                <a:uFillTx/>
                <a:latin typeface="Times New Roman"/>
              </a:rPr>
              <a:t>(назови век)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 в Греции появилис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- 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ПОЛИСЫ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рода-государст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ород + прилегающая к нему территория);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железо; 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вая письменност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заимствовали у финикийцев + гласные).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1" name="Picture 6" descr="Рисунок1"/>
          <p:cNvPicPr/>
          <p:nvPr/>
        </p:nvPicPr>
        <p:blipFill>
          <a:blip r:embed="rId1"/>
          <a:stretch/>
        </p:blipFill>
        <p:spPr>
          <a:xfrm>
            <a:off x="0" y="549360"/>
            <a:ext cx="3265560" cy="630864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182" name="Rectangle 7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финский полис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83" name="Picture 8" descr="Рисунок3"/>
          <p:cNvPicPr/>
          <p:nvPr/>
        </p:nvPicPr>
        <p:blipFill>
          <a:blip r:embed="rId2"/>
          <a:stretch/>
        </p:blipFill>
        <p:spPr>
          <a:xfrm>
            <a:off x="3348000" y="3141720"/>
            <a:ext cx="3149640" cy="371628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184" name="Rectangle 9"/>
          <p:cNvSpPr/>
          <p:nvPr/>
        </p:nvSpPr>
        <p:spPr>
          <a:xfrm>
            <a:off x="6588000" y="3141720"/>
            <a:ext cx="2556000" cy="371628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480" indent="2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вым центром греческой цивилизации стал город-полис 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АФИНЫ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(обл. Аттика).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6480" indent="2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6480" indent="2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лавная площадь любого полиса – 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АГОРА</a:t>
            </a:r>
            <a:r>
              <a:rPr b="1" lang="ru-RU" sz="2200" spc="-1" strike="noStrike">
                <a:solidFill>
                  <a:srgbClr val="0000ff"/>
                </a:solidFill>
                <a:latin typeface="Times New Roman Cyr"/>
              </a:rPr>
              <a:t>́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372000" y="0"/>
            <a:ext cx="2771640" cy="6858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50035"/>
                </a:solidFill>
                <a:uFillTx/>
                <a:latin typeface="Times New Roman"/>
              </a:rPr>
              <a:t>Стр. 11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ff"/>
                </a:solidFill>
                <a:uFillTx/>
                <a:latin typeface="Times New Roman"/>
              </a:rPr>
              <a:t>Найдите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юю Греци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асть Аттик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 Афины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 полноводных рек, почвы каменистые, засушливое лето.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Сделайте вывод. Какие занятия при таких условиях могут стать главными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6" name="Picture 7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6276960" cy="685800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9" descr="Рисунок2"/>
          <p:cNvPicPr/>
          <p:nvPr/>
        </p:nvPicPr>
        <p:blipFill>
          <a:blip r:embed="rId1"/>
          <a:stretch/>
        </p:blipFill>
        <p:spPr>
          <a:xfrm>
            <a:off x="5796000" y="4300560"/>
            <a:ext cx="3348000" cy="255744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pic>
        <p:nvPicPr>
          <p:cNvPr id="188" name="Picture 11" descr="%D0%BE%D0%BB%D0%B8%D0%B2%D0%B0"/>
          <p:cNvPicPr/>
          <p:nvPr/>
        </p:nvPicPr>
        <p:blipFill>
          <a:blip r:embed="rId2"/>
          <a:stretch/>
        </p:blipFill>
        <p:spPr>
          <a:xfrm>
            <a:off x="0" y="765000"/>
            <a:ext cx="3333600" cy="368640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pic>
        <p:nvPicPr>
          <p:cNvPr id="189" name="Picture 13" descr="oil"/>
          <p:cNvPicPr/>
          <p:nvPr/>
        </p:nvPicPr>
        <p:blipFill>
          <a:blip r:embed="rId3"/>
          <a:stretch/>
        </p:blipFill>
        <p:spPr>
          <a:xfrm>
            <a:off x="3492360" y="2708280"/>
            <a:ext cx="1141560" cy="144000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pic>
        <p:nvPicPr>
          <p:cNvPr id="190" name="Picture 15" descr="v-avstrii-unichtozhena-unikalnaya-vinogradnaya-loza"/>
          <p:cNvPicPr/>
          <p:nvPr/>
        </p:nvPicPr>
        <p:blipFill>
          <a:blip r:embed="rId4"/>
          <a:stretch/>
        </p:blipFill>
        <p:spPr>
          <a:xfrm>
            <a:off x="4716360" y="801720"/>
            <a:ext cx="4427640" cy="332244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191" name="Text Box 16"/>
          <p:cNvSpPr/>
          <p:nvPr/>
        </p:nvSpPr>
        <p:spPr>
          <a:xfrm>
            <a:off x="6678720" y="4149720"/>
            <a:ext cx="2465280" cy="398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ный пресс</a:t>
            </a:r>
            <a:endParaRPr b="0" lang="en-US" sz="2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-360" y="4220640"/>
            <a:ext cx="5651640" cy="15843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Хорошо росли 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в отличии от злаковых культур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оливк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– ели свежими, маринованными, делали масл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в пищу, для освещения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виноград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чень славилось виноградное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ино.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0" y="5877000"/>
            <a:ext cx="5724360" cy="981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Прочитайте миф «Спор Афины с Посейдоном» стр. 142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Занятия жителей афинского полиса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/х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724000" y="620280"/>
            <a:ext cx="3419640" cy="331308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ие жители Афин были прекрасными ремесленникам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инские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амфор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авились на всю Греци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- Опишите труд древнегреческого гончара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6" name="Picture 7" descr="Рисунок3"/>
          <p:cNvPicPr/>
          <p:nvPr/>
        </p:nvPicPr>
        <p:blipFill>
          <a:blip r:embed="rId1"/>
          <a:stretch/>
        </p:blipFill>
        <p:spPr>
          <a:xfrm>
            <a:off x="0" y="692280"/>
            <a:ext cx="5700600" cy="616572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197" name="Rectangle 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месло, торговля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5724360" y="4005360"/>
            <a:ext cx="3419640" cy="2852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VII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 в. до н. э. – появляются монеты: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новная –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драхма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амая мелкая –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лепта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амая крупная –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талант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(≈ 26 кг).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6"/>
          <p:cNvSpPr/>
          <p:nvPr/>
        </p:nvSpPr>
        <p:spPr>
          <a:xfrm>
            <a:off x="3995640" y="1202760"/>
            <a:ext cx="4680000" cy="19836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 власти из 9 человек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жрец, полководец, глава государства, 6 судей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заседали на холме Ареса) 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лены ареопага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РХОНТЫ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211640" y="4454280"/>
            <a:ext cx="4730760" cy="11574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ЕМОС </a:t>
            </a:r>
            <a:r>
              <a:rPr b="1" lang="ru-RU" sz="2400" spc="-1" strike="noStrike">
                <a:solidFill>
                  <a:srgbClr val="350035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од) –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бирал правителей, но в управлении не участвовал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340000" y="3610080"/>
            <a:ext cx="460836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3276720" y="1700280"/>
            <a:ext cx="647640" cy="584280"/>
          </a:xfrm>
          <a:prstGeom prst="pie">
            <a:avLst/>
          </a:prstGeom>
          <a:solidFill>
            <a:srgbClr val="ffff99"/>
          </a:solidFill>
          <a:ln w="3816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Организация власти в Афинах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. до н.э.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250920" y="1557360"/>
            <a:ext cx="2990880" cy="8589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РЕОПАГ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250920" y="4437000"/>
            <a:ext cx="3673440" cy="11527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НАТЬ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адала всей властью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0" y="5986800"/>
            <a:ext cx="914400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ласть и земля в Афинах принадлежали знати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7" name="Line 26"/>
          <p:cNvSpPr/>
          <p:nvPr/>
        </p:nvSpPr>
        <p:spPr>
          <a:xfrm flipH="1">
            <a:off x="2340000" y="4149720"/>
            <a:ext cx="216000" cy="216000"/>
          </a:xfrm>
          <a:prstGeom prst="line">
            <a:avLst/>
          </a:prstGeom>
          <a:ln w="76320">
            <a:solidFill>
              <a:srgbClr val="f8f8f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00720" y="4149720"/>
            <a:ext cx="142920" cy="287280"/>
          </a:xfrm>
          <a:prstGeom prst="line">
            <a:avLst/>
          </a:prstGeom>
          <a:ln w="76320">
            <a:solidFill>
              <a:srgbClr val="f8f8f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- Вспомните как люди становились рабами (виды рабства)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 видом рабства в Афинах было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олговое рабство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Дайте определение данному виду рабств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земледелец брал в долг, на его земле ставили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«долговой камень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н не возвращал долг в срок, то он становился рабо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мос был недоволен такими порядками и требовал отменить долговое рабство и справедливо поделить земл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7" descr="Рисунок1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18124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211" name="Rectangle 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Бедственное положение народных масс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620640"/>
            <a:ext cx="9144000" cy="647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рочитайте «Законы Драконта» с. 141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732720" y="1341360"/>
            <a:ext cx="2247840" cy="398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говой камень</a:t>
            </a:r>
            <a:endParaRPr b="0" lang="en-US" sz="20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крепление пройденного материала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называлось небольшое самостоятельное государство в древней Греции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ой области находился афинский полис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такие архонты, ареопаг, демос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означал для жителей афинского полиса камень, поставленных на участке властными органами? О чём он предупреждал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требования выдвигал афинский народ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обозначает выражение «Драконовские(товские) законы?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1:54:18Z</dcterms:created>
  <dc:creator>ЧЕРНОВ АЛЕКСЕЙ</dc:creator>
  <dc:description/>
  <dc:language>en-US</dc:language>
  <cp:lastModifiedBy>админ</cp:lastModifiedBy>
  <dcterms:modified xsi:type="dcterms:W3CDTF">2018-04-01T17:03:51Z</dcterms:modified>
  <cp:revision>38</cp:revision>
  <dc:subject/>
  <dc:title>Заголовок слайда отсутствует</dc:title>
</cp:coreProperties>
</file>