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A7F9-A164-494A-A2BB-129573D7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179-EDA6-4511-AADD-947AC18E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22B-0896-4C05-A851-7706832A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BFDA-78FB-46CE-8179-5BDC73DA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8C02-4090-46AB-BFAD-6A5757C3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32B8-687D-449D-9745-A7A0170B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B8E5-6223-4712-B50A-98E6AA62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8B97-EE8B-4F0B-B613-BBABEFF8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020F-7B9F-42C8-A656-FED9FFFE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30E4-80EF-42AF-BD2E-7C51A71E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110E-3EC2-46F4-8F08-C6D87D1C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ED0C-707D-481F-9131-E33E54A5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40A4-0948-4266-AABA-0507D9A6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D2FC-7EEC-4C47-91A1-ED35A7DD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EFE2-D998-4DDC-B424-C4B434C9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7064-7AE3-48FD-B3F8-74F34F8A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3589-367B-447F-B29B-15994184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55F-5730-4255-9F41-78086605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419-45D2-4C4D-93FC-FD32570D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CEB7-6F67-439F-8828-F7B3D1B5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8231-71A1-413A-9112-7FB296CA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D85-70FF-46B1-9484-4E581494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3B3-314C-4CA9-A742-E2BD1E03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2D2-8D0B-4BBC-B709-F689F2F7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2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6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4"/>
              <p:cNvSpPr/>
              <p:nvPr/>
            </p:nvSpPr>
            <p:spPr>
              <a:xfrm>
                <a:off x="8415360" y="-17640"/>
                <a:ext cx="382680" cy="680112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8796240" y="-17640"/>
                <a:ext cx="382680" cy="680112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9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7"/>
              <p:cNvSpPr/>
              <p:nvPr/>
            </p:nvSpPr>
            <p:spPr>
              <a:xfrm>
                <a:off x="0" y="0"/>
                <a:ext cx="382680" cy="678348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380880" y="0"/>
                <a:ext cx="382680" cy="678348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47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28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0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54200" y="115092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68320" y="1171440"/>
                  <a:ext cx="139680" cy="1191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4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2235240" y="34920"/>
                  <a:ext cx="4710240" cy="7254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963720" y="187200"/>
                  <a:ext cx="1306440" cy="6843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244440" y="846000"/>
                  <a:ext cx="874800" cy="5382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212760" y="189000"/>
                  <a:ext cx="754200" cy="87624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669960" y="109044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84080" y="1111320"/>
                  <a:ext cx="139680" cy="1173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612720" y="760320"/>
                  <a:ext cx="506520" cy="4539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8097840" y="852480"/>
                  <a:ext cx="874800" cy="53172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250120" y="189000"/>
                  <a:ext cx="754200" cy="87624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8097840" y="760320"/>
                  <a:ext cx="506520" cy="4539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27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29"/>
              <p:cNvSpPr/>
              <p:nvPr/>
            </p:nvSpPr>
            <p:spPr>
              <a:xfrm>
                <a:off x="8282160" y="1228680"/>
                <a:ext cx="247320" cy="18720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0"/>
              <p:cNvSpPr/>
              <p:nvPr/>
            </p:nvSpPr>
            <p:spPr>
              <a:xfrm>
                <a:off x="8275680" y="1249200"/>
                <a:ext cx="139680" cy="11772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671400" y="1214280"/>
                <a:ext cx="247680" cy="1875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785880" y="1236600"/>
                <a:ext cx="139680" cy="1173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3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2152800" y="100080"/>
                <a:ext cx="4709880" cy="72540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880920" y="252360"/>
                <a:ext cx="1306800" cy="684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162000" y="909720"/>
                <a:ext cx="874800" cy="539640"/>
              </a:xfrm>
              <a:prstGeom prst="pie">
                <a:avLst/>
              </a:pr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130320" y="254160"/>
                <a:ext cx="753840" cy="87624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587520" y="1154160"/>
                <a:ext cx="247680" cy="187200"/>
              </a:xfrm>
              <a:prstGeom prst="pie">
                <a:avLst/>
              </a:pr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01640" y="1176480"/>
                <a:ext cx="139680" cy="117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530280" y="825480"/>
                <a:ext cx="506520" cy="4539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15400" y="917640"/>
                <a:ext cx="874440" cy="531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8167680" y="254160"/>
                <a:ext cx="754200" cy="87624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8217000" y="1154160"/>
                <a:ext cx="247680" cy="18720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8210520" y="1174680"/>
                <a:ext cx="139680" cy="117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8015400" y="825480"/>
                <a:ext cx="506160" cy="4539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6"/>
              <p:cNvSpPr/>
              <p:nvPr/>
            </p:nvSpPr>
            <p:spPr>
              <a:xfrm>
                <a:off x="6856560" y="254160"/>
                <a:ext cx="1320480" cy="666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2200-28C3-44E4-BA44-4783D225B0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8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2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3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6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4"/>
              <p:cNvSpPr/>
              <p:nvPr/>
            </p:nvSpPr>
            <p:spPr>
              <a:xfrm>
                <a:off x="8415360" y="-17640"/>
                <a:ext cx="382680" cy="680112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5"/>
              <p:cNvSpPr/>
              <p:nvPr/>
            </p:nvSpPr>
            <p:spPr>
              <a:xfrm>
                <a:off x="8796240" y="-17640"/>
                <a:ext cx="382680" cy="680112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9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7"/>
              <p:cNvSpPr/>
              <p:nvPr/>
            </p:nvSpPr>
            <p:spPr>
              <a:xfrm>
                <a:off x="0" y="0"/>
                <a:ext cx="382680" cy="678348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8"/>
              <p:cNvSpPr/>
              <p:nvPr/>
            </p:nvSpPr>
            <p:spPr>
              <a:xfrm>
                <a:off x="380880" y="0"/>
                <a:ext cx="382680" cy="678348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47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28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0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1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2"/>
                <p:cNvSpPr/>
                <p:nvPr/>
              </p:nvSpPr>
              <p:spPr>
                <a:xfrm>
                  <a:off x="754200" y="244620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3"/>
                <p:cNvSpPr/>
                <p:nvPr/>
              </p:nvSpPr>
              <p:spPr>
                <a:xfrm>
                  <a:off x="868320" y="2467080"/>
                  <a:ext cx="139680" cy="1188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5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6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17"/>
                <p:cNvSpPr/>
                <p:nvPr/>
              </p:nvSpPr>
              <p:spPr>
                <a:xfrm>
                  <a:off x="244440" y="2141640"/>
                  <a:ext cx="874800" cy="5382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18"/>
                <p:cNvSpPr/>
                <p:nvPr/>
              </p:nvSpPr>
              <p:spPr>
                <a:xfrm>
                  <a:off x="212760" y="1484280"/>
                  <a:ext cx="754200" cy="87624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19"/>
                <p:cNvSpPr/>
                <p:nvPr/>
              </p:nvSpPr>
              <p:spPr>
                <a:xfrm>
                  <a:off x="669960" y="238608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0"/>
                <p:cNvSpPr/>
                <p:nvPr/>
              </p:nvSpPr>
              <p:spPr>
                <a:xfrm>
                  <a:off x="784080" y="2406600"/>
                  <a:ext cx="139680" cy="1173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1"/>
                <p:cNvSpPr/>
                <p:nvPr/>
              </p:nvSpPr>
              <p:spPr>
                <a:xfrm>
                  <a:off x="612720" y="2055960"/>
                  <a:ext cx="506520" cy="4539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2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3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4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5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6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27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29"/>
              <p:cNvSpPr/>
              <p:nvPr/>
            </p:nvSpPr>
            <p:spPr>
              <a:xfrm>
                <a:off x="8282160" y="2523960"/>
                <a:ext cx="247320" cy="1875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0"/>
              <p:cNvSpPr/>
              <p:nvPr/>
            </p:nvSpPr>
            <p:spPr>
              <a:xfrm>
                <a:off x="8275680" y="2544840"/>
                <a:ext cx="139680" cy="1173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1"/>
              <p:cNvSpPr/>
              <p:nvPr/>
            </p:nvSpPr>
            <p:spPr>
              <a:xfrm>
                <a:off x="671400" y="2509920"/>
                <a:ext cx="247680" cy="18720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2"/>
              <p:cNvSpPr/>
              <p:nvPr/>
            </p:nvSpPr>
            <p:spPr>
              <a:xfrm>
                <a:off x="785880" y="2532240"/>
                <a:ext cx="139680" cy="1173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4"/>
              <p:cNvSpPr/>
              <p:nvPr/>
            </p:nvSpPr>
            <p:spPr>
              <a:xfrm>
                <a:off x="2152800" y="1395360"/>
                <a:ext cx="4709880" cy="72540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5"/>
              <p:cNvSpPr/>
              <p:nvPr/>
            </p:nvSpPr>
            <p:spPr>
              <a:xfrm>
                <a:off x="880920" y="1547640"/>
                <a:ext cx="1306800" cy="684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6"/>
              <p:cNvSpPr/>
              <p:nvPr/>
            </p:nvSpPr>
            <p:spPr>
              <a:xfrm>
                <a:off x="162000" y="2205000"/>
                <a:ext cx="874800" cy="539640"/>
              </a:xfrm>
              <a:prstGeom prst="pie">
                <a:avLst/>
              </a:pr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7"/>
              <p:cNvSpPr/>
              <p:nvPr/>
            </p:nvSpPr>
            <p:spPr>
              <a:xfrm>
                <a:off x="130320" y="1549440"/>
                <a:ext cx="753840" cy="87624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38"/>
              <p:cNvSpPr/>
              <p:nvPr/>
            </p:nvSpPr>
            <p:spPr>
              <a:xfrm>
                <a:off x="587520" y="2449440"/>
                <a:ext cx="247680" cy="187560"/>
              </a:xfrm>
              <a:prstGeom prst="pie">
                <a:avLst/>
              </a:pr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39"/>
              <p:cNvSpPr/>
              <p:nvPr/>
            </p:nvSpPr>
            <p:spPr>
              <a:xfrm>
                <a:off x="701640" y="2471760"/>
                <a:ext cx="139680" cy="117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0"/>
              <p:cNvSpPr/>
              <p:nvPr/>
            </p:nvSpPr>
            <p:spPr>
              <a:xfrm>
                <a:off x="530280" y="2120760"/>
                <a:ext cx="506520" cy="4543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1"/>
              <p:cNvSpPr/>
              <p:nvPr/>
            </p:nvSpPr>
            <p:spPr>
              <a:xfrm>
                <a:off x="8015400" y="2212920"/>
                <a:ext cx="874440" cy="531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2"/>
              <p:cNvSpPr/>
              <p:nvPr/>
            </p:nvSpPr>
            <p:spPr>
              <a:xfrm>
                <a:off x="8167680" y="1549440"/>
                <a:ext cx="754200" cy="87624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3"/>
              <p:cNvSpPr/>
              <p:nvPr/>
            </p:nvSpPr>
            <p:spPr>
              <a:xfrm>
                <a:off x="8217000" y="2449440"/>
                <a:ext cx="247680" cy="1875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4"/>
              <p:cNvSpPr/>
              <p:nvPr/>
            </p:nvSpPr>
            <p:spPr>
              <a:xfrm>
                <a:off x="8210520" y="2470320"/>
                <a:ext cx="139680" cy="117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5"/>
              <p:cNvSpPr/>
              <p:nvPr/>
            </p:nvSpPr>
            <p:spPr>
              <a:xfrm>
                <a:off x="8015400" y="2120760"/>
                <a:ext cx="506160" cy="4543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6"/>
              <p:cNvSpPr/>
              <p:nvPr/>
            </p:nvSpPr>
            <p:spPr>
              <a:xfrm>
                <a:off x="6856560" y="1549440"/>
                <a:ext cx="1320480" cy="666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5CCA-6D53-435F-9340-37B23EA82C04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1"/>
          <p:cNvSpPr/>
          <p:nvPr/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1640" y="1773000"/>
            <a:ext cx="7556400" cy="237636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Глава 8. </a:t>
            </a:r>
            <a:r>
              <a:rPr b="1" lang="ru-RU" sz="3600" spc="-1" strike="noStrike" u="sng">
                <a:solidFill>
                  <a:srgbClr val="a50021"/>
                </a:solidFill>
                <a:uFillTx/>
                <a:latin typeface="Times New Roman"/>
              </a:rPr>
              <a:t>Полисы Греции и их борьба с персидским нашествием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ма: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 Земледельцы Аттики теряют землю и свобод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29)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/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9, вопросы, конспект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71640" y="4437000"/>
            <a:ext cx="7345440" cy="172872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урока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рассмотреть систему жизни области Аттика, где находился знаменитейший город Афины. Установить главную причину, почему греки попадали в долговое рабство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76720" y="620640"/>
            <a:ext cx="5867280" cy="244800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550"/>
              </a:spcBef>
              <a:buClr>
                <a:srgbClr val="000066"/>
              </a:buClr>
              <a:buSzPct val="120000"/>
              <a:buFont typeface="Times New Roman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Times New Roman"/>
              </a:rPr>
              <a:t>Вспомните, когда были разрушены Микены</a:t>
            </a:r>
            <a:r>
              <a:rPr b="1" lang="en-US" sz="2200" spc="-1" strike="noStrike">
                <a:solidFill>
                  <a:srgbClr val="9900ff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2 века спустя </a:t>
            </a:r>
            <a:r>
              <a:rPr b="1" lang="ru-RU" sz="2200" spc="-1" strike="noStrike" u="sng">
                <a:solidFill>
                  <a:srgbClr val="9900ff"/>
                </a:solidFill>
                <a:uFillTx/>
                <a:latin typeface="Times New Roman"/>
              </a:rPr>
              <a:t>(назови век)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 в Греции появились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- 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ПОЛИСЫ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 -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орода-государст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город + прилегающая к нему территория);</a:t>
            </a:r>
            <a:endParaRPr b="0" lang="en-US" sz="22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железо; </a:t>
            </a:r>
            <a:endParaRPr b="0" lang="en-US" sz="22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овая письменность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заимствовали у финикийцев + гласные).</a:t>
            </a:r>
            <a:endParaRPr b="0" lang="en-US" sz="2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1" name="Picture 6" descr="Рисунок1"/>
          <p:cNvPicPr/>
          <p:nvPr/>
        </p:nvPicPr>
        <p:blipFill>
          <a:blip r:embed="rId1"/>
          <a:stretch/>
        </p:blipFill>
        <p:spPr>
          <a:xfrm>
            <a:off x="0" y="549360"/>
            <a:ext cx="3265560" cy="6308640"/>
          </a:xfrm>
          <a:prstGeom prst="rect">
            <a:avLst/>
          </a:prstGeom>
          <a:ln w="76320">
            <a:solidFill>
              <a:srgbClr val="98baff"/>
            </a:solidFill>
            <a:miter/>
          </a:ln>
        </p:spPr>
      </p:pic>
      <p:sp>
        <p:nvSpPr>
          <p:cNvPr id="182" name="Rectangle 7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финский полис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183" name="Picture 8" descr="Рисунок3"/>
          <p:cNvPicPr/>
          <p:nvPr/>
        </p:nvPicPr>
        <p:blipFill>
          <a:blip r:embed="rId2"/>
          <a:stretch/>
        </p:blipFill>
        <p:spPr>
          <a:xfrm>
            <a:off x="3348000" y="3141720"/>
            <a:ext cx="3149640" cy="3716280"/>
          </a:xfrm>
          <a:prstGeom prst="rect">
            <a:avLst/>
          </a:prstGeom>
          <a:ln w="76320">
            <a:solidFill>
              <a:srgbClr val="98baff"/>
            </a:solidFill>
            <a:miter/>
          </a:ln>
        </p:spPr>
      </p:pic>
      <p:sp>
        <p:nvSpPr>
          <p:cNvPr id="184" name="Rectangle 9"/>
          <p:cNvSpPr/>
          <p:nvPr/>
        </p:nvSpPr>
        <p:spPr>
          <a:xfrm>
            <a:off x="6588000" y="3141720"/>
            <a:ext cx="2556000" cy="371628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480" indent="21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овым центром греческой цивилизации стал город-полис 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АФИНЫ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(обл. Аттика).</a:t>
            </a:r>
            <a:endParaRPr b="0" lang="en-US" sz="2200" spc="-1" strike="noStrike">
              <a:solidFill>
                <a:srgbClr val="f8f8f8"/>
              </a:solidFill>
              <a:latin typeface="Times New Roman Cyr"/>
            </a:endParaRPr>
          </a:p>
          <a:p>
            <a:pPr marL="6480" indent="21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8f8f8"/>
              </a:solidFill>
              <a:latin typeface="Times New Roman Cyr"/>
            </a:endParaRPr>
          </a:p>
          <a:p>
            <a:pPr marL="6480" indent="21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лавная площадь любого полиса – 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АГОРА</a:t>
            </a:r>
            <a:r>
              <a:rPr b="1" lang="ru-RU" sz="2200" spc="-1" strike="noStrike">
                <a:solidFill>
                  <a:srgbClr val="0000ff"/>
                </a:solidFill>
                <a:latin typeface="Times New Roman Cyr"/>
              </a:rPr>
              <a:t>́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372000" y="0"/>
            <a:ext cx="2771640" cy="685800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92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50035"/>
                </a:solidFill>
                <a:uFillTx/>
                <a:latin typeface="Times New Roman"/>
              </a:rPr>
              <a:t>Стр. 11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9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ff"/>
                </a:solidFill>
                <a:uFillTx/>
                <a:latin typeface="Times New Roman"/>
              </a:rPr>
              <a:t>Найдите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92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нюю Грецию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92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асть Аттику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92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од Афины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9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9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т полноводных рек, почвы каменистые, засушливое лето. 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Сделайте вывод. Какие занятия при таких условиях могут стать главными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6" name="Picture 7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6276960" cy="6858000"/>
          </a:xfrm>
          <a:prstGeom prst="rect">
            <a:avLst/>
          </a:prstGeom>
          <a:ln w="76320">
            <a:solidFill>
              <a:srgbClr val="98ba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9" descr="Рисунок2"/>
          <p:cNvPicPr/>
          <p:nvPr/>
        </p:nvPicPr>
        <p:blipFill>
          <a:blip r:embed="rId1"/>
          <a:stretch/>
        </p:blipFill>
        <p:spPr>
          <a:xfrm>
            <a:off x="5796000" y="4300560"/>
            <a:ext cx="3348000" cy="2557440"/>
          </a:xfrm>
          <a:prstGeom prst="rect">
            <a:avLst/>
          </a:prstGeom>
          <a:ln w="76320">
            <a:solidFill>
              <a:srgbClr val="98baff"/>
            </a:solidFill>
            <a:miter/>
          </a:ln>
        </p:spPr>
      </p:pic>
      <p:pic>
        <p:nvPicPr>
          <p:cNvPr id="188" name="Picture 11" descr="%D0%BE%D0%BB%D0%B8%D0%B2%D0%B0"/>
          <p:cNvPicPr/>
          <p:nvPr/>
        </p:nvPicPr>
        <p:blipFill>
          <a:blip r:embed="rId2"/>
          <a:stretch/>
        </p:blipFill>
        <p:spPr>
          <a:xfrm>
            <a:off x="0" y="765000"/>
            <a:ext cx="3333600" cy="3686400"/>
          </a:xfrm>
          <a:prstGeom prst="rect">
            <a:avLst/>
          </a:prstGeom>
          <a:ln w="76320">
            <a:solidFill>
              <a:srgbClr val="98baff"/>
            </a:solidFill>
            <a:miter/>
          </a:ln>
        </p:spPr>
      </p:pic>
      <p:pic>
        <p:nvPicPr>
          <p:cNvPr id="189" name="Picture 13" descr="oil"/>
          <p:cNvPicPr/>
          <p:nvPr/>
        </p:nvPicPr>
        <p:blipFill>
          <a:blip r:embed="rId3"/>
          <a:stretch/>
        </p:blipFill>
        <p:spPr>
          <a:xfrm>
            <a:off x="3492360" y="2708280"/>
            <a:ext cx="1141560" cy="1440000"/>
          </a:xfrm>
          <a:prstGeom prst="rect">
            <a:avLst/>
          </a:prstGeom>
          <a:ln w="76320">
            <a:solidFill>
              <a:srgbClr val="98baff"/>
            </a:solidFill>
            <a:miter/>
          </a:ln>
        </p:spPr>
      </p:pic>
      <p:pic>
        <p:nvPicPr>
          <p:cNvPr id="190" name="Picture 15" descr="v-avstrii-unichtozhena-unikalnaya-vinogradnaya-loza"/>
          <p:cNvPicPr/>
          <p:nvPr/>
        </p:nvPicPr>
        <p:blipFill>
          <a:blip r:embed="rId4"/>
          <a:stretch/>
        </p:blipFill>
        <p:spPr>
          <a:xfrm>
            <a:off x="4716360" y="801720"/>
            <a:ext cx="4427640" cy="3322440"/>
          </a:xfrm>
          <a:prstGeom prst="rect">
            <a:avLst/>
          </a:prstGeom>
          <a:ln w="76320">
            <a:solidFill>
              <a:srgbClr val="98baff"/>
            </a:solidFill>
            <a:miter/>
          </a:ln>
        </p:spPr>
      </p:pic>
      <p:sp>
        <p:nvSpPr>
          <p:cNvPr id="191" name="Text Box 16"/>
          <p:cNvSpPr/>
          <p:nvPr/>
        </p:nvSpPr>
        <p:spPr>
          <a:xfrm>
            <a:off x="6678720" y="4149720"/>
            <a:ext cx="2465280" cy="398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ноградный пресс</a:t>
            </a:r>
            <a:endParaRPr b="0" lang="en-US" sz="2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-360" y="4220640"/>
            <a:ext cx="5651640" cy="158436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Хорошо росли </a:t>
            </a:r>
            <a:endParaRPr b="0" lang="en-US" sz="2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в отличии от злаковых культур)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оливк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– ели свежими, маринованными, делали масл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в пищу, для освещения)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виноград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чень славилось виноградное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ино.</a:t>
            </a:r>
            <a:endParaRPr b="0" lang="en-US" sz="2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0" y="5877000"/>
            <a:ext cx="5724360" cy="98100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Прочитайте миф «Спор Афины с Посейдоном» стр. 142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Занятия жителей афинского полиса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/х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724000" y="620280"/>
            <a:ext cx="3419640" cy="331308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огие жители Афин были прекрасными ремесленниками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финские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амфор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авились на всю Грецию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- Опишите труд древнегреческого гончара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6" name="Picture 7" descr="Рисунок3"/>
          <p:cNvPicPr/>
          <p:nvPr/>
        </p:nvPicPr>
        <p:blipFill>
          <a:blip r:embed="rId1"/>
          <a:stretch/>
        </p:blipFill>
        <p:spPr>
          <a:xfrm>
            <a:off x="0" y="692280"/>
            <a:ext cx="5700600" cy="6165720"/>
          </a:xfrm>
          <a:prstGeom prst="rect">
            <a:avLst/>
          </a:prstGeom>
          <a:ln w="76320">
            <a:solidFill>
              <a:srgbClr val="98baff"/>
            </a:solidFill>
            <a:miter/>
          </a:ln>
        </p:spPr>
      </p:pic>
      <p:sp>
        <p:nvSpPr>
          <p:cNvPr id="197" name="Rectangle 8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месло, торговля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5724360" y="4005360"/>
            <a:ext cx="3419640" cy="285264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VII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 в. до н. э. – появляются монеты:</a:t>
            </a:r>
            <a:endParaRPr b="0" lang="en-US" sz="2200" spc="-1" strike="noStrike">
              <a:solidFill>
                <a:srgbClr val="f8f8f8"/>
              </a:solidFill>
              <a:latin typeface="Times New Roman Cyr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сновная –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драхма</a:t>
            </a:r>
            <a:endParaRPr b="0" lang="en-US" sz="2200" spc="-1" strike="noStrike">
              <a:solidFill>
                <a:srgbClr val="f8f8f8"/>
              </a:solidFill>
              <a:latin typeface="Times New Roman Cyr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амая мелкая –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лепта</a:t>
            </a:r>
            <a:endParaRPr b="0" lang="en-US" sz="2200" spc="-1" strike="noStrike">
              <a:solidFill>
                <a:srgbClr val="f8f8f8"/>
              </a:solidFill>
              <a:latin typeface="Times New Roman Cyr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амая крупная –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талант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(≈ 26 кг).</a:t>
            </a:r>
            <a:endParaRPr b="0" lang="en-US" sz="22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6"/>
          <p:cNvSpPr/>
          <p:nvPr/>
        </p:nvSpPr>
        <p:spPr>
          <a:xfrm>
            <a:off x="3995640" y="1202760"/>
            <a:ext cx="4680000" cy="198360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 власти из 9 человек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жрец, полководец, глава государства, 6 судей 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заседали на холме Ареса) </a:t>
            </a:r>
            <a:r>
              <a:rPr b="1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лены ареопага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АРХОНТЫ</a:t>
            </a:r>
            <a:endParaRPr b="0" lang="en-US" sz="28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4211640" y="4454280"/>
            <a:ext cx="4730760" cy="115740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ЕМОС </a:t>
            </a:r>
            <a:r>
              <a:rPr b="1" lang="ru-RU" sz="2400" spc="-1" strike="noStrike">
                <a:solidFill>
                  <a:srgbClr val="350035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род) – 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бирал правителей, но в управлении не участвовал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2340000" y="3610080"/>
            <a:ext cx="4608360" cy="45972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ЛЕНИЕ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3276720" y="1700280"/>
            <a:ext cx="647640" cy="584280"/>
          </a:xfrm>
          <a:prstGeom prst="pie">
            <a:avLst/>
          </a:prstGeom>
          <a:solidFill>
            <a:srgbClr val="ffff99"/>
          </a:solidFill>
          <a:ln w="3816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3" name="Rectangle 18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Организация власти в Афинах 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. до н.э.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250920" y="1557360"/>
            <a:ext cx="2990880" cy="85896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АРЕОПАГ</a:t>
            </a:r>
            <a:endParaRPr b="0" lang="en-US" sz="28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250920" y="4437000"/>
            <a:ext cx="3673440" cy="115272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ЗНАТЬ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адала всей властью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0" y="5986800"/>
            <a:ext cx="9144000" cy="45972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ласть и земля в Афинах принадлежали знати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7" name="Line 26"/>
          <p:cNvSpPr/>
          <p:nvPr/>
        </p:nvSpPr>
        <p:spPr>
          <a:xfrm flipH="1">
            <a:off x="2340000" y="4149720"/>
            <a:ext cx="216000" cy="216000"/>
          </a:xfrm>
          <a:prstGeom prst="line">
            <a:avLst/>
          </a:prstGeom>
          <a:ln w="76320">
            <a:solidFill>
              <a:srgbClr val="f8f8f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8" name="Line 27"/>
          <p:cNvSpPr/>
          <p:nvPr/>
        </p:nvSpPr>
        <p:spPr>
          <a:xfrm>
            <a:off x="6300720" y="4149720"/>
            <a:ext cx="142920" cy="287280"/>
          </a:xfrm>
          <a:prstGeom prst="line">
            <a:avLst/>
          </a:prstGeom>
          <a:ln w="76320">
            <a:solidFill>
              <a:srgbClr val="f8f8f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3644640"/>
            <a:ext cx="9144000" cy="321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- Вспомните как люди становились рабами (виды рабства)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5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м видом рабства в Афинах было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долговое рабство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Дайте определение данному виду рабства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5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земледелец брал в долг, на его земле ставили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«долговой камень»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он не возвращал долг в срок, то он становился рабом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5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мос был недоволен такими порядками и требовал отменить долговое рабство и справедливо поделить землю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0" name="Picture 7" descr="Рисунок1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2181240"/>
          </a:xfrm>
          <a:prstGeom prst="rect">
            <a:avLst/>
          </a:prstGeom>
          <a:ln w="76320">
            <a:solidFill>
              <a:srgbClr val="98baff"/>
            </a:solidFill>
            <a:miter/>
          </a:ln>
        </p:spPr>
      </p:pic>
      <p:sp>
        <p:nvSpPr>
          <p:cNvPr id="211" name="Rectangle 8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Бедственное положение народных масс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0" y="620640"/>
            <a:ext cx="9144000" cy="64764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рочитайте «Законы Драконта» с. 141</a:t>
            </a:r>
            <a:endParaRPr b="0" lang="en-US" sz="28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732720" y="1341360"/>
            <a:ext cx="2247840" cy="398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лговой камень</a:t>
            </a:r>
            <a:endParaRPr b="0" lang="en-US" sz="20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крепление пройденного материала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solidFill>
            <a:srgbClr val="f8f8f8"/>
          </a:solidFill>
          <a:ln w="76320">
            <a:solidFill>
              <a:srgbClr val="98ba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называлось небольшое самостоятельное государство в древней Греции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акой области находился афинский полис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то такие архонты, ареопаг, демос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означал для жителей афинского полиса камень, поставленных на участке властными органами? О чём он предупреждал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ие требования выдвигал афинский народ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обозначает выражение «Драконовские(товские) законы?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1:54:18Z</dcterms:created>
  <dc:creator>ЧЕРНОВ АЛЕКСЕЙ</dc:creator>
  <dc:description/>
  <dc:language>en-US</dc:language>
  <cp:lastModifiedBy>админ</cp:lastModifiedBy>
  <dcterms:modified xsi:type="dcterms:W3CDTF">2018-04-01T17:03:51Z</dcterms:modified>
  <cp:revision>38</cp:revision>
  <dc:subject/>
  <dc:title>Заголовок слайда отсутствует</dc:title>
</cp:coreProperties>
</file>