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7DEA-C52C-4585-B8D3-78B74008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662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58920" y="3964320"/>
            <a:ext cx="662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1615-B957-4002-ADC1-E7CFD41F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4440" y="160020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58920" y="396432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4440" y="396432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8B1E-422D-4BAA-84CC-4B62B73C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213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9200" y="1600200"/>
            <a:ext cx="213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39840" y="1600200"/>
            <a:ext cx="213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58920" y="3964320"/>
            <a:ext cx="213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9200" y="3964320"/>
            <a:ext cx="213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39840" y="3964320"/>
            <a:ext cx="213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9FE3-6446-469A-A8C0-C608D993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AF53-FA71-47DF-B2CD-C7FD815F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58920" y="1600200"/>
            <a:ext cx="6626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7977-E2DD-41AE-9991-7C644A3D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66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ACBC-7D16-451D-85D4-D16D9421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323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4440" y="1600200"/>
            <a:ext cx="323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1486-1575-4966-A888-6C7DA1A5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F753-3FB2-4201-92FE-95CC14DA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920" y="274320"/>
            <a:ext cx="6626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81D0-DD2D-4AE7-BAE5-75FAEB6B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4440" y="1600200"/>
            <a:ext cx="323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58920" y="396432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CF61-2D93-44EC-978C-B5441673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58920" y="1600200"/>
            <a:ext cx="6626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9CC6-8A7C-40B0-A069-5F1EAADB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323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4440" y="160020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4440" y="396432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8FB2-6C48-43C3-921E-49FFCB3F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4440" y="160020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58920" y="3964320"/>
            <a:ext cx="662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0A48-5F04-4F3E-8649-0CFB9EDE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662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58920" y="3964320"/>
            <a:ext cx="662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5007-ADAD-4E29-B5AE-DF717B57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4440" y="160020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58920" y="396432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4440" y="396432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C35B-0A8E-4230-9E8F-B80C652E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213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9200" y="1600200"/>
            <a:ext cx="213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39840" y="1600200"/>
            <a:ext cx="213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58920" y="3964320"/>
            <a:ext cx="213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9200" y="3964320"/>
            <a:ext cx="213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39840" y="3964320"/>
            <a:ext cx="213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8AD6-9CBB-45EE-9169-81804827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66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B12B-F709-4A58-8286-3F16C925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323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4440" y="1600200"/>
            <a:ext cx="323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654-4599-4E33-9065-76C4CF54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69E6-61EC-4450-AEB9-2702BD6F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920" y="274320"/>
            <a:ext cx="6626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1425-F725-4DF6-9D34-97D5A8BA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4440" y="1600200"/>
            <a:ext cx="323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58920" y="396432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A8CC-3E8B-4B0A-A56B-8CE0D68F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323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4440" y="160020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4440" y="396432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F565-147C-41A3-B481-027F008F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4440" y="1600200"/>
            <a:ext cx="323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58920" y="3964320"/>
            <a:ext cx="662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ACCA-2409-4499-93D1-A3E4E101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58920" y="1600200"/>
            <a:ext cx="66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E81C-E92E-4206-B74B-36A74C3E59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58920" y="1600200"/>
            <a:ext cx="66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A9AE-3D17-47B4-A5C6-4C49426421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toletie.ru/upload/iblock/610/ofatkf.jpg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upload.wikimedia.org/wikipedia/ru/b/bf/Alekseev_mihail.jpg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incognita.day.kiev.ua/img/hist/8denikin.jpg" TargetMode="External"/><Relationship Id="rId8" Type="http://schemas.openxmlformats.org/officeDocument/2006/relationships/image" Target="../media/image2.png"/><Relationship Id="rId9" Type="http://schemas.openxmlformats.org/officeDocument/2006/relationships/hyperlink" Target="http://www.belrussia.ru/kontent/pict/Kol/k15.jpg" TargetMode="External"/><Relationship Id="rId10" Type="http://schemas.openxmlformats.org/officeDocument/2006/relationships/image" Target="../media/image2.png"/><Relationship Id="rId11" Type="http://schemas.openxmlformats.org/officeDocument/2006/relationships/hyperlink" Target="http://www.historbook.ru/vrangel.jpg" TargetMode="External"/><Relationship Id="rId12" Type="http://schemas.openxmlformats.org/officeDocument/2006/relationships/image" Target="../media/image2.png"/><Relationship Id="rId13" Type="http://schemas.openxmlformats.org/officeDocument/2006/relationships/hyperlink" Target="http://i081.radikal.ru/1003/ef/c2e57667999a.jpg" TargetMode="External"/><Relationship Id="rId14" Type="http://schemas.openxmlformats.org/officeDocument/2006/relationships/image" Target="../media/image2.png"/><Relationship Id="rId15" Type="http://schemas.openxmlformats.org/officeDocument/2006/relationships/hyperlink" Target="http://img12.nnm.ru/e/6/0/e/c/0c33bfeb478f3c3d4d7fe5143ba.jpg" TargetMode="External"/><Relationship Id="rId16" Type="http://schemas.openxmlformats.org/officeDocument/2006/relationships/image" Target="../media/image2.png"/><Relationship Id="rId17" Type="http://schemas.openxmlformats.org/officeDocument/2006/relationships/hyperlink" Target="http://s42.radikal.ru/i096/1008/05/287ea9d4a80e.jpg" TargetMode="External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8920" y="2349360"/>
            <a:ext cx="662616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6600" spc="-1" strike="noStrike">
                <a:solidFill>
                  <a:srgbClr val="ff0000"/>
                </a:solidFill>
                <a:latin typeface="Gungsuh"/>
                <a:ea typeface="Gungsuh"/>
              </a:rPr>
              <a:t>Начало Гражданской войны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700360" y="5805360"/>
            <a:ext cx="52563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6840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ungsuh"/>
                <a:ea typeface="Gungsuh"/>
              </a:rPr>
              <a:t>Создание Красной Ар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16000" y="1484280"/>
            <a:ext cx="6840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Начавшееся противостояние заставило большевиков заняться военными вопросами. Армия создавалась на принципах добровольности, но это не способствовало усилению боеспособности. Как результат – ряд серьёзных поражений на начальном этапе вой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042560" y="1600200"/>
            <a:ext cx="69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ungsuh"/>
                <a:ea typeface="Gungsuh"/>
              </a:rPr>
              <a:t>15 января 1918 г. </a:t>
            </a:r>
            <a:r>
              <a:rPr b="0" lang="ru-RU" sz="3200" spc="-1" strike="noStrike">
                <a:solidFill>
                  <a:srgbClr val="000000"/>
                </a:solidFill>
                <a:latin typeface="Gungsuh"/>
                <a:ea typeface="Gungsuh"/>
              </a:rPr>
              <a:t>декретом СНК была создана </a:t>
            </a:r>
            <a:r>
              <a:rPr b="0" lang="ru-RU" sz="3200" spc="-1" strike="noStrike">
                <a:solidFill>
                  <a:srgbClr val="ff0000"/>
                </a:solidFill>
                <a:latin typeface="Gungsuh"/>
                <a:ea typeface="Gungsuh"/>
              </a:rPr>
              <a:t>Рабоче-крестьянская Красная Армия </a:t>
            </a:r>
            <a:r>
              <a:rPr b="1" lang="ru-RU" sz="3200" spc="-1" strike="noStrike">
                <a:solidFill>
                  <a:srgbClr val="ff0000"/>
                </a:solidFill>
                <a:latin typeface="Gungsuh"/>
                <a:ea typeface="Gungsuh"/>
              </a:rPr>
              <a:t>(РКК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ungsuh"/>
                <a:ea typeface="Gungsuh"/>
              </a:rPr>
              <a:t>29 января – Рабоче-крестьянский Красный Фл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6840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ungsuh"/>
                <a:ea typeface="Gungsuh"/>
              </a:rPr>
              <a:t>Создание Красной Ар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D:\Desktop\белый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Содержимое 8" descr="doc2fb_image_02000026.jpg"/>
          <p:cNvPicPr/>
          <p:nvPr/>
        </p:nvPicPr>
        <p:blipFill>
          <a:blip r:embed="rId2"/>
          <a:stretch/>
        </p:blipFill>
        <p:spPr>
          <a:xfrm>
            <a:off x="2987640" y="1557360"/>
            <a:ext cx="3192480" cy="5300640"/>
          </a:xfrm>
          <a:prstGeom prst="rect">
            <a:avLst/>
          </a:prstGeom>
          <a:ln w="0">
            <a:noFill/>
          </a:ln>
        </p:spPr>
      </p:pic>
      <p:pic>
        <p:nvPicPr>
          <p:cNvPr id="106" name="Содержимое 7" descr="doc2fb_image_0200001a.jpg"/>
          <p:cNvPicPr/>
          <p:nvPr/>
        </p:nvPicPr>
        <p:blipFill>
          <a:blip r:embed="rId3"/>
          <a:stretch/>
        </p:blipFill>
        <p:spPr>
          <a:xfrm>
            <a:off x="0" y="1557360"/>
            <a:ext cx="3059280" cy="53006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0" descr="doc2fb_image_02000024.jpg"/>
          <p:cNvPicPr/>
          <p:nvPr/>
        </p:nvPicPr>
        <p:blipFill>
          <a:blip r:embed="rId4"/>
          <a:stretch/>
        </p:blipFill>
        <p:spPr>
          <a:xfrm>
            <a:off x="6156360" y="1557360"/>
            <a:ext cx="2987640" cy="53006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3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ungsuh"/>
                <a:ea typeface="Gungsuh"/>
              </a:rPr>
              <a:t>В июле 1918г. </a:t>
            </a:r>
            <a:r>
              <a:rPr b="1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– был изд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ungsuh"/>
                <a:ea typeface="Gungsuh"/>
              </a:rPr>
              <a:t>Декрет о всеобщей воинской повинности</a:t>
            </a:r>
            <a:r>
              <a:rPr b="1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мужчин в возрасте от 18 до 40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042560" y="1557360"/>
            <a:ext cx="6985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Это позволило к 1920 г. довести численность войск до 5 млн. че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Для подготовки командиров были организованы курсы, и в марте 1918 г. был издан декрет о привлечении в армию «буржуазных специалистов». Для контроля за ними были введены должности комисса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6840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ungsuh"/>
                <a:ea typeface="Gungsuh"/>
              </a:rPr>
              <a:t>Создание Красной Ар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187280" y="1341360"/>
            <a:ext cx="6769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ungsuh"/>
                <a:ea typeface="Gungsuh"/>
              </a:rPr>
              <a:t>В сентябре 1918 г. была создана единая структура управления войсками армией. Во главе фронтов стоял реввоенсовет из командующего и двух комиссаров. Они подчинялись Реввоенсовету Республики во главе с Л.Троцк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6840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ungsuh"/>
                <a:ea typeface="Gungsuh"/>
              </a:rPr>
              <a:t>Создание Красной Ар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сновные д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71280" y="1600200"/>
            <a:ext cx="705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18-1922 гг.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жданская во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20, апрель-октябрь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тско-польская во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20, апрель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нятие Крыма Красной Арм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ерсона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1564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Белые» в Гражданской вой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олай Николаевич Юдени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хаил Васильевич Алексее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тон Иванович Деник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ександр Васильевич Колч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ётр Николаевич Вранг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вр Георгиевич Корни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6626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ерсона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42920" y="691920"/>
            <a:ext cx="684216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Красные» в Гражданской вой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в Давидович Троц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имент Ефремович Вороши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ён Михайлович Буд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хаил Васильевич Фрунз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хаил Николаевич Тухачев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силий Константинович Блюх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662616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ungsuh"/>
                <a:ea typeface="Gungsuh"/>
              </a:rPr>
              <a:t>Подведём итог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16000" y="1052280"/>
            <a:ext cx="6912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Назовите основных участников гражданской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Перечислите основные причины гражданской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Какие действия большевиков, на ваш взгляд, провоцировали гражданскую войн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Можно ли было избежать гражданской войны в России в 1918 г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6000" y="2130120"/>
            <a:ext cx="6912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ungsuh"/>
                <a:ea typeface="Gungsuh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116000" y="3573000"/>
            <a:ext cx="6912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ungsuh"/>
                <a:ea typeface="Gungsuh"/>
              </a:rPr>
              <a:t>§14; </a:t>
            </a:r>
            <a:r>
              <a:rPr b="0" lang="ru-RU" sz="3200" spc="-1" strike="noStrike">
                <a:solidFill>
                  <a:srgbClr val="000000"/>
                </a:solidFill>
                <a:latin typeface="Gungsuh"/>
                <a:ea typeface="Gungsuh"/>
              </a:rPr>
              <a:t>вопросы и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ungsuh"/>
                <a:ea typeface="Gungsuh"/>
              </a:rPr>
              <a:t>Подготовить сообщения о военачальниках Белого движения и Красной Арм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ungsuh"/>
                <a:ea typeface="Gungsuh"/>
              </a:rPr>
              <a:t>План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662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ungsuh"/>
                <a:ea typeface="Gungsuh"/>
              </a:rPr>
              <a:t>Причины и основные этапы Гражданской вой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ungsuh"/>
                <a:ea typeface="Gungsuh"/>
              </a:rPr>
              <a:t>Первые выступления против советской в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ungsuh"/>
                <a:ea typeface="Gungsuh"/>
              </a:rPr>
              <a:t>Формирование Белого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ungsuh"/>
                <a:ea typeface="Gungsuh"/>
              </a:rPr>
              <a:t>Создание Красной арм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648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876"/>
              </a:spcBef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toletie.ru/upload/iblock/610/ofatkf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. Юден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876"/>
              </a:spcBef>
              <a:buSzPct val="2056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upload.wikimedia.org/wikipedia/ru/b/bf/Alekseev_mihail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. Алексе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876"/>
              </a:spcBef>
              <a:buSzPct val="2056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incognita.day.kiev.ua/img/hist/8denikin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.Деник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876"/>
              </a:spcBef>
              <a:buSzPct val="2056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belrussia.ru/kontent/pict/Kol/k1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.Колч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876"/>
              </a:spcBef>
              <a:buSzPct val="20561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historbook.ru/vrangel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. Вранг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876"/>
              </a:spcBef>
              <a:buSzPct val="20561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i081.radikal.ru/1003/ef/c2e57667999a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Л.Троц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876"/>
              </a:spcBef>
              <a:buSzPct val="20561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img12.nnm.ru/e/6/0/e/c/0c33bfeb478f3c3d4d7fe5143ba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.Фрунз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876"/>
              </a:spcBef>
              <a:buSzPct val="20561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s42.radikal.ru/i096/1008/05/287ea9d4a80e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.Ег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876"/>
              </a:spcBef>
              <a:buSzPct val="20561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hrono.ru/img/vov/tuhachewsky.jpg М.Тухачев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876"/>
              </a:spcBef>
              <a:buSzPct val="20561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encycl.chita.ru/photobank/blyuxer_1.jpg В.Блюх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876"/>
              </a:spcBef>
              <a:buSzPct val="20561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g15.nnm.ru/4/6/c/0/2/2f3c0c50d689a39dddbc9fde54e_prev.jpg плакат «Грудью на защиту Петроград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876"/>
              </a:spcBef>
              <a:buSzPct val="20561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konnica.tut.su/pic/gal/Art/tachanka.jpg «Тачан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876"/>
              </a:spcBef>
              <a:buSzPct val="20561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ovetunion.ru/images/stories/gr_voyna.jpg плакат «Ты записался добровольцем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876"/>
              </a:spcBef>
              <a:buSzPct val="20561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c.pics.livejournal.com/baltvilks/11921890/112586/112586_1000.png орден Красного зна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698508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ungsuh"/>
                <a:ea typeface="Gungsuh"/>
              </a:rPr>
              <a:t>Причины и основные этапы Гражданской вой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16000" y="1915920"/>
            <a:ext cx="68407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ungsuh"/>
                <a:ea typeface="Gungsuh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Гражданская война в России</a:t>
            </a: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 была следствием революций 1917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В течение короткого периода времени в стране произошли  грандиозные перемены, которые коренным образом изменили положение большинства групп общества: одни теряли собственность и власть, другие её приобрет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826920" y="549360"/>
            <a:ext cx="727416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Основными участниками</a:t>
            </a: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 гражданской войны  </a:t>
            </a:r>
            <a:r>
              <a:rPr b="1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были красные и бел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Красные – большевики и их сторонники.</a:t>
            </a: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 Главной их целью было</a:t>
            </a:r>
            <a:r>
              <a:rPr b="1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сохранение Советской власти и построение социалистического общества.</a:t>
            </a:r>
            <a:r>
              <a:rPr b="1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 Белые – противники большевиков</a:t>
            </a: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. Основная задача Белого движения – свержение советской власти и восстановление единой и неделимой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69850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ungsuh"/>
                <a:ea typeface="Gungsuh"/>
              </a:rPr>
              <a:t>Основные этапы Гражданской вой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58920" y="1557360"/>
            <a:ext cx="66261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Весь период Гражданской войны можно разделить на следующие эта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ungsuh"/>
                <a:ea typeface="Gungsuh"/>
              </a:rPr>
              <a:t>1. Лето - осень 1918 г. </a:t>
            </a:r>
            <a:r>
              <a:rPr b="1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- начало вооруженного противостояния и иностранной интервен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ungsuh"/>
                <a:ea typeface="Gungsuh"/>
              </a:rPr>
              <a:t>2. Конец 1918 - лето1919 г. </a:t>
            </a:r>
            <a:r>
              <a:rPr b="1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- Советская республика в «кольце фронт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ungsuh"/>
                <a:ea typeface="Gungsuh"/>
              </a:rPr>
              <a:t>3. Лето 1919 – осень 1920 гг. </a:t>
            </a:r>
            <a:r>
              <a:rPr b="1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- разгром белогвардей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ungsuh"/>
                <a:ea typeface="Gungsuh"/>
              </a:rPr>
              <a:t>4. Конец 1920 - 1922 гг. </a:t>
            </a:r>
            <a:r>
              <a:rPr b="1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- ликвидация остатков Белой гвард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D:\Desktop\белый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Gungsuh"/>
                <a:ea typeface="Gungsuh"/>
              </a:rPr>
              <a:t>Работая с текстом параграфа на с.10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ungsuh"/>
                <a:ea typeface="Gungsuh"/>
              </a:rPr>
              <a:t>назовите причины первых антибольшевистских выступл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D:\Desktop\194035.jpg"/>
          <p:cNvPicPr/>
          <p:nvPr/>
        </p:nvPicPr>
        <p:blipFill>
          <a:blip r:embed="rId2"/>
          <a:stretch/>
        </p:blipFill>
        <p:spPr>
          <a:xfrm>
            <a:off x="5327640" y="1700280"/>
            <a:ext cx="3816360" cy="5157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D:\Desktop\1459234821154.jpg"/>
          <p:cNvPicPr/>
          <p:nvPr/>
        </p:nvPicPr>
        <p:blipFill>
          <a:blip r:embed="rId3"/>
          <a:stretch/>
        </p:blipFill>
        <p:spPr>
          <a:xfrm>
            <a:off x="0" y="1674720"/>
            <a:ext cx="5292720" cy="5183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129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ungsuh"/>
                <a:ea typeface="Gungsuh"/>
              </a:rPr>
              <a:t>Формирование Белого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71280" y="1412640"/>
            <a:ext cx="69850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На Дону атаман Каледин заявил о неподчинении большевикам. В декабре 1917г. из офицеров здесь началось формирование Добровольческой армии. Ее возглавил генерал М.В. Алексеев. Участники движения, хотели возродить былую мощь империи и ставили задачу борьбы со всеми социалистическими парт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042560" y="1600200"/>
            <a:ext cx="69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Население благожелательно отнеслось к Советам. Каледин вынужден был застрелиться. Вскоре скончался Алексеев и его сменил генерал Л.Корнилов. Вскоре он погиб от шальной пули и главнокомандующим стал генерал А.Деник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12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ungsuh"/>
                <a:ea typeface="Gungsuh"/>
              </a:rPr>
              <a:t>Формирование Белого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71280" y="0"/>
            <a:ext cx="6985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На Южном Урале сопротивление большевикам возглавил атаман А.Дутов, а в Забайкалье -атаман Г.Семенов. Первые антиболь-шевистские выступления были стихийными и разрозненными. Но постепенно сложилось два центра борьбы - в Сибири, где преобладали зажиточные крестьяне недовольные деятельностью комбедов, и на юге с его казацким населением, привыкшем к вольн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7:26:44Z</dcterms:created>
  <dc:creator>Оля</dc:creator>
  <dc:description/>
  <dc:language>en-US</dc:language>
  <cp:lastModifiedBy>ДОМ</cp:lastModifiedBy>
  <dcterms:modified xsi:type="dcterms:W3CDTF">2017-10-29T13:25:22Z</dcterms:modified>
  <cp:revision>43</cp:revision>
  <dc:subject/>
  <dc:title>Слайд 1</dc:title>
</cp:coreProperties>
</file>