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241-A55B-462F-9C61-50300564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E51-C301-45FF-9E76-9845011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19B-7543-4E1E-A7CA-B0468D51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920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984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892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920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984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79C-F9E3-46E9-A5F2-D92DE79C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B246-5F8B-4A7D-8F9D-6E19E56C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8B3-434A-4F95-9AB1-5C1C8584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59E2-422B-4921-9618-61F8D28D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76F3-C399-46FF-ADDB-84D4556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CCFF-030A-4A52-95DE-1E7F1DD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920" y="274320"/>
            <a:ext cx="662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DA5B-6B67-414B-B075-3532853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F692-3221-459C-8FD0-D161EF42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1CD-5ACA-4C15-9B33-29FBDF7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4F85-50A8-478D-908F-66C10494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7CFE-A01B-48DF-A935-BEF1D45F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6465-6C61-4CE8-8942-DDDDB99C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F18E-F407-4658-A7CB-2EB3B5EC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920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984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5892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920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984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455D-A16C-458A-BAC4-4FEF6004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3D3-B053-4462-8F86-3CA14A78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A3D-D78B-42BA-96B5-9A7BD4E4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37B-4DC0-4D38-A02A-BFBF8A9A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920" y="274320"/>
            <a:ext cx="662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B7A-A3F0-47B6-88C0-32EBDE8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199-9740-4975-BE90-9311078B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DC6-581D-426D-9C23-DE18875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8DB-72A1-464D-B3A3-5FCFBF7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0D78-22D8-4CFA-A0F9-ADA6018B8B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B18A-402C-4C04-94F5-52A76A1B27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toletie.ru/upload/iblock/610/ofatkf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upload.wikimedia.org/wikipedia/ru/b/bf/Alekseev_mihail.jpg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ncognita.day.kiev.ua/img/hist/8denikin.jpg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belrussia.ru/kontent/pict/Kol/k15.jpg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historbook.ru/vrangel.jpg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i081.radikal.ru/1003/ef/c2e57667999a.jpg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img12.nnm.ru/e/6/0/e/c/0c33bfeb478f3c3d4d7fe5143ba.jpg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s42.radikal.ru/i096/1008/05/287ea9d4a80e.jpg" TargetMode="External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2349360"/>
            <a:ext cx="66261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6600" spc="-1" strike="noStrike">
                <a:solidFill>
                  <a:srgbClr val="ff0000"/>
                </a:solidFill>
                <a:latin typeface="Gungsuh"/>
                <a:ea typeface="Gungsuh"/>
              </a:rPr>
              <a:t>Начало Гражданской войны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700360" y="5805360"/>
            <a:ext cx="5256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1484280"/>
            <a:ext cx="684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чавшееся противостояние заставило большевиков заняться военными вопросами. Армия создавалась на принципах добровольности, но это не способствовало усилению боеспособности. Как результат – ряд серьёзных поражений на начальном этапе вой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15 января 1918 г. </a:t>
            </a: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декретом СНК была создана </a:t>
            </a:r>
            <a:r>
              <a:rPr b="0" lang="ru-RU" sz="3200" spc="-1" strike="noStrike">
                <a:solidFill>
                  <a:srgbClr val="ff0000"/>
                </a:solidFill>
                <a:latin typeface="Gungsuh"/>
                <a:ea typeface="Gungsuh"/>
              </a:rPr>
              <a:t>Рабоче-крестьянская Красная Армия </a:t>
            </a:r>
            <a:r>
              <a:rPr b="1" lang="ru-RU" sz="3200" spc="-1" strike="noStrike">
                <a:solidFill>
                  <a:srgbClr val="ff0000"/>
                </a:solidFill>
                <a:latin typeface="Gungsuh"/>
                <a:ea typeface="Gungsuh"/>
              </a:rPr>
              <a:t>(РК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29 января – Рабоче-крестьянский Красный Ф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D:\Desktop\белый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8" descr="doc2fb_image_02000026.jpg"/>
          <p:cNvPicPr/>
          <p:nvPr/>
        </p:nvPicPr>
        <p:blipFill>
          <a:blip r:embed="rId2"/>
          <a:stretch/>
        </p:blipFill>
        <p:spPr>
          <a:xfrm>
            <a:off x="2987640" y="1557360"/>
            <a:ext cx="3192480" cy="53006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7" descr="doc2fb_image_0200001a.jpg"/>
          <p:cNvPicPr/>
          <p:nvPr/>
        </p:nvPicPr>
        <p:blipFill>
          <a:blip r:embed="rId3"/>
          <a:stretch/>
        </p:blipFill>
        <p:spPr>
          <a:xfrm>
            <a:off x="0" y="1557360"/>
            <a:ext cx="3059280" cy="5300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doc2fb_image_02000024.jpg"/>
          <p:cNvPicPr/>
          <p:nvPr/>
        </p:nvPicPr>
        <p:blipFill>
          <a:blip r:embed="rId4"/>
          <a:stretch/>
        </p:blipFill>
        <p:spPr>
          <a:xfrm>
            <a:off x="6156360" y="1557360"/>
            <a:ext cx="2987640" cy="53006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В июле 1918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– был изд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ungsuh"/>
                <a:ea typeface="Gungsuh"/>
              </a:rPr>
              <a:t>Декрет о всеобщей воинской повинности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мужчин в возрасте от 18 до 4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2560" y="1557360"/>
            <a:ext cx="698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Это позволило к 1920 г. довести численность войск до 5 млн. ч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Для подготовки командиров были организованы курсы, и в марте 1918 г. был издан декрет о привлечении в армию «буржуазных специалистов». Для контроля за ними были введены должности комисс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87280" y="1341360"/>
            <a:ext cx="6769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В сентябре 1918 г. была создана единая структура управления войсками армией. Во главе фронтов стоял реввоенсовет из командующего и двух комиссаров. Они подчинялись Реввоенсовету Республики во главе с Л.Троц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д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28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8-1922 гг.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0, апрель-октябрь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о-поль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0, апрель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е Крыма Красной Арм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сон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лые» в Гражданской 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лай Николаевич Юден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Васильевич Алексе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он Иванович Деник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Васильевич Колч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ётр Николаевич Вранг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вр Георгиевич Корни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626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сон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42920" y="691920"/>
            <a:ext cx="68421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расные» в Гражданской 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 Давидович Троц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ент Ефремович Вороши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ён Михайлович Буд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Васильевич Фрунз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Николаевич Тухачев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илий Константинович Блюх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626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ungsuh"/>
                <a:ea typeface="Gungsuh"/>
              </a:rPr>
              <a:t>Подведём итог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6000" y="1052280"/>
            <a:ext cx="6912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зовите основных участников гражданск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Перечислите основные причины гражданск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Какие действия большевиков, на ваш взгляд, провоцировали гражданскую вой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Можно ли было избежать гражданской войны в России в 1918 г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130120"/>
            <a:ext cx="691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357300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§14; </a:t>
            </a: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вопросы и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Подготовить сообщения о военачальниках Белого движения и Красной Ар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ungsuh"/>
                <a:ea typeface="Gungsuh"/>
              </a:rPr>
              <a:t>План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Причины и основные этапы Гражданск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Первые выступления против советской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Формирование Бел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Создание Красной ар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oletie.ru/upload/iblock/610/ofatkf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. Юден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upload.wikimedia.org/wikipedia/ru/b/bf/Alekseev_mihail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. Алексе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ncognita.day.kiev.ua/img/hist/8denikin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.Дени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belrussia.ru/kontent/pict/Kol/k1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.Колч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historbook.ru/vrangel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. Вранг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i081.radikal.ru/1003/ef/c2e57667999a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.Тр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img12.nnm.ru/e/6/0/e/c/0c33bfeb478f3c3d4d7fe5143ba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.Фрун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42.radikal.ru/i096/1008/05/287ea9d4a80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.Ег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hrono.ru/img/vov/tuhachewsky.jpg М.Тухаче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encycl.chita.ru/photobank/blyuxer_1.jpg В.Блюх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15.nnm.ru/4/6/c/0/2/2f3c0c50d689a39dddbc9fde54e_prev.jpg плакат «Грудью на защиту Петрогра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konnica.tut.su/pic/gal/Art/tachanka.jpg «Тачан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ovetunion.ru/images/stories/gr_voyna.jpg плакат «Ты записался добровольцем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c.pics.livejournal.com/baltvilks/11921890/112586/112586_1000.png орден Красного зна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985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ungsuh"/>
                <a:ea typeface="Gungsuh"/>
              </a:rPr>
              <a:t>Причины и основные этапы Гражданской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16000" y="1915920"/>
            <a:ext cx="684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Гражданская война в России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была следствием революций 191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В течение короткого периода времени в стране произошли  грандиозные перемены, которые коренным образом изменили положение большинства групп общества: одни теряли собственность и власть, другие её приобр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26920" y="549360"/>
            <a:ext cx="72741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Основными участниками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гражданской войны  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были красные и бе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Красные – большевики и их сторонники.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Главной их целью было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сохранение Советской власти и построение социалистического общества.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Белые – противники большевиков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. Основная задача Белого движения – свержение советской власти и восстановление единой и неделим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985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Основные этапы Гражданской вой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920" y="1557360"/>
            <a:ext cx="6626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Весь период Гражданской войны можно разделить на следующие эта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1. Лето - осень 1918 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начало вооруженного противостояния и иностранной интерв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2. Конец 1918 - лето1919 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Советская республика в «кольце фрон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3. Лето 1919 – осень 1920 г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разгром белогвард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4. Конец 1920 - 1922 г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ликвидация остатков Белой гвар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D:\Desktop\белый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Gungsuh"/>
                <a:ea typeface="Gungsuh"/>
              </a:rPr>
              <a:t>Работая с текстом параграфа на с.1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назовите причины первых антибольшевистских выступ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:\Desktop\194035.jpg"/>
          <p:cNvPicPr/>
          <p:nvPr/>
        </p:nvPicPr>
        <p:blipFill>
          <a:blip r:embed="rId2"/>
          <a:stretch/>
        </p:blipFill>
        <p:spPr>
          <a:xfrm>
            <a:off x="5327640" y="1700280"/>
            <a:ext cx="3816360" cy="515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Desktop\1459234821154.jpg"/>
          <p:cNvPicPr/>
          <p:nvPr/>
        </p:nvPicPr>
        <p:blipFill>
          <a:blip r:embed="rId3"/>
          <a:stretch/>
        </p:blipFill>
        <p:spPr>
          <a:xfrm>
            <a:off x="0" y="1674720"/>
            <a:ext cx="5292720" cy="518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2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Формирование Бел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280" y="1412640"/>
            <a:ext cx="6985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 Дону атаман Каледин заявил о неподчинении большевикам. В декабре 1917г. из офицеров здесь началось формирование Добровольческой армии. Ее возглавил генерал М.В. Алексеев. Участники движения, хотели возродить былую мощь империи и ставили задачу борьбы со всеми социалистическими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селение благожелательно отнеслось к Советам. Каледин вынужден был застрелиться. Вскоре скончался Алексеев и его сменил генерал Л.Корнилов. Вскоре он погиб от шальной пули и главнокомандующим стал генерал А.Дени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2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Формирование Бел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0"/>
            <a:ext cx="698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 Южном Урале сопротивление большевикам возглавил атаман А.Дутов, а в Забайкалье -атаман Г.Семенов. Первые антиболь-шевистские выступления были стихийными и разрозненными. Но постепенно сложилось два центра борьбы - в Сибири, где преобладали зажиточные крестьяне недовольные деятельностью комбедов, и на юге с его казацким населением, привыкшем к вольн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7:26:44Z</dcterms:created>
  <dc:creator>Оля</dc:creator>
  <dc:description/>
  <dc:language>en-US</dc:language>
  <cp:lastModifiedBy>ДОМ</cp:lastModifiedBy>
  <dcterms:modified xsi:type="dcterms:W3CDTF">2017-10-29T13:25:22Z</dcterms:modified>
  <cp:revision>43</cp:revision>
  <dc:subject/>
  <dc:title>Слайд 1</dc:title>
</cp:coreProperties>
</file>