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.png" ContentType="image/png"/>
  <Override PartName="/ppt/media/image3.png" ContentType="image/png"/>
  <Override PartName="/ppt/media/image17.jpeg" ContentType="image/jpeg"/>
  <Override PartName="/ppt/media/image4.wmf" ContentType="image/x-wmf"/>
  <Override PartName="/ppt/media/image8.gif" ContentType="image/gif"/>
  <Override PartName="/ppt/media/image5.jpeg" ContentType="image/jpeg"/>
  <Override PartName="/ppt/media/image7.gif" ContentType="image/gif"/>
  <Override PartName="/ppt/media/image11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1.png" ContentType="image/png"/>
  <Override PartName="/ppt/media/image1.png" ContentType="image/png"/>
  <Override PartName="/ppt/media/image21.gif" ContentType="image/gif"/>
  <Override PartName="/ppt/media/image14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23.gif" ContentType="image/gif"/>
  <Override PartName="/ppt/media/image16.png" ContentType="image/png"/>
  <Override PartName="/ppt/media/image20.png" ContentType="image/png"/>
  <Override PartName="/ppt/media/image24.gif" ContentType="image/gif"/>
  <Override PartName="/ppt/media/image27.png" ContentType="image/png"/>
  <Override PartName="/ppt/media/image30.wmf" ContentType="image/x-wmf"/>
  <Override PartName="/ppt/media/image25.gif" ContentType="image/gif"/>
  <Override PartName="/ppt/media/image28.png" ContentType="image/png"/>
  <Override PartName="/ppt/media/image26.gif" ContentType="image/gif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744-8619-4564-985D-80C400A0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C01-776E-4FFD-AF95-7E059F3C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444-B6A1-497F-BA27-FD35B7FE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E76-F7CB-418F-A06B-5654D443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D7F1-7780-4D13-888B-B7D0A5AB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75A5-6240-432D-8B9A-84CE31CE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6495-891B-4C0A-A8D0-4C44125B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76A6-B241-4325-B6A9-91E2C556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F735-200E-4276-9A79-162B9BB6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A3A7-F859-4C05-95C5-5E6C060E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A461-67B5-4BC6-A1B9-6AB8D341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FBD-2859-40F5-B032-725881C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05C3-2D03-4984-8054-279BB08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CF5A-3A3F-4EEB-B883-10488DBE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7DE7-1948-42F1-AA75-5F521701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D694-D545-42B0-A3D2-2AB27A9F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F536-E6B2-443F-9178-58ED5C4A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CEF8-C2E0-4434-8A37-42A06075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763B-1360-4687-8FF8-07AED3B1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E7CB-9AA4-42EC-AFBD-137B0D4F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6131-2FFF-485A-AE87-BA63B0D7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EA58-E2A0-4BB5-BFDD-D477F145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F6B-F435-4E84-B6B0-16DFBC7D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10F7-46AD-4CC4-BD59-E3C99BD2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D1C9-3BB1-488F-82C6-9889B13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2E71-AF04-4C89-BA4D-A7867D47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4A18-D8D6-4109-ADAB-4AC9C791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1CFC-BF09-4FA5-9B7E-63DF64B1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77C6-86E4-4E8F-80FD-F0C02E29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9150-2D31-4AED-8D01-ABCFC773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79CB8-AB3E-493C-8323-CD36B9C1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7496-BE48-44B8-9000-7BD5C449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6A96-15ED-4177-ACBE-F072218D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183-5FC6-4EC1-A710-98AA7B4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1F33-0A2F-48FA-8324-F84699EC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70476-86C6-4C4B-B8DD-E775E90B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B4067-7FC4-4858-9D88-A9990C2B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C331-C0C3-40A2-B416-3413CC24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9975-8132-4EC1-8296-357A379D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0E98C-22A2-4F88-8519-F8F0CAF7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6D11-7A99-422D-8B76-65E4E3F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99D95-1EA3-4334-B721-1656BC4C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2FCA-5CCF-48A7-93A3-DEA29065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13FD1-1C9C-4350-ABAA-5B872522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B14-8E6A-41A1-AD0F-7473292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9AFAF-58E9-4670-93AE-4B39CCA4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2B96-97A1-4F19-B5B3-EB528FB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46F6-6029-415B-BAB4-87418DB0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35129-A088-427C-9858-3A76ADB1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87DA4-D34B-47DF-B04A-0D113239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B8097-BCA4-450C-AE29-00507ACA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A752-4976-434D-A068-522CF74E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AD90-17E0-4444-AA3B-D1D28B36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08E5-02A2-41F3-B2F8-99EAC6ED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E99E-8B2E-475E-B82B-648A3A86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91E-6E93-4001-A81D-F0ACE780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546CC-D53E-4A42-B0C7-23A2B318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43D-1541-47AE-9E5D-6690043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472-47A9-44D6-84EA-4CA085D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903-AEB6-49E7-AE38-9D571B3F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AF63-DAF5-428D-9C4F-82384C340C3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6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11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0649-00F1-4D95-A1E1-9EF8D6DC34D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398C-8606-4DD1-B551-AB6295BF21D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11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2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BB4D-0653-4D91-ACF0-04A35470347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48D5-581C-42A2-B164-93ABBFA0D88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hyperlink" Target="file:///C:/Documents%20and%20Settings/User/&#1056;&#1072;&#1073;&#1086;&#1095;&#1080;&#1081;%20&#1089;&#1090;&#1086;&#1083;/&#1092;&#1080;&#1079;&#1084;&#1080;&#1085;&#1091;&#1090;&#1082;&#1072;.ppt" TargetMode="External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3276720" y="1197000"/>
            <a:ext cx="51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гонь – наш друг или враг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285840" y="47149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1" descr="MCj02902930000[1]"/>
          <p:cNvPicPr/>
          <p:nvPr/>
        </p:nvPicPr>
        <p:blipFill>
          <a:blip r:embed="rId1"/>
          <a:stretch/>
        </p:blipFill>
        <p:spPr>
          <a:xfrm>
            <a:off x="395280" y="2924280"/>
            <a:ext cx="328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ы"/>
          <p:cNvPicPr/>
          <p:nvPr/>
        </p:nvPicPr>
        <p:blipFill>
          <a:blip r:embed="rId2"/>
          <a:stretch/>
        </p:blipFill>
        <p:spPr>
          <a:xfrm>
            <a:off x="6227640" y="3357720"/>
            <a:ext cx="22305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6296040" cy="8395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4"/>
          <p:cNvGrpSpPr/>
          <p:nvPr/>
        </p:nvGrpSpPr>
        <p:grpSpPr>
          <a:xfrm>
            <a:off x="1214280" y="428760"/>
            <a:ext cx="7619760" cy="6127200"/>
            <a:chOff x="1214280" y="428760"/>
            <a:chExt cx="7619760" cy="6127200"/>
          </a:xfrm>
        </p:grpSpPr>
        <p:pic>
          <p:nvPicPr>
            <p:cNvPr id="257" name="Picture 5" descr=""/>
            <p:cNvPicPr/>
            <p:nvPr/>
          </p:nvPicPr>
          <p:blipFill>
            <a:blip r:embed="rId2"/>
            <a:stretch/>
          </p:blipFill>
          <p:spPr>
            <a:xfrm>
              <a:off x="1214280" y="4500360"/>
              <a:ext cx="6629400" cy="20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" descr="upsik"/>
            <p:cNvPicPr/>
            <p:nvPr/>
          </p:nvPicPr>
          <p:blipFill>
            <a:blip r:embed="rId3"/>
            <a:stretch/>
          </p:blipFill>
          <p:spPr>
            <a:xfrm>
              <a:off x="1823760" y="5033880"/>
              <a:ext cx="1039680" cy="13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7" descr="KIDS01"/>
            <p:cNvPicPr/>
            <p:nvPr/>
          </p:nvPicPr>
          <p:blipFill>
            <a:blip r:embed="rId4"/>
            <a:stretch/>
          </p:blipFill>
          <p:spPr>
            <a:xfrm>
              <a:off x="3347640" y="4565520"/>
              <a:ext cx="2695680" cy="18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8" descr="baby04"/>
            <p:cNvPicPr/>
            <p:nvPr/>
          </p:nvPicPr>
          <p:blipFill>
            <a:blip r:embed="rId5"/>
            <a:stretch/>
          </p:blipFill>
          <p:spPr>
            <a:xfrm>
              <a:off x="6014880" y="4957560"/>
              <a:ext cx="1752480" cy="15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9" descr="10"/>
            <p:cNvPicPr/>
            <p:nvPr/>
          </p:nvPicPr>
          <p:blipFill>
            <a:blip r:embed="rId6"/>
            <a:stretch/>
          </p:blipFill>
          <p:spPr>
            <a:xfrm>
              <a:off x="1976040" y="2976480"/>
              <a:ext cx="3200400" cy="21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0" descr="a_singer_e0"/>
            <p:cNvPicPr/>
            <p:nvPr/>
          </p:nvPicPr>
          <p:blipFill>
            <a:blip r:embed="rId7"/>
            <a:stretch/>
          </p:blipFill>
          <p:spPr>
            <a:xfrm>
              <a:off x="5024160" y="3509640"/>
              <a:ext cx="1676520" cy="16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1" descr="s3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786280" y="428760"/>
              <a:ext cx="3047760" cy="264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TextBox 10"/>
          <p:cNvSpPr/>
          <p:nvPr/>
        </p:nvSpPr>
        <p:spPr>
          <a:xfrm>
            <a:off x="571680" y="1500120"/>
            <a:ext cx="100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384120" y="-30240"/>
            <a:ext cx="7255080" cy="298620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7"/>
          <p:cNvGrpSpPr/>
          <p:nvPr/>
        </p:nvGrpSpPr>
        <p:grpSpPr>
          <a:xfrm>
            <a:off x="5148360" y="3068640"/>
            <a:ext cx="2171520" cy="3554280"/>
            <a:chOff x="5148360" y="3068640"/>
            <a:chExt cx="2171520" cy="3554280"/>
          </a:xfrm>
        </p:grpSpPr>
        <p:pic>
          <p:nvPicPr>
            <p:cNvPr id="267" name="Picture 5" descr=""/>
            <p:cNvPicPr/>
            <p:nvPr/>
          </p:nvPicPr>
          <p:blipFill>
            <a:blip r:embed="rId2"/>
            <a:stretch/>
          </p:blipFill>
          <p:spPr>
            <a:xfrm>
              <a:off x="5148360" y="3068640"/>
              <a:ext cx="2160360" cy="35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Rectangle 6"/>
            <p:cNvSpPr/>
            <p:nvPr/>
          </p:nvSpPr>
          <p:spPr>
            <a:xfrm>
              <a:off x="5148360" y="3068640"/>
              <a:ext cx="2171520" cy="3525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31622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4500720" y="285840"/>
          <a:ext cx="3622680" cy="4118040"/>
        </p:xfrm>
        <a:graphic>
          <a:graphicData uri="http://schemas.openxmlformats.org/drawingml/2006/table">
            <a:tbl>
              <a:tblPr/>
              <a:tblGrid>
                <a:gridCol w="307800"/>
                <a:gridCol w="308160"/>
                <a:gridCol w="304560"/>
                <a:gridCol w="368280"/>
                <a:gridCol w="301680"/>
                <a:gridCol w="397080"/>
                <a:gridCol w="315720"/>
                <a:gridCol w="360360"/>
                <a:gridCol w="347760"/>
                <a:gridCol w="312840"/>
                <a:gridCol w="298440"/>
              </a:tblGrid>
              <a:tr h="55080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 gridSpan="4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3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gridSpan="5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1" name="Rectangle 85"/>
          <p:cNvSpPr/>
          <p:nvPr/>
        </p:nvSpPr>
        <p:spPr>
          <a:xfrm>
            <a:off x="0" y="2000160"/>
            <a:ext cx="68040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Светит, но обжигает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и 3. Средства тушения огня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Бытовой прибор, из-за котор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сли он будет оставлен включенн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жет произойти пожар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Чем подают воду при пожаре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Сигнал, издаваемый пожар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мобилем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Откуда набирают воду для тушения пожара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Основное средство для борьбы с огнем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9"/>
          <p:cNvSpPr/>
          <p:nvPr/>
        </p:nvSpPr>
        <p:spPr>
          <a:xfrm>
            <a:off x="6084720" y="33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   м  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2"/>
          <p:cNvSpPr/>
          <p:nvPr/>
        </p:nvSpPr>
        <p:spPr>
          <a:xfrm>
            <a:off x="6084720" y="83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 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6"/>
          <p:cNvSpPr/>
          <p:nvPr/>
        </p:nvSpPr>
        <p:spPr>
          <a:xfrm>
            <a:off x="5796000" y="14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е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  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9"/>
          <p:cNvSpPr/>
          <p:nvPr/>
        </p:nvSpPr>
        <p:spPr>
          <a:xfrm>
            <a:off x="6084720" y="18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У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ю  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2"/>
          <p:cNvSpPr/>
          <p:nvPr/>
        </p:nvSpPr>
        <p:spPr>
          <a:xfrm>
            <a:off x="543564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 л    а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3"/>
          <p:cNvSpPr/>
          <p:nvPr/>
        </p:nvSpPr>
        <p:spPr>
          <a:xfrm>
            <a:off x="6084720" y="2924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   е   н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5"/>
          <p:cNvSpPr/>
          <p:nvPr/>
        </p:nvSpPr>
        <p:spPr>
          <a:xfrm>
            <a:off x="4500720" y="3500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К   о  л    о   д   е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7"/>
          <p:cNvSpPr/>
          <p:nvPr/>
        </p:nvSpPr>
        <p:spPr>
          <a:xfrm>
            <a:off x="543564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   о  д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MCj02332710000[1]"/>
          <p:cNvPicPr/>
          <p:nvPr/>
        </p:nvPicPr>
        <p:blipFill>
          <a:blip r:embed="rId2"/>
          <a:stretch/>
        </p:blipFill>
        <p:spPr>
          <a:xfrm>
            <a:off x="5143680" y="4437000"/>
            <a:ext cx="35337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3" descr=""/>
          <p:cNvPicPr/>
          <p:nvPr/>
        </p:nvPicPr>
        <p:blipFill>
          <a:blip r:embed="rId1"/>
          <a:stretch/>
        </p:blipFill>
        <p:spPr>
          <a:xfrm>
            <a:off x="963720" y="317520"/>
            <a:ext cx="674208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285480"/>
            <a:ext cx="7758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гадка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Рыжий зверь в печи сидит, рыжий зверь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на всех серди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Он от злобы ест дрова, целый час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А может д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Ты рукой его не тронь, искусает всю ладонь.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4427640" y="3357720"/>
            <a:ext cx="2930400" cy="2643120"/>
            <a:chOff x="4427640" y="3357720"/>
            <a:chExt cx="2930400" cy="2643120"/>
          </a:xfrm>
        </p:grpSpPr>
        <p:pic>
          <p:nvPicPr>
            <p:cNvPr id="232" name="Рисунок 3" descr="C:\ресурсы\Картинки\Огонь\i3.gif"/>
            <p:cNvPicPr/>
            <p:nvPr/>
          </p:nvPicPr>
          <p:blipFill>
            <a:blip r:embed="rId1"/>
            <a:stretch/>
          </p:blipFill>
          <p:spPr>
            <a:xfrm>
              <a:off x="5072040" y="3857760"/>
              <a:ext cx="22860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5"/>
            <p:cNvSpPr/>
            <p:nvPr/>
          </p:nvSpPr>
          <p:spPr>
            <a:xfrm>
              <a:off x="4427640" y="3357720"/>
              <a:ext cx="165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3300"/>
                  </a:solidFill>
                  <a:latin typeface="Georgia"/>
                </a:rPr>
                <a:t>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C:\ресурсы\Картинки\Огонь\43.gif"/>
          <p:cNvPicPr/>
          <p:nvPr/>
        </p:nvPicPr>
        <p:blipFill>
          <a:blip r:embed="rId1"/>
          <a:stretch/>
        </p:blipFill>
        <p:spPr>
          <a:xfrm>
            <a:off x="3203640" y="3213000"/>
            <a:ext cx="2130480" cy="30988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C:\ресурсы\Картинки\Огонь\48.gif"/>
          <p:cNvPicPr/>
          <p:nvPr/>
        </p:nvPicPr>
        <p:blipFill>
          <a:blip r:embed="rId2"/>
          <a:stretch/>
        </p:blipFill>
        <p:spPr>
          <a:xfrm>
            <a:off x="428760" y="1125360"/>
            <a:ext cx="2636640" cy="439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ы"/>
          <p:cNvPicPr/>
          <p:nvPr/>
        </p:nvPicPr>
        <p:blipFill>
          <a:blip r:embed="rId3"/>
          <a:stretch/>
        </p:blipFill>
        <p:spPr>
          <a:xfrm>
            <a:off x="5500800" y="1643040"/>
            <a:ext cx="2230200" cy="2951280"/>
          </a:xfrm>
          <a:prstGeom prst="rect">
            <a:avLst/>
          </a:prstGeom>
          <a:ln w="0">
            <a:noFill/>
          </a:ln>
        </p:spPr>
      </p:pic>
      <p:sp>
        <p:nvSpPr>
          <p:cNvPr id="237" name="WordArt 14"/>
          <p:cNvSpPr txBox="1"/>
          <p:nvPr/>
        </p:nvSpPr>
        <p:spPr>
          <a:xfrm>
            <a:off x="1214280" y="260280"/>
            <a:ext cx="5086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Огонь - дру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285920" y="476280"/>
            <a:ext cx="5446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Огонь - вра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4857840" y="1643040"/>
            <a:ext cx="3124080" cy="42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40" name="Рисунок 1" descr="C:\ресурсы\Картинки\Огонь\i14.gif"/>
          <p:cNvPicPr/>
          <p:nvPr/>
        </p:nvPicPr>
        <p:blipFill>
          <a:blip r:embed="rId2"/>
          <a:stretch/>
        </p:blipFill>
        <p:spPr>
          <a:xfrm>
            <a:off x="1619280" y="1484280"/>
            <a:ext cx="2023920" cy="12254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C:\ресурсы\Картинки\Огонь\i3.gif"/>
          <p:cNvPicPr/>
          <p:nvPr/>
        </p:nvPicPr>
        <p:blipFill>
          <a:blip r:embed="rId3"/>
          <a:stretch/>
        </p:blipFill>
        <p:spPr>
          <a:xfrm>
            <a:off x="3924360" y="5157720"/>
            <a:ext cx="696960" cy="12970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" descr="MCj02902930000[1]"/>
          <p:cNvPicPr/>
          <p:nvPr/>
        </p:nvPicPr>
        <p:blipFill>
          <a:blip r:embed="rId4"/>
          <a:stretch/>
        </p:blipFill>
        <p:spPr>
          <a:xfrm>
            <a:off x="395280" y="2924280"/>
            <a:ext cx="32846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-96840"/>
            <a:ext cx="906480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4" descr=""/>
          <p:cNvPicPr/>
          <p:nvPr/>
        </p:nvPicPr>
        <p:blipFill>
          <a:blip r:embed="rId1"/>
          <a:stretch/>
        </p:blipFill>
        <p:spPr>
          <a:xfrm>
            <a:off x="-182520" y="-208080"/>
            <a:ext cx="8289720" cy="2799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85840" y="161568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сторожное обращение с огн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чки, кос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е правил пожарной безопасности при эксплуатации пе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ечка бытового г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сторожное обращение с пиротехническими изделиями ( хлопушки, петарды, бенгальские огни, фейерверки и т. 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7" descr="C:\ресурсы\Картинки\Огонь\43.gif"/>
          <p:cNvPicPr/>
          <p:nvPr/>
        </p:nvPicPr>
        <p:blipFill>
          <a:blip r:embed="rId2"/>
          <a:stretch/>
        </p:blipFill>
        <p:spPr>
          <a:xfrm>
            <a:off x="6286680" y="1857240"/>
            <a:ext cx="1571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12600" y="6480"/>
            <a:ext cx="7766280" cy="4071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1\Рабочий стол\20081016\Image5.bmp"/>
          <p:cNvPicPr/>
          <p:nvPr/>
        </p:nvPicPr>
        <p:blipFill>
          <a:blip r:embed="rId2"/>
          <a:stretch/>
        </p:blipFill>
        <p:spPr>
          <a:xfrm>
            <a:off x="2928960" y="3857760"/>
            <a:ext cx="47862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66600"/>
            <a:ext cx="7796520" cy="14317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0" y="22320"/>
            <a:ext cx="87152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алуйтесь дома со спичками, зажигалками. Это – одна из причин пож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оставляйте без присмотра включенные электроприборы, особенно утюги, обогреватели, телевизоры, светильники и др. Уходя из дома, не забудьте их выклю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C:\Documents and Settings\1\Рабочий стол\20081016\Image4.bmp"/>
          <p:cNvPicPr/>
          <p:nvPr/>
        </p:nvPicPr>
        <p:blipFill>
          <a:blip r:embed="rId2"/>
          <a:stretch/>
        </p:blipFill>
        <p:spPr>
          <a:xfrm>
            <a:off x="2643120" y="4929120"/>
            <a:ext cx="3409920" cy="1928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Documents and Settings\1\Рабочий стол\20081016\Image3.bmp"/>
          <p:cNvPicPr/>
          <p:nvPr/>
        </p:nvPicPr>
        <p:blipFill>
          <a:blip r:embed="rId3"/>
          <a:stretch/>
        </p:blipFill>
        <p:spPr>
          <a:xfrm>
            <a:off x="3643200" y="1357200"/>
            <a:ext cx="3571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500040"/>
            <a:ext cx="7238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забывайте выключать газовую плиту. Если почувствуете запах газа, не зажигайте спичек и не включайте свет. Срочно проветрите квартир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сушите белье над плитой. Оно может загоретьс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йерверки, свечи, бенгальские огни зажигайте подальше от елки, лучше вообще вне дом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1" descr="C:\Documents and Settings\1\Мои документы\My Pictures\Scan Pictures\20081016\Image7.bmp"/>
          <p:cNvPicPr/>
          <p:nvPr/>
        </p:nvPicPr>
        <p:blipFill>
          <a:blip r:embed="rId1"/>
          <a:stretch/>
        </p:blipFill>
        <p:spPr>
          <a:xfrm>
            <a:off x="4929120" y="3000240"/>
            <a:ext cx="25005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44:24Z</dcterms:created>
  <dc:creator>Учительский</dc:creator>
  <dc:description/>
  <dc:language>en-US</dc:language>
  <cp:lastModifiedBy>галина николаевна</cp:lastModifiedBy>
  <dcterms:modified xsi:type="dcterms:W3CDTF">2012-12-11T13:42:30Z</dcterms:modified>
  <cp:revision>50</cp:revision>
  <dc:subject/>
  <dc:title>Слайд 1</dc:title>
</cp:coreProperties>
</file>