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4.wmf" ContentType="image/x-wmf"/>
  <Override PartName="/ppt/media/image8.gif" ContentType="image/gif"/>
  <Override PartName="/ppt/media/image5.jpeg" ContentType="image/jpeg"/>
  <Override PartName="/ppt/media/image7.gif" ContentType="image/gif"/>
  <Override PartName="/ppt/media/image11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14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3.gif" ContentType="image/gif"/>
  <Override PartName="/ppt/media/image16.png" ContentType="image/png"/>
  <Override PartName="/ppt/media/image20.png" ContentType="image/png"/>
  <Override PartName="/ppt/media/image24.gif" ContentType="image/gif"/>
  <Override PartName="/ppt/media/image27.png" ContentType="image/png"/>
  <Override PartName="/ppt/media/image30.wmf" ContentType="image/x-wmf"/>
  <Override PartName="/ppt/media/image25.gif" ContentType="image/gif"/>
  <Override PartName="/ppt/media/image28.png" ContentType="image/png"/>
  <Override PartName="/ppt/media/image26.gif" ContentType="image/gif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65D-EE80-4EAA-915E-B775DACE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935-1301-468C-8F35-9B03933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2FF-E323-4BB4-8A25-98E8D46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4DB-B86A-47FD-A908-60B26107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3DEE-93C6-4955-AD3D-DFBA6A95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842A-BFAB-404C-B5B4-9466C01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920-70F1-47BA-9D28-1F6834A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1F28-CF87-4F76-B33D-FDDCBB8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6404-AEB0-457C-AD29-0E34E5B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BD4-B353-4295-80C2-27230AAD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2EFD-F8DC-4E30-AF4A-C1B0F7B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921-99A3-4A6D-AE29-DF90D697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B7A-409A-48AE-8DDD-E696992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152-F285-4ABD-AAE7-82BC856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E764-C42D-4449-8E4D-167DB5D2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1292-1B0D-4D9D-912D-2F71EC55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516D-A55E-4AF2-A58A-0122295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C535-F0D9-4306-93DD-65E532BB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F4A3-A290-4850-B289-CAA8D75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07B6-B6F1-4E25-82E4-B863007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1C14-E877-4570-A9DA-18C720C5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3D8D-007D-45F3-AFAD-2B503F4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B17-BF72-446C-9FAC-F199DC7F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B18E-2F4E-4503-9452-DD1CD11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A483-39A7-4237-8FD3-02C3CAD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93F2-23F6-43A1-B3BA-B4ECF3E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A775-3C29-4B46-A626-1E9F7CE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3E40-A320-409C-B311-137D60F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EE08-1822-4314-B28B-8C6F73B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9910-6934-46CF-BA66-0779207D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DEE4-5FC9-4017-A903-5DBB8F59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12D0-37A8-4CF4-AE1B-EB09378B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3485-F06A-4FBC-9701-DD2877F1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AB6-EEC4-4278-BE26-76B3C5E0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991B-0DAA-4997-B92D-3372B950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4170-4AF8-4F8C-A333-4A0BF18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E387-EE84-4D15-A092-C237900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D934-8551-439B-AD55-D7392FF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3408-71CF-4EB8-A98E-96A0271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A6FE-1A34-4F0A-992D-2F02696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AF14-E26F-493C-9221-8E0BA4F1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9058-30C1-4A9B-B8AD-7A67BD0F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164D-7982-4323-A921-3AEA3185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9413-5BEA-4339-99BF-1A5F0DF5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920-1514-4B11-AD06-31C4E7B4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6656-EFD8-46F9-8C32-CB559CD7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D9D9-DC36-4B5B-ADE2-1C1B40C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ABF4-EF1B-44B7-842D-F457D216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DD3D-6D14-4330-B2A5-5D62FA7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F7DE9-B2D6-4724-880B-A326DA5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D127-3A93-4D63-B69F-F1834E9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A5DC-7D59-4499-BBD0-3924161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7C67-F0D5-49FF-BF1B-C73E2E7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F9F8-5053-461E-A751-67390E9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35C6-5E71-4095-B319-7E833C3E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123-82FD-4881-8DEB-D57EF3E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51E2-CD57-47DC-8399-9ED1C318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48E-FB87-4C36-A355-AC54F1F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5EE-1303-4E05-967D-30CD677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A12-2CBD-4131-B79C-55DBDD5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1BD3-18F4-4964-B052-30F6B83C762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0AA-DD44-45EC-83A6-BBDEF32B5BB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B19-92C7-4682-8CEE-511BF37EFD6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1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2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E0B-BFB2-4515-81D2-B5BAB977494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4E2-6D18-4C63-92D0-2B5DC4A410D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hyperlink" Target="file:///C:/Documents%20and%20Settings/User/&#1056;&#1072;&#1073;&#1086;&#1095;&#1080;&#1081;%20&#1089;&#1090;&#1086;&#1083;/&#1092;&#1080;&#1079;&#1084;&#1080;&#1085;&#1091;&#1090;&#1082;&#1072;.ppt" TargetMode="External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3276720" y="1197000"/>
            <a:ext cx="51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гонь – наш друг или вра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285840" y="4714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MCj02902930000[1]"/>
          <p:cNvPicPr/>
          <p:nvPr/>
        </p:nvPicPr>
        <p:blipFill>
          <a:blip r:embed="rId1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ы"/>
          <p:cNvPicPr/>
          <p:nvPr/>
        </p:nvPicPr>
        <p:blipFill>
          <a:blip r:embed="rId2"/>
          <a:stretch/>
        </p:blipFill>
        <p:spPr>
          <a:xfrm>
            <a:off x="6227640" y="3357720"/>
            <a:ext cx="22305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296040" cy="8395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4"/>
          <p:cNvGrpSpPr/>
          <p:nvPr/>
        </p:nvGrpSpPr>
        <p:grpSpPr>
          <a:xfrm>
            <a:off x="1214280" y="428760"/>
            <a:ext cx="7619760" cy="6127200"/>
            <a:chOff x="1214280" y="428760"/>
            <a:chExt cx="7619760" cy="6127200"/>
          </a:xfrm>
        </p:grpSpPr>
        <p:pic>
          <p:nvPicPr>
            <p:cNvPr id="257" name="Picture 5" descr=""/>
            <p:cNvPicPr/>
            <p:nvPr/>
          </p:nvPicPr>
          <p:blipFill>
            <a:blip r:embed="rId2"/>
            <a:stretch/>
          </p:blipFill>
          <p:spPr>
            <a:xfrm>
              <a:off x="1214280" y="4500360"/>
              <a:ext cx="66294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upsik"/>
            <p:cNvPicPr/>
            <p:nvPr/>
          </p:nvPicPr>
          <p:blipFill>
            <a:blip r:embed="rId3"/>
            <a:stretch/>
          </p:blipFill>
          <p:spPr>
            <a:xfrm>
              <a:off x="1823760" y="5033880"/>
              <a:ext cx="1039680" cy="13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KIDS01"/>
            <p:cNvPicPr/>
            <p:nvPr/>
          </p:nvPicPr>
          <p:blipFill>
            <a:blip r:embed="rId4"/>
            <a:stretch/>
          </p:blipFill>
          <p:spPr>
            <a:xfrm>
              <a:off x="3347640" y="4565520"/>
              <a:ext cx="2695680" cy="18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baby04"/>
            <p:cNvPicPr/>
            <p:nvPr/>
          </p:nvPicPr>
          <p:blipFill>
            <a:blip r:embed="rId5"/>
            <a:stretch/>
          </p:blipFill>
          <p:spPr>
            <a:xfrm>
              <a:off x="6014880" y="4957560"/>
              <a:ext cx="1752480" cy="15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9" descr="10"/>
            <p:cNvPicPr/>
            <p:nvPr/>
          </p:nvPicPr>
          <p:blipFill>
            <a:blip r:embed="rId6"/>
            <a:stretch/>
          </p:blipFill>
          <p:spPr>
            <a:xfrm>
              <a:off x="1976040" y="2976480"/>
              <a:ext cx="3200400" cy="21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0" descr="a_singer_e0"/>
            <p:cNvPicPr/>
            <p:nvPr/>
          </p:nvPicPr>
          <p:blipFill>
            <a:blip r:embed="rId7"/>
            <a:stretch/>
          </p:blipFill>
          <p:spPr>
            <a:xfrm>
              <a:off x="5024160" y="3509640"/>
              <a:ext cx="1676520" cy="16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1" descr="s3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786280" y="428760"/>
              <a:ext cx="3047760" cy="26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Box 10"/>
          <p:cNvSpPr/>
          <p:nvPr/>
        </p:nvSpPr>
        <p:spPr>
          <a:xfrm>
            <a:off x="571680" y="1500120"/>
            <a:ext cx="100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84120" y="-30240"/>
            <a:ext cx="7255080" cy="298620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7"/>
          <p:cNvGrpSpPr/>
          <p:nvPr/>
        </p:nvGrpSpPr>
        <p:grpSpPr>
          <a:xfrm>
            <a:off x="5148360" y="3068640"/>
            <a:ext cx="2171520" cy="3554280"/>
            <a:chOff x="5148360" y="3068640"/>
            <a:chExt cx="2171520" cy="3554280"/>
          </a:xfrm>
        </p:grpSpPr>
        <p:pic>
          <p:nvPicPr>
            <p:cNvPr id="267" name="Picture 5" descr=""/>
            <p:cNvPicPr/>
            <p:nvPr/>
          </p:nvPicPr>
          <p:blipFill>
            <a:blip r:embed="rId2"/>
            <a:stretch/>
          </p:blipFill>
          <p:spPr>
            <a:xfrm>
              <a:off x="5148360" y="3068640"/>
              <a:ext cx="2160360" cy="35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6"/>
            <p:cNvSpPr/>
            <p:nvPr/>
          </p:nvSpPr>
          <p:spPr>
            <a:xfrm>
              <a:off x="5148360" y="3068640"/>
              <a:ext cx="2171520" cy="3525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31622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4500720" y="285840"/>
          <a:ext cx="3622680" cy="411804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4560"/>
                <a:gridCol w="368280"/>
                <a:gridCol w="301680"/>
                <a:gridCol w="397080"/>
                <a:gridCol w="315720"/>
                <a:gridCol w="360360"/>
                <a:gridCol w="347760"/>
                <a:gridCol w="312840"/>
                <a:gridCol w="298440"/>
              </a:tblGrid>
              <a:tr h="55080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3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5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85"/>
          <p:cNvSpPr/>
          <p:nvPr/>
        </p:nvSpPr>
        <p:spPr>
          <a:xfrm>
            <a:off x="0" y="2000160"/>
            <a:ext cx="68040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Светит, но обжигает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и 3. Средства тушения огн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Бытовой прибор, из-за кот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н будет оставлен включен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жет произойти пожар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Чем подают воду при пожаре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игнал, издаваемый пожар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мобилем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Откуда набирают воду для тушения пожар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Основное средство для борьбы с огнем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9"/>
          <p:cNvSpPr/>
          <p:nvPr/>
        </p:nvSpPr>
        <p:spPr>
          <a:xfrm>
            <a:off x="6084720" y="33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   м 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2"/>
          <p:cNvSpPr/>
          <p:nvPr/>
        </p:nvSpPr>
        <p:spPr>
          <a:xfrm>
            <a:off x="6084720" y="83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6"/>
          <p:cNvSpPr/>
          <p:nvPr/>
        </p:nvSpPr>
        <p:spPr>
          <a:xfrm>
            <a:off x="5796000" y="14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е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  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9"/>
          <p:cNvSpPr/>
          <p:nvPr/>
        </p:nvSpPr>
        <p:spPr>
          <a:xfrm>
            <a:off x="608472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ю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5435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 л    а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3"/>
          <p:cNvSpPr/>
          <p:nvPr/>
        </p:nvSpPr>
        <p:spPr>
          <a:xfrm>
            <a:off x="6084720" y="2924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   е   н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"/>
          <p:cNvSpPr/>
          <p:nvPr/>
        </p:nvSpPr>
        <p:spPr>
          <a:xfrm>
            <a:off x="4500720" y="3500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К   о  л    о   д   е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7"/>
          <p:cNvSpPr/>
          <p:nvPr/>
        </p:nvSpPr>
        <p:spPr>
          <a:xfrm>
            <a:off x="543564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   о  д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MCj02332710000[1]"/>
          <p:cNvPicPr/>
          <p:nvPr/>
        </p:nvPicPr>
        <p:blipFill>
          <a:blip r:embed="rId2"/>
          <a:stretch/>
        </p:blipFill>
        <p:spPr>
          <a:xfrm>
            <a:off x="5143680" y="4437000"/>
            <a:ext cx="3533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3" descr=""/>
          <p:cNvPicPr/>
          <p:nvPr/>
        </p:nvPicPr>
        <p:blipFill>
          <a:blip r:embed="rId1"/>
          <a:stretch/>
        </p:blipFill>
        <p:spPr>
          <a:xfrm>
            <a:off x="963720" y="317520"/>
            <a:ext cx="67420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285480"/>
            <a:ext cx="7758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Рыжий зверь в печи сидит, рыжий зверь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на всех серди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Он от злобы ест дрова, целый час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А может д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6406"/>
                </a:solidFill>
                <a:latin typeface="Times New Roman"/>
                <a:ea typeface="Times New Roman"/>
              </a:rPr>
              <a:t>Ты рукой его не тронь, искусает всю ладонь.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4427640" y="3357720"/>
            <a:ext cx="2930400" cy="2643120"/>
            <a:chOff x="4427640" y="3357720"/>
            <a:chExt cx="2930400" cy="2643120"/>
          </a:xfrm>
        </p:grpSpPr>
        <p:pic>
          <p:nvPicPr>
            <p:cNvPr id="232" name="Рисунок 3" descr="C:\ресурсы\Картинки\Огонь\i3.gif"/>
            <p:cNvPicPr/>
            <p:nvPr/>
          </p:nvPicPr>
          <p:blipFill>
            <a:blip r:embed="rId1"/>
            <a:stretch/>
          </p:blipFill>
          <p:spPr>
            <a:xfrm>
              <a:off x="5072040" y="3857760"/>
              <a:ext cx="22860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5"/>
            <p:cNvSpPr/>
            <p:nvPr/>
          </p:nvSpPr>
          <p:spPr>
            <a:xfrm>
              <a:off x="4427640" y="3357720"/>
              <a:ext cx="165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3300"/>
                  </a:solidFill>
                  <a:latin typeface="Georgi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C:\ресурсы\Картинки\Огонь\43.gif"/>
          <p:cNvPicPr/>
          <p:nvPr/>
        </p:nvPicPr>
        <p:blipFill>
          <a:blip r:embed="rId1"/>
          <a:stretch/>
        </p:blipFill>
        <p:spPr>
          <a:xfrm>
            <a:off x="3203640" y="3213000"/>
            <a:ext cx="2130480" cy="3098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C:\ресурсы\Картинки\Огонь\48.gif"/>
          <p:cNvPicPr/>
          <p:nvPr/>
        </p:nvPicPr>
        <p:blipFill>
          <a:blip r:embed="rId2"/>
          <a:stretch/>
        </p:blipFill>
        <p:spPr>
          <a:xfrm>
            <a:off x="428760" y="1125360"/>
            <a:ext cx="2636640" cy="439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ы"/>
          <p:cNvPicPr/>
          <p:nvPr/>
        </p:nvPicPr>
        <p:blipFill>
          <a:blip r:embed="rId3"/>
          <a:stretch/>
        </p:blipFill>
        <p:spPr>
          <a:xfrm>
            <a:off x="5500800" y="1643040"/>
            <a:ext cx="2230200" cy="2951280"/>
          </a:xfrm>
          <a:prstGeom prst="rect">
            <a:avLst/>
          </a:prstGeom>
          <a:ln w="0">
            <a:noFill/>
          </a:ln>
        </p:spPr>
      </p:pic>
      <p:sp>
        <p:nvSpPr>
          <p:cNvPr id="237" name="WordArt 14"/>
          <p:cNvSpPr txBox="1"/>
          <p:nvPr/>
        </p:nvSpPr>
        <p:spPr>
          <a:xfrm>
            <a:off x="1214280" y="260280"/>
            <a:ext cx="5086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д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285920" y="476280"/>
            <a:ext cx="5446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вр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312408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40" name="Рисунок 1" descr="C:\ресурсы\Картинки\Огонь\i14.gif"/>
          <p:cNvPicPr/>
          <p:nvPr/>
        </p:nvPicPr>
        <p:blipFill>
          <a:blip r:embed="rId2"/>
          <a:stretch/>
        </p:blipFill>
        <p:spPr>
          <a:xfrm>
            <a:off x="1619280" y="1484280"/>
            <a:ext cx="2023920" cy="12254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C:\ресурсы\Картинки\Огонь\i3.gif"/>
          <p:cNvPicPr/>
          <p:nvPr/>
        </p:nvPicPr>
        <p:blipFill>
          <a:blip r:embed="rId3"/>
          <a:stretch/>
        </p:blipFill>
        <p:spPr>
          <a:xfrm>
            <a:off x="3924360" y="5157720"/>
            <a:ext cx="696960" cy="1297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" descr="MCj02902930000[1]"/>
          <p:cNvPicPr/>
          <p:nvPr/>
        </p:nvPicPr>
        <p:blipFill>
          <a:blip r:embed="rId4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-96840"/>
            <a:ext cx="90648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-182520" y="-208080"/>
            <a:ext cx="8289720" cy="2799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85840" y="16156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огн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, ко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пожарной безопасности при эксплуатации пе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ечка бытового г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пиротехническими изделиями ( хлопушки, петарды, бенгальские огни, фейерверки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7" descr="C:\ресурсы\Картинки\Огонь\43.gif"/>
          <p:cNvPicPr/>
          <p:nvPr/>
        </p:nvPicPr>
        <p:blipFill>
          <a:blip r:embed="rId2"/>
          <a:stretch/>
        </p:blipFill>
        <p:spPr>
          <a:xfrm>
            <a:off x="6286680" y="1857240"/>
            <a:ext cx="157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2600" y="6480"/>
            <a:ext cx="7766280" cy="4071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1\Рабочий стол\20081016\Image5.bmp"/>
          <p:cNvPicPr/>
          <p:nvPr/>
        </p:nvPicPr>
        <p:blipFill>
          <a:blip r:embed="rId2"/>
          <a:stretch/>
        </p:blipFill>
        <p:spPr>
          <a:xfrm>
            <a:off x="2928960" y="3857760"/>
            <a:ext cx="47862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66600"/>
            <a:ext cx="7796520" cy="1431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22320"/>
            <a:ext cx="8715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алуйтесь дома со спичками, зажигалками. Это – одна из причин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те без присмотра включенные электроприборы, особенно утюги, обогреватели, телевизоры, светильники и др. Уходя из дома, не забудьте их выклю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C:\Documents and Settings\1\Рабочий стол\20081016\Image4.bmp"/>
          <p:cNvPicPr/>
          <p:nvPr/>
        </p:nvPicPr>
        <p:blipFill>
          <a:blip r:embed="rId2"/>
          <a:stretch/>
        </p:blipFill>
        <p:spPr>
          <a:xfrm>
            <a:off x="2643120" y="4929120"/>
            <a:ext cx="3409920" cy="192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Documents and Settings\1\Рабочий стол\20081016\Image3.bmp"/>
          <p:cNvPicPr/>
          <p:nvPr/>
        </p:nvPicPr>
        <p:blipFill>
          <a:blip r:embed="rId3"/>
          <a:stretch/>
        </p:blipFill>
        <p:spPr>
          <a:xfrm>
            <a:off x="3643200" y="1357200"/>
            <a:ext cx="3571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500040"/>
            <a:ext cx="7238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абывайте выключать газовую плиту. Если почувствуете запах газа, не зажигайте спичек и не включайте свет. Срочно проветрите квартир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ушите белье над плитой. Оно может загоретьс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йерверки, свечи, бенгальские огни зажигайте подальше от елки, лучше вообще вне дом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1" descr="C:\Documents and Settings\1\Мои документы\My Pictures\Scan Pictures\20081016\Image7.bmp"/>
          <p:cNvPicPr/>
          <p:nvPr/>
        </p:nvPicPr>
        <p:blipFill>
          <a:blip r:embed="rId1"/>
          <a:stretch/>
        </p:blipFill>
        <p:spPr>
          <a:xfrm>
            <a:off x="4929120" y="3000240"/>
            <a:ext cx="25005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44:24Z</dcterms:created>
  <dc:creator>Учительский</dc:creator>
  <dc:description/>
  <dc:language>en-US</dc:language>
  <cp:lastModifiedBy>галина николаевна</cp:lastModifiedBy>
  <dcterms:modified xsi:type="dcterms:W3CDTF">2012-12-11T13:42:30Z</dcterms:modified>
  <cp:revision>50</cp:revision>
  <dc:subject/>
  <dc:title>Слайд 1</dc:title>
</cp:coreProperties>
</file>