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9AE-20A6-4D05-B00A-F30C483C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E30-D7FA-4843-8DF2-05BEF011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ADF-B883-4F44-AEFD-D0F69E8E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FF5-4911-4B99-84C2-C8D8C752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D5D-A4D2-4445-8EFC-800EF355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DA5-A00F-4BC7-B823-E4C2FF9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AFF-0C92-4B6E-A5EB-BD14E1E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481-C426-442B-A237-0BE5B244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9F7-C505-4BC1-B226-A81450C1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804-BFD4-4B69-B654-6BBEBF79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68B-F1FE-4252-B18F-5D31738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083-9B75-405D-ABC4-10D1134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E11D-4D66-41E1-9BF4-90FA0D7181AB}" type="slidenum">
              <a:rPr b="0" lang="es-E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Изображение выглядит как внутренний, фотография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Изображение выглядит как внутренний, человек, стена, фотография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Изображение выглядит как фотография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Изображение выглядит как текст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Изображение выглядит как текст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Изображение выглядит как снимок экрана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Изображение выглядит как внутренний, сидит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Изображение выглядит как снимок экрана,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Изображение выглядит как текст, человек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lena Yarkina</cp:lastModifiedBy>
  <dcterms:modified xsi:type="dcterms:W3CDTF">2018-04-01T10:49:28Z</dcterms:modified>
  <cp:revision>24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3004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