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61A9-CE20-4EAB-9EA0-6CFC3105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CE09-84F3-4022-A96C-824B5523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9C35-FDF2-4CE8-94F1-AE4B6616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5D03-A5F5-47C6-A338-005C38C7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D46C-3E7A-4FD9-BF9D-7C062A49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8D4-97F3-409D-BC1B-4D8B28E8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513F-994C-4187-AECD-38E41E7B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9E7-4247-41F4-8083-5714F5CA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53A-82D6-4F22-A7E6-F0056EEC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27B0-5EE4-4D13-9C8E-CCF4341D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1789-0775-4390-9CA5-E427A2EF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2FAA-50CB-4509-9E1B-1CF68689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F581-2C4E-49E9-AEAB-23E68E562B56}" type="slidenum">
              <a:rPr b="0" lang="es-E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" descr="Изображение выглядит как внутренний, фотография&#13;&#10;&#13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Изображение выглядит как внутренний, человек, стена, фотография&#13;&#10;&#13;&#10;Описание создано с очень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Изображение выглядит как фотография&#13;&#10;&#13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Изображение выглядит как текст&#13;&#10;&#13;&#10;Описание создано с очень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Изображение выглядит как текст&#13;&#10;&#13;&#10;Описание создано с очень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Изображение выглядит как снимок экрана&#13;&#10;&#13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Изображение выглядит как внутренний, сидит&#13;&#10;&#13;&#10;Описание создано с очень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2" descr="Изображение выглядит как текст&#13;&#10;&#13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" descr="Изображение выглядит как текст&#13;&#10;&#13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6" descr="Изображение выглядит как снимок экрана, текст&#13;&#10;&#13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Изображение выглядит как текст&#13;&#10;&#13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2" descr="Изображение выглядит как текст&#13;&#10;&#13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Изображение выглядит как текст&#13;&#10;&#13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Изображение выглядит как текст, человек&#13;&#10;&#13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Elena Yarkina</cp:lastModifiedBy>
  <dcterms:modified xsi:type="dcterms:W3CDTF">2018-04-01T10:49:28Z</dcterms:modified>
  <cp:revision>24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93004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