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2E17-F564-4024-8D15-C585522F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7874-7F52-40D3-9820-5DB27F97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0AEF-E58D-4DF6-8169-3105F251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EB9D-50B7-450D-BC11-5ED65C47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4F15-24CB-4D6E-8445-31474C583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687F-F69F-450D-BBD0-77F01A23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FBE9-CA7D-4CAC-8D84-16246EEF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226F-64B3-4E5E-9F82-8C8A8668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43D9-B8B2-42D5-9C43-0D252551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2BD0-BC96-4276-B088-5AD4CB43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8D93-4D49-4966-934C-2ACDD33E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C61A-8D30-4D06-A890-5163E17A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6319-25BC-4545-B736-45169887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D1E4-C8EC-4ABE-870E-57AA5B77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6603-C7DC-4B83-AAAC-4AD6740B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F9E8-FECA-4A30-8FF8-A38E52E16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20BC-657B-40AF-A1A5-64C68D5DE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AEE7-7446-479B-90D4-F108F902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8768-DC79-47B8-9BE7-A35A01C4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ECB1-5ED1-44A8-9296-AC46EC41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B4A2-C68F-4E97-ABBA-9E0B4B2C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CC11-98B6-4B1A-B6DB-58A62DC3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90EE-EDA3-4164-BEB4-ABBBB0A7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3A20-93E9-439F-A24E-C560E1D6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309D-DE5F-4899-81A7-561DC1C69FF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1257-EB8D-4E87-A606-CFDC2855C2F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Относительность движения. Траектория и путь.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191120" y="3200040"/>
            <a:ext cx="495288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Forte"/>
              </a:rPr>
              <a:t>Посмотри   сквозь  перила                моста,  и  ты  увидишь, как   мост плывет   по  неподвижной   вод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равильные ответ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371600" y="3352680"/>
          <a:ext cx="7388280" cy="1835280"/>
        </p:xfrm>
        <a:graphic>
          <a:graphicData uri="http://schemas.openxmlformats.org/drawingml/2006/table">
            <a:tbl>
              <a:tblPr/>
              <a:tblGrid>
                <a:gridCol w="1600200"/>
                <a:gridCol w="990720"/>
                <a:gridCol w="990360"/>
                <a:gridCol w="990720"/>
                <a:gridCol w="990720"/>
                <a:gridCol w="990360"/>
                <a:gridCol w="83520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вопрос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01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ответ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7720" y="1981080"/>
            <a:ext cx="8153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зентацию составила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читель физики ГБОУ школы №471 Кузьмина И.Н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зентация составлена на основе авторских тестов Кирик Л.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Физика.7 класс. Обучающие тесты.-М.:ИЛЕКСА,2009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дания 1 - 6 имеют по четыре варианта ответов, из которых только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один правильны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 Выберите правильный, по вашему мнению, отве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1. Пассажирское судно подплывает к пристани.  Относительно каких тел пассажиры, стоящие на палубе этого корабля, движутся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733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A.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Палуба корабл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Б.</a:t>
            </a:r>
            <a:r>
              <a:rPr b="0" i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ристань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B.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Капитан корабля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Г.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Мачта корабл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1"/>
          <a:stretch/>
        </p:blipFill>
        <p:spPr>
          <a:xfrm>
            <a:off x="4648320" y="2666880"/>
            <a:ext cx="3886200" cy="291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87400" y="582480"/>
            <a:ext cx="7673400" cy="172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2. В  теплый зимний день лыжа оставляет на   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свежевыпавшем   снегу   тонкую   ледяную 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корку - лыжню.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400" y="4343400"/>
            <a:ext cx="76932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А.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Лыжня представляет собой траекторию движения лыжник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Б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Траектория движения лыжника может быть только прямолинейной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В.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Если лыжник вернется к месту старта, то пройденный им путь будет равен нулю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Г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При вычислении пути можно не учитывать, что некоторые участки траектории тело может проходить несколько раз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7010280" cy="1904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3. Из  Мурманска  до  Архангельска  можно  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добраться  автомобилем  по  шоссе  или  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кораблем  по  морю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14400" y="2666880"/>
            <a:ext cx="41148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еремещение автомобиля и корабля зависят от скорости движе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Б.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Траектории автомобиля и корабля совпадают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B.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Длина пути зависит от формы траектори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Г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Траектории автомобиля и корабля будут прямыми линия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5105520" y="2895480"/>
            <a:ext cx="3886200" cy="319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4.  Велосипедист  едет  по прямой дороге.  Какая из линий, изображенных на рисунке, представляет движение кнопки, воткнувшейся в шину велосипеда по отношению к дороге?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447920" y="4495680"/>
            <a:ext cx="6781680" cy="17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А.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Б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б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.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Г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Кнопка покоится относительно дорог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4" descr="1"/>
          <p:cNvPicPr/>
          <p:nvPr/>
        </p:nvPicPr>
        <p:blipFill>
          <a:blip r:embed="rId1"/>
          <a:stretch/>
        </p:blipFill>
        <p:spPr>
          <a:xfrm>
            <a:off x="1905120" y="2590920"/>
            <a:ext cx="5486400" cy="170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5.  Велосипедист  скатывается  с  горы.   Какие детали из перечисленных находятся в движении относительно  седла  велосипеда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90720" y="2971800"/>
            <a:ext cx="4038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А.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Педали при их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вращен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Б.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ма.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B.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Руль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Г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Сигнальная фар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657600" cy="2895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6. С полки вагона едущего поезда падает шарик,  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на котором сидит паучок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7720" y="2971800"/>
            <a:ext cx="49532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.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 На  </a:t>
            </a:r>
            <a:r>
              <a:rPr b="0" i="1" lang="ru-RU" sz="1800" spc="-1" strike="noStrike">
                <a:solidFill>
                  <a:srgbClr val="006600"/>
                </a:solidFill>
                <a:latin typeface="Arial"/>
              </a:rPr>
              <a:t>рисунке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изображена траектория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движения шарика относительно вагон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Б.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 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рисунке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б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изображена траектория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вижения    шарика   относительно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ассажир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. 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Относительно паучка шар при падении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движется прямолинейно, </a:t>
            </a:r>
            <a:r>
              <a:rPr b="0" i="1" lang="ru-RU" sz="1800" spc="-1" strike="noStrike">
                <a:solidFill>
                  <a:srgbClr val="006600"/>
                </a:solidFill>
                <a:latin typeface="Arial"/>
              </a:rPr>
              <a:t>рисунок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00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Г.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Форма траектории не зависит от того, относительно   какого     тела рассматривают движение данного тел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4" descr="2"/>
          <p:cNvPicPr/>
          <p:nvPr/>
        </p:nvPicPr>
        <p:blipFill>
          <a:blip r:embed="rId1"/>
          <a:stretch/>
        </p:blipFill>
        <p:spPr>
          <a:xfrm>
            <a:off x="5805360" y="3200400"/>
            <a:ext cx="3338640" cy="239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 Кузьмина</dc:creator>
  <dc:description/>
  <dc:language>en-US</dc:language>
  <cp:lastModifiedBy>Ирина Кузьмина</cp:lastModifiedBy>
  <dcterms:modified xsi:type="dcterms:W3CDTF">2018-04-01T07:04:5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