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8D7-BCFE-49C9-B637-1E7156C8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1E6-CCAC-4432-B737-2AE34C2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3C1-F3E9-4297-BED1-44DF1BB0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5D8-0079-4CBF-8230-6CCCB344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98EA-501D-4DCB-90DD-B80CE17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440-8EC4-45EB-8A86-4065376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784-AD18-4224-8EB9-BAFE6CC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8B10-64D7-4E13-AF4E-57619525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DC1-8044-4D92-A744-6C4429B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0E1D-6EF3-4697-A342-655C123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814-DA17-4EAD-9368-D9F0CB21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59F-0DCD-461C-A9AD-B54C4CE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961E-A184-4813-B669-EFA833B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F642-7FBD-4535-B014-C4AF890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F37F-338F-4ACD-8B00-CCA1356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7F56-3A4B-4D58-9D30-ECBE35F1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7A93-69BE-4C0C-8356-15C19A5A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E80-F9E6-4BCC-9630-A5EE399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595-63C9-4022-8090-B9BAF113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2FD-084D-4B64-B0E1-08893FE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923-3338-4EF0-B097-D1FCA5D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80A-F062-4716-8721-F97DF11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2B4-0D4F-45D8-9BDA-5EB64856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D2A-643A-41CA-A528-D687F5A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4AE-A79B-47AA-AFAD-70E5F556B61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773A-54C5-468B-8442-A7C0943E745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тносительность движения. Траектория и путь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91120" y="320004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Forte"/>
              </a:rPr>
              <a:t>Посмотри   сквозь  перила                моста,  и  ты  увидишь, как   мост плывет   по  неподвижной   в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авильные отве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1600" y="3352680"/>
          <a:ext cx="7388280" cy="1835280"/>
        </p:xfrm>
        <a:graphic>
          <a:graphicData uri="http://schemas.openxmlformats.org/drawingml/2006/table">
            <a:tbl>
              <a:tblPr/>
              <a:tblGrid>
                <a:gridCol w="1600200"/>
                <a:gridCol w="990720"/>
                <a:gridCol w="990360"/>
                <a:gridCol w="990720"/>
                <a:gridCol w="990720"/>
                <a:gridCol w="990360"/>
                <a:gridCol w="83520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прос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7720" y="19810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ю составил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итель физики ГБОУ школы №471 Кузьмина И.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я составлена на основе авторских тестов Кирик Л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изика.7 класс. Обучающие тесты.-М.:ИЛЕКСА,200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дания 1 - 6 имеют по четыре варианта ответов, из которых только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дин правиль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ыберите правильный, по вашему мнению, отв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 Пассажирское судно подплывает к пристани.  Относительно каких тел пассажиры, стоящие на палубе этого корабля, движутс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3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A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Палуба кораб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.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тан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B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Капитан корабл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Мачта кораб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87400" y="582480"/>
            <a:ext cx="7673400" cy="172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 В  теплый зимний день лыжа оставляет на 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свежевыпавшем   снегу   тонкую   ледяную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корку - лыжню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4343400"/>
            <a:ext cx="769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Лыжня представляет собой траекторию движения лыж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Траектория движения лыжника может быть только прямолинейной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Если лыжник вернется к месту старта, то пройденный им путь будет равен нул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и вычислении пути можно не учитывать, что некоторые участки траектории тело может проходить несколько р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90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. Из  Мурманска  до  Архангельска  можно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добраться  автомобилем  по  шоссе  или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кораблем  по  морю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41148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еремещение автомобиля и корабля зависят от скорости движ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аектории автомобиля и корабля совпадаю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B.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Длина пути зависит от формы траектор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Траектории автомобиля и корабля будут прямыми лин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886200" cy="319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4.  Велосипедист  едет  по прямой дороге.  Какая из линий, изображенных на рисунке, представляет движение кнопки, воткнувшейся в шину велосипеда по отношению к дороге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920" y="4495680"/>
            <a:ext cx="67816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б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Кнопка покоится относительно доро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1"/>
          <a:stretch/>
        </p:blipFill>
        <p:spPr>
          <a:xfrm>
            <a:off x="1905120" y="2590920"/>
            <a:ext cx="5486400" cy="17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  Велосипедист  скатывается  с  горы.   Какие детали из перечисленных находятся в движении относительно  седла  велосипед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29718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Педали при их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ращ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.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ма.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B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Рул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Сигнальная фа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. С полки вагона едущего поезда падает шарик,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на котором сидит паучок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971800"/>
            <a:ext cx="4953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На 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рисунке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изображена траектор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вижения шарика относительно ваг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.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рисунк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изображена траектор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жения    шарика   относительно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ссажи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.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тносительно паучка шар при падени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вижется прямолинейно,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рисунок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орма траектории не зависит от того, относительно   какого     тела рассматривают движение данного тел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2"/>
          <p:cNvPicPr/>
          <p:nvPr/>
        </p:nvPicPr>
        <p:blipFill>
          <a:blip r:embed="rId1"/>
          <a:stretch/>
        </p:blipFill>
        <p:spPr>
          <a:xfrm>
            <a:off x="5805360" y="3200400"/>
            <a:ext cx="3338640" cy="23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Кузьмина</dc:creator>
  <dc:description/>
  <dc:language>en-US</dc:language>
  <cp:lastModifiedBy>Ирина Кузьмина</cp:lastModifiedBy>
  <dcterms:modified xsi:type="dcterms:W3CDTF">2018-04-01T07:04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