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4D5-853B-4157-A917-869A691C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433-7475-4447-BAA0-545AC219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D37-692B-4A3D-A34E-C765EF76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F89-3857-476E-B5FA-4CAA8C41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B81D-B72E-4EB6-9D49-FA83C7CB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4397-5137-49F7-9E4A-F6FC30FC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D49D-4DE7-4F97-B82A-55C4BCA3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E2EA-EC32-4B7B-8E65-B704FC13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32B2-0C83-4411-8A20-6344A99A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60DF-8C38-4733-9A4E-09982D0B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0969-8F72-425A-B9F6-3C34C70F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B9E-686B-46AF-B810-369BD095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9D40-7295-4143-BF47-B99BFE52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E8F9-28E2-4DBE-8444-3D5D5A15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1BC9-C98E-44E7-80E1-A89FED5B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6A4F-B8FA-4C65-8E23-55D7D40A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8585-00AF-4022-A4CB-3BEBC9CB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669-C6C2-456F-9792-0B10EF48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5CD-56B5-4FEC-AB37-021A5E41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226-70E1-46A6-99FF-A3B8C316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9D6-26F2-45D5-841C-DBCDA1B5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32A-DFB0-4003-8A61-23FC4CA5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A18-EC06-4D65-96C6-0F543B08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880-C2F1-4C0E-ABC9-3342907C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8C98-5ADE-4B5C-8ED2-D311EF701DA6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C06C-C844-403E-9646-F94EBFD22422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Прямолинейное равномерное движение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23920" y="3276720"/>
            <a:ext cx="441972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Forte"/>
              </a:rPr>
              <a:t>Кто не понимает движения, тот не понимает приро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Forte"/>
              </a:rPr>
              <a:t>                                         </a:t>
            </a:r>
            <a:r>
              <a:rPr b="0" lang="ru-RU" sz="1600" spc="-1" strike="noStrike">
                <a:solidFill>
                  <a:srgbClr val="006666"/>
                </a:solidFill>
                <a:latin typeface="Forte"/>
              </a:rPr>
              <a:t>Аристотел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90720" y="20570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зентацию составила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читель физики ГБОУ школы №471 Кузьмина И.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зентация составлена на основе авторских тестов Кирик Л.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изика.7 класс. Обучающие тесты.-М.:ИЛЕКСА,2009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На рисунках показаны примеры различных движений. Какие из них вы могли бы отнести к равномерным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4266720"/>
            <a:ext cx="807732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пуск лыжника с го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Б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Движение эскалатора метр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В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злет самолета с аэродром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Движение автомобиля во время автогоно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648320" y="2514600"/>
            <a:ext cx="1752480" cy="1374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4"/>
          <a:stretch/>
        </p:blipFill>
        <p:spPr>
          <a:xfrm>
            <a:off x="6477120" y="2514600"/>
            <a:ext cx="2209680" cy="134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Дельфин может развивать на прямолинейном 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участке пути скорость до 15 м/с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43434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льфин за каждые 15 с проходит путь 1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Дельфин за каждую секунду проходит путь 1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Дельфин за 3 мин может проплыть 4 к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Г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Скорость дельфина больше 60 км/ч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733920" cy="30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24400" y="824400"/>
            <a:ext cx="8256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Скоростной поезд движется со скоростью 40 м/с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46479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Arial"/>
              </a:rPr>
              <a:t>А.</a:t>
            </a: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 Расстояние 340 км поезд пройдет за 1час 21 мин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Б.</a:t>
            </a: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ервый и последний вагоны проходят одинаковые пути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Arial"/>
              </a:rPr>
              <a:t>В.</a:t>
            </a: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 Скорость поезда больше 150 км/ч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Г.</a:t>
            </a: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Расстояние 340 км поезд пройдет за 4 часа 16 мин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950000" cy="22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 рисунке дан график движения автомобил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743200"/>
            <a:ext cx="41911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На участках ОА, АВ и ВС автомобиль движется с одинаковой скорость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Самая    маленькая скорость автомобиля на участке В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амая большая скорость на участке О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Г.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За 2,5 часа автомобиль проехал 150 к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4" descr="9"/>
          <p:cNvPicPr/>
          <p:nvPr/>
        </p:nvPicPr>
        <p:blipFill>
          <a:blip r:embed="rId1"/>
          <a:stretch/>
        </p:blipFill>
        <p:spPr>
          <a:xfrm>
            <a:off x="5181480" y="289548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На рисунке изображен график, характеризующий     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движение зайца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590560"/>
            <a:ext cx="4267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 самой большой скоростью заяц двигался в интервале времени с 10-й с по 25-ю секунд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Б.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Первые 10 с заяц двигался со скоростью 18 км/ч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За вторые 10 с заяц пробежал 50 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С самой маленькой скоростью заяц двигался в интервале времени с 25-й с по 35-ю секунд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10"/>
          <p:cNvPicPr/>
          <p:nvPr/>
        </p:nvPicPr>
        <p:blipFill>
          <a:blip r:embed="rId1"/>
          <a:stretch/>
        </p:blipFill>
        <p:spPr>
          <a:xfrm>
            <a:off x="5486400" y="289548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57800" y="834120"/>
            <a:ext cx="83134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6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На рисунке изображен график, характеризующий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движение мотоциклиста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6668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Arial"/>
              </a:rPr>
              <a:t>А.</a:t>
            </a: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 Первые 4 с мотоциклист  двигался с большей скоростью, чем вторые 4 с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Б.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За первые 4 с мотоциклист проехал 10 м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Arial"/>
              </a:rPr>
              <a:t>В.</a:t>
            </a: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 С 4-й по 8-ю с мотоциклист двигался со скоростью 54 км/ч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Г.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За 8 с мотоцикл проехал 120 м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11"/>
          <p:cNvPicPr/>
          <p:nvPr/>
        </p:nvPicPr>
        <p:blipFill>
          <a:blip r:embed="rId1"/>
          <a:stretch/>
        </p:blipFill>
        <p:spPr>
          <a:xfrm>
            <a:off x="5410080" y="2666880"/>
            <a:ext cx="358164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вильные отве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19320" y="3124080"/>
          <a:ext cx="6858000" cy="1676520"/>
        </p:xfrm>
        <a:graphic>
          <a:graphicData uri="http://schemas.openxmlformats.org/drawingml/2006/table">
            <a:tbl>
              <a:tblPr/>
              <a:tblGrid>
                <a:gridCol w="1447560"/>
                <a:gridCol w="838440"/>
                <a:gridCol w="990360"/>
                <a:gridCol w="914400"/>
                <a:gridCol w="990720"/>
                <a:gridCol w="838080"/>
                <a:gridCol w="838440"/>
              </a:tblGrid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опроса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твет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 Кузьмина</dc:creator>
  <dc:description/>
  <dc:language>en-US</dc:language>
  <cp:lastModifiedBy>Ирина Кузьмина</cp:lastModifiedBy>
  <dcterms:modified xsi:type="dcterms:W3CDTF">2018-04-01T07:10:5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