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21B8-52C6-452B-BB86-C83C26329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A772-9D30-469D-9FDE-AF34C615E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2919-3FD2-4E82-AE75-84D5DE964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E2D8-9544-4CAF-AB91-ABC839D2E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47F8E-1561-4AF4-B3A3-678B588DC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F3167-D696-4F5F-B0D9-89CFE6F96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DA5EA-598C-4872-A6DA-8E09BC653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41E06-D4AA-4FD9-A7F7-165F531E4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6C937-B454-44BF-B71E-187674D25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A4A9C-B639-4B2F-BE37-BC4876EA8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8D39E-0001-465C-B6AE-2334A61AF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86C6-E2D3-4074-B5AF-5E07C1987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4FFCD-9E24-4644-97C9-8509B47A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5F1E7-B7CF-479F-882D-116FDD69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AC0D9-359B-473F-9430-F1A7CB6E1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49540-EAB9-4AE5-B58A-B10D6C62F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E1F94-4C6C-472D-8EE2-96B3AA9BD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6751-81E9-45AC-8F65-30E27C1C1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B825-FD7C-4727-8499-313C557E8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B28B-E96D-40D1-B640-03D7704C2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83B8-9534-4650-9531-B991D3D91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B745-3E30-4120-8D08-0451AF9C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58E5-0A1D-432D-AB4A-720C45FB1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8400-3247-46D1-9298-F7261B820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97DD1-3433-4B04-B8BE-2A7632B046D9}" type="slidenum"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564FD-B2EC-4B53-A114-B3DCF568AFC4}" type="slidenum"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Прямолинейное равномерное движение.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723920" y="3276720"/>
            <a:ext cx="4419720" cy="1676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Forte"/>
              </a:rPr>
              <a:t>Кто не понимает движения, тот не понимает природ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66"/>
                </a:solidFill>
                <a:latin typeface="Forte"/>
              </a:rPr>
              <a:t>                                         </a:t>
            </a:r>
            <a:r>
              <a:rPr b="0" lang="ru-RU" sz="1600" spc="-1" strike="noStrike">
                <a:solidFill>
                  <a:srgbClr val="006666"/>
                </a:solidFill>
                <a:latin typeface="Forte"/>
              </a:rPr>
              <a:t>Аристотель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90720" y="20570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езентацию составила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Учитель физики ГБОУ школы №471 Кузьмина И.Н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езентация составлена на основе авторских тестов Кирик Л.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Физика.7 класс. Обучающие тесты.-М.:ИЛЕКСА,2009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1.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 На рисунках показаны примеры различных движений. Какие из них вы могли бы отнести к равномерным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7720" y="4266720"/>
            <a:ext cx="8077320" cy="19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А.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Спуск лыжника с горы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Б.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Движение эскалатора метро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В.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Взлет самолета с аэродром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Г.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Движение автомобиля во время автогонок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838080" y="251460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"/>
          <p:cNvPicPr/>
          <p:nvPr/>
        </p:nvPicPr>
        <p:blipFill>
          <a:blip r:embed="rId2"/>
          <a:stretch/>
        </p:blipFill>
        <p:spPr>
          <a:xfrm>
            <a:off x="2743200" y="2514600"/>
            <a:ext cx="1809720" cy="1357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"/>
          <p:cNvPicPr/>
          <p:nvPr/>
        </p:nvPicPr>
        <p:blipFill>
          <a:blip r:embed="rId3"/>
          <a:stretch/>
        </p:blipFill>
        <p:spPr>
          <a:xfrm>
            <a:off x="4648320" y="2514600"/>
            <a:ext cx="1752480" cy="13748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"/>
          <p:cNvPicPr/>
          <p:nvPr/>
        </p:nvPicPr>
        <p:blipFill>
          <a:blip r:embed="rId4"/>
          <a:stretch/>
        </p:blipFill>
        <p:spPr>
          <a:xfrm>
            <a:off x="6477120" y="2514600"/>
            <a:ext cx="2209680" cy="1347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2.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 Дельфин может развивать на прямолинейном  </a:t>
            </a:r>
            <a:br>
              <a:rPr sz="2400"/>
            </a:b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    участке пути скорость до 15 м/с.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7720" y="2743200"/>
            <a:ext cx="434340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А.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ельфин за каждые 15 с проходит путь 1м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Б.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Дельфин за каждую секунду проходит путь 1м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В.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Дельфин за 3 мин может проплыть 4 км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Г.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Скорость дельфина больше 60 км/ч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5257800" y="2819520"/>
            <a:ext cx="3733920" cy="3033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24400" y="824400"/>
            <a:ext cx="82566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3.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 Скоростной поезд движется со скоростью 40 м/с.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4647960"/>
            <a:ext cx="83059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3366"/>
                </a:solidFill>
                <a:latin typeface="Arial"/>
              </a:rPr>
              <a:t>А.</a:t>
            </a:r>
            <a:r>
              <a:rPr b="0" lang="ru-RU" sz="2300" spc="-1" strike="noStrike">
                <a:solidFill>
                  <a:srgbClr val="003366"/>
                </a:solidFill>
                <a:latin typeface="Arial"/>
              </a:rPr>
              <a:t> Расстояние 340 км поезд пройдет за 1час 21 мин.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6666"/>
                </a:solidFill>
                <a:latin typeface="Arial"/>
              </a:rPr>
              <a:t>Б.</a:t>
            </a:r>
            <a:r>
              <a:rPr b="0" lang="ru-RU" sz="23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Первый и последний вагоны проходят одинаковые пути.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3366"/>
                </a:solidFill>
                <a:latin typeface="Arial"/>
              </a:rPr>
              <a:t>В.</a:t>
            </a:r>
            <a:r>
              <a:rPr b="0" lang="ru-RU" sz="2300" spc="-1" strike="noStrike">
                <a:solidFill>
                  <a:srgbClr val="003366"/>
                </a:solidFill>
                <a:latin typeface="Arial"/>
              </a:rPr>
              <a:t> Скорость поезда больше 150 км/ч.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6666"/>
                </a:solidFill>
                <a:latin typeface="Arial"/>
              </a:rPr>
              <a:t>Г.</a:t>
            </a:r>
            <a:r>
              <a:rPr b="0" lang="ru-RU" sz="23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Расстояние 340 км поезд пройдет за 4 часа 16 мин.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2209680" y="2286000"/>
            <a:ext cx="4950000" cy="2270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4. 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На рисунке дан график движения автомобиля.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743200"/>
            <a:ext cx="4191120" cy="34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А.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На участках ОА, АВ и ВС автомобиль движется с одинаковой скоростью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Б.</a:t>
            </a: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 Самая    маленькая скорость автомобиля на участке ВС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В.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Самая большая скорость на участке О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Г.</a:t>
            </a: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 За 2,5 часа автомобиль проехал 150 км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Picture 4" descr="9"/>
          <p:cNvPicPr/>
          <p:nvPr/>
        </p:nvPicPr>
        <p:blipFill>
          <a:blip r:embed="rId1"/>
          <a:stretch/>
        </p:blipFill>
        <p:spPr>
          <a:xfrm>
            <a:off x="5181480" y="2895480"/>
            <a:ext cx="3657600" cy="2514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82371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5.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 На рисунке изображен график, характеризующий      </a:t>
            </a:r>
            <a:br>
              <a:rPr sz="2400"/>
            </a:b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    движение зайца.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590560"/>
            <a:ext cx="42674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А.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С самой большой скоростью заяц двигался в интервале времени с 10-й с по 25-ю секунду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Б.</a:t>
            </a: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 Первые 10 с заяц двигался со скоростью 18 км/ч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В.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За вторые 10 с заяц пробежал 50 м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Г.</a:t>
            </a: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 С самой маленькой скоростью заяц двигался в интервале времени с 25-й с по 35-ю секунду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Picture 4" descr="10"/>
          <p:cNvPicPr/>
          <p:nvPr/>
        </p:nvPicPr>
        <p:blipFill>
          <a:blip r:embed="rId1"/>
          <a:stretch/>
        </p:blipFill>
        <p:spPr>
          <a:xfrm>
            <a:off x="5486400" y="2895480"/>
            <a:ext cx="3505320" cy="3048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757800" y="834120"/>
            <a:ext cx="83134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6.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 На рисунке изображен график, характеризующий </a:t>
            </a:r>
            <a:br>
              <a:rPr sz="2400"/>
            </a:b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    движение мотоциклиста.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7720" y="2666880"/>
            <a:ext cx="44197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3366"/>
                </a:solidFill>
                <a:latin typeface="Arial"/>
              </a:rPr>
              <a:t>А.</a:t>
            </a:r>
            <a:r>
              <a:rPr b="0" lang="ru-RU" sz="2300" spc="-1" strike="noStrike">
                <a:solidFill>
                  <a:srgbClr val="003366"/>
                </a:solidFill>
                <a:latin typeface="Arial"/>
              </a:rPr>
              <a:t> Первые 4 с мотоциклист  двигался с большей скоростью, чем вторые 4 с.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6666"/>
                </a:solidFill>
                <a:latin typeface="Arial"/>
              </a:rPr>
              <a:t>Б.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 За первые 4 с мотоциклист проехал 10 м.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3366"/>
                </a:solidFill>
                <a:latin typeface="Arial"/>
              </a:rPr>
              <a:t>В.</a:t>
            </a:r>
            <a:r>
              <a:rPr b="0" lang="ru-RU" sz="2300" spc="-1" strike="noStrike">
                <a:solidFill>
                  <a:srgbClr val="003366"/>
                </a:solidFill>
                <a:latin typeface="Arial"/>
              </a:rPr>
              <a:t> С 4-й по 8-ю с мотоциклист двигался со скоростью 54 км/ч. 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6666"/>
                </a:solidFill>
                <a:latin typeface="Arial"/>
              </a:rPr>
              <a:t>Г.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 За 8 с мотоцикл проехал 120 м.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8" name="Picture 4" descr="11"/>
          <p:cNvPicPr/>
          <p:nvPr/>
        </p:nvPicPr>
        <p:blipFill>
          <a:blip r:embed="rId1"/>
          <a:stretch/>
        </p:blipFill>
        <p:spPr>
          <a:xfrm>
            <a:off x="5410080" y="2666880"/>
            <a:ext cx="358164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авильные ответы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219320" y="3124080"/>
          <a:ext cx="6858000" cy="1676520"/>
        </p:xfrm>
        <a:graphic>
          <a:graphicData uri="http://schemas.openxmlformats.org/drawingml/2006/table">
            <a:tbl>
              <a:tblPr/>
              <a:tblGrid>
                <a:gridCol w="1447560"/>
                <a:gridCol w="838440"/>
                <a:gridCol w="990360"/>
                <a:gridCol w="914400"/>
                <a:gridCol w="990720"/>
                <a:gridCol w="838080"/>
                <a:gridCol w="838440"/>
              </a:tblGrid>
              <a:tr h="86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вопроса</a:t>
                      </a:r>
                      <a:endParaRPr b="1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</a:t>
                      </a:r>
                      <a:endParaRPr b="1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</a:t>
                      </a:r>
                      <a:endParaRPr b="1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</a:t>
                      </a:r>
                      <a:endParaRPr b="1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</a:t>
                      </a:r>
                      <a:endParaRPr b="1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</a:t>
                      </a:r>
                      <a:endParaRPr b="1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</a:t>
                      </a:r>
                      <a:endParaRPr b="1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Ответ</a:t>
                      </a:r>
                      <a:endParaRPr b="1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Б</a:t>
                      </a:r>
                      <a:endParaRPr b="1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Б</a:t>
                      </a:r>
                      <a:endParaRPr b="1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Б</a:t>
                      </a:r>
                      <a:endParaRPr b="1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Г</a:t>
                      </a:r>
                      <a:endParaRPr b="1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Б</a:t>
                      </a:r>
                      <a:endParaRPr b="1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В</a:t>
                      </a:r>
                      <a:endParaRPr b="1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рина Кузьмина</dc:creator>
  <dc:description/>
  <dc:language>en-US</dc:language>
  <cp:lastModifiedBy>Ирина Кузьмина</cp:lastModifiedBy>
  <dcterms:modified xsi:type="dcterms:W3CDTF">2018-04-01T07:10:55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