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3.png" ContentType="image/pn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F2DF-CBD5-403E-A2E9-1534EA5B5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5395-86EF-4725-9C64-015DE99B7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74D-66F0-4D4C-A62F-95959C6A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CC1-3AB6-4DD5-8300-1061390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207-5AB4-4FE6-9E10-9CACD2B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28B-13E6-44D5-86A3-629E91DD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57E-82BA-4823-829A-C2972337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E50-D28B-41EC-8B4A-6AB3F46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368-9AAF-4A2C-AB24-9C76AEF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4C9-185F-4C05-8437-438AAA1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3DA-DD4F-41E2-AA34-2C0D5ACB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C7F-9B42-4A89-AD72-BCCEA24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DA5-8DD2-46F6-8CD9-5E59B93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E2A-FA22-47B1-BF4D-6065F277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2EFF-10EF-494A-8773-629A61840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9199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82520"/>
            <a:ext cx="9156960" cy="388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Ruzai\Desktop\фон 1.jpg"/>
          <p:cNvPicPr/>
          <p:nvPr/>
        </p:nvPicPr>
        <p:blipFill>
          <a:blip r:embed="rId3"/>
          <a:stretch/>
        </p:blipFill>
        <p:spPr>
          <a:xfrm>
            <a:off x="0" y="1916280"/>
            <a:ext cx="8964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7600" y="296640"/>
            <a:ext cx="884880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  <a:ea typeface="Arial"/>
              </a:rPr>
              <a:t>Средняя групп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Calibri"/>
                <a:ea typeface="Arial"/>
              </a:rPr>
              <a:t>«Мыльные пузыр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(свойства жидкого мыл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259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:\ЭД\фон.gif"/>
          <p:cNvPicPr/>
          <p:nvPr/>
        </p:nvPicPr>
        <p:blipFill>
          <a:blip r:embed="rId2"/>
          <a:stretch/>
        </p:blipFill>
        <p:spPr>
          <a:xfrm>
            <a:off x="0" y="3147840"/>
            <a:ext cx="53276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Image result for веселый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22280" y="2938320"/>
            <a:ext cx="8974080" cy="313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Image result for картинка зеркало"/>
          <p:cNvPicPr/>
          <p:nvPr/>
        </p:nvPicPr>
        <p:blipFill>
          <a:blip r:embed="rId3"/>
          <a:stretch/>
        </p:blipFill>
        <p:spPr>
          <a:xfrm>
            <a:off x="6815160" y="260280"/>
            <a:ext cx="23288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Ruzai\Desktop\veselyie-rebyata-shablon-prevyu-1-600x4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1066680"/>
            <a:ext cx="5383440" cy="308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Image result for картинки силуэты животных"/>
          <p:cNvPicPr/>
          <p:nvPr/>
        </p:nvPicPr>
        <p:blipFill>
          <a:blip r:embed="rId3"/>
          <a:stretch/>
        </p:blipFill>
        <p:spPr>
          <a:xfrm>
            <a:off x="5219640" y="476280"/>
            <a:ext cx="362736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F:\ЭД\фон 6.jpg"/>
          <p:cNvPicPr/>
          <p:nvPr/>
        </p:nvPicPr>
        <p:blipFill>
          <a:blip r:embed="rId4"/>
          <a:stretch/>
        </p:blipFill>
        <p:spPr>
          <a:xfrm>
            <a:off x="1440" y="-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8" descr=""/>
          <p:cNvPicPr/>
          <p:nvPr/>
        </p:nvPicPr>
        <p:blipFill>
          <a:blip r:embed="rId5"/>
          <a:stretch/>
        </p:blipFill>
        <p:spPr>
          <a:xfrm>
            <a:off x="171360" y="55440"/>
            <a:ext cx="5162760" cy="30844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6"/>
          <a:stretch/>
        </p:blipFill>
        <p:spPr>
          <a:xfrm>
            <a:off x="414360" y="6327720"/>
            <a:ext cx="83152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ые зв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Ruzai\Desktop\тело 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" descr=""/>
          <p:cNvPicPr/>
          <p:nvPr/>
        </p:nvPicPr>
        <p:blipFill>
          <a:blip r:embed="rId3"/>
          <a:stretch/>
        </p:blipFill>
        <p:spPr>
          <a:xfrm>
            <a:off x="981000" y="2189160"/>
            <a:ext cx="7218360" cy="24066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6" descr=""/>
          <p:cNvPicPr/>
          <p:nvPr/>
        </p:nvPicPr>
        <p:blipFill>
          <a:blip r:embed="rId4"/>
          <a:stretch/>
        </p:blipFill>
        <p:spPr>
          <a:xfrm>
            <a:off x="1938240" y="3511440"/>
            <a:ext cx="5248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Image result for веселый фон для презентации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1692360" y="3429000"/>
            <a:ext cx="65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Экспери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в копил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Ruzai\Desktop\veselyie-rebyata-shablon-prevyu-1-600x4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ЭД\фон 3.jpg"/>
          <p:cNvPicPr/>
          <p:nvPr/>
        </p:nvPicPr>
        <p:blipFill>
          <a:blip r:embed="rId2"/>
          <a:stretch/>
        </p:blipFill>
        <p:spPr>
          <a:xfrm>
            <a:off x="1763640" y="620640"/>
            <a:ext cx="38307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-61920"/>
            <a:ext cx="9191520" cy="69199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768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49920" y="267120"/>
            <a:ext cx="861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это научно поставленный опы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бая попытка, проба осуществить что-л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м-либо спосо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24000" y="184464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е эксперимен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активно - преобразующая деятельность детей, существенно изменяющая исследуемые объекты ( Н.Н. Поддъя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то истинно детская деятельность, которая возникает в раннем возрасте и интенсивно развивается на протяжении всего дошкольного возраста без помощи взрослого и даже вопреки его запретам» (Н.Н. Поддъяков, 1981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Ruzai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ЭД\фон 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108000" y="1197000"/>
            <a:ext cx="878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e1c11"/>
                </a:solidFill>
                <a:uFillTx/>
                <a:latin typeface="Calibri"/>
              </a:rPr>
              <a:t>Экспериментальная деятельность </a:t>
            </a: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1. цел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             </a:t>
            </a: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2. средст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                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3. сам процесс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. результа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Соединительная линия уступом 9"/>
          <p:cNvCxnSpPr/>
          <p:nvPr/>
        </p:nvCxnSpPr>
        <p:spPr>
          <a:xfrm>
            <a:off x="1331640" y="3284640"/>
            <a:ext cx="3817080" cy="1729440"/>
          </a:xfrm>
          <a:prstGeom prst="bentConnector3">
            <a:avLst>
              <a:gd name="adj1" fmla="val 10309"/>
            </a:avLst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Ruzai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ЭД\фон 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763640" y="226440"/>
            <a:ext cx="72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f6228"/>
                </a:solidFill>
                <a:uFillTx/>
                <a:latin typeface="Calibri"/>
                <a:ea typeface="Times New Roman"/>
              </a:rPr>
              <a:t>Условия проведения эксперимен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ая простота конструкции приборов и правил обращения с ни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отказность действия приборов и однозначность получаемых результа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з только существенных сторон явления или процес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четливая видимость изучаемого явл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можность участия ребенка в повторном показе экспер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F:\ЭД\фон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Ruzai\Desktop\veselyie-rebyata-shablon-prevyu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Image result for картинка знак вопроса"/>
          <p:cNvPicPr/>
          <p:nvPr/>
        </p:nvPicPr>
        <p:blipFill>
          <a:blip r:embed="rId2"/>
          <a:stretch/>
        </p:blipFill>
        <p:spPr>
          <a:xfrm>
            <a:off x="5508720" y="3394080"/>
            <a:ext cx="3635280" cy="34639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0" descr=""/>
          <p:cNvPicPr/>
          <p:nvPr/>
        </p:nvPicPr>
        <p:blipFill>
          <a:blip r:embed="rId3"/>
          <a:stretch/>
        </p:blipFill>
        <p:spPr>
          <a:xfrm>
            <a:off x="2548080" y="652320"/>
            <a:ext cx="5925960" cy="8287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4"/>
          <a:stretch/>
        </p:blipFill>
        <p:spPr>
          <a:xfrm>
            <a:off x="1828800" y="2249640"/>
            <a:ext cx="5126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Ruzai\Desktop\veselyie-rebyata-shablon-prevyu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" descr=""/>
          <p:cNvPicPr/>
          <p:nvPr/>
        </p:nvPicPr>
        <p:blipFill>
          <a:blip r:embed="rId2"/>
          <a:stretch/>
        </p:blipFill>
        <p:spPr>
          <a:xfrm>
            <a:off x="-573120" y="328680"/>
            <a:ext cx="10204560" cy="359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:\ЭД\фон 5.png"/>
          <p:cNvPicPr/>
          <p:nvPr/>
        </p:nvPicPr>
        <p:blipFill>
          <a:blip r:embed="rId3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38196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3276720" y="90000"/>
            <a:ext cx="586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ая заинтересованность каждого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самосто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предлагать и формулировать варианты решения задач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бедительно доказывать свою точку зрения и выслушивать мнения друг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равлять своим эмоциональным состоя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шение самооценки реб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оммуникативно-речевых умений и мыш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изация творческой, поисковой активности в новых нестандарт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ЫВОД:  СПОСОБНОСТЬ К САМОРАЗВИТИЮ И САМОРЕАЛИЗАЦИИ            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ное те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Ruzai\Desktop\звуки.JPG"/>
          <p:cNvPicPr/>
          <p:nvPr/>
        </p:nvPicPr>
        <p:blipFill>
          <a:blip r:embed="rId1"/>
          <a:stretch/>
        </p:blipFill>
        <p:spPr>
          <a:xfrm>
            <a:off x="539640" y="68400"/>
            <a:ext cx="7993080" cy="67896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2"/>
          <a:stretch/>
        </p:blipFill>
        <p:spPr>
          <a:xfrm>
            <a:off x="-2346480" y="-189000"/>
            <a:ext cx="14167080" cy="71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Image result for веселый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0" y="92160"/>
            <a:ext cx="91440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755640" y="22536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Младший возра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125280" y="2478240"/>
            <a:ext cx="8893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«Видно – невидно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свойство воды – прозра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4:44:06Z</dcterms:created>
  <dc:creator>Ruzai</dc:creator>
  <dc:description/>
  <dc:language>en-US</dc:language>
  <cp:lastModifiedBy>Ruzai</cp:lastModifiedBy>
  <dcterms:modified xsi:type="dcterms:W3CDTF">2018-04-01T08:10:07Z</dcterms:modified>
  <cp:revision>39</cp:revision>
  <dc:subject/>
  <dc:title>Слайд 1</dc:title>
</cp:coreProperties>
</file>