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7.jpeg" ContentType="image/jpeg"/>
  <Override PartName="/ppt/media/image23.png" ContentType="image/pn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6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1.png" ContentType="image/png"/>
  <Override PartName="/ppt/media/image9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45CD-CDA1-4B77-B5D4-13F2EB3995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DF5D-6454-4228-8573-B02B9517DB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E12-3B77-4ADF-A8F8-AD299605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150-E198-480B-AF02-A28FF2D8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B04-B773-4D3B-9E22-47A262E3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AA3-B992-4E2A-8A4D-0A0473B7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8DA-0837-4EBA-B2BA-D670212B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05E-35EA-4133-AC58-9695320C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9FD-09E1-4D63-B53C-3139B0E6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C5B-2695-4177-902B-00250526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128-53AD-4691-90C8-1F7E0023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0F5-8D6F-4BE4-9B9C-5463AC53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BD7C-51E6-4645-A9F2-2EC909B4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806-8F37-401D-9CF0-2B0B0824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69D8-F1B4-4500-A584-1CB815CE1E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9199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82520"/>
            <a:ext cx="9156960" cy="388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Ruzai\Desktop\фон 1.jpg"/>
          <p:cNvPicPr/>
          <p:nvPr/>
        </p:nvPicPr>
        <p:blipFill>
          <a:blip r:embed="rId3"/>
          <a:stretch/>
        </p:blipFill>
        <p:spPr>
          <a:xfrm>
            <a:off x="0" y="1916280"/>
            <a:ext cx="89647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7600" y="296640"/>
            <a:ext cx="884880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alibri"/>
                <a:ea typeface="Arial"/>
              </a:rPr>
              <a:t>Средняя групп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Calibri"/>
                <a:ea typeface="Arial"/>
              </a:rPr>
              <a:t>«Мыльные пузыр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  <a:ea typeface="Arial"/>
              </a:rPr>
              <a:t>(свойства жидкого мыл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2597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F:\ЭД\фон.gif"/>
          <p:cNvPicPr/>
          <p:nvPr/>
        </p:nvPicPr>
        <p:blipFill>
          <a:blip r:embed="rId2"/>
          <a:stretch/>
        </p:blipFill>
        <p:spPr>
          <a:xfrm>
            <a:off x="0" y="3147840"/>
            <a:ext cx="53276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Image result for веселый 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5" descr=""/>
          <p:cNvPicPr/>
          <p:nvPr/>
        </p:nvPicPr>
        <p:blipFill>
          <a:blip r:embed="rId2"/>
          <a:stretch/>
        </p:blipFill>
        <p:spPr>
          <a:xfrm>
            <a:off x="1322280" y="2938320"/>
            <a:ext cx="8974080" cy="3133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Image result for картинка зеркало"/>
          <p:cNvPicPr/>
          <p:nvPr/>
        </p:nvPicPr>
        <p:blipFill>
          <a:blip r:embed="rId3"/>
          <a:stretch/>
        </p:blipFill>
        <p:spPr>
          <a:xfrm>
            <a:off x="6815160" y="260280"/>
            <a:ext cx="23288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Ruzai\Desktop\veselyie-rebyata-shablon-prevyu-1-600x45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3" descr=""/>
          <p:cNvPicPr/>
          <p:nvPr/>
        </p:nvPicPr>
        <p:blipFill>
          <a:blip r:embed="rId2"/>
          <a:stretch/>
        </p:blipFill>
        <p:spPr>
          <a:xfrm>
            <a:off x="-30240" y="1066680"/>
            <a:ext cx="5383440" cy="308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Image result for картинки силуэты животных"/>
          <p:cNvPicPr/>
          <p:nvPr/>
        </p:nvPicPr>
        <p:blipFill>
          <a:blip r:embed="rId3"/>
          <a:stretch/>
        </p:blipFill>
        <p:spPr>
          <a:xfrm>
            <a:off x="5219640" y="476280"/>
            <a:ext cx="3627360" cy="417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F:\ЭД\фон 6.jpg"/>
          <p:cNvPicPr/>
          <p:nvPr/>
        </p:nvPicPr>
        <p:blipFill>
          <a:blip r:embed="rId4"/>
          <a:stretch/>
        </p:blipFill>
        <p:spPr>
          <a:xfrm>
            <a:off x="1440" y="-205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8" descr=""/>
          <p:cNvPicPr/>
          <p:nvPr/>
        </p:nvPicPr>
        <p:blipFill>
          <a:blip r:embed="rId5"/>
          <a:stretch/>
        </p:blipFill>
        <p:spPr>
          <a:xfrm>
            <a:off x="171360" y="55440"/>
            <a:ext cx="5162760" cy="308448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5" descr=""/>
          <p:cNvPicPr/>
          <p:nvPr/>
        </p:nvPicPr>
        <p:blipFill>
          <a:blip r:embed="rId6"/>
          <a:stretch/>
        </p:blipFill>
        <p:spPr>
          <a:xfrm>
            <a:off x="414360" y="6327720"/>
            <a:ext cx="83152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ные зву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Users\Ruzai\Desktop\тело 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5" descr=""/>
          <p:cNvPicPr/>
          <p:nvPr/>
        </p:nvPicPr>
        <p:blipFill>
          <a:blip r:embed="rId3"/>
          <a:stretch/>
        </p:blipFill>
        <p:spPr>
          <a:xfrm>
            <a:off x="981000" y="2189160"/>
            <a:ext cx="7218360" cy="240660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6" descr=""/>
          <p:cNvPicPr/>
          <p:nvPr/>
        </p:nvPicPr>
        <p:blipFill>
          <a:blip r:embed="rId4"/>
          <a:stretch/>
        </p:blipFill>
        <p:spPr>
          <a:xfrm>
            <a:off x="1938240" y="3511440"/>
            <a:ext cx="5248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Image result for веселый фон для презентации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1692360" y="3429000"/>
            <a:ext cx="65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46c0a"/>
                </a:solidFill>
                <a:latin typeface="Calibri"/>
              </a:rPr>
              <a:t>Эксперимен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e46c0a"/>
                </a:solidFill>
                <a:latin typeface="Calibri"/>
              </a:rPr>
              <a:t>в копил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Ruzai\Desktop\veselyie-rebyata-shablon-prevyu-1-600x45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F:\ЭД\фон 3.jpg"/>
          <p:cNvPicPr/>
          <p:nvPr/>
        </p:nvPicPr>
        <p:blipFill>
          <a:blip r:embed="rId2"/>
          <a:stretch/>
        </p:blipFill>
        <p:spPr>
          <a:xfrm>
            <a:off x="1763640" y="620640"/>
            <a:ext cx="38307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-61920"/>
            <a:ext cx="9191520" cy="691992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17686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349920" y="267120"/>
            <a:ext cx="861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Эксперимен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это научно поставленный опы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юбая попытка, проба осуществить что-ли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им-либо спосо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324000" y="184464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тское экспериментирова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активно - преобразующая деятельность детей, существенно изменяющая исследуемые объекты ( Н.Н. Поддъя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Это истинно детская деятельность, которая возникает в раннем возрасте и интенсивно развивается на протяжении всего дошкольного возраста без помощи взрослого и даже вопреки его запретам» (Н.Н. Поддъяков, 1981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Ruzai\Desktop\Без назван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ЭД\фон 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7"/>
          <p:cNvSpPr/>
          <p:nvPr/>
        </p:nvSpPr>
        <p:spPr>
          <a:xfrm>
            <a:off x="108000" y="1197000"/>
            <a:ext cx="8785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e1c11"/>
                </a:solidFill>
                <a:uFillTx/>
                <a:latin typeface="Calibri"/>
              </a:rPr>
              <a:t>Экспериментальная деятельность </a:t>
            </a: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включает в себ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1. цель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             </a:t>
            </a:r>
            <a:r>
              <a:rPr b="1" lang="ru-RU" sz="4800" spc="-1" strike="noStrike">
                <a:solidFill>
                  <a:srgbClr val="006600"/>
                </a:solidFill>
                <a:latin typeface="Calibri"/>
              </a:rPr>
              <a:t>2. средств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                 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3. сам процесс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. результат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Соединительная линия уступом 9"/>
          <p:cNvCxnSpPr/>
          <p:nvPr/>
        </p:nvCxnSpPr>
        <p:spPr>
          <a:xfrm>
            <a:off x="1331640" y="3284640"/>
            <a:ext cx="3817080" cy="1729440"/>
          </a:xfrm>
          <a:prstGeom prst="bentConnector3">
            <a:avLst>
              <a:gd name="adj1" fmla="val 10309"/>
            </a:avLst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Ruzai\Desktop\Без назван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F:\ЭД\фон 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1763640" y="226440"/>
            <a:ext cx="72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f6228"/>
                </a:solidFill>
                <a:uFillTx/>
                <a:latin typeface="Calibri"/>
                <a:ea typeface="Times New Roman"/>
              </a:rPr>
              <a:t>Условия проведения эксперимен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ксимальная простота конструкции приборов и правил обращения с ни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зотказность действия приборов и однозначность получаемых результа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каз только существенных сторон явления или процес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четливая видимость изучаемого явл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зможность участия ребенка в повторном показе экспери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F:\ЭД\фон 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Users\Ruzai\Desktop\veselyie-rebyata-shablon-prevyu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Image result for картинка знак вопроса"/>
          <p:cNvPicPr/>
          <p:nvPr/>
        </p:nvPicPr>
        <p:blipFill>
          <a:blip r:embed="rId2"/>
          <a:stretch/>
        </p:blipFill>
        <p:spPr>
          <a:xfrm>
            <a:off x="5508720" y="3394080"/>
            <a:ext cx="3635280" cy="34639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0" descr=""/>
          <p:cNvPicPr/>
          <p:nvPr/>
        </p:nvPicPr>
        <p:blipFill>
          <a:blip r:embed="rId3"/>
          <a:stretch/>
        </p:blipFill>
        <p:spPr>
          <a:xfrm>
            <a:off x="2548080" y="652320"/>
            <a:ext cx="5925960" cy="8287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6" descr=""/>
          <p:cNvPicPr/>
          <p:nvPr/>
        </p:nvPicPr>
        <p:blipFill>
          <a:blip r:embed="rId4"/>
          <a:stretch/>
        </p:blipFill>
        <p:spPr>
          <a:xfrm>
            <a:off x="1828800" y="2249640"/>
            <a:ext cx="51260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Ruzai\Desktop\veselyie-rebyata-shablon-prevyu-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4" descr=""/>
          <p:cNvPicPr/>
          <p:nvPr/>
        </p:nvPicPr>
        <p:blipFill>
          <a:blip r:embed="rId2"/>
          <a:stretch/>
        </p:blipFill>
        <p:spPr>
          <a:xfrm>
            <a:off x="-573120" y="328680"/>
            <a:ext cx="10204560" cy="359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F:\ЭД\фон 5.png"/>
          <p:cNvPicPr/>
          <p:nvPr/>
        </p:nvPicPr>
        <p:blipFill>
          <a:blip r:embed="rId3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38196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3276720" y="90000"/>
            <a:ext cx="586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ксимальная заинтересованность каждого ребе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самосто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предлагать и формулировать варианты решения задач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бедительно доказывать свою точку зрения и выслушивать мнения други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правлять своим эмоциональным состояни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ышение самооценки ребе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коммуникативно-речевых умений и мыш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изация творческой, поисковой активности в новых нестандартных ситу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ВЫВОД:  СПОСОБНОСТЬ К САМОРАЗВИТИЮ И САМОРЕАЛИЗАЦИИ             В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мное те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Users\Ruzai\Desktop\звуки.JPG"/>
          <p:cNvPicPr/>
          <p:nvPr/>
        </p:nvPicPr>
        <p:blipFill>
          <a:blip r:embed="rId1"/>
          <a:stretch/>
        </p:blipFill>
        <p:spPr>
          <a:xfrm>
            <a:off x="539640" y="68400"/>
            <a:ext cx="7993080" cy="67896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4" descr=""/>
          <p:cNvPicPr/>
          <p:nvPr/>
        </p:nvPicPr>
        <p:blipFill>
          <a:blip r:embed="rId2"/>
          <a:stretch/>
        </p:blipFill>
        <p:spPr>
          <a:xfrm>
            <a:off x="-2346480" y="-189000"/>
            <a:ext cx="14167080" cy="71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Image result for веселый 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0" y="92160"/>
            <a:ext cx="914400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755640" y="225360"/>
            <a:ext cx="64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Младший возра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125280" y="2478240"/>
            <a:ext cx="889344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Calibri"/>
              </a:rPr>
              <a:t>«Видно – невидно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свойство воды – прозрач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04:44:06Z</dcterms:created>
  <dc:creator>Ruzai</dc:creator>
  <dc:description/>
  <dc:language>en-US</dc:language>
  <cp:lastModifiedBy>Ruzai</cp:lastModifiedBy>
  <dcterms:modified xsi:type="dcterms:W3CDTF">2018-04-01T08:10:07Z</dcterms:modified>
  <cp:revision>39</cp:revision>
  <dc:subject/>
  <dc:title>Слайд 1</dc:title>
</cp:coreProperties>
</file>