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9D6B-906D-4F29-B813-744B682D6A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531A-993A-4EDA-BB2B-71A4CB914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71958-445B-4DBC-90F8-070C434B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EB66-F2F7-4F45-A71D-88FFD3C1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A693-F98C-46BE-B151-61E50102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086FE-5740-4F00-AF20-939925DA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4E26-F237-44B9-9518-630AAA8B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74B1-9798-485F-8272-C2D8DD41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2C75-C7BB-4576-BA70-D45C9123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F582-2526-43A3-80E1-4C5736A2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D14D-C595-48BC-8A07-22E3BB73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3366-863A-4452-8BB4-F66880EA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4E48-CFCA-45A5-B947-2B22E47A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2383-892B-4944-B1AB-0462AA64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C8DB-8F73-4561-8A98-37354147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DD1B-FA12-4D3A-AC67-5F444E5B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E88E-22B4-457C-9791-AD21B42A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F263-498E-4DC0-B15A-A95BA1FB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6399-67DE-4D07-9BF9-11A458F9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42675-F5C6-4CF6-B6BC-C2887559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95559-A5DD-4B50-BB50-2934D15B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F9BA-2DB3-4C00-BAC4-0CBDE2AB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6681-0FF2-44BA-B60E-25FACDD3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E66B-8E66-4BBF-9BEF-CCB5C7F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E496-4941-4F5C-A0A5-C93DDBCF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3A6C-9F1F-4800-AB05-7FD2DDA4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D9A0-1757-4CCC-B28C-C8ACFBF585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E21-DE0A-4D9C-89BF-47151131D6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Прямолинейное неравномерное движение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9880" y="472428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00cc"/>
                </a:solidFill>
                <a:latin typeface="Fort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00cc"/>
                </a:solidFill>
                <a:latin typeface="Forte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orte"/>
              </a:rPr>
              <a:t>Покой нам только сн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orte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Forte"/>
              </a:rPr>
              <a:t>Александр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62120" y="12189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состави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физики ГБОУ школы №471 Кузьмина И.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составлена на основе авторских тестов Кирик Л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ка.7 класс. Обучающие тесты.-М.:ИЛЕКСА,200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 algn="just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Шарик брошен вертикально вверх, как 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казано на рису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5105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рик  совершает прямолинейное равномерное дви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Шарик  совершает прямолинейное неравномерное дви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рик  совершает криволинейное дви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Шарик  совершает колебательное дви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111"/>
          <p:cNvPicPr/>
          <p:nvPr/>
        </p:nvPicPr>
        <p:blipFill>
          <a:blip r:embed="rId1"/>
          <a:stretch/>
        </p:blipFill>
        <p:spPr>
          <a:xfrm>
            <a:off x="5715000" y="2438280"/>
            <a:ext cx="327672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На фотографиях изображены: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течение равнинной реки; спуск парашютиста в безветренную погоду; движение поезда между двумя стациями; эскалатор метрополитена. На какой фотографии показано неравномерное дви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 rot="10800000">
            <a:off x="-720" y="2818800"/>
            <a:ext cx="15228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5105520"/>
            <a:ext cx="861084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                   Б.                    В.                  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2028960" cy="1524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514600" y="3352680"/>
            <a:ext cx="2133720" cy="152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7010280" y="3352680"/>
            <a:ext cx="1981440" cy="150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4724280" y="3352680"/>
            <a:ext cx="22100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Футболист пробегает за матч около 20 км.  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   Какова  его  средняя  скорость? 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   (матч длится 90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2971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Б.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3,7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,7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.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1,8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4267080" y="251460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Гоночный автомобиль при старте проехал за 0,5ч 60км, в течение гонки за 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1,5ч он проехал 270км, а на финише автомобиль за 1ч проехал 210км. Какова средняя скорость автомоби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3352320"/>
            <a:ext cx="2971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90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Б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120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50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60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714480" cy="32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. На рисунке изображен график зависимости пути от времени для некоторого тела. Определите среднюю скорость этого тела на всем пу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3352680"/>
            <a:ext cx="24382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,5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Б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3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3,5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5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3"/>
          <p:cNvPicPr/>
          <p:nvPr/>
        </p:nvPicPr>
        <p:blipFill>
          <a:blip r:embed="rId1"/>
          <a:stretch/>
        </p:blipFill>
        <p:spPr>
          <a:xfrm>
            <a:off x="4495680" y="2819520"/>
            <a:ext cx="4038840" cy="32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. На рисунке изображен график зависимости скорости от времени для некоторого тела. Определите среднюю скорость этого тела на всем пу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 м/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Б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4,5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,4 км/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10,8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4"/>
          <p:cNvPicPr/>
          <p:nvPr/>
        </p:nvPicPr>
        <p:blipFill>
          <a:blip r:embed="rId1"/>
          <a:stretch/>
        </p:blipFill>
        <p:spPr>
          <a:xfrm>
            <a:off x="4038480" y="2895480"/>
            <a:ext cx="472464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Правильные 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2514600"/>
          <a:ext cx="6324480" cy="2209680"/>
        </p:xfrm>
        <a:graphic>
          <a:graphicData uri="http://schemas.openxmlformats.org/drawingml/2006/table">
            <a:tbl>
              <a:tblPr/>
              <a:tblGrid>
                <a:gridCol w="1600200"/>
                <a:gridCol w="762120"/>
                <a:gridCol w="761760"/>
                <a:gridCol w="762120"/>
                <a:gridCol w="838080"/>
                <a:gridCol w="838440"/>
                <a:gridCol w="76176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 Кузьмина</dc:creator>
  <dc:description/>
  <dc:language>en-US</dc:language>
  <cp:lastModifiedBy>Ирина Кузьмина</cp:lastModifiedBy>
  <dcterms:modified xsi:type="dcterms:W3CDTF">2018-04-01T07:11:3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