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31CE-F67A-4B97-9537-8BB62DC1C2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9ED-237C-42BC-B348-245254D4C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CAAC-9E3F-4752-AF51-DC525145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1FDC-2A0E-4EEC-8E11-6D51DC3E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B4F7-9267-4B22-995D-10E7D16C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028A-6D36-48FF-A06E-067E72A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C2C5-12AC-4C70-A514-63D313AA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8065-5C40-45B5-9B13-521B1FDC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381-37F1-4CF0-A303-923B3B2F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7DB-2118-4F99-914C-C97D6AC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6551-6E89-4024-B2B4-98508B5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1790-886A-429C-80B1-7944A0F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9555-9B77-4CD7-B9F3-C44E839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1F94-E408-4B53-B4E4-5D42829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DC6-9906-481E-9B74-806B19A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8375-DA9B-403C-BEED-CDFB7D9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882-B19C-4765-A3AD-AFD376D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7DF9-37D7-4410-84BE-11931FAC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E9E4-5E6D-4641-AD05-7B9B0460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33B9-7F72-47E3-8DEC-07E6AF7B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1860-9BE1-41A1-A5E0-A0D88B19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6BC2-7A5E-4060-BB47-8DE87E8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F57F-8BA6-4B85-8936-39F1D07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0F07-30F4-4FBD-81DC-17FFBC8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55E2-964C-4565-9FF8-819F42D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FA5D-8DDE-436A-8BEE-56559FA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C0A-0895-48FC-91BD-C0BE201E6F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D016-1259-48B6-B2B4-70456F5807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Прямолинейное неравномерное движение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9880" y="472428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cc"/>
                </a:solidFill>
                <a:latin typeface="Fort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cc"/>
                </a:solidFill>
                <a:latin typeface="Forte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orte"/>
              </a:rPr>
              <a:t>Покой нам только сн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orte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</a:rPr>
              <a:t>Александр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1218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состав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 algn="just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Шарик брошен вертикально вверх, как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рик  совершает прямолинейное равномер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Шарик  совершает прямолинейное неравномер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рик  совершает криволинейное 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Шарик  совершает колебательно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111"/>
          <p:cNvPicPr/>
          <p:nvPr/>
        </p:nvPicPr>
        <p:blipFill>
          <a:blip r:embed="rId1"/>
          <a:stretch/>
        </p:blipFill>
        <p:spPr>
          <a:xfrm>
            <a:off x="5715000" y="243828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фотографиях изображены: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течение равнинной реки; спуск парашютиста в безветренную погоду; движение поезда между двумя стациями; эскалатор метрополитена. На какой фотографии показано неравномерное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10800000">
            <a:off x="-720" y="281880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5105520"/>
            <a:ext cx="861084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                   Б.                    В.                  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2028960" cy="1524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981440" cy="15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22100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Футболист пробегает за матч около 20 км. 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   Какова  его  средняя  скорость?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   (матч длится 90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3,7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,7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1,8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Гоночный автомобиль при старте проехал за 0,5ч 60км, в течение гонки за 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1,5ч он проехал 270км, а на финише автомобиль за 1ч проехал 210км. Какова средняя скорость автомоби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3352320"/>
            <a:ext cx="2971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120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50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60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71448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 На рисунке изображен график зависимости пути от времени для некоторого тела. Определите среднюю скорость этого тела на все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2438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3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3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5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"/>
          <p:cNvPicPr/>
          <p:nvPr/>
        </p:nvPicPr>
        <p:blipFill>
          <a:blip r:embed="rId1"/>
          <a:stretch/>
        </p:blipFill>
        <p:spPr>
          <a:xfrm>
            <a:off x="4495680" y="2819520"/>
            <a:ext cx="4038840" cy="32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 На рисунке изображен график зависимости скорости от времени для некоторого тела. Определите среднюю скорость этого тела на все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Б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4,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,4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.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10,8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038480" y="2895480"/>
            <a:ext cx="472464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2514600"/>
          <a:ext cx="6324480" cy="2209680"/>
        </p:xfrm>
        <a:graphic>
          <a:graphicData uri="http://schemas.openxmlformats.org/drawingml/2006/table">
            <a:tbl>
              <a:tblPr/>
              <a:tblGrid>
                <a:gridCol w="1600200"/>
                <a:gridCol w="762120"/>
                <a:gridCol w="761760"/>
                <a:gridCol w="762120"/>
                <a:gridCol w="838080"/>
                <a:gridCol w="838440"/>
                <a:gridCol w="76176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11:3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