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7E8-28DD-403A-8E51-3DD24D63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B62-4710-4BA3-8960-DCC1E259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1C1-F66C-4F55-8D69-576DE977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411-3905-466D-A6D1-0B4B0B9C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17D-E997-4B89-9E01-065A0BC0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B9F-F091-4BBE-B811-594EB90D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C86-46C1-4DC1-8BDE-BAA81F4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EBB-AEEB-40F7-8B8B-F9B645D8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C3D-AE2C-44C6-A972-5FFB29C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EDE-C128-4633-8404-1517C1FD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665-CC2F-4619-BAA0-2D1DD6C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3CE-31A5-466D-B4A1-B311E523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5A2-FAF9-49CE-A7FF-3D53CC2B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289" t="3601" r="0" b="0"/>
          <a:stretch/>
        </p:blipFill>
        <p:spPr>
          <a:xfrm>
            <a:off x="0" y="0"/>
            <a:ext cx="952488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238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гра-презентация по ознакомлению с миром природы «Найди пару одинаковых цветов» для детей дошкольного возраста от 5 -7 лет с З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готовил учитель-дефект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Садыкова Э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МБДОУ №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Г.Орен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ь находить одинаковые картинки цветов, развивать зрительное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: В начале игры в течении нескольких секунд показывается расположение цветов на игровом поле. Затем картинки закрываются и ребенку по памяти нужно правильно открыть все картинки цветов  и назвать название цв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268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914400"/>
            <a:ext cx="708660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914400"/>
            <a:ext cx="23619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1781280" cy="24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3276720"/>
            <a:ext cx="236196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7920" y="3276720"/>
            <a:ext cx="1780920" cy="240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1982880" cy="231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1982880" cy="231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7600" y="3352680"/>
            <a:ext cx="13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095880" y="914400"/>
            <a:ext cx="13860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276720"/>
            <a:ext cx="236196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914400"/>
            <a:ext cx="23619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20:06:33Z</dcterms:created>
  <dc:creator>1</dc:creator>
  <dc:description/>
  <dc:language>en-US</dc:language>
  <cp:lastModifiedBy>1</cp:lastModifiedBy>
  <dcterms:modified xsi:type="dcterms:W3CDTF">2018-04-01T08:25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