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D69-C223-4F1C-AF66-EF74A4E9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E2E-90BC-4A9D-A5FB-9B82B00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D05-F95D-4A4E-B07E-B4C0F5AE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26B-8791-4C0C-AF43-CEE3505C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1BD-970E-4C76-9D0E-3CF9342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8AE-A3C3-4264-86D5-5B82E515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F5D-8BF5-455B-810A-27E49B7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B66-5D96-41A1-BF5D-0294CCA4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9C-98EE-4208-8859-8A1183B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75C-F2DA-4325-8B9E-3D90129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5DF-6300-44EB-BA2C-B0D281F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042-7D47-4345-ADEA-42540CC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4C23-E9A2-4F48-BFDF-9DB2BBBA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289" t="3601" r="0" b="0"/>
          <a:stretch/>
        </p:blipFill>
        <p:spPr>
          <a:xfrm>
            <a:off x="0" y="0"/>
            <a:ext cx="952488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2388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гра-презентация по ознакомлению с миром природы «Найди пару одинаковых цветов» для детей дошкольного возраста от 5 -7 лет с З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готовил учитель-дефект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Садыкова Э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МБДОУ №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Г.Орен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ь находить одинаковые картинки цветов, развивать зрительно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: В начале игры в течении нескольких секунд показывается расположение цветов на игровом поле. Затем картинки закрываются и ребенку по памяти нужно правильно открыть все картинки цветов  и назвать название цв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914400"/>
            <a:ext cx="708660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1781280" cy="24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3276720"/>
            <a:ext cx="1780920" cy="240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1982880" cy="231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1982880" cy="231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3352680"/>
            <a:ext cx="13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095880" y="914400"/>
            <a:ext cx="13860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20:06:33Z</dcterms:created>
  <dc:creator>1</dc:creator>
  <dc:description/>
  <dc:language>en-US</dc:language>
  <cp:lastModifiedBy>1</cp:lastModifiedBy>
  <dcterms:modified xsi:type="dcterms:W3CDTF">2018-04-01T08:25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