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2CE-A429-410A-8E0F-57C8FF30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067-5665-433B-8800-ADEC203D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35B-D56D-4D64-A497-5ADBAAD4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28D-5EE0-486F-ACCB-2C0FCA35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3C26-24F2-45AA-83BE-8971C096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4BD7-37EB-4246-80A4-C1FA9F15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54D2-FC7E-4F25-8E29-4FD7BDE5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D8F4-8F7F-47E3-900E-A99B767B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BB60-962B-4C11-9B66-43411DFA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BA04-1B38-441B-AAA7-422674BC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DAD6-4ABE-41E0-959F-849118FC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FE9-FADD-423A-BF77-F8D9B1E6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C4F1-396E-4D28-B2B4-1E9ED13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CFEF-62E2-49D8-9382-DF2BF71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D717-2823-440F-B62F-97AE6B2F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C9FB-E45E-43A9-BAD8-F7720839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127D-9B3E-4DB1-B8C1-84B7DAE4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E4D5-A152-45FD-9619-4D4A3FDC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D380-4B1C-4ED1-AB61-46F897C6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EBF0-8B35-47B2-9667-3F4134C8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D99D-60D1-4576-A6C2-5C489D44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4BF0-DC4B-4208-802E-849F1855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F19-F17D-4378-B89A-32E7E5B2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E676-CD52-4375-839A-3B2E1EBA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2089-F6D2-4BA8-ACA9-EBE50871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6E59-336F-4C08-9905-894A938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AA12-10FA-4038-AB56-F64C129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6003-C613-42CE-A5CA-73E8F678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7A15-5526-4357-AB46-A829C4FA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0A76-3AFD-41DB-B4EF-7FDFE2C8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5275-F851-4E01-98F6-BD29C158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A6947-9040-430E-823C-81872F3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D756-2F2E-4C6B-B14A-2CF7AD8F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152-A34E-4175-AEC9-921497F1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8F347-E4CD-4A02-81BD-581ED24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EAD0-AA56-4758-A31A-7E4946C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3534-1768-4E03-8134-95CD2841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CDF1-B99D-4230-B79C-68C48AF6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6E70-5393-48FA-AEB6-879111EB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D33E-9922-4450-8AFC-A76617A9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D50C9-9AA6-49FC-A97F-4D2FB534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7FC5-7A23-4642-9D68-FC72A8E9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BB1A3-40B1-4340-B396-83C06DF0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666A-A9A3-4974-AF46-C9F045B3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A9C-08EE-4E5C-B308-30C0C376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CC7AF-1FC6-4524-89A8-CFC87276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0880-0A1A-4FC4-99EB-692CA4A2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8049-899A-4D37-B1B2-4677BDFB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5B12D-5255-4662-9A2B-D25A668E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EF41-CEBA-4468-A494-A892A209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877AE-4A58-48EF-92B7-39297A5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F89C9-2524-4CE0-8B0C-2558B943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66AA9-21F6-4E4B-B7C0-EB15D12D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94A3A-7365-427B-A806-2F23E39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D78B5-CAE5-4C24-8724-58EEB951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F95-A9BF-4EE0-BE37-BB0F1FA4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4034-1E7C-4248-B880-3BC00817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A03-0630-425C-A913-4A2E0FAC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492-7C07-408E-9202-40721AF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CED-7A0E-4105-A7CF-CED6A59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BFA4-CC26-4A76-B8C8-DBFECA6C4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73D2-E1E6-411F-BF0F-42276559C7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1EAF-5FDF-49E4-9432-A888BB4BA3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0D3C-67B5-4FBE-A175-79823E621B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52F3-747B-4050-AD46-71F021D1E5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87640" y="691920"/>
            <a:ext cx="590544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Диофант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и его труды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 подробностях жизни Диофанта Александрийского практически ничего не известно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468360" y="260280"/>
          <a:ext cx="28083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28083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84987E-006 L -0.30695 -0.32523 E">
                                      <p:cBhvr>
                                        <p:cTn id="13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ая проблематика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Арифметики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это нахождение положительных рациональных решений неопределенных уравнений. Рациональные числа трактуются Диофантом так же, как и натуральные, что не типично для античных матема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начала Диофант исследует системы уравнений второго порядка от двух неизвестных. Он указывает метод нахождения других решений, если одно уже известно. Затем аналогичные методы он применяет к уравнениям высших степе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0" y="5089680"/>
            <a:ext cx="789120" cy="176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2"/>
          <a:stretch/>
        </p:blipFill>
        <p:spPr>
          <a:xfrm>
            <a:off x="7740720" y="5445000"/>
            <a:ext cx="9716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веке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Арифметика»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была переведена на арабский язык, после чего математики стран ислама (Абу Камил и другие) продолжили некоторые исследования Диофанта. В Европе интерес к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Арифметике»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возрос после того, как Рафаэль Бомбелли обнаружил это сочинение в Ватиканской библиотеке и опубликовал 143 задачи из его в своей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Алгебре»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(1572 года). В 1621 году появился классический, подробно прокомментированный латинский перевод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Арифметики»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, выполненный Баше де Мезириаком. Методы Диофанта оказали огромное влияние на Франсуа Виета и Пьера Ферма, впрочем, в Новое время неопределенные уравнения обычно решаются в целых числах, а не в рациональных, как это делал Диоф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вестны и другие сочинения Диофанта. Трактат «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 многоугольных числах»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охранился не полностью. В сохранившейся части методами геометрической алгебры выводится ряд вспомогательных тео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 сочинений Диофант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«Об измерении поверхностей»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«Об умножении»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акже сохранились лишь отры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нига Диофант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«Поризмы»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известна только по нескольким теоремам, используемым в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Арифме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07200" cy="19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dobe Garamond Pro Bold"/>
              </a:rPr>
              <a:t>В Палатинской антологии содержится эпиграмма–задача, из которой можно сделать вывод, что Диофант прожил 84 год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Здесь погребен Диофант, и камень могильны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При счете расскажет нам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Сколь долог был его век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Велением бога он мальчиком был шестую часть своей жизн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В двенадцатой части затем прошла его светлая юность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Седьмую часть жизни прибавим – перед нами очаг Гимене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Пять лет протекли; и прислал Гименей ему сын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Но горе ребенку! Едва половину он прожи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Тех лет, что отец, как скончался несчастны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Четыре года страдал Диофант от утраты такой тяжело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И умер, прожив для науки. Скажи мне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Скольких лет достигнув, смерть воспринял Диофант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1692720" y="-171360"/>
            <a:ext cx="10836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иофантовы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Диофантовыми уравнениями называют алгебраические уравнения или системы алгебраических уравнений с целыми коэффициентами , для которых надо найти целые или рациональные решения. При этом число неизвестных в уравнениях должно быть не менее двух (если не ограничиваться только целыми числами). Диофантовы уравнения имеют, как правило, много решений , поэтому их называют неопределенными уравнениями.  Это ,например,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3х+5у=7 ;       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+у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z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;     3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³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+4у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³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= 5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z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К диофантовым уравнениям приводят задачи, по смыслу которых неизвестные значения величин могут быть только целыми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7499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Задача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летке сидят кролики и фазаны, всего у них 18 ног. Узнать, сколько в клетке тех и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Реш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ся уравнение с двумя неизвестными переменными, в котором х – число кроликов. у – число фаза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4х + 2у = 1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2х + у = 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зим у через х: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у = 9 – 2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 воспользуемся методом переб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4360" y="4365720"/>
          <a:ext cx="4181400" cy="792000"/>
        </p:xfrm>
        <a:graphic>
          <a:graphicData uri="http://schemas.openxmlformats.org/drawingml/2006/table">
            <a:tbl>
              <a:tblPr/>
              <a:tblGrid>
                <a:gridCol w="836640"/>
                <a:gridCol w="836280"/>
                <a:gridCol w="835200"/>
                <a:gridCol w="836640"/>
                <a:gridCol w="83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59"/>
          <p:cNvSpPr/>
          <p:nvPr/>
        </p:nvSpPr>
        <p:spPr>
          <a:xfrm flipV="1" rot="10800000">
            <a:off x="826560" y="5408280"/>
            <a:ext cx="57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задача имеет четыре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; 7), (2; 5), (3; 3), (4;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12360" y="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539640" y="620640"/>
            <a:ext cx="8064720" cy="1191240"/>
          </a:xfrm>
          <a:prstGeom prst="rect">
            <a:avLst/>
          </a:prstGeom>
          <a:solidFill>
            <a:srgbClr val="bbe0e3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анные привезли в дар шаху 300 драгоценных камней: в маленьких шкатулках по 15 штук в каждой и в больших – по 40 штук. Сколько было тех и других шкатулок, если известно, что маленьких было меньше, чем больши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0" y="19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00"/>
                </a:solidFill>
                <a:uFillTx/>
                <a:latin typeface="Tahom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403280" y="2060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означим за Х количество маленьких шкатулок, а з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количество больших. Причем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&lt; 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71640" y="2781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Получаем диофантово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1042920" y="3357720"/>
                <a:ext cx="1656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8"/>
              <p:cNvSpPr txBox="1"/>
              <p:nvPr/>
            </p:nvSpPr>
            <p:spPr>
              <a:xfrm>
                <a:off x="1116000" y="3973680"/>
                <a:ext cx="12952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Text Box 9"/>
          <p:cNvSpPr/>
          <p:nvPr/>
        </p:nvSpPr>
        <p:spPr>
          <a:xfrm>
            <a:off x="905040" y="364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кращаем на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90000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ыразим переменную х через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1"/>
              <p:cNvSpPr txBox="1"/>
              <p:nvPr/>
            </p:nvSpPr>
            <p:spPr>
              <a:xfrm>
                <a:off x="971640" y="4653000"/>
                <a:ext cx="1220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2"/>
              <p:cNvSpPr txBox="1"/>
              <p:nvPr/>
            </p:nvSpPr>
            <p:spPr>
              <a:xfrm>
                <a:off x="971640" y="5237280"/>
                <a:ext cx="1700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3"/>
              <p:cNvSpPr txBox="1"/>
              <p:nvPr/>
            </p:nvSpPr>
            <p:spPr>
              <a:xfrm>
                <a:off x="971640" y="5813280"/>
                <a:ext cx="17208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900000" y="1197000"/>
                <a:ext cx="935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900000" y="2349360"/>
                <a:ext cx="7905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900000" y="3068640"/>
                <a:ext cx="1100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900000" y="3716280"/>
                <a:ext cx="979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6"/>
              <p:cNvSpPr txBox="1"/>
              <p:nvPr/>
            </p:nvSpPr>
            <p:spPr>
              <a:xfrm>
                <a:off x="971640" y="4941720"/>
                <a:ext cx="7016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4716360" y="1052640"/>
                <a:ext cx="1260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8"/>
              <p:cNvSpPr txBox="1"/>
              <p:nvPr/>
            </p:nvSpPr>
            <p:spPr>
              <a:xfrm>
                <a:off x="4716360" y="1700280"/>
                <a:ext cx="1100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9"/>
              <p:cNvSpPr txBox="1"/>
              <p:nvPr/>
            </p:nvSpPr>
            <p:spPr>
              <a:xfrm>
                <a:off x="4716360" y="2133720"/>
                <a:ext cx="7207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4716360" y="2781360"/>
                <a:ext cx="1808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1"/>
              <p:cNvSpPr txBox="1"/>
              <p:nvPr/>
            </p:nvSpPr>
            <p:spPr>
              <a:xfrm>
                <a:off x="4716360" y="3645000"/>
                <a:ext cx="24591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u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4716360" y="4365720"/>
                <a:ext cx="17859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3"/>
              <p:cNvSpPr txBox="1"/>
              <p:nvPr/>
            </p:nvSpPr>
            <p:spPr>
              <a:xfrm>
                <a:off x="4788000" y="5300640"/>
                <a:ext cx="1730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4"/>
              <p:cNvSpPr txBox="1"/>
              <p:nvPr/>
            </p:nvSpPr>
            <p:spPr>
              <a:xfrm>
                <a:off x="4788000" y="5950080"/>
                <a:ext cx="12430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Text Box 15"/>
          <p:cNvSpPr/>
          <p:nvPr/>
        </p:nvSpPr>
        <p:spPr>
          <a:xfrm>
            <a:off x="250920" y="189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Чтобы значение дроби было целым числом , надо, чтобы 2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было кратно 3, т.е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79280" y="1628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ыразим переменную у и выделим целую ча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250920" y="44370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требуем, чтобы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z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было кратно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0" y="5589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«Спуск» окончен. Дробей больш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4643280" y="333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еперь Выразим переменные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через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1"/>
          <p:cNvSpPr/>
          <p:nvPr/>
        </p:nvSpPr>
        <p:spPr>
          <a:xfrm>
            <a:off x="4643280" y="263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179280" y="2565360"/>
            <a:ext cx="3478320" cy="1513080"/>
            <a:chOff x="179280" y="2565360"/>
            <a:chExt cx="3478320" cy="1513080"/>
          </a:xfrm>
        </p:grpSpPr>
        <p:sp>
          <p:nvSpPr>
            <p:cNvPr id="403" name="Rectangle 3"/>
            <p:cNvSpPr/>
            <p:nvPr/>
          </p:nvSpPr>
          <p:spPr>
            <a:xfrm>
              <a:off x="179280" y="3286080"/>
              <a:ext cx="1944720" cy="14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"/>
            <p:cNvSpPr/>
            <p:nvPr/>
          </p:nvSpPr>
          <p:spPr>
            <a:xfrm>
              <a:off x="3348000" y="320688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985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6"/>
            <p:cNvSpPr/>
            <p:nvPr/>
          </p:nvSpPr>
          <p:spPr>
            <a:xfrm>
              <a:off x="183528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"/>
            <p:cNvSpPr/>
            <p:nvPr/>
          </p:nvSpPr>
          <p:spPr>
            <a:xfrm>
              <a:off x="971640" y="3141720"/>
              <a:ext cx="237636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8"/>
            <p:cNvSpPr/>
            <p:nvPr/>
          </p:nvSpPr>
          <p:spPr>
            <a:xfrm>
              <a:off x="179280" y="3286080"/>
              <a:ext cx="33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2101680" y="3241800"/>
              <a:ext cx="71640" cy="7128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971640" y="3246480"/>
              <a:ext cx="71280" cy="7164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1"/>
            <p:cNvSpPr/>
            <p:nvPr/>
          </p:nvSpPr>
          <p:spPr>
            <a:xfrm>
              <a:off x="1015920" y="2565360"/>
              <a:ext cx="0" cy="1513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2"/>
            <p:cNvSpPr/>
            <p:nvPr/>
          </p:nvSpPr>
          <p:spPr>
            <a:xfrm>
              <a:off x="2151000" y="2565360"/>
              <a:ext cx="0" cy="1513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3"/>
          <p:cNvGrpSpPr/>
          <p:nvPr/>
        </p:nvGrpSpPr>
        <p:grpSpPr>
          <a:xfrm>
            <a:off x="5356080" y="260280"/>
            <a:ext cx="2220840" cy="791640"/>
            <a:chOff x="5356080" y="260280"/>
            <a:chExt cx="2220840" cy="791640"/>
          </a:xfrm>
        </p:grpSpPr>
        <mc:AlternateContent>
          <mc:Choice xmlns:a14="http://schemas.microsoft.com/office/drawing/2010/main" Requires="a14">
            <p:sp>
              <p:nvSpPr>
                <p:cNvPr id="414" name="Object 14"/>
                <p:cNvSpPr txBox="1"/>
                <p:nvPr/>
              </p:nvSpPr>
              <p:spPr>
                <a:xfrm>
                  <a:off x="5356080" y="260280"/>
                  <a:ext cx="222084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Object 15"/>
                <p:cNvSpPr txBox="1"/>
                <p:nvPr/>
              </p:nvSpPr>
              <p:spPr>
                <a:xfrm>
                  <a:off x="5542200" y="713160"/>
                  <a:ext cx="962280" cy="33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6" name="Object 16"/>
              <p:cNvSpPr txBox="1"/>
              <p:nvPr/>
            </p:nvSpPr>
            <p:spPr>
              <a:xfrm>
                <a:off x="179280" y="1341360"/>
                <a:ext cx="3338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u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17" name="Group 17"/>
          <p:cNvGrpSpPr/>
          <p:nvPr/>
        </p:nvGrpSpPr>
        <p:grpSpPr>
          <a:xfrm>
            <a:off x="515880" y="5157720"/>
            <a:ext cx="2427120" cy="792000"/>
            <a:chOff x="515880" y="5157720"/>
            <a:chExt cx="2427120" cy="792000"/>
          </a:xfrm>
        </p:grpSpPr>
        <mc:AlternateContent>
          <mc:Choice xmlns:a14="http://schemas.microsoft.com/office/drawing/2010/main" Requires="a14">
            <p:sp>
              <p:nvSpPr>
                <p:cNvPr id="418" name="Object 18"/>
                <p:cNvSpPr txBox="1"/>
                <p:nvPr/>
              </p:nvSpPr>
              <p:spPr>
                <a:xfrm>
                  <a:off x="515880" y="5157720"/>
                  <a:ext cx="2427120" cy="33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⋅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19"/>
                <p:cNvSpPr txBox="1"/>
                <p:nvPr/>
              </p:nvSpPr>
              <p:spPr>
                <a:xfrm>
                  <a:off x="738720" y="5611320"/>
                  <a:ext cx="105696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0" name="Text Box 20"/>
          <p:cNvSpPr/>
          <p:nvPr/>
        </p:nvSpPr>
        <p:spPr>
          <a:xfrm>
            <a:off x="0" y="404640"/>
            <a:ext cx="52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ставим и решим систему неравенст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1"/>
          <p:cNvSpPr/>
          <p:nvPr/>
        </p:nvSpPr>
        <p:spPr>
          <a:xfrm>
            <a:off x="179280" y="4292640"/>
            <a:ext cx="49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ыпишем целые решения: 1;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еперь найдем значения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=1;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2"/>
          <p:cNvSpPr/>
          <p:nvPr/>
        </p:nvSpPr>
        <p:spPr>
          <a:xfrm>
            <a:off x="5148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3"/>
          <p:cNvSpPr/>
          <p:nvPr/>
        </p:nvSpPr>
        <p:spPr>
          <a:xfrm>
            <a:off x="179280" y="60786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Не подходит, т.к.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x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должен быть меньше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4"/>
          <p:cNvSpPr/>
          <p:nvPr/>
        </p:nvSpPr>
        <p:spPr>
          <a:xfrm>
            <a:off x="5292720" y="2349360"/>
            <a:ext cx="385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4 маленькие шкатул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 больших шкату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иофант представляет одну из наиболее трудных загадок в истории науки. Нам не известно ни время, когда он жил, ни предшественники, которые работали бы в той же области. Труды  его подобны сверкающему огню среди непроницаемой тьм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95280" y="3459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395280" y="565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395280" y="7840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"/>
              <p:cNvSpPr txBox="1"/>
              <p:nvPr/>
            </p:nvSpPr>
            <p:spPr>
              <a:xfrm>
                <a:off x="324000" y="1916280"/>
                <a:ext cx="34621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Двухрублевые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6"/>
              <p:cNvSpPr txBox="1"/>
              <p:nvPr/>
            </p:nvSpPr>
            <p:spPr>
              <a:xfrm>
                <a:off x="324000" y="2924280"/>
                <a:ext cx="147312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7"/>
              <p:cNvSpPr txBox="1"/>
              <p:nvPr/>
            </p:nvSpPr>
            <p:spPr>
              <a:xfrm>
                <a:off x="395280" y="3429000"/>
                <a:ext cx="1407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8"/>
              <p:cNvSpPr txBox="1"/>
              <p:nvPr/>
            </p:nvSpPr>
            <p:spPr>
              <a:xfrm>
                <a:off x="395280" y="4221000"/>
                <a:ext cx="21718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395280" y="4869000"/>
                <a:ext cx="2568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395280" y="5589720"/>
                <a:ext cx="12142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1"/>
              <p:cNvSpPr txBox="1"/>
              <p:nvPr/>
            </p:nvSpPr>
            <p:spPr>
              <a:xfrm>
                <a:off x="395280" y="5877000"/>
                <a:ext cx="3313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2"/>
              <p:cNvSpPr txBox="1"/>
              <p:nvPr/>
            </p:nvSpPr>
            <p:spPr>
              <a:xfrm>
                <a:off x="5003640" y="333360"/>
                <a:ext cx="2211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3"/>
              <p:cNvSpPr txBox="1"/>
              <p:nvPr/>
            </p:nvSpPr>
            <p:spPr>
              <a:xfrm>
                <a:off x="5003640" y="1125360"/>
                <a:ext cx="13129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4"/>
              <p:cNvSpPr txBox="1"/>
              <p:nvPr/>
            </p:nvSpPr>
            <p:spPr>
              <a:xfrm>
                <a:off x="5003640" y="1628640"/>
                <a:ext cx="1417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5003640" y="1550880"/>
                <a:ext cx="190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6"/>
              <p:cNvSpPr txBox="1"/>
              <p:nvPr/>
            </p:nvSpPr>
            <p:spPr>
              <a:xfrm>
                <a:off x="5003640" y="1770120"/>
                <a:ext cx="1908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7"/>
              <p:cNvSpPr txBox="1"/>
              <p:nvPr/>
            </p:nvSpPr>
            <p:spPr>
              <a:xfrm>
                <a:off x="5003640" y="2565360"/>
                <a:ext cx="14018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8"/>
              <p:cNvSpPr txBox="1"/>
              <p:nvPr/>
            </p:nvSpPr>
            <p:spPr>
              <a:xfrm>
                <a:off x="5003640" y="3500280"/>
                <a:ext cx="10033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r>
                              <m:t xml:space="preserve">5,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2" name="Group 19"/>
          <p:cNvGrpSpPr/>
          <p:nvPr/>
        </p:nvGrpSpPr>
        <p:grpSpPr>
          <a:xfrm>
            <a:off x="5292720" y="4437000"/>
            <a:ext cx="1784520" cy="884160"/>
            <a:chOff x="5292720" y="4437000"/>
            <a:chExt cx="1784520" cy="884160"/>
          </a:xfrm>
        </p:grpSpPr>
        <p:sp>
          <p:nvSpPr>
            <p:cNvPr id="443" name="Text Box 20"/>
            <p:cNvSpPr/>
            <p:nvPr/>
          </p:nvSpPr>
          <p:spPr>
            <a:xfrm>
              <a:off x="6810840" y="4766400"/>
              <a:ext cx="2664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>
              <a:off x="5292720" y="4617720"/>
              <a:ext cx="1066320" cy="210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"/>
            <p:cNvSpPr/>
            <p:nvPr/>
          </p:nvSpPr>
          <p:spPr>
            <a:xfrm>
              <a:off x="5825880" y="4808880"/>
              <a:ext cx="1066320" cy="210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>
              <a:off x="5292720" y="4808880"/>
              <a:ext cx="16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4"/>
            <p:cNvSpPr/>
            <p:nvPr/>
          </p:nvSpPr>
          <p:spPr>
            <a:xfrm>
              <a:off x="5825880" y="4543200"/>
              <a:ext cx="0" cy="57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5"/>
            <p:cNvSpPr/>
            <p:nvPr/>
          </p:nvSpPr>
          <p:spPr>
            <a:xfrm>
              <a:off x="6359040" y="4553640"/>
              <a:ext cx="0" cy="57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26"/>
            <p:cNvSpPr/>
            <p:nvPr/>
          </p:nvSpPr>
          <p:spPr>
            <a:xfrm>
              <a:off x="5803560" y="4776840"/>
              <a:ext cx="500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7"/>
            <p:cNvSpPr/>
            <p:nvPr/>
          </p:nvSpPr>
          <p:spPr>
            <a:xfrm>
              <a:off x="6336720" y="4776840"/>
              <a:ext cx="500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8"/>
            <p:cNvSpPr/>
            <p:nvPr/>
          </p:nvSpPr>
          <p:spPr>
            <a:xfrm>
              <a:off x="5381280" y="4734360"/>
              <a:ext cx="4514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9"/>
            <p:cNvSpPr/>
            <p:nvPr/>
          </p:nvSpPr>
          <p:spPr>
            <a:xfrm>
              <a:off x="6299640" y="4437000"/>
              <a:ext cx="4514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30"/>
          <p:cNvSpPr/>
          <p:nvPr/>
        </p:nvSpPr>
        <p:spPr>
          <a:xfrm>
            <a:off x="316800" y="187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Задача №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1"/>
          <p:cNvSpPr/>
          <p:nvPr/>
        </p:nvSpPr>
        <p:spPr>
          <a:xfrm>
            <a:off x="0" y="59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2"/>
          <p:cNvSpPr/>
          <p:nvPr/>
        </p:nvSpPr>
        <p:spPr>
          <a:xfrm>
            <a:off x="5508720" y="5662080"/>
            <a:ext cx="252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1, 2, 3, 4,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Ответ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5 спосо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3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4"/>
          <p:cNvSpPr/>
          <p:nvPr/>
        </p:nvSpPr>
        <p:spPr>
          <a:xfrm>
            <a:off x="181080" y="653760"/>
            <a:ext cx="4103640" cy="11912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ли двухрублевыми и пятирублевыми монетами набрать сумму в 51 рубль? Если можно, то сколько существует способ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395280" y="3459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395280" y="565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395280" y="7840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5"/>
              <p:cNvSpPr txBox="1"/>
              <p:nvPr/>
            </p:nvSpPr>
            <p:spPr>
              <a:xfrm>
                <a:off x="5003640" y="1550880"/>
                <a:ext cx="190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6"/>
              <p:cNvSpPr txBox="1"/>
              <p:nvPr/>
            </p:nvSpPr>
            <p:spPr>
              <a:xfrm>
                <a:off x="5003640" y="1770120"/>
                <a:ext cx="1908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3" name="Rectangle 7"/>
          <p:cNvSpPr/>
          <p:nvPr/>
        </p:nvSpPr>
        <p:spPr>
          <a:xfrm>
            <a:off x="316800" y="187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Задача №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181080" y="653760"/>
            <a:ext cx="4103640" cy="11912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жно ли разложить две сотни яиц в коробки по 10 и 12 штук? Если можно, то найдите все спосо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900000" y="2349360"/>
                <a:ext cx="21132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к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ш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ш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1"/>
              <p:cNvSpPr txBox="1"/>
              <p:nvPr/>
            </p:nvSpPr>
            <p:spPr>
              <a:xfrm>
                <a:off x="900000" y="3429000"/>
                <a:ext cx="14353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2"/>
              <p:cNvSpPr txBox="1"/>
              <p:nvPr/>
            </p:nvSpPr>
            <p:spPr>
              <a:xfrm>
                <a:off x="900000" y="3933720"/>
                <a:ext cx="12319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3"/>
              <p:cNvSpPr txBox="1"/>
              <p:nvPr/>
            </p:nvSpPr>
            <p:spPr>
              <a:xfrm>
                <a:off x="900000" y="4437000"/>
                <a:ext cx="1179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4"/>
              <p:cNvSpPr txBox="1"/>
              <p:nvPr/>
            </p:nvSpPr>
            <p:spPr>
              <a:xfrm>
                <a:off x="900000" y="5084640"/>
                <a:ext cx="14716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5"/>
              <p:cNvSpPr txBox="1"/>
              <p:nvPr/>
            </p:nvSpPr>
            <p:spPr>
              <a:xfrm>
                <a:off x="900000" y="5661000"/>
                <a:ext cx="1282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16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0" y="34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18"/>
              <p:cNvSpPr txBox="1"/>
              <p:nvPr/>
            </p:nvSpPr>
            <p:spPr>
              <a:xfrm>
                <a:off x="900000" y="6308640"/>
                <a:ext cx="649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19"/>
              <p:cNvSpPr txBox="1"/>
              <p:nvPr/>
            </p:nvSpPr>
            <p:spPr>
              <a:xfrm>
                <a:off x="4572000" y="476280"/>
                <a:ext cx="13082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0"/>
              <p:cNvSpPr txBox="1"/>
              <p:nvPr/>
            </p:nvSpPr>
            <p:spPr>
              <a:xfrm>
                <a:off x="4643280" y="1197000"/>
                <a:ext cx="1028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1"/>
              <p:cNvSpPr txBox="1"/>
              <p:nvPr/>
            </p:nvSpPr>
            <p:spPr>
              <a:xfrm>
                <a:off x="4643280" y="1844640"/>
                <a:ext cx="1130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2"/>
              <p:cNvSpPr txBox="1"/>
              <p:nvPr/>
            </p:nvSpPr>
            <p:spPr>
              <a:xfrm>
                <a:off x="4716360" y="2708280"/>
                <a:ext cx="1117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3"/>
              <p:cNvSpPr txBox="1"/>
              <p:nvPr/>
            </p:nvSpPr>
            <p:spPr>
              <a:xfrm>
                <a:off x="4716360" y="3645000"/>
                <a:ext cx="800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r>
                              <m:t xml:space="preserve">3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0" name="Rectangle 24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5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6"/>
          <p:cNvSpPr/>
          <p:nvPr/>
        </p:nvSpPr>
        <p:spPr>
          <a:xfrm>
            <a:off x="0" y="34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27"/>
          <p:cNvGrpSpPr/>
          <p:nvPr/>
        </p:nvGrpSpPr>
        <p:grpSpPr>
          <a:xfrm>
            <a:off x="4932360" y="4724280"/>
            <a:ext cx="1758960" cy="761760"/>
            <a:chOff x="4932360" y="4724280"/>
            <a:chExt cx="1758960" cy="761760"/>
          </a:xfrm>
        </p:grpSpPr>
        <p:sp>
          <p:nvSpPr>
            <p:cNvPr id="484" name="Rectangle 28"/>
            <p:cNvSpPr/>
            <p:nvPr/>
          </p:nvSpPr>
          <p:spPr>
            <a:xfrm>
              <a:off x="4932360" y="5057280"/>
              <a:ext cx="1105920" cy="134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9"/>
            <p:cNvSpPr/>
            <p:nvPr/>
          </p:nvSpPr>
          <p:spPr>
            <a:xfrm>
              <a:off x="5485320" y="5179320"/>
              <a:ext cx="1105920" cy="13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0"/>
            <p:cNvSpPr/>
            <p:nvPr/>
          </p:nvSpPr>
          <p:spPr>
            <a:xfrm>
              <a:off x="4932360" y="5179320"/>
              <a:ext cx="175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31"/>
            <p:cNvSpPr/>
            <p:nvPr/>
          </p:nvSpPr>
          <p:spPr>
            <a:xfrm>
              <a:off x="5485320" y="50094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2"/>
            <p:cNvSpPr/>
            <p:nvPr/>
          </p:nvSpPr>
          <p:spPr>
            <a:xfrm>
              <a:off x="6038280" y="50162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3"/>
            <p:cNvSpPr/>
            <p:nvPr/>
          </p:nvSpPr>
          <p:spPr>
            <a:xfrm>
              <a:off x="5462280" y="515880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34"/>
            <p:cNvSpPr/>
            <p:nvPr/>
          </p:nvSpPr>
          <p:spPr>
            <a:xfrm>
              <a:off x="6015240" y="515880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35"/>
            <p:cNvSpPr/>
            <p:nvPr/>
          </p:nvSpPr>
          <p:spPr>
            <a:xfrm>
              <a:off x="5024160" y="5131800"/>
              <a:ext cx="4683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6"/>
            <p:cNvSpPr/>
            <p:nvPr/>
          </p:nvSpPr>
          <p:spPr>
            <a:xfrm>
              <a:off x="5977080" y="4724280"/>
              <a:ext cx="46836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5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37"/>
          <p:cNvSpPr/>
          <p:nvPr/>
        </p:nvSpPr>
        <p:spPr>
          <a:xfrm>
            <a:off x="6372360" y="5084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8"/>
          <p:cNvSpPr/>
          <p:nvPr/>
        </p:nvSpPr>
        <p:spPr>
          <a:xfrm>
            <a:off x="4514040" y="5456520"/>
            <a:ext cx="233388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Tahoma"/>
              </a:rPr>
              <a:t>Ответ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14,  у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8,  у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2,  у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395280" y="3459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95280" y="565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4"/>
              <p:cNvSpPr txBox="1"/>
              <p:nvPr/>
            </p:nvSpPr>
            <p:spPr>
              <a:xfrm>
                <a:off x="395280" y="7840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5"/>
              <p:cNvSpPr txBox="1"/>
              <p:nvPr/>
            </p:nvSpPr>
            <p:spPr>
              <a:xfrm>
                <a:off x="5003640" y="1550880"/>
                <a:ext cx="190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6"/>
              <p:cNvSpPr txBox="1"/>
              <p:nvPr/>
            </p:nvSpPr>
            <p:spPr>
              <a:xfrm>
                <a:off x="5003640" y="1770120"/>
                <a:ext cx="1908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0" name="Rectangle 7"/>
          <p:cNvSpPr/>
          <p:nvPr/>
        </p:nvSpPr>
        <p:spPr>
          <a:xfrm>
            <a:off x="316800" y="187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Задача №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0" y="59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4427640" y="1844640"/>
            <a:ext cx="0" cy="501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179280" y="701280"/>
            <a:ext cx="4103640" cy="9169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 осьминога 8 ног, а у морской звезды 5. Сколько в аквариуме тех и других, если всего у них 39 но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11"/>
              <p:cNvSpPr txBox="1"/>
              <p:nvPr/>
            </p:nvSpPr>
            <p:spPr>
              <a:xfrm>
                <a:off x="4525920" y="784080"/>
                <a:ext cx="4411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ьминог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ног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ног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у</m:t>
                        </m:r>
                      </m:e>
                    </m:eqArr>
                    <m:r>
                      <m:t xml:space="preserve">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дна</m:t>
                    </m:r>
                    <m:r>
                      <m:rPr>
                        <m:lit/>
                        <m:nor/>
                      </m:rPr>
                      <m:t xml:space="preserve">ног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12"/>
              <p:cNvSpPr txBox="1"/>
              <p:nvPr/>
            </p:nvSpPr>
            <p:spPr>
              <a:xfrm>
                <a:off x="826920" y="1930320"/>
                <a:ext cx="1500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13"/>
              <p:cNvSpPr txBox="1"/>
              <p:nvPr/>
            </p:nvSpPr>
            <p:spPr>
              <a:xfrm>
                <a:off x="179280" y="2421000"/>
                <a:ext cx="1438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14"/>
              <p:cNvSpPr txBox="1"/>
              <p:nvPr/>
            </p:nvSpPr>
            <p:spPr>
              <a:xfrm>
                <a:off x="1692360" y="2421000"/>
                <a:ext cx="22651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15"/>
              <p:cNvSpPr txBox="1"/>
              <p:nvPr/>
            </p:nvSpPr>
            <p:spPr>
              <a:xfrm>
                <a:off x="900000" y="3284640"/>
                <a:ext cx="2165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16"/>
              <p:cNvSpPr txBox="1"/>
              <p:nvPr/>
            </p:nvSpPr>
            <p:spPr>
              <a:xfrm>
                <a:off x="900000" y="4005360"/>
                <a:ext cx="131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17"/>
              <p:cNvSpPr txBox="1"/>
              <p:nvPr/>
            </p:nvSpPr>
            <p:spPr>
              <a:xfrm>
                <a:off x="179280" y="4581360"/>
                <a:ext cx="12574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18"/>
              <p:cNvSpPr txBox="1"/>
              <p:nvPr/>
            </p:nvSpPr>
            <p:spPr>
              <a:xfrm>
                <a:off x="1763640" y="4581360"/>
                <a:ext cx="2000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2" name="Rectangle 19"/>
          <p:cNvSpPr/>
          <p:nvPr/>
        </p:nvSpPr>
        <p:spPr>
          <a:xfrm>
            <a:off x="0" y="87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22"/>
              <p:cNvSpPr txBox="1"/>
              <p:nvPr/>
            </p:nvSpPr>
            <p:spPr>
              <a:xfrm>
                <a:off x="6084720" y="6576840"/>
                <a:ext cx="576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23"/>
              <p:cNvSpPr txBox="1"/>
              <p:nvPr/>
            </p:nvSpPr>
            <p:spPr>
              <a:xfrm>
                <a:off x="6804000" y="6512040"/>
                <a:ext cx="708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Rectangle 24"/>
          <p:cNvSpPr/>
          <p:nvPr/>
        </p:nvSpPr>
        <p:spPr>
          <a:xfrm>
            <a:off x="0" y="3127320"/>
            <a:ext cx="97092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0" y="39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6948360" y="5949360"/>
            <a:ext cx="6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7655040" y="658260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3;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8"/>
              <p:cNvSpPr txBox="1"/>
              <p:nvPr/>
            </p:nvSpPr>
            <p:spPr>
              <a:xfrm>
                <a:off x="250920" y="5373720"/>
                <a:ext cx="1960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9"/>
              <p:cNvSpPr txBox="1"/>
              <p:nvPr/>
            </p:nvSpPr>
            <p:spPr>
              <a:xfrm>
                <a:off x="250920" y="5877000"/>
                <a:ext cx="1236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0"/>
              <p:cNvSpPr txBox="1"/>
              <p:nvPr/>
            </p:nvSpPr>
            <p:spPr>
              <a:xfrm>
                <a:off x="4716360" y="1989000"/>
                <a:ext cx="35546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1"/>
              <p:cNvSpPr txBox="1"/>
              <p:nvPr/>
            </p:nvSpPr>
            <p:spPr>
              <a:xfrm>
                <a:off x="4788000" y="2781360"/>
                <a:ext cx="3157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2"/>
              <p:cNvSpPr txBox="1"/>
              <p:nvPr/>
            </p:nvSpPr>
            <p:spPr>
              <a:xfrm>
                <a:off x="4788000" y="3573360"/>
                <a:ext cx="2224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33"/>
              <p:cNvSpPr txBox="1"/>
              <p:nvPr/>
            </p:nvSpPr>
            <p:spPr>
              <a:xfrm>
                <a:off x="4788000" y="4149720"/>
                <a:ext cx="1236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u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4"/>
              <p:cNvSpPr txBox="1"/>
              <p:nvPr/>
            </p:nvSpPr>
            <p:spPr>
              <a:xfrm>
                <a:off x="4716360" y="4653000"/>
                <a:ext cx="1338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5"/>
              <p:cNvSpPr txBox="1"/>
              <p:nvPr/>
            </p:nvSpPr>
            <p:spPr>
              <a:xfrm>
                <a:off x="6300720" y="4292640"/>
                <a:ext cx="14540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6"/>
              <p:cNvSpPr txBox="1"/>
              <p:nvPr/>
            </p:nvSpPr>
            <p:spPr>
              <a:xfrm>
                <a:off x="5292720" y="5734080"/>
                <a:ext cx="13399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u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8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9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0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41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316800" y="187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Задача №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179280" y="774360"/>
            <a:ext cx="4103640" cy="1739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ставьте число 257 в виде суммы двух чисе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одно из которых кратно 3, а другое –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одно из которых кратн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, а другое –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4"/>
              <p:cNvSpPr txBox="1"/>
              <p:nvPr/>
            </p:nvSpPr>
            <p:spPr>
              <a:xfrm>
                <a:off x="539640" y="2637000"/>
                <a:ext cx="2260800" cy="35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7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z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Text Box 5"/>
          <p:cNvSpPr/>
          <p:nvPr/>
        </p:nvSpPr>
        <p:spPr>
          <a:xfrm>
            <a:off x="179280" y="2492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716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4932360" y="18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5292720" y="260280"/>
                <a:ext cx="2948040" cy="55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7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у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2" name="Text Box 9"/>
          <p:cNvSpPr/>
          <p:nvPr/>
        </p:nvSpPr>
        <p:spPr>
          <a:xfrm>
            <a:off x="395280" y="6237360"/>
            <a:ext cx="208764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: 249 и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5364000" y="6237360"/>
            <a:ext cx="208764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: 225 и 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1" descr="directiona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26480" y="6524640"/>
            <a:ext cx="3175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ромежуток времени, когда мог жить Диофант, составляют полтысячелетия! Нижняя грань определяется без труда: в своей книге о многоугольных числах Диофант неоднократно упоминает математика Гипсикла Александрийского который жил в середине 2-ого в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667640" y="5076720"/>
            <a:ext cx="1476360" cy="1781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С другой стороны, в комментариях Теона Александрийского к «Альмагесту» знаменитого астронома Птолемея помещен отрывок из сочинения Диофанта. Теон жил в середине 4-ого в.н.э. Этим определяется верхняя грань этого промежутка. Итак, 500 л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7021440" y="-942120"/>
            <a:ext cx="2376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то место жительства Диофанта хорошо известно – Александрия, центр научной мысли и эллинистического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иболее загадочным представляется творчество Диофа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7385040" y="3141720"/>
            <a:ext cx="1758960" cy="3716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2"/>
          <a:stretch/>
        </p:blipFill>
        <p:spPr>
          <a:xfrm>
            <a:off x="0" y="3213000"/>
            <a:ext cx="1547640" cy="3645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3"/>
          <a:stretch/>
        </p:blipFill>
        <p:spPr>
          <a:xfrm>
            <a:off x="1476360" y="3905280"/>
            <a:ext cx="1150920" cy="2952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4"/>
          <a:stretch/>
        </p:blipFill>
        <p:spPr>
          <a:xfrm>
            <a:off x="6012000" y="3860640"/>
            <a:ext cx="1361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-3561480"/>
            <a:ext cx="514440" cy="80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250920" y="692280"/>
          <a:ext cx="1430280" cy="18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143028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"/>
          <p:cNvSpPr/>
          <p:nvPr/>
        </p:nvSpPr>
        <p:spPr>
          <a:xfrm>
            <a:off x="1692360" y="620640"/>
            <a:ext cx="712764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наших дней дошли два произведения Диофанта, оба не полностью. Это «Арифметика» (шесть книг из тринадцати) и отрывки из трактата «О многоугольных числах». Но о самом авторе не известно почти ничего. Его «Арифметика» стала поворотным пунктом в развитии алгебры и теории чисел. Именно здесь произошёл окончательный отказ от геометрической алгебры. В начале своего труда Диофант поместил краткое введение, ставшее первым изложением основ алгебры. В нём строится поле рациональных чисел и вводится буквенная символика. Там же формулируются правила действий с многочленами и уравнениями. Труды Диофанта имели фундаментальное значение для развития алгебры и теории чисел. С именем этого учёного связано появление и развитие алгебраической геометрии, проблемами которой впоследствии занимались Леонард Эйлер, Карл Якоби и другие авт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84987E-006 L -0.30695 -0.32523 E">
                                      <p:cBhvr>
                                        <p:cTn id="26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5364000" y="3618000"/>
            <a:ext cx="2447640" cy="3241440"/>
            <a:chOff x="5364000" y="3618000"/>
            <a:chExt cx="2447640" cy="3241440"/>
          </a:xfrm>
        </p:grpSpPr>
        <p:pic>
          <p:nvPicPr>
            <p:cNvPr id="337" name="Picture 3" descr="чебышев"/>
            <p:cNvPicPr/>
            <p:nvPr/>
          </p:nvPicPr>
          <p:blipFill>
            <a:blip r:embed="rId2"/>
            <a:stretch/>
          </p:blipFill>
          <p:spPr>
            <a:xfrm>
              <a:off x="5364000" y="3618000"/>
              <a:ext cx="24476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4"/>
            <p:cNvSpPr/>
            <p:nvPr/>
          </p:nvSpPr>
          <p:spPr>
            <a:xfrm>
              <a:off x="5772600" y="6491160"/>
              <a:ext cx="15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8080"/>
                  </a:solidFill>
                  <a:latin typeface="Arial"/>
                </a:rPr>
                <a:t>Чебыше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"/>
          <p:cNvGrpSpPr/>
          <p:nvPr/>
        </p:nvGrpSpPr>
        <p:grpSpPr>
          <a:xfrm>
            <a:off x="900000" y="3794040"/>
            <a:ext cx="2592000" cy="3063600"/>
            <a:chOff x="900000" y="3794040"/>
            <a:chExt cx="2592000" cy="3063600"/>
          </a:xfrm>
        </p:grpSpPr>
        <p:pic>
          <p:nvPicPr>
            <p:cNvPr id="340" name="Picture 6" descr="гаусс"/>
            <p:cNvPicPr/>
            <p:nvPr/>
          </p:nvPicPr>
          <p:blipFill>
            <a:blip r:embed="rId3"/>
            <a:stretch/>
          </p:blipFill>
          <p:spPr>
            <a:xfrm>
              <a:off x="900000" y="3794040"/>
              <a:ext cx="2592000" cy="30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7"/>
            <p:cNvSpPr/>
            <p:nvPr/>
          </p:nvSpPr>
          <p:spPr>
            <a:xfrm>
              <a:off x="991440" y="6430320"/>
              <a:ext cx="174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8080"/>
                  </a:solidFill>
                  <a:latin typeface="Arial"/>
                </a:rPr>
                <a:t>Гау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8"/>
          <p:cNvGrpSpPr/>
          <p:nvPr/>
        </p:nvGrpSpPr>
        <p:grpSpPr>
          <a:xfrm>
            <a:off x="250920" y="260280"/>
            <a:ext cx="2201760" cy="3321000"/>
            <a:chOff x="250920" y="260280"/>
            <a:chExt cx="2201760" cy="3321000"/>
          </a:xfrm>
        </p:grpSpPr>
        <p:pic>
          <p:nvPicPr>
            <p:cNvPr id="343" name="Picture 9" descr="ферма"/>
            <p:cNvPicPr/>
            <p:nvPr/>
          </p:nvPicPr>
          <p:blipFill>
            <a:blip r:embed="rId4"/>
            <a:stretch/>
          </p:blipFill>
          <p:spPr>
            <a:xfrm>
              <a:off x="250920" y="260280"/>
              <a:ext cx="22017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10"/>
            <p:cNvSpPr/>
            <p:nvPr/>
          </p:nvSpPr>
          <p:spPr>
            <a:xfrm>
              <a:off x="684360" y="3213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е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"/>
          <p:cNvGrpSpPr/>
          <p:nvPr/>
        </p:nvGrpSpPr>
        <p:grpSpPr>
          <a:xfrm>
            <a:off x="3132000" y="260280"/>
            <a:ext cx="2422800" cy="3608280"/>
            <a:chOff x="3132000" y="260280"/>
            <a:chExt cx="2422800" cy="3608280"/>
          </a:xfrm>
        </p:grpSpPr>
        <p:pic>
          <p:nvPicPr>
            <p:cNvPr id="346" name="Picture 12" descr="эйлер"/>
            <p:cNvPicPr/>
            <p:nvPr/>
          </p:nvPicPr>
          <p:blipFill>
            <a:blip r:embed="rId5"/>
            <a:stretch/>
          </p:blipFill>
          <p:spPr>
            <a:xfrm>
              <a:off x="3132000" y="260280"/>
              <a:ext cx="242280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3"/>
            <p:cNvSpPr/>
            <p:nvPr/>
          </p:nvSpPr>
          <p:spPr>
            <a:xfrm>
              <a:off x="3708360" y="35002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Эйл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4"/>
          <p:cNvGrpSpPr/>
          <p:nvPr/>
        </p:nvGrpSpPr>
        <p:grpSpPr>
          <a:xfrm>
            <a:off x="5940360" y="260280"/>
            <a:ext cx="2538360" cy="3025800"/>
            <a:chOff x="5940360" y="260280"/>
            <a:chExt cx="2538360" cy="3025800"/>
          </a:xfrm>
        </p:grpSpPr>
        <p:pic>
          <p:nvPicPr>
            <p:cNvPr id="349" name="Picture 15" descr="ланграж"/>
            <p:cNvPicPr/>
            <p:nvPr/>
          </p:nvPicPr>
          <p:blipFill>
            <a:blip r:embed="rId6"/>
            <a:stretch/>
          </p:blipFill>
          <p:spPr>
            <a:xfrm>
              <a:off x="5940360" y="260280"/>
              <a:ext cx="2538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6"/>
            <p:cNvSpPr/>
            <p:nvPr/>
          </p:nvSpPr>
          <p:spPr>
            <a:xfrm>
              <a:off x="7236000" y="291780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8080"/>
                  </a:solidFill>
                  <a:latin typeface="Arial"/>
                </a:rPr>
                <a:t>Лагранж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«Арифметика»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иофанта – это сборник задач (их всего 189), каждая из которых снабжена решением (или несколькими способами решения) и необходимыми пояснениями. Поэтому, с первого взгляда, кажется, что она не является теоретическим произведением. Однако, при внимательном чтении видно, что задачи тщательно подобраны и служат для иллюстрации вполне определенных, строго продуманных методов. Как это было принято в древности, методы не формулируются в общем виде, а повторяются для решения однотип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1800" y="-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720" y="38174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Диофант из Александрии (Diophantus of Alexandria)"/>
          <p:cNvPicPr/>
          <p:nvPr/>
        </p:nvPicPr>
        <p:blipFill>
          <a:blip r:embed="rId1"/>
          <a:stretch/>
        </p:blipFill>
        <p:spPr>
          <a:xfrm>
            <a:off x="4932360" y="1413000"/>
            <a:ext cx="3567240" cy="4319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Файл:Diophantus-cover.jpg"/>
          <p:cNvPicPr/>
          <p:nvPr/>
        </p:nvPicPr>
        <p:blipFill>
          <a:blip r:embed="rId2"/>
          <a:stretch/>
        </p:blipFill>
        <p:spPr>
          <a:xfrm>
            <a:off x="611280" y="189000"/>
            <a:ext cx="38829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40:58Z</dcterms:created>
  <dc:creator>Customer</dc:creator>
  <dc:description/>
  <dc:language>en-US</dc:language>
  <cp:lastModifiedBy>Boss</cp:lastModifiedBy>
  <dcterms:modified xsi:type="dcterms:W3CDTF">2018-02-10T04:08:07Z</dcterms:modified>
  <cp:revision>38</cp:revision>
  <dc:subject/>
  <dc:title>Диофант и его труды.  О подробностях жизни Диофанта Александрийского практически ничего не известно. С одной стороны, Диофант цитирует Гипсикла (II век до нашей эры), с другой стороны, о Диофанте пишет Теон Александрийский (около 350 года нашей эры), следовательно, можно предположить, что его жизнь протекала в границах этого периода.</dc:title>
</cp:coreProperties>
</file>