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20.jpeg" ContentType="image/jpeg"/>
  <Override PartName="/ppt/media/image12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1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media/image28.png" ContentType="image/png"/>
  <Override PartName="/ppt/media/image1.wmf" ContentType="image/x-wmf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9.png" ContentType="image/png"/>
  <Override PartName="/ppt/media/image21.jpeg" ContentType="image/jpeg"/>
  <Override PartName="/ppt/media/image2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82CC-F199-45FB-A06F-1A7AF504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3CBC-20D2-4016-8870-7A56FA80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59CC-A821-4002-87D3-A92C422A6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8726-7721-4837-B950-BC67C7D20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07C0-ED9F-491F-B19E-9453ACA8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4653-C87A-4F1D-A294-28FB17F0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B223-3DE7-44DE-BBC4-57B4C532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D7A8-F2C6-46D0-8A6C-BFC47ED9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893D-2502-4187-9FD2-7B111A9C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2EFA-C740-47A0-ABE2-45E679BE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03EB-C32F-46F6-BDE8-FE49C82B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40CC-AD66-46AB-8D74-F8283631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9463-6A94-4D7D-8E65-1F3E642D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43A8-131C-44C4-87D0-A22E076C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E334-BC95-4B78-BE04-EA7D2BC9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505D-9C41-4959-9502-148CE2255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65BD-6394-434F-84E6-5A4954B8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27E6C-C263-4EFA-AE70-1A7395E7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F46F6-9BCC-4E0B-9D4A-C2B5966A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F4EA9-81A1-4863-9DA6-C0AA315C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5C000-C26C-4AD7-B1C4-4B30E200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7936A-8F22-46EB-8400-1724C00E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97EB-0C25-45D8-9EAD-A347B116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F46D8-55DB-4C41-8FB5-C4E006AA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F02B6-5515-4BD4-AD55-8CA03EDF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E4F38-9AD6-4352-939E-FDDA577A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18789-EFE4-49CA-9429-FDF41427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4A5F7-C01F-45A6-BAF5-03640D4E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9AF00-15DE-48FC-AB30-8B7B42CB5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5E3B0-44D3-40B4-A74D-6F0AF611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B7F8B-DBA2-4E6D-8763-6BBC2461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0B83B-36A1-450C-ADDA-35DC6603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F0749-C591-4D9B-92B4-571BA579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C7C5-7938-40C7-837D-1C1B8200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70D79-7BE4-4C51-8454-E914ACAC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89F20-D871-49F2-872A-20679FB9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76340-D1B3-40A4-9CD2-A19BAE33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C1F5B-7C1A-4641-B797-2B3D59EF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534C6-28D6-451A-B8CA-934B8DFE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4CE30-28D7-46A6-AF0B-85B7FCB9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3C39F-59D0-4AB2-A6D2-85FB4796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EFA81-7685-4D13-9831-E7B08F730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4A797-9A01-47BE-9B20-6C198C38C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5A8B9-039E-4A38-BC87-6D07258D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B781-3688-47EC-AC11-9B7A6A45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A8A12-6254-4B9E-8272-DF61FF73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08C44-1E19-4E7D-A198-1754D943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5B2BE-189D-4D85-8608-C9AC1CEB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FF159-D7BD-4176-855C-39ED7B80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84849-2427-46D8-BDF0-67E041DC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DF9D6-7297-4761-970C-22466763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BC851-B4E6-48C2-9B57-411E432C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801AC-2E40-4FE4-A6C9-5A754B85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12163-9AF4-4B10-8460-FBE563C7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57F59-842C-4896-8E74-C7A2EBE4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D2C0-F646-41F7-81E6-D518D033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1381A-F74B-4F38-B220-BA4CC0026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0429-5652-45E3-9144-74F8A751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13DA-EDC3-41C7-BBB4-E6A54400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4005-8B66-4740-9EA7-FC9B8702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A358-0F1D-43DD-8028-EC9C448656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2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6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7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8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9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5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4C92-AA66-4FAD-8475-F460AA52C0D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1723-BEC2-4BF6-87CB-0B10D4209DA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8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8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8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8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8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0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2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E360-1335-4864-9CEC-4593EF7ADB3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8CCF-999E-4495-86AA-F7FC95CC037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987640" y="691920"/>
            <a:ext cx="590544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Arial"/>
              </a:rPr>
              <a:t>Диофант</a:t>
            </a:r>
            <a:br>
              <a:rPr sz="4400"/>
            </a:br>
            <a:r>
              <a:rPr b="1" lang="ru-RU" sz="4400" spc="-1" strike="noStrike">
                <a:solidFill>
                  <a:srgbClr val="cc0066"/>
                </a:solidFill>
                <a:latin typeface="Arial"/>
              </a:rPr>
              <a:t>и его труды.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 подробностях жизни Диофанта Александрийского практически ничего не известно.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Object 5"/>
          <p:cNvGraphicFramePr/>
          <p:nvPr/>
        </p:nvGraphicFramePr>
        <p:xfrm>
          <a:off x="468360" y="260280"/>
          <a:ext cx="280836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60280"/>
                    <a:ext cx="280836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3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84987E-006 L -0.30695 -0.32523 E">
                                      <p:cBhvr>
                                        <p:cTn id="13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218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лавная проблематика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Арифметики»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– это нахождение положительных рациональных решений неопределенных уравнений. Рациональные числа трактуются Диофантом так же, как и натуральные, что не типично для античных математ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Сначала Диофант исследует системы уравнений второго порядка от двух неизвестных. Он указывает метод нахождения других решений, если одно уже известно. Затем аналогичные методы он применяет к уравнениям высших степе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0" y="5089680"/>
            <a:ext cx="789120" cy="17683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5" descr=""/>
          <p:cNvPicPr/>
          <p:nvPr/>
        </p:nvPicPr>
        <p:blipFill>
          <a:blip r:embed="rId2"/>
          <a:stretch/>
        </p:blipFill>
        <p:spPr>
          <a:xfrm>
            <a:off x="7740720" y="5445000"/>
            <a:ext cx="97164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В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X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веке 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«Арифметика»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была переведена на арабский язык, после чего математики стран ислама (Абу Камил и другие) продолжили некоторые исследования Диофанта. В Европе интерес к  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«Арифметике»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возрос после того, как Рафаэль Бомбелли обнаружил это сочинение в Ватиканской библиотеке и опубликовал 143 задачи из его в своей 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«Алгебре»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(1572 года). В 1621 году появился классический, подробно прокомментированный латинский перевод  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«Арифметики»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, выполненный Баше де Мезириаком. Методы Диофанта оказали огромное влияние на Франсуа Виета и Пьера Ферма, впрочем, в Новое время неопределенные уравнения обычно решаются в целых числах, а не в рациональных, как это делал Диофа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Известны и другие сочинения Диофанта. Трактат «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О многоугольных числах»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сохранился не полностью. В сохранившейся части методами геометрической алгебры выводится ряд вспомогательных теор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Из сочинений Диофанта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«Об измерении поверхностей»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и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«Об умножении»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также сохранились лишь отрыв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Книга Диофанта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«Поризмы»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известна только по нескольким теоремам, используемым в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Арифмет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107200" cy="191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dobe Garamond Pro Bold"/>
              </a:rPr>
              <a:t>В Палатинской антологии содержится эпиграмма–задача, из которой можно сделать вывод, что Диофант прожил 84 года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60066"/>
                </a:solidFill>
                <a:latin typeface="Verdana"/>
              </a:rPr>
              <a:t>Здесь погребен Диофант, и камень могильный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60066"/>
                </a:solidFill>
                <a:latin typeface="Verdana"/>
              </a:rPr>
              <a:t>При счете расскажет нам,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60066"/>
                </a:solidFill>
                <a:latin typeface="Verdana"/>
              </a:rPr>
              <a:t>Сколь долог был его век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60066"/>
                </a:solidFill>
                <a:latin typeface="Verdana"/>
              </a:rPr>
              <a:t>Велением бога он мальчиком был шестую часть своей жизн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60066"/>
                </a:solidFill>
                <a:latin typeface="Verdana"/>
              </a:rPr>
              <a:t>В двенадцатой части затем прошла его светлая юность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60066"/>
                </a:solidFill>
                <a:latin typeface="Verdana"/>
              </a:rPr>
              <a:t>Седьмую часть жизни прибавим – перед нами очаг Гимене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60066"/>
                </a:solidFill>
                <a:latin typeface="Verdana"/>
              </a:rPr>
              <a:t>Пять лет протекли; и прислал Гименей ему сын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60066"/>
                </a:solidFill>
                <a:latin typeface="Verdana"/>
              </a:rPr>
              <a:t>Но горе ребенку! Едва половину он прожил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60066"/>
                </a:solidFill>
                <a:latin typeface="Verdana"/>
              </a:rPr>
              <a:t>Тех лет, что отец, как скончался несчастный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60066"/>
                </a:solidFill>
                <a:latin typeface="Verdana"/>
              </a:rPr>
              <a:t>Четыре года страдал Диофант от утраты такой тяжелой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60066"/>
                </a:solidFill>
                <a:latin typeface="Verdana"/>
              </a:rPr>
              <a:t>И умер, прожив для науки. Скажи мне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60066"/>
                </a:solidFill>
                <a:latin typeface="Verdana"/>
              </a:rPr>
              <a:t>Скольких лет достигнув, смерть воспринял Диофант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60066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1692720" y="-171360"/>
            <a:ext cx="10836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Диофантовы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91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Диофантовыми уравнениями называют алгебраические уравнения или системы алгебраических уравнений с целыми коэффициентами , для которых надо найти целые или рациональные решения. При этом число неизвестных в уравнениях должно быть не менее двух (если не ограничиваться только целыми числами). Диофантовы уравнения имеют, как правило, много решений , поэтому их называют неопределенными уравнениями.  Это ,например, урав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3х+5у=7 ;       х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²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+у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²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z²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 ;     3х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³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+4у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³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= 5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z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К диофантовым уравнениям приводят задачи, по смыслу которых неизвестные значения величин могут быть только целыми числ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74995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Задача №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летке сидят кролики и фазаны, всего у них 18 ног. Узнать, сколько в клетке тех и друг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8000"/>
                </a:solidFill>
                <a:uFillTx/>
                <a:latin typeface="Arial"/>
              </a:rPr>
              <a:t>Решение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яется уравнение с двумя неизвестными переменными, в котором х – число кроликов. у – число фазан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ff"/>
                </a:solidFill>
                <a:latin typeface="Arial"/>
              </a:rPr>
              <a:t>4х + 2у = 18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или </a:t>
            </a:r>
            <a:r>
              <a:rPr b="1" lang="ru-RU" sz="1800" spc="-1" strike="noStrike">
                <a:solidFill>
                  <a:srgbClr val="9900ff"/>
                </a:solidFill>
                <a:latin typeface="Arial"/>
              </a:rPr>
              <a:t>2х + у = 9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разим у через х: </a:t>
            </a:r>
            <a:r>
              <a:rPr b="1" lang="ru-RU" sz="1800" spc="-1" strike="noStrike">
                <a:solidFill>
                  <a:srgbClr val="9900ff"/>
                </a:solidFill>
                <a:latin typeface="Arial"/>
              </a:rPr>
              <a:t>у = 9 – 2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лее воспользуемся методом перебо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684360" y="4365720"/>
          <a:ext cx="4181400" cy="792000"/>
        </p:xfrm>
        <a:graphic>
          <a:graphicData uri="http://schemas.openxmlformats.org/drawingml/2006/table">
            <a:tbl>
              <a:tblPr/>
              <a:tblGrid>
                <a:gridCol w="836640"/>
                <a:gridCol w="836280"/>
                <a:gridCol w="835200"/>
                <a:gridCol w="836640"/>
                <a:gridCol w="83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69" name="Rectangle 59"/>
          <p:cNvSpPr/>
          <p:nvPr/>
        </p:nvSpPr>
        <p:spPr>
          <a:xfrm flipV="1" rot="10800000">
            <a:off x="826560" y="5408280"/>
            <a:ext cx="57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им образом, задача имеет четыре ре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8000"/>
                </a:solidFill>
                <a:uFillTx/>
                <a:latin typeface="Arial"/>
              </a:rPr>
              <a:t>Ответ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; 7), (2; 5), (3; 3), (4; 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612360" y="0"/>
            <a:ext cx="19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Задача №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539640" y="620640"/>
            <a:ext cx="8064720" cy="1191240"/>
          </a:xfrm>
          <a:prstGeom prst="rect">
            <a:avLst/>
          </a:prstGeom>
          <a:solidFill>
            <a:srgbClr val="bbe0e3"/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данные привезли в дар шаху 300 драгоценных камней: в маленьких шкатулках по 15 штук в каждой и в больших – по 40 штук. Сколько было тех и других шкатулок, если известно, что маленьких было меньше, чем больши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0" y="1989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8000"/>
                </a:solidFill>
                <a:uFillTx/>
                <a:latin typeface="Tahoma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1403280" y="206064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означим за Х количество маленьких шкатулок, а з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– количество больших. Причем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&lt; Y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971640" y="2781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Получаем диофантово уравн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7"/>
              <p:cNvSpPr txBox="1"/>
              <p:nvPr/>
            </p:nvSpPr>
            <p:spPr>
              <a:xfrm>
                <a:off x="1042920" y="3357720"/>
                <a:ext cx="165600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8"/>
              <p:cNvSpPr txBox="1"/>
              <p:nvPr/>
            </p:nvSpPr>
            <p:spPr>
              <a:xfrm>
                <a:off x="1116000" y="3973680"/>
                <a:ext cx="129528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Text Box 9"/>
          <p:cNvSpPr/>
          <p:nvPr/>
        </p:nvSpPr>
        <p:spPr>
          <a:xfrm>
            <a:off x="905040" y="3645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Сокращаем на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900000" y="4292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Выразим переменную х через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11"/>
              <p:cNvSpPr txBox="1"/>
              <p:nvPr/>
            </p:nvSpPr>
            <p:spPr>
              <a:xfrm>
                <a:off x="971640" y="4653000"/>
                <a:ext cx="12207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12"/>
              <p:cNvSpPr txBox="1"/>
              <p:nvPr/>
            </p:nvSpPr>
            <p:spPr>
              <a:xfrm>
                <a:off x="971640" y="5237280"/>
                <a:ext cx="17002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13"/>
              <p:cNvSpPr txBox="1"/>
              <p:nvPr/>
            </p:nvSpPr>
            <p:spPr>
              <a:xfrm>
                <a:off x="971640" y="5813280"/>
                <a:ext cx="172080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2" name="Object 2"/>
              <p:cNvSpPr txBox="1"/>
              <p:nvPr/>
            </p:nvSpPr>
            <p:spPr>
              <a:xfrm>
                <a:off x="900000" y="1197000"/>
                <a:ext cx="935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3"/>
              <p:cNvSpPr txBox="1"/>
              <p:nvPr/>
            </p:nvSpPr>
            <p:spPr>
              <a:xfrm>
                <a:off x="900000" y="2349360"/>
                <a:ext cx="7905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4"/>
              <p:cNvSpPr txBox="1"/>
              <p:nvPr/>
            </p:nvSpPr>
            <p:spPr>
              <a:xfrm>
                <a:off x="900000" y="3068640"/>
                <a:ext cx="11001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5"/>
              <p:cNvSpPr txBox="1"/>
              <p:nvPr/>
            </p:nvSpPr>
            <p:spPr>
              <a:xfrm>
                <a:off x="900000" y="3716280"/>
                <a:ext cx="9795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6"/>
              <p:cNvSpPr txBox="1"/>
              <p:nvPr/>
            </p:nvSpPr>
            <p:spPr>
              <a:xfrm>
                <a:off x="971640" y="4941720"/>
                <a:ext cx="70164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7"/>
              <p:cNvSpPr txBox="1"/>
              <p:nvPr/>
            </p:nvSpPr>
            <p:spPr>
              <a:xfrm>
                <a:off x="4716360" y="1052640"/>
                <a:ext cx="12607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u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8"/>
              <p:cNvSpPr txBox="1"/>
              <p:nvPr/>
            </p:nvSpPr>
            <p:spPr>
              <a:xfrm>
                <a:off x="4716360" y="1700280"/>
                <a:ext cx="11001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9"/>
              <p:cNvSpPr txBox="1"/>
              <p:nvPr/>
            </p:nvSpPr>
            <p:spPr>
              <a:xfrm>
                <a:off x="4716360" y="2133720"/>
                <a:ext cx="72072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10"/>
              <p:cNvSpPr txBox="1"/>
              <p:nvPr/>
            </p:nvSpPr>
            <p:spPr>
              <a:xfrm>
                <a:off x="4716360" y="2781360"/>
                <a:ext cx="18082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11"/>
              <p:cNvSpPr txBox="1"/>
              <p:nvPr/>
            </p:nvSpPr>
            <p:spPr>
              <a:xfrm>
                <a:off x="4716360" y="3645000"/>
                <a:ext cx="245916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t xml:space="preserve">3</m:t>
                    </m:r>
                    <m:r>
                      <m:t xml:space="preserve">u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3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12"/>
              <p:cNvSpPr txBox="1"/>
              <p:nvPr/>
            </p:nvSpPr>
            <p:spPr>
              <a:xfrm>
                <a:off x="4716360" y="4365720"/>
                <a:ext cx="178596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u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13"/>
              <p:cNvSpPr txBox="1"/>
              <p:nvPr/>
            </p:nvSpPr>
            <p:spPr>
              <a:xfrm>
                <a:off x="4788000" y="5300640"/>
                <a:ext cx="17301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u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14"/>
              <p:cNvSpPr txBox="1"/>
              <p:nvPr/>
            </p:nvSpPr>
            <p:spPr>
              <a:xfrm>
                <a:off x="4788000" y="5950080"/>
                <a:ext cx="124308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Text Box 15"/>
          <p:cNvSpPr/>
          <p:nvPr/>
        </p:nvSpPr>
        <p:spPr>
          <a:xfrm>
            <a:off x="250920" y="18900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Чтобы значение дроби было целым числом , надо, чтобы 2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было кратно 3, т.е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6"/>
          <p:cNvSpPr/>
          <p:nvPr/>
        </p:nvSpPr>
        <p:spPr>
          <a:xfrm>
            <a:off x="179280" y="162864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Выразим переменную у и выделим целую час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7"/>
          <p:cNvSpPr/>
          <p:nvPr/>
        </p:nvSpPr>
        <p:spPr>
          <a:xfrm>
            <a:off x="250920" y="443700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Потребуем, чтобы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z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было кратно 2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8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9"/>
          <p:cNvSpPr/>
          <p:nvPr/>
        </p:nvSpPr>
        <p:spPr>
          <a:xfrm>
            <a:off x="0" y="558972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«Спуск» окончен. Дробей больше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0"/>
          <p:cNvSpPr/>
          <p:nvPr/>
        </p:nvSpPr>
        <p:spPr>
          <a:xfrm>
            <a:off x="4643280" y="33336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Теперь Выразим переменные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через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u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21"/>
          <p:cNvSpPr/>
          <p:nvPr/>
        </p:nvSpPr>
        <p:spPr>
          <a:xfrm>
            <a:off x="4643280" y="2637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2"/>
          <p:cNvGrpSpPr/>
          <p:nvPr/>
        </p:nvGrpSpPr>
        <p:grpSpPr>
          <a:xfrm>
            <a:off x="179280" y="2565360"/>
            <a:ext cx="3478320" cy="1513080"/>
            <a:chOff x="179280" y="2565360"/>
            <a:chExt cx="3478320" cy="1513080"/>
          </a:xfrm>
        </p:grpSpPr>
        <p:sp>
          <p:nvSpPr>
            <p:cNvPr id="403" name="Rectangle 3"/>
            <p:cNvSpPr/>
            <p:nvPr/>
          </p:nvSpPr>
          <p:spPr>
            <a:xfrm>
              <a:off x="179280" y="3286080"/>
              <a:ext cx="1944720" cy="142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4"/>
            <p:cNvSpPr/>
            <p:nvPr/>
          </p:nvSpPr>
          <p:spPr>
            <a:xfrm>
              <a:off x="3348000" y="3206880"/>
              <a:ext cx="3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5"/>
            <p:cNvSpPr/>
            <p:nvPr/>
          </p:nvSpPr>
          <p:spPr>
            <a:xfrm>
              <a:off x="898560" y="3429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6"/>
            <p:cNvSpPr/>
            <p:nvPr/>
          </p:nvSpPr>
          <p:spPr>
            <a:xfrm>
              <a:off x="1835280" y="3429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7"/>
            <p:cNvSpPr/>
            <p:nvPr/>
          </p:nvSpPr>
          <p:spPr>
            <a:xfrm>
              <a:off x="971640" y="3141720"/>
              <a:ext cx="2376360" cy="14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8"/>
            <p:cNvSpPr/>
            <p:nvPr/>
          </p:nvSpPr>
          <p:spPr>
            <a:xfrm>
              <a:off x="179280" y="3286080"/>
              <a:ext cx="331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9"/>
            <p:cNvSpPr/>
            <p:nvPr/>
          </p:nvSpPr>
          <p:spPr>
            <a:xfrm>
              <a:off x="2101680" y="3241800"/>
              <a:ext cx="71640" cy="71280"/>
            </a:xfrm>
            <a:prstGeom prst="ellipse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0"/>
            <p:cNvSpPr/>
            <p:nvPr/>
          </p:nvSpPr>
          <p:spPr>
            <a:xfrm>
              <a:off x="971640" y="3246480"/>
              <a:ext cx="71280" cy="71640"/>
            </a:xfrm>
            <a:prstGeom prst="ellipse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1"/>
            <p:cNvSpPr/>
            <p:nvPr/>
          </p:nvSpPr>
          <p:spPr>
            <a:xfrm>
              <a:off x="1015920" y="2565360"/>
              <a:ext cx="0" cy="151308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12"/>
            <p:cNvSpPr/>
            <p:nvPr/>
          </p:nvSpPr>
          <p:spPr>
            <a:xfrm>
              <a:off x="2151000" y="2565360"/>
              <a:ext cx="0" cy="151308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13"/>
          <p:cNvGrpSpPr/>
          <p:nvPr/>
        </p:nvGrpSpPr>
        <p:grpSpPr>
          <a:xfrm>
            <a:off x="5356080" y="260280"/>
            <a:ext cx="2220840" cy="791640"/>
            <a:chOff x="5356080" y="260280"/>
            <a:chExt cx="2220840" cy="791640"/>
          </a:xfrm>
        </p:grpSpPr>
        <mc:AlternateContent>
          <mc:Choice xmlns:a14="http://schemas.microsoft.com/office/drawing/2010/main" Requires="a14">
            <p:sp>
              <p:nvSpPr>
                <p:cNvPr id="414" name="Object 14"/>
                <p:cNvSpPr txBox="1"/>
                <p:nvPr/>
              </p:nvSpPr>
              <p:spPr>
                <a:xfrm>
                  <a:off x="5356080" y="260280"/>
                  <a:ext cx="2220840" cy="33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⋅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5" name="Object 15"/>
                <p:cNvSpPr txBox="1"/>
                <p:nvPr/>
              </p:nvSpPr>
              <p:spPr>
                <a:xfrm>
                  <a:off x="5542200" y="713160"/>
                  <a:ext cx="962280" cy="33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⋅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6" name="Object 16"/>
              <p:cNvSpPr txBox="1"/>
              <p:nvPr/>
            </p:nvSpPr>
            <p:spPr>
              <a:xfrm>
                <a:off x="179280" y="1341360"/>
                <a:ext cx="33386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t xml:space="preserve">u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17" name="Group 17"/>
          <p:cNvGrpSpPr/>
          <p:nvPr/>
        </p:nvGrpSpPr>
        <p:grpSpPr>
          <a:xfrm>
            <a:off x="515880" y="5157720"/>
            <a:ext cx="2427120" cy="792000"/>
            <a:chOff x="515880" y="5157720"/>
            <a:chExt cx="2427120" cy="792000"/>
          </a:xfrm>
        </p:grpSpPr>
        <mc:AlternateContent>
          <mc:Choice xmlns:a14="http://schemas.microsoft.com/office/drawing/2010/main" Requires="a14">
            <p:sp>
              <p:nvSpPr>
                <p:cNvPr id="418" name="Object 18"/>
                <p:cNvSpPr txBox="1"/>
                <p:nvPr/>
              </p:nvSpPr>
              <p:spPr>
                <a:xfrm>
                  <a:off x="515880" y="5157720"/>
                  <a:ext cx="2427120" cy="33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⋅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9" name="Object 19"/>
                <p:cNvSpPr txBox="1"/>
                <p:nvPr/>
              </p:nvSpPr>
              <p:spPr>
                <a:xfrm>
                  <a:off x="738720" y="5611320"/>
                  <a:ext cx="1056960" cy="33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⋅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0" name="Text Box 20"/>
          <p:cNvSpPr/>
          <p:nvPr/>
        </p:nvSpPr>
        <p:spPr>
          <a:xfrm>
            <a:off x="0" y="404640"/>
            <a:ext cx="52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Составим и решим систему неравенст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1"/>
          <p:cNvSpPr/>
          <p:nvPr/>
        </p:nvSpPr>
        <p:spPr>
          <a:xfrm>
            <a:off x="179280" y="4292640"/>
            <a:ext cx="496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Выпишем целые решения: 1;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Теперь найдем значения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y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при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u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=1;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22"/>
          <p:cNvSpPr/>
          <p:nvPr/>
        </p:nvSpPr>
        <p:spPr>
          <a:xfrm>
            <a:off x="51483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3"/>
          <p:cNvSpPr/>
          <p:nvPr/>
        </p:nvSpPr>
        <p:spPr>
          <a:xfrm>
            <a:off x="179280" y="6078600"/>
            <a:ext cx="48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Не подходит, т.к. 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x</a:t>
            </a: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 должен быть меньше 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y</a:t>
            </a: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4"/>
          <p:cNvSpPr/>
          <p:nvPr/>
        </p:nvSpPr>
        <p:spPr>
          <a:xfrm>
            <a:off x="5292720" y="2349360"/>
            <a:ext cx="385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4960" indent="-804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4 маленькие шкатул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960" indent="-804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 больших шкатул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Диофант представляет одну из наиболее трудных загадок в истории науки. Нам не известно ни время, когда он жил, ни предшественники, которые работали бы в той же области. Труды  его подобны сверкающему огню среди непроницаемой тьм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5" name="Object 2"/>
              <p:cNvSpPr txBox="1"/>
              <p:nvPr/>
            </p:nvSpPr>
            <p:spPr>
              <a:xfrm>
                <a:off x="395280" y="34596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3"/>
              <p:cNvSpPr txBox="1"/>
              <p:nvPr/>
            </p:nvSpPr>
            <p:spPr>
              <a:xfrm>
                <a:off x="395280" y="56520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4"/>
              <p:cNvSpPr txBox="1"/>
              <p:nvPr/>
            </p:nvSpPr>
            <p:spPr>
              <a:xfrm>
                <a:off x="395280" y="78408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5"/>
              <p:cNvSpPr txBox="1"/>
              <p:nvPr/>
            </p:nvSpPr>
            <p:spPr>
              <a:xfrm>
                <a:off x="324000" y="1916280"/>
                <a:ext cx="346212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Двухрублевые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х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t xml:space="preserve">р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6"/>
              <p:cNvSpPr txBox="1"/>
              <p:nvPr/>
            </p:nvSpPr>
            <p:spPr>
              <a:xfrm>
                <a:off x="324000" y="2924280"/>
                <a:ext cx="147312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7"/>
              <p:cNvSpPr txBox="1"/>
              <p:nvPr/>
            </p:nvSpPr>
            <p:spPr>
              <a:xfrm>
                <a:off x="395280" y="3429000"/>
                <a:ext cx="14079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у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8"/>
              <p:cNvSpPr txBox="1"/>
              <p:nvPr/>
            </p:nvSpPr>
            <p:spPr>
              <a:xfrm>
                <a:off x="395280" y="4221000"/>
                <a:ext cx="217188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у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9"/>
              <p:cNvSpPr txBox="1"/>
              <p:nvPr/>
            </p:nvSpPr>
            <p:spPr>
              <a:xfrm>
                <a:off x="395280" y="4869000"/>
                <a:ext cx="25686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у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у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10"/>
              <p:cNvSpPr txBox="1"/>
              <p:nvPr/>
            </p:nvSpPr>
            <p:spPr>
              <a:xfrm>
                <a:off x="395280" y="5589720"/>
                <a:ext cx="121428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11"/>
              <p:cNvSpPr txBox="1"/>
              <p:nvPr/>
            </p:nvSpPr>
            <p:spPr>
              <a:xfrm>
                <a:off x="395280" y="5877000"/>
                <a:ext cx="331308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12"/>
              <p:cNvSpPr txBox="1"/>
              <p:nvPr/>
            </p:nvSpPr>
            <p:spPr>
              <a:xfrm>
                <a:off x="5003640" y="333360"/>
                <a:ext cx="221148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13"/>
              <p:cNvSpPr txBox="1"/>
              <p:nvPr/>
            </p:nvSpPr>
            <p:spPr>
              <a:xfrm>
                <a:off x="5003640" y="1125360"/>
                <a:ext cx="131292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14"/>
              <p:cNvSpPr txBox="1"/>
              <p:nvPr/>
            </p:nvSpPr>
            <p:spPr>
              <a:xfrm>
                <a:off x="5003640" y="1628640"/>
                <a:ext cx="14176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z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15"/>
              <p:cNvSpPr txBox="1"/>
              <p:nvPr/>
            </p:nvSpPr>
            <p:spPr>
              <a:xfrm>
                <a:off x="5003640" y="1550880"/>
                <a:ext cx="1908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16"/>
              <p:cNvSpPr txBox="1"/>
              <p:nvPr/>
            </p:nvSpPr>
            <p:spPr>
              <a:xfrm>
                <a:off x="5003640" y="1770120"/>
                <a:ext cx="19080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17"/>
              <p:cNvSpPr txBox="1"/>
              <p:nvPr/>
            </p:nvSpPr>
            <p:spPr>
              <a:xfrm>
                <a:off x="5003640" y="2565360"/>
                <a:ext cx="14018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z</m:t>
                            </m:r>
                            <m:r>
                              <m:t xml:space="preserve">&gt;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18"/>
              <p:cNvSpPr txBox="1"/>
              <p:nvPr/>
            </p:nvSpPr>
            <p:spPr>
              <a:xfrm>
                <a:off x="5003640" y="3500280"/>
                <a:ext cx="10033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&lt;</m:t>
                            </m:r>
                            <m:r>
                              <m:t xml:space="preserve">5,4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42" name="Group 19"/>
          <p:cNvGrpSpPr/>
          <p:nvPr/>
        </p:nvGrpSpPr>
        <p:grpSpPr>
          <a:xfrm>
            <a:off x="5292720" y="4437000"/>
            <a:ext cx="1784520" cy="884160"/>
            <a:chOff x="5292720" y="4437000"/>
            <a:chExt cx="1784520" cy="884160"/>
          </a:xfrm>
        </p:grpSpPr>
        <p:sp>
          <p:nvSpPr>
            <p:cNvPr id="443" name="Text Box 20"/>
            <p:cNvSpPr/>
            <p:nvPr/>
          </p:nvSpPr>
          <p:spPr>
            <a:xfrm>
              <a:off x="6810840" y="4766400"/>
              <a:ext cx="26640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21"/>
            <p:cNvSpPr/>
            <p:nvPr/>
          </p:nvSpPr>
          <p:spPr>
            <a:xfrm>
              <a:off x="5292720" y="4617720"/>
              <a:ext cx="1066320" cy="210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22"/>
            <p:cNvSpPr/>
            <p:nvPr/>
          </p:nvSpPr>
          <p:spPr>
            <a:xfrm>
              <a:off x="5825880" y="4808880"/>
              <a:ext cx="1066320" cy="210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23"/>
            <p:cNvSpPr/>
            <p:nvPr/>
          </p:nvSpPr>
          <p:spPr>
            <a:xfrm>
              <a:off x="5292720" y="4808880"/>
              <a:ext cx="169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4"/>
            <p:cNvSpPr/>
            <p:nvPr/>
          </p:nvSpPr>
          <p:spPr>
            <a:xfrm>
              <a:off x="5825880" y="4543200"/>
              <a:ext cx="0" cy="57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5"/>
            <p:cNvSpPr/>
            <p:nvPr/>
          </p:nvSpPr>
          <p:spPr>
            <a:xfrm>
              <a:off x="6359040" y="4553640"/>
              <a:ext cx="0" cy="57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26"/>
            <p:cNvSpPr/>
            <p:nvPr/>
          </p:nvSpPr>
          <p:spPr>
            <a:xfrm>
              <a:off x="5803560" y="4776840"/>
              <a:ext cx="5004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27"/>
            <p:cNvSpPr/>
            <p:nvPr/>
          </p:nvSpPr>
          <p:spPr>
            <a:xfrm>
              <a:off x="6336720" y="4776840"/>
              <a:ext cx="5004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28"/>
            <p:cNvSpPr/>
            <p:nvPr/>
          </p:nvSpPr>
          <p:spPr>
            <a:xfrm>
              <a:off x="5381280" y="4734360"/>
              <a:ext cx="45144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29"/>
            <p:cNvSpPr/>
            <p:nvPr/>
          </p:nvSpPr>
          <p:spPr>
            <a:xfrm>
              <a:off x="6299640" y="4437000"/>
              <a:ext cx="45144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,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Rectangle 30"/>
          <p:cNvSpPr/>
          <p:nvPr/>
        </p:nvSpPr>
        <p:spPr>
          <a:xfrm>
            <a:off x="316800" y="1879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Задача №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1"/>
          <p:cNvSpPr/>
          <p:nvPr/>
        </p:nvSpPr>
        <p:spPr>
          <a:xfrm>
            <a:off x="0" y="591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32"/>
          <p:cNvSpPr/>
          <p:nvPr/>
        </p:nvSpPr>
        <p:spPr>
          <a:xfrm>
            <a:off x="5508720" y="5662080"/>
            <a:ext cx="252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1, 2, 3, 4,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8000"/>
                </a:solidFill>
                <a:uFillTx/>
                <a:latin typeface="Arial"/>
                <a:ea typeface="Times New Roman"/>
              </a:rPr>
              <a:t>Ответ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5 способ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33"/>
          <p:cNvSpPr/>
          <p:nvPr/>
        </p:nvSpPr>
        <p:spPr>
          <a:xfrm>
            <a:off x="4427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4"/>
          <p:cNvSpPr/>
          <p:nvPr/>
        </p:nvSpPr>
        <p:spPr>
          <a:xfrm>
            <a:off x="181080" y="653760"/>
            <a:ext cx="4103640" cy="119124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ли двухрублевыми и пятирублевыми монетами набрать сумму в 51 рубль? Если можно, то сколько существует способ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8" name="Object 2"/>
              <p:cNvSpPr txBox="1"/>
              <p:nvPr/>
            </p:nvSpPr>
            <p:spPr>
              <a:xfrm>
                <a:off x="395280" y="34596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3"/>
              <p:cNvSpPr txBox="1"/>
              <p:nvPr/>
            </p:nvSpPr>
            <p:spPr>
              <a:xfrm>
                <a:off x="395280" y="56520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4"/>
              <p:cNvSpPr txBox="1"/>
              <p:nvPr/>
            </p:nvSpPr>
            <p:spPr>
              <a:xfrm>
                <a:off x="395280" y="78408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5"/>
              <p:cNvSpPr txBox="1"/>
              <p:nvPr/>
            </p:nvSpPr>
            <p:spPr>
              <a:xfrm>
                <a:off x="5003640" y="1550880"/>
                <a:ext cx="1908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6"/>
              <p:cNvSpPr txBox="1"/>
              <p:nvPr/>
            </p:nvSpPr>
            <p:spPr>
              <a:xfrm>
                <a:off x="5003640" y="1770120"/>
                <a:ext cx="19080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63" name="Rectangle 7"/>
          <p:cNvSpPr/>
          <p:nvPr/>
        </p:nvSpPr>
        <p:spPr>
          <a:xfrm>
            <a:off x="316800" y="1879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Задача №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8"/>
          <p:cNvSpPr/>
          <p:nvPr/>
        </p:nvSpPr>
        <p:spPr>
          <a:xfrm>
            <a:off x="4427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9"/>
          <p:cNvSpPr/>
          <p:nvPr/>
        </p:nvSpPr>
        <p:spPr>
          <a:xfrm>
            <a:off x="181080" y="653760"/>
            <a:ext cx="4103640" cy="119124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жно ли разложить две сотни яиц в коробки по 10 и 12 штук? Если можно, то найдите все способ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Object 10"/>
              <p:cNvSpPr txBox="1"/>
              <p:nvPr/>
            </p:nvSpPr>
            <p:spPr>
              <a:xfrm>
                <a:off x="900000" y="2349360"/>
                <a:ext cx="211320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к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ш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rPr>
                        <m:lit/>
                        <m:nor/>
                      </m:rPr>
                      <m:t xml:space="preserve">ш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11"/>
              <p:cNvSpPr txBox="1"/>
              <p:nvPr/>
            </p:nvSpPr>
            <p:spPr>
              <a:xfrm>
                <a:off x="900000" y="3429000"/>
                <a:ext cx="14353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12"/>
              <p:cNvSpPr txBox="1"/>
              <p:nvPr/>
            </p:nvSpPr>
            <p:spPr>
              <a:xfrm>
                <a:off x="900000" y="3933720"/>
                <a:ext cx="12319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13"/>
              <p:cNvSpPr txBox="1"/>
              <p:nvPr/>
            </p:nvSpPr>
            <p:spPr>
              <a:xfrm>
                <a:off x="900000" y="4437000"/>
                <a:ext cx="11797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у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14"/>
              <p:cNvSpPr txBox="1"/>
              <p:nvPr/>
            </p:nvSpPr>
            <p:spPr>
              <a:xfrm>
                <a:off x="900000" y="5084640"/>
                <a:ext cx="14716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у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15"/>
              <p:cNvSpPr txBox="1"/>
              <p:nvPr/>
            </p:nvSpPr>
            <p:spPr>
              <a:xfrm>
                <a:off x="900000" y="5661000"/>
                <a:ext cx="12826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t xml:space="preserve">у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у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2" name="Rectangle 16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7"/>
          <p:cNvSpPr/>
          <p:nvPr/>
        </p:nvSpPr>
        <p:spPr>
          <a:xfrm>
            <a:off x="0" y="34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18"/>
              <p:cNvSpPr txBox="1"/>
              <p:nvPr/>
            </p:nvSpPr>
            <p:spPr>
              <a:xfrm>
                <a:off x="900000" y="6308640"/>
                <a:ext cx="6494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19"/>
              <p:cNvSpPr txBox="1"/>
              <p:nvPr/>
            </p:nvSpPr>
            <p:spPr>
              <a:xfrm>
                <a:off x="4572000" y="476280"/>
                <a:ext cx="13082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20"/>
              <p:cNvSpPr txBox="1"/>
              <p:nvPr/>
            </p:nvSpPr>
            <p:spPr>
              <a:xfrm>
                <a:off x="4643280" y="1197000"/>
                <a:ext cx="10288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21"/>
              <p:cNvSpPr txBox="1"/>
              <p:nvPr/>
            </p:nvSpPr>
            <p:spPr>
              <a:xfrm>
                <a:off x="4643280" y="1844640"/>
                <a:ext cx="11304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z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22"/>
              <p:cNvSpPr txBox="1"/>
              <p:nvPr/>
            </p:nvSpPr>
            <p:spPr>
              <a:xfrm>
                <a:off x="4716360" y="2708280"/>
                <a:ext cx="11178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z</m:t>
                            </m:r>
                            <m:r>
                              <m:t xml:space="preserve">&gt;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23"/>
              <p:cNvSpPr txBox="1"/>
              <p:nvPr/>
            </p:nvSpPr>
            <p:spPr>
              <a:xfrm>
                <a:off x="4716360" y="3645000"/>
                <a:ext cx="8002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&lt;</m:t>
                            </m:r>
                            <m:r>
                              <m:t xml:space="preserve">3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0" name="Rectangle 24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5"/>
          <p:cNvSpPr/>
          <p:nvPr/>
        </p:nvSpPr>
        <p:spPr>
          <a:xfrm>
            <a:off x="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6"/>
          <p:cNvSpPr/>
          <p:nvPr/>
        </p:nvSpPr>
        <p:spPr>
          <a:xfrm>
            <a:off x="0" y="34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27"/>
          <p:cNvGrpSpPr/>
          <p:nvPr/>
        </p:nvGrpSpPr>
        <p:grpSpPr>
          <a:xfrm>
            <a:off x="4932360" y="4724280"/>
            <a:ext cx="1758960" cy="761760"/>
            <a:chOff x="4932360" y="4724280"/>
            <a:chExt cx="1758960" cy="761760"/>
          </a:xfrm>
        </p:grpSpPr>
        <p:sp>
          <p:nvSpPr>
            <p:cNvPr id="484" name="Rectangle 28"/>
            <p:cNvSpPr/>
            <p:nvPr/>
          </p:nvSpPr>
          <p:spPr>
            <a:xfrm>
              <a:off x="4932360" y="5057280"/>
              <a:ext cx="1105920" cy="134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29"/>
            <p:cNvSpPr/>
            <p:nvPr/>
          </p:nvSpPr>
          <p:spPr>
            <a:xfrm>
              <a:off x="5485320" y="5179320"/>
              <a:ext cx="1105920" cy="134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30"/>
            <p:cNvSpPr/>
            <p:nvPr/>
          </p:nvSpPr>
          <p:spPr>
            <a:xfrm>
              <a:off x="4932360" y="5179320"/>
              <a:ext cx="175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31"/>
            <p:cNvSpPr/>
            <p:nvPr/>
          </p:nvSpPr>
          <p:spPr>
            <a:xfrm>
              <a:off x="5485320" y="500940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32"/>
            <p:cNvSpPr/>
            <p:nvPr/>
          </p:nvSpPr>
          <p:spPr>
            <a:xfrm>
              <a:off x="6038280" y="501624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33"/>
            <p:cNvSpPr/>
            <p:nvPr/>
          </p:nvSpPr>
          <p:spPr>
            <a:xfrm>
              <a:off x="5462280" y="5158800"/>
              <a:ext cx="52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34"/>
            <p:cNvSpPr/>
            <p:nvPr/>
          </p:nvSpPr>
          <p:spPr>
            <a:xfrm>
              <a:off x="6015240" y="5158800"/>
              <a:ext cx="52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35"/>
            <p:cNvSpPr/>
            <p:nvPr/>
          </p:nvSpPr>
          <p:spPr>
            <a:xfrm>
              <a:off x="5024160" y="5131800"/>
              <a:ext cx="4683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36"/>
            <p:cNvSpPr/>
            <p:nvPr/>
          </p:nvSpPr>
          <p:spPr>
            <a:xfrm>
              <a:off x="5977080" y="4724280"/>
              <a:ext cx="468360" cy="4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</a:rPr>
                <a:t>5,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Text Box 37"/>
          <p:cNvSpPr/>
          <p:nvPr/>
        </p:nvSpPr>
        <p:spPr>
          <a:xfrm>
            <a:off x="6372360" y="5084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8"/>
          <p:cNvSpPr/>
          <p:nvPr/>
        </p:nvSpPr>
        <p:spPr>
          <a:xfrm>
            <a:off x="4514040" y="5456520"/>
            <a:ext cx="2333880" cy="11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8000"/>
                </a:solidFill>
                <a:uFillTx/>
                <a:latin typeface="Tahoma"/>
              </a:rPr>
              <a:t>Ответ: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х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= 14,  у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= 5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= 8,  у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= 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= 2,  у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= 1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5" name="Object 2"/>
              <p:cNvSpPr txBox="1"/>
              <p:nvPr/>
            </p:nvSpPr>
            <p:spPr>
              <a:xfrm>
                <a:off x="395280" y="34596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3"/>
              <p:cNvSpPr txBox="1"/>
              <p:nvPr/>
            </p:nvSpPr>
            <p:spPr>
              <a:xfrm>
                <a:off x="395280" y="56520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4"/>
              <p:cNvSpPr txBox="1"/>
              <p:nvPr/>
            </p:nvSpPr>
            <p:spPr>
              <a:xfrm>
                <a:off x="395280" y="78408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Object 5"/>
              <p:cNvSpPr txBox="1"/>
              <p:nvPr/>
            </p:nvSpPr>
            <p:spPr>
              <a:xfrm>
                <a:off x="5003640" y="1550880"/>
                <a:ext cx="1908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6"/>
              <p:cNvSpPr txBox="1"/>
              <p:nvPr/>
            </p:nvSpPr>
            <p:spPr>
              <a:xfrm>
                <a:off x="5003640" y="1770120"/>
                <a:ext cx="19080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00" name="Rectangle 7"/>
          <p:cNvSpPr/>
          <p:nvPr/>
        </p:nvSpPr>
        <p:spPr>
          <a:xfrm>
            <a:off x="316800" y="1879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Задача №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8"/>
          <p:cNvSpPr/>
          <p:nvPr/>
        </p:nvSpPr>
        <p:spPr>
          <a:xfrm>
            <a:off x="0" y="591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9"/>
          <p:cNvSpPr/>
          <p:nvPr/>
        </p:nvSpPr>
        <p:spPr>
          <a:xfrm>
            <a:off x="4427640" y="1844640"/>
            <a:ext cx="0" cy="501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0"/>
          <p:cNvSpPr/>
          <p:nvPr/>
        </p:nvSpPr>
        <p:spPr>
          <a:xfrm>
            <a:off x="179280" y="701280"/>
            <a:ext cx="4103640" cy="9169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 осьминога 8 ног, а у морской звезды 5. Сколько в аквариуме тех и других, если всего у них 39 ног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Object 11"/>
              <p:cNvSpPr txBox="1"/>
              <p:nvPr/>
            </p:nvSpPr>
            <p:spPr>
              <a:xfrm>
                <a:off x="4525920" y="784080"/>
                <a:ext cx="44118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Осьминог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ног</m:t>
                            </m:r>
                          </m:e>
                          <m:e/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rPr>
                        <m:lit/>
                        <m:nor/>
                      </m:rPr>
                      <m:t xml:space="preserve">ног</m:t>
                    </m:r>
                    <m:eqArr>
                      <m:e>
                        <m:r>
                          <m:t xml:space="preserve">|</m:t>
                        </m:r>
                        <m:r>
                          <m:t xml:space="preserve">х</m:t>
                        </m:r>
                      </m:e>
                      <m:e>
                        <m:r>
                          <m:t xml:space="preserve">|</m:t>
                        </m:r>
                        <m:r>
                          <m:t xml:space="preserve">у</m:t>
                        </m:r>
                      </m:e>
                    </m:eqArr>
                    <m:r>
                      <m:t xml:space="preserve">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одна</m:t>
                    </m:r>
                    <m:r>
                      <m:rPr>
                        <m:lit/>
                        <m:nor/>
                      </m:rPr>
                      <m:t xml:space="preserve">ног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Object 12"/>
              <p:cNvSpPr txBox="1"/>
              <p:nvPr/>
            </p:nvSpPr>
            <p:spPr>
              <a:xfrm>
                <a:off x="826920" y="1930320"/>
                <a:ext cx="1500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Object 13"/>
              <p:cNvSpPr txBox="1"/>
              <p:nvPr/>
            </p:nvSpPr>
            <p:spPr>
              <a:xfrm>
                <a:off x="179280" y="2421000"/>
                <a:ext cx="14385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Object 14"/>
              <p:cNvSpPr txBox="1"/>
              <p:nvPr/>
            </p:nvSpPr>
            <p:spPr>
              <a:xfrm>
                <a:off x="1692360" y="2421000"/>
                <a:ext cx="22651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Object 15"/>
              <p:cNvSpPr txBox="1"/>
              <p:nvPr/>
            </p:nvSpPr>
            <p:spPr>
              <a:xfrm>
                <a:off x="900000" y="3284640"/>
                <a:ext cx="21654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Object 16"/>
              <p:cNvSpPr txBox="1"/>
              <p:nvPr/>
            </p:nvSpPr>
            <p:spPr>
              <a:xfrm>
                <a:off x="900000" y="4005360"/>
                <a:ext cx="131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Object 17"/>
              <p:cNvSpPr txBox="1"/>
              <p:nvPr/>
            </p:nvSpPr>
            <p:spPr>
              <a:xfrm>
                <a:off x="179280" y="4581360"/>
                <a:ext cx="12574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Object 18"/>
              <p:cNvSpPr txBox="1"/>
              <p:nvPr/>
            </p:nvSpPr>
            <p:spPr>
              <a:xfrm>
                <a:off x="1763640" y="4581360"/>
                <a:ext cx="20001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2" name="Rectangle 19"/>
          <p:cNvSpPr/>
          <p:nvPr/>
        </p:nvSpPr>
        <p:spPr>
          <a:xfrm>
            <a:off x="0" y="870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0"/>
          <p:cNvSpPr/>
          <p:nvPr/>
        </p:nvSpPr>
        <p:spPr>
          <a:xfrm>
            <a:off x="0" y="38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22"/>
              <p:cNvSpPr txBox="1"/>
              <p:nvPr/>
            </p:nvSpPr>
            <p:spPr>
              <a:xfrm>
                <a:off x="6084720" y="6576840"/>
                <a:ext cx="57636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23"/>
              <p:cNvSpPr txBox="1"/>
              <p:nvPr/>
            </p:nvSpPr>
            <p:spPr>
              <a:xfrm>
                <a:off x="6804000" y="6512040"/>
                <a:ext cx="7081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7" name="Rectangle 24"/>
          <p:cNvSpPr/>
          <p:nvPr/>
        </p:nvSpPr>
        <p:spPr>
          <a:xfrm>
            <a:off x="0" y="3127320"/>
            <a:ext cx="970920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5"/>
          <p:cNvSpPr/>
          <p:nvPr/>
        </p:nvSpPr>
        <p:spPr>
          <a:xfrm>
            <a:off x="0" y="396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6"/>
          <p:cNvSpPr/>
          <p:nvPr/>
        </p:nvSpPr>
        <p:spPr>
          <a:xfrm>
            <a:off x="6948360" y="5949360"/>
            <a:ext cx="64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=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7"/>
          <p:cNvSpPr/>
          <p:nvPr/>
        </p:nvSpPr>
        <p:spPr>
          <a:xfrm>
            <a:off x="7655040" y="658260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: 3;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28"/>
              <p:cNvSpPr txBox="1"/>
              <p:nvPr/>
            </p:nvSpPr>
            <p:spPr>
              <a:xfrm>
                <a:off x="250920" y="5373720"/>
                <a:ext cx="19605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29"/>
              <p:cNvSpPr txBox="1"/>
              <p:nvPr/>
            </p:nvSpPr>
            <p:spPr>
              <a:xfrm>
                <a:off x="250920" y="5877000"/>
                <a:ext cx="1236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30"/>
              <p:cNvSpPr txBox="1"/>
              <p:nvPr/>
            </p:nvSpPr>
            <p:spPr>
              <a:xfrm>
                <a:off x="4716360" y="1989000"/>
                <a:ext cx="35546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31"/>
              <p:cNvSpPr txBox="1"/>
              <p:nvPr/>
            </p:nvSpPr>
            <p:spPr>
              <a:xfrm>
                <a:off x="4788000" y="2781360"/>
                <a:ext cx="31575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32"/>
              <p:cNvSpPr txBox="1"/>
              <p:nvPr/>
            </p:nvSpPr>
            <p:spPr>
              <a:xfrm>
                <a:off x="4788000" y="3573360"/>
                <a:ext cx="2224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Object 33"/>
              <p:cNvSpPr txBox="1"/>
              <p:nvPr/>
            </p:nvSpPr>
            <p:spPr>
              <a:xfrm>
                <a:off x="4788000" y="4149720"/>
                <a:ext cx="1236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u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34"/>
              <p:cNvSpPr txBox="1"/>
              <p:nvPr/>
            </p:nvSpPr>
            <p:spPr>
              <a:xfrm>
                <a:off x="4716360" y="4653000"/>
                <a:ext cx="13384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u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Object 35"/>
              <p:cNvSpPr txBox="1"/>
              <p:nvPr/>
            </p:nvSpPr>
            <p:spPr>
              <a:xfrm>
                <a:off x="6300720" y="4292640"/>
                <a:ext cx="145404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&gt;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36"/>
              <p:cNvSpPr txBox="1"/>
              <p:nvPr/>
            </p:nvSpPr>
            <p:spPr>
              <a:xfrm>
                <a:off x="5292720" y="5734080"/>
                <a:ext cx="13399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u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0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8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9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0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41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316800" y="1879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Задача №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179280" y="774360"/>
            <a:ext cx="4103640" cy="17398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едставьте число 257 в виде суммы двух чисе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) одно из которых кратно 3, а другое –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) одно из которых кратно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, а другое – 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Object 4"/>
              <p:cNvSpPr txBox="1"/>
              <p:nvPr/>
            </p:nvSpPr>
            <p:spPr>
              <a:xfrm>
                <a:off x="539640" y="2637000"/>
                <a:ext cx="2260800" cy="35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7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у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z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&gt;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8" name="Text Box 5"/>
          <p:cNvSpPr/>
          <p:nvPr/>
        </p:nvSpPr>
        <p:spPr>
          <a:xfrm>
            <a:off x="179280" y="249228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6"/>
          <p:cNvSpPr/>
          <p:nvPr/>
        </p:nvSpPr>
        <p:spPr>
          <a:xfrm>
            <a:off x="47163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4932360" y="189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б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8"/>
              <p:cNvSpPr txBox="1"/>
              <p:nvPr/>
            </p:nvSpPr>
            <p:spPr>
              <a:xfrm>
                <a:off x="5292720" y="260280"/>
                <a:ext cx="2948040" cy="554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7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у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u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u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m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&gt;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2" name="Text Box 9"/>
          <p:cNvSpPr/>
          <p:nvPr/>
        </p:nvSpPr>
        <p:spPr>
          <a:xfrm>
            <a:off x="395280" y="6237360"/>
            <a:ext cx="2087640" cy="3682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вет: 249 и 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0"/>
          <p:cNvSpPr/>
          <p:nvPr/>
        </p:nvSpPr>
        <p:spPr>
          <a:xfrm>
            <a:off x="5364000" y="6237360"/>
            <a:ext cx="2087640" cy="3682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вет: 225 и 3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11" descr="directional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826480" y="6524640"/>
            <a:ext cx="317520" cy="3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Промежуток времени, когда мог жить Диофант, составляют полтысячелетия! Нижняя грань определяется без труда: в своей книге о многоугольных числах Диофант неоднократно упоминает математика Гипсикла Александрийского который жил в середине 2-ого в. до н.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667640" y="5076720"/>
            <a:ext cx="1476360" cy="17812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147636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С другой стороны, в комментариях Теона Александрийского к «Альмагесту» знаменитого астронома Птолемея помещен отрывок из сочинения Диофанта. Теон жил в середине 4-ого в.н.э. Этим определяется верхняя грань этого промежутка. Итак, 500 л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-7021440" y="-942120"/>
            <a:ext cx="23763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то место жительства Диофанта хорошо известно – Александрия, центр научной мысли и эллинистического ми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иболее загадочным представляется творчество Диофан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tretch/>
        </p:blipFill>
        <p:spPr>
          <a:xfrm>
            <a:off x="7385040" y="3141720"/>
            <a:ext cx="1758960" cy="37162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"/>
          <p:cNvPicPr/>
          <p:nvPr/>
        </p:nvPicPr>
        <p:blipFill>
          <a:blip r:embed="rId2"/>
          <a:stretch/>
        </p:blipFill>
        <p:spPr>
          <a:xfrm>
            <a:off x="0" y="3213000"/>
            <a:ext cx="1547640" cy="3645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"/>
          <p:cNvPicPr/>
          <p:nvPr/>
        </p:nvPicPr>
        <p:blipFill>
          <a:blip r:embed="rId3"/>
          <a:stretch/>
        </p:blipFill>
        <p:spPr>
          <a:xfrm>
            <a:off x="1476360" y="3905280"/>
            <a:ext cx="1150920" cy="29527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7" descr=""/>
          <p:cNvPicPr/>
          <p:nvPr/>
        </p:nvPicPr>
        <p:blipFill>
          <a:blip r:embed="rId4"/>
          <a:stretch/>
        </p:blipFill>
        <p:spPr>
          <a:xfrm>
            <a:off x="6012000" y="3860640"/>
            <a:ext cx="13618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-3561480"/>
            <a:ext cx="514440" cy="80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Object 4"/>
          <p:cNvGraphicFramePr/>
          <p:nvPr/>
        </p:nvGraphicFramePr>
        <p:xfrm>
          <a:off x="250920" y="692280"/>
          <a:ext cx="1430280" cy="186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692280"/>
                    <a:ext cx="1430280" cy="18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Rectangle 7"/>
          <p:cNvSpPr/>
          <p:nvPr/>
        </p:nvSpPr>
        <p:spPr>
          <a:xfrm>
            <a:off x="1692360" y="620640"/>
            <a:ext cx="7127640" cy="63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 наших дней дошли два произведения Диофанта, оба не полностью. Это «Арифметика» (шесть книг из тринадцати) и отрывки из трактата «О многоугольных числах». Но о самом авторе не известно почти ничего. Его «Арифметика» стала поворотным пунктом в развитии алгебры и теории чисел. Именно здесь произошёл окончательный отказ от геометрической алгебры. В начале своего труда Диофант поместил краткое введение, ставшее первым изложением основ алгебры. В нём строится поле рациональных чисел и вводится буквенная символика. Там же формулируются правила действий с многочленами и уравнениями. Труды Диофанта имели фундаментальное значение для развития алгебры и теории чисел. С именем этого учёного связано появление и развитие алгебраической геометрии, проблемами которой впоследствии занимались Леонард Эйлер, Карл Якоби и другие авто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2000" fill="hold"/>
                                        <p:tgtEl>
                                          <p:spTgt spid="3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84987E-006 L -0.30695 -0.32523 E">
                                      <p:cBhvr>
                                        <p:cTn id="26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2"/>
          <p:cNvGrpSpPr/>
          <p:nvPr/>
        </p:nvGrpSpPr>
        <p:grpSpPr>
          <a:xfrm>
            <a:off x="5364000" y="3618000"/>
            <a:ext cx="2447640" cy="3241440"/>
            <a:chOff x="5364000" y="3618000"/>
            <a:chExt cx="2447640" cy="3241440"/>
          </a:xfrm>
        </p:grpSpPr>
        <p:pic>
          <p:nvPicPr>
            <p:cNvPr id="337" name="Picture 3" descr="чебышев"/>
            <p:cNvPicPr/>
            <p:nvPr/>
          </p:nvPicPr>
          <p:blipFill>
            <a:blip r:embed="rId2"/>
            <a:stretch/>
          </p:blipFill>
          <p:spPr>
            <a:xfrm>
              <a:off x="5364000" y="3618000"/>
              <a:ext cx="2447640" cy="32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Text Box 4"/>
            <p:cNvSpPr/>
            <p:nvPr/>
          </p:nvSpPr>
          <p:spPr>
            <a:xfrm>
              <a:off x="5772600" y="6491160"/>
              <a:ext cx="154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8080"/>
                  </a:solidFill>
                  <a:latin typeface="Arial"/>
                </a:rPr>
                <a:t>Чебыше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5"/>
          <p:cNvGrpSpPr/>
          <p:nvPr/>
        </p:nvGrpSpPr>
        <p:grpSpPr>
          <a:xfrm>
            <a:off x="900000" y="3794040"/>
            <a:ext cx="2592000" cy="3063600"/>
            <a:chOff x="900000" y="3794040"/>
            <a:chExt cx="2592000" cy="3063600"/>
          </a:xfrm>
        </p:grpSpPr>
        <p:pic>
          <p:nvPicPr>
            <p:cNvPr id="340" name="Picture 6" descr="гаусс"/>
            <p:cNvPicPr/>
            <p:nvPr/>
          </p:nvPicPr>
          <p:blipFill>
            <a:blip r:embed="rId3"/>
            <a:stretch/>
          </p:blipFill>
          <p:spPr>
            <a:xfrm>
              <a:off x="900000" y="3794040"/>
              <a:ext cx="2592000" cy="30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7"/>
            <p:cNvSpPr/>
            <p:nvPr/>
          </p:nvSpPr>
          <p:spPr>
            <a:xfrm>
              <a:off x="991440" y="6430320"/>
              <a:ext cx="174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8080"/>
                  </a:solidFill>
                  <a:latin typeface="Arial"/>
                </a:rPr>
                <a:t>Гаус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8"/>
          <p:cNvGrpSpPr/>
          <p:nvPr/>
        </p:nvGrpSpPr>
        <p:grpSpPr>
          <a:xfrm>
            <a:off x="250920" y="260280"/>
            <a:ext cx="2201760" cy="3321000"/>
            <a:chOff x="250920" y="260280"/>
            <a:chExt cx="2201760" cy="3321000"/>
          </a:xfrm>
        </p:grpSpPr>
        <p:pic>
          <p:nvPicPr>
            <p:cNvPr id="343" name="Picture 9" descr="ферма"/>
            <p:cNvPicPr/>
            <p:nvPr/>
          </p:nvPicPr>
          <p:blipFill>
            <a:blip r:embed="rId4"/>
            <a:stretch/>
          </p:blipFill>
          <p:spPr>
            <a:xfrm>
              <a:off x="250920" y="260280"/>
              <a:ext cx="220176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10"/>
            <p:cNvSpPr/>
            <p:nvPr/>
          </p:nvSpPr>
          <p:spPr>
            <a:xfrm>
              <a:off x="684360" y="321300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Фер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11"/>
          <p:cNvGrpSpPr/>
          <p:nvPr/>
        </p:nvGrpSpPr>
        <p:grpSpPr>
          <a:xfrm>
            <a:off x="3132000" y="260280"/>
            <a:ext cx="2422800" cy="3608280"/>
            <a:chOff x="3132000" y="260280"/>
            <a:chExt cx="2422800" cy="3608280"/>
          </a:xfrm>
        </p:grpSpPr>
        <p:pic>
          <p:nvPicPr>
            <p:cNvPr id="346" name="Picture 12" descr="эйлер"/>
            <p:cNvPicPr/>
            <p:nvPr/>
          </p:nvPicPr>
          <p:blipFill>
            <a:blip r:embed="rId5"/>
            <a:stretch/>
          </p:blipFill>
          <p:spPr>
            <a:xfrm>
              <a:off x="3132000" y="260280"/>
              <a:ext cx="242280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Text Box 13"/>
            <p:cNvSpPr/>
            <p:nvPr/>
          </p:nvSpPr>
          <p:spPr>
            <a:xfrm>
              <a:off x="3708360" y="350028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9999"/>
                  </a:solidFill>
                  <a:latin typeface="Arial"/>
                </a:rPr>
                <a:t>Эйле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14"/>
          <p:cNvGrpSpPr/>
          <p:nvPr/>
        </p:nvGrpSpPr>
        <p:grpSpPr>
          <a:xfrm>
            <a:off x="5940360" y="260280"/>
            <a:ext cx="2538360" cy="3025800"/>
            <a:chOff x="5940360" y="260280"/>
            <a:chExt cx="2538360" cy="3025800"/>
          </a:xfrm>
        </p:grpSpPr>
        <p:pic>
          <p:nvPicPr>
            <p:cNvPr id="349" name="Picture 15" descr="ланграж"/>
            <p:cNvPicPr/>
            <p:nvPr/>
          </p:nvPicPr>
          <p:blipFill>
            <a:blip r:embed="rId6"/>
            <a:stretch/>
          </p:blipFill>
          <p:spPr>
            <a:xfrm>
              <a:off x="5940360" y="260280"/>
              <a:ext cx="253836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Text Box 16"/>
            <p:cNvSpPr/>
            <p:nvPr/>
          </p:nvSpPr>
          <p:spPr>
            <a:xfrm>
              <a:off x="7236000" y="2917800"/>
              <a:ext cx="12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8080"/>
                  </a:solidFill>
                  <a:latin typeface="Arial"/>
                </a:rPr>
                <a:t>Лагранж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«Арифметика»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Диофанта – это сборник задач (их всего 189), каждая из которых снабжена решением (или несколькими способами решения) и необходимыми пояснениями. Поэтому, с первого взгляда, кажется, что она не является теоретическим произведением. Однако, при внимательном чтении видно, что задачи тщательно подобраны и служат для иллюстрации вполне определенных, строго продуманных методов. Как это было принято в древности, методы не формулируются в общем виде, а повторяются для решения однотипных зад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5"/>
          <p:cNvSpPr/>
          <p:nvPr/>
        </p:nvSpPr>
        <p:spPr>
          <a:xfrm>
            <a:off x="1800" y="-7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720" y="381744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7" descr="Диофант из Александрии (Diophantus of Alexandria)"/>
          <p:cNvPicPr/>
          <p:nvPr/>
        </p:nvPicPr>
        <p:blipFill>
          <a:blip r:embed="rId1"/>
          <a:stretch/>
        </p:blipFill>
        <p:spPr>
          <a:xfrm>
            <a:off x="4932360" y="1413000"/>
            <a:ext cx="3567240" cy="43196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8" descr="Файл:Diophantus-cover.jpg"/>
          <p:cNvPicPr/>
          <p:nvPr/>
        </p:nvPicPr>
        <p:blipFill>
          <a:blip r:embed="rId2"/>
          <a:stretch/>
        </p:blipFill>
        <p:spPr>
          <a:xfrm>
            <a:off x="611280" y="189000"/>
            <a:ext cx="38829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1T13:40:58Z</dcterms:created>
  <dc:creator>Customer</dc:creator>
  <dc:description/>
  <dc:language>en-US</dc:language>
  <cp:lastModifiedBy>Boss</cp:lastModifiedBy>
  <dcterms:modified xsi:type="dcterms:W3CDTF">2018-02-10T04:08:07Z</dcterms:modified>
  <cp:revision>38</cp:revision>
  <dc:subject/>
  <dc:title>Диофант и его труды.  О подробностях жизни Диофанта Александрийского практически ничего не известно. С одной стороны, Диофант цитирует Гипсикла (II век до нашей эры), с другой стороны, о Диофанте пишет Теон Александрийский (около 350 года нашей эры), следовательно, можно предположить, что его жизнь протекала в границах этого периода.</dc:title>
</cp:coreProperties>
</file>