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9D7C-D1B9-47BC-BB13-A534EC216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держании басни можно легко рассмотреть задачу комбинаторики: Сколькими различными способами могут сесть музыканты?»: Первое место может занять любой из четырёх зверей, второе - любой из трёх других, третье - любой из двух оставшихся, ну а четвёртое место займёт единственный оставшийся зверь, после того как три первых места заня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т, если применить правило произведения, то получим, что число перестановок из четырёх элементов (четырёх зверей) рав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4! = 4 * 3 * 2 * 1 = 24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955A-0A51-445D-9CBD-C0CB26E4A9CD}" type="slidenum">
              <a:rPr b="0" lang="en-US" sz="1200" spc="-1" strike="noStrike">
                <a:solidFill>
                  <a:srgbClr val="9bd3e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иал. Термин «факториал» ввёл Л. Арбогаст (1800), обозначение – К. Крамп (1808). Происхождение термина – от английских слов factorial – делающий, производящий, factor – множи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огáст Луи Франсуа Антуан (Arbogast Louis Fran&amp;ccedilois Antoine), род. 04.10.1759, Мютсиг (Эльзас) - ум. 08.04.1803, Страсбур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цузский математик, иностранный чл.-корр. Петербургской АН c 20.10.1791, член Парижской АН (1796). В 1789 составил "Опыт о новых началах дифференциального и интегрального исчисления, независимых от теорий бесконечно малых и пределов", где придерживался в основаниях анализа алгебраических принципов Ж. Лагранжа рукопись не была опубликована. В 1800 опубликовал книгу "Об исчислении дериваций. Ввел термин "факториал" (180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A602-2FBA-4CD9-BCE8-B872D0577CF3}" type="slidenum">
              <a:rPr b="0" lang="en-US" sz="1200" spc="-1" strike="noStrike">
                <a:solidFill>
                  <a:srgbClr val="9bd3e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держании басни можно легко рассмотреть задачу комбинаторики: Сколькими различными способами могут сесть музыканты?»: Первое место может занять любой из четырёх зверей, второе - любой из трёх других, третье - любой из двух оставшихся, ну а четвёртое место займёт единственный оставшийся зверь, после того как три первых места заня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т, если применить правило произведения, то получим, что число перестановок из четырёх элементов (четырёх зверей) рав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4! = 4 * 3 * 2 * 1 = 24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8444-5A6C-48E7-A255-F736D9DA7E67}" type="slidenum">
              <a:rPr b="0" lang="en-US" sz="1200" spc="-1" strike="noStrike">
                <a:solidFill>
                  <a:srgbClr val="9bd3e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3757-59CA-48BF-B8F1-3AEA6363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931-D5F1-4CAF-9849-BF39D5C4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AA1-1272-4234-9534-5588050B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428-3920-4077-A8A9-5D84E231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92ED-DE0F-494C-BB81-5DC3B2C8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7B38-2331-45D0-B9D8-1C4219A0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A0C9-2850-4244-910C-07827D74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3943-D902-489F-B5B1-467521E8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94A3-2C10-43DE-B421-137597C7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4436-8DBB-41EA-BCD9-6FB29DF0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D3C5-F37C-4335-B50E-E3092B6C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186B-A880-4582-AC0A-2B7A56A3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7BAA-AFE5-4DE6-AF8E-1E785901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11EC-82D1-4A0F-9088-775F3523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7FFC-9C1E-4A09-8200-A2C8EF93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F2A8-D518-4DED-9139-E4E6710E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32FA-2390-4950-8607-EA5C1EB5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1F3-8D09-4C93-81DA-E7ACB1F4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DCF-2D14-40CF-8467-BF38F97F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575A-79C9-4CD6-95A6-184806E6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8AB-BC23-45A7-ABA7-1D3ECBE4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EC8-7EF2-4DFF-A729-DE1A127A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711-127A-4A61-9C25-216F2BFC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BF1-0C4D-4468-B0C9-9D2D781F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9160" cy="532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>
              <a:gd name="textAreaLeft" fmla="*/ 0 w 8970840"/>
              <a:gd name="textAreaRight" fmla="*/ 8971200 w 89708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>
              <a:gd name="textAreaLeft" fmla="*/ 0 w 8975520"/>
              <a:gd name="textAreaRight" fmla="*/ 8975880 w 8975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>
              <a:gd name="textAreaLeft" fmla="*/ 0 w 8956800"/>
              <a:gd name="textAreaRight" fmla="*/ 8956800 w 895680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938520"/>
              <a:gd name="textAreaBottom" fmla="*/ 938880 h 93852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8496-22CD-4E4A-B935-D934676356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7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68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>
                <a:gd name="textAreaLeft" fmla="*/ 0 w 8931240"/>
                <a:gd name="textAreaRight" fmla="*/ 8931600 w 89312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>
                <a:gd name="textAreaLeft" fmla="*/ 0 w 8931240"/>
                <a:gd name="textAreaRight" fmla="*/ 8931600 w 89312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>
                <a:gd name="textAreaLeft" fmla="*/ 0 w 2366640"/>
                <a:gd name="textAreaRight" fmla="*/ 2367000 w 23666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74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6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77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>
              <a:gd name="textAreaLeft" fmla="*/ 0 w 8956440"/>
              <a:gd name="textAreaRight" fmla="*/ 8956800 w 89564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B4CA-CE86-465B-B153-F671730AD4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37960"/>
            <a:ext cx="91440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шим задачи (выбрав правило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1. Из города А а город В ведут 5 дорог, а из города В в город С – 3 дороги. Сколькими способами можно проехать из города А в город 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85e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2. На книжной полке стоят 3 книги по алгебре, 4 по геометрии  и 5 по литературе. Сколькими способами можно взять с полки одну книгу по математ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85e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85e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3. В меню имеется 4 первых блюда, 3 – вторых, 2 – десерта. Сколько различных обедов можно из них состав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85e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4" descr=""/>
          <p:cNvPicPr/>
          <p:nvPr/>
        </p:nvPicPr>
        <p:blipFill>
          <a:blip r:embed="rId1"/>
          <a:stretch/>
        </p:blipFill>
        <p:spPr>
          <a:xfrm>
            <a:off x="5241960" y="1895400"/>
            <a:ext cx="3048120" cy="11034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5" descr=""/>
          <p:cNvPicPr/>
          <p:nvPr/>
        </p:nvPicPr>
        <p:blipFill>
          <a:blip r:embed="rId2"/>
          <a:stretch/>
        </p:blipFill>
        <p:spPr>
          <a:xfrm>
            <a:off x="5383080" y="3895560"/>
            <a:ext cx="2797200" cy="110340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6" descr=""/>
          <p:cNvPicPr/>
          <p:nvPr/>
        </p:nvPicPr>
        <p:blipFill>
          <a:blip r:embed="rId3"/>
          <a:stretch/>
        </p:blipFill>
        <p:spPr>
          <a:xfrm>
            <a:off x="5315040" y="5541840"/>
            <a:ext cx="3700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ерестановк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Содержимое 3" descr="квартет.jpg"/>
          <p:cNvPicPr/>
          <p:nvPr/>
        </p:nvPicPr>
        <p:blipFill>
          <a:blip r:embed="rId1"/>
          <a:stretch/>
        </p:blipFill>
        <p:spPr>
          <a:xfrm>
            <a:off x="5456160" y="1262160"/>
            <a:ext cx="3664080" cy="54435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0" y="1214280"/>
            <a:ext cx="5286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«Проказница-Мартышка, Осел, Козел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Да косолапый Мишка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Затеяли сыграть Квартет.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Достали нот, баса, альта, две скрипки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И сели на лужок под липки,-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Пленять своим искусством свет.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Ударили в смычки, дерут, а толку нет.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"Стой, братцы, стой! - кричит Мартышка. -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Погодите!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Как музыке идти? Ведь вы не так сидите.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***     ***     ***    ***     ***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Послушались Осла: уселись чинно в ряд;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А все-таки Квартет нейдет на лад.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Вот пуще прежнего пошли у них разборы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И споры,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Кому и как сидеть…»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500200" y="621504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5e7f"/>
                </a:solidFill>
                <a:latin typeface="Arial"/>
              </a:rPr>
              <a:t>И.А. Крылов «Квартет»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285840" y="12859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5e7f"/>
                </a:solidFill>
                <a:latin typeface="Arial"/>
              </a:rPr>
              <a:t>Сколькими различными способами могут сесть музыканты?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36" name="Прямоугольник 8" descr=""/>
          <p:cNvPicPr/>
          <p:nvPr/>
        </p:nvPicPr>
        <p:blipFill>
          <a:blip r:embed="rId2"/>
          <a:stretch/>
        </p:blipFill>
        <p:spPr>
          <a:xfrm>
            <a:off x="-79200" y="2457360"/>
            <a:ext cx="1414440" cy="5112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9" descr=""/>
          <p:cNvPicPr/>
          <p:nvPr/>
        </p:nvPicPr>
        <p:blipFill>
          <a:blip r:embed="rId3"/>
          <a:stretch/>
        </p:blipFill>
        <p:spPr>
          <a:xfrm>
            <a:off x="-79200" y="3097080"/>
            <a:ext cx="1493640" cy="5112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0" descr=""/>
          <p:cNvPicPr/>
          <p:nvPr/>
        </p:nvPicPr>
        <p:blipFill>
          <a:blip r:embed="rId4"/>
          <a:stretch/>
        </p:blipFill>
        <p:spPr>
          <a:xfrm>
            <a:off x="-79200" y="3743280"/>
            <a:ext cx="1579320" cy="5112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1" descr=""/>
          <p:cNvPicPr/>
          <p:nvPr/>
        </p:nvPicPr>
        <p:blipFill>
          <a:blip r:embed="rId5"/>
          <a:stretch/>
        </p:blipFill>
        <p:spPr>
          <a:xfrm>
            <a:off x="-79200" y="4383000"/>
            <a:ext cx="1530000" cy="513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2"/>
          <p:cNvSpPr/>
          <p:nvPr/>
        </p:nvSpPr>
        <p:spPr>
          <a:xfrm>
            <a:off x="1285920" y="2500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Любой из четырех зверей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1214280" y="31431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Любой из трех других зверей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1214280" y="3786120"/>
            <a:ext cx="44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Любой - из двух оставшихся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1357200" y="442908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Единственный оставшийся зверь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4" name="TextBox 16"/>
          <p:cNvSpPr/>
          <p:nvPr/>
        </p:nvSpPr>
        <p:spPr>
          <a:xfrm>
            <a:off x="0" y="4941720"/>
            <a:ext cx="500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5e7f"/>
                </a:solidFill>
                <a:latin typeface="Arial"/>
              </a:rPr>
              <a:t>4 * 3 * 2 * 1 = 24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5e7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акториа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214200" y="3214800"/>
            <a:ext cx="87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5e7f"/>
                </a:solidFill>
                <a:latin typeface="Arial"/>
              </a:rPr>
              <a:t>Произведение всех последовательных натуральных чисел от 1 до n обозначается n!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285840" y="1643040"/>
            <a:ext cx="4643280" cy="113040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f1f1f1"/>
              </a:gs>
            </a:gsLst>
            <a:lin ang="16200000"/>
          </a:gradFill>
          <a:ln w="9360">
            <a:solidFill>
              <a:srgbClr val="7d7d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итаем: 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!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5e7f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285e7f"/>
                </a:solidFill>
                <a:latin typeface="Arial"/>
              </a:rPr>
              <a:t> (эн) - факториал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2428920" y="428616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5e7f"/>
                </a:solidFill>
                <a:latin typeface="Arial"/>
              </a:rPr>
              <a:t>n! = 1 · 2 · 3 · ... · n.</a:t>
            </a: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214200" y="492912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5! = 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214200" y="55008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7! = 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14200" y="6000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2! = 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714240" y="492912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1*2*3*4*5 = 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2357280" y="492912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857160" y="55008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1*2*3*4*5*6*7 = 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3000240" y="55008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5040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714240" y="600084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1*2= 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7" name="TextBox 14"/>
          <p:cNvSpPr/>
          <p:nvPr/>
        </p:nvSpPr>
        <p:spPr>
          <a:xfrm>
            <a:off x="1571760" y="60008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4214880" y="5143680"/>
            <a:ext cx="2214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59" name="Прямоугольник 16" descr=""/>
          <p:cNvPicPr/>
          <p:nvPr/>
        </p:nvPicPr>
        <p:blipFill>
          <a:blip r:embed="rId1"/>
          <a:stretch/>
        </p:blipFill>
        <p:spPr>
          <a:xfrm>
            <a:off x="3968640" y="5016600"/>
            <a:ext cx="2316240" cy="11952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7"/>
          <p:cNvSpPr/>
          <p:nvPr/>
        </p:nvSpPr>
        <p:spPr>
          <a:xfrm>
            <a:off x="6215040" y="485784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5e7f"/>
                </a:solidFill>
                <a:latin typeface="Arial"/>
              </a:rPr>
              <a:t>(англ.) factorial – делающий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6500880" y="6215040"/>
            <a:ext cx="264312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500880" y="5857920"/>
            <a:ext cx="26431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6286680" y="571500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5e7f"/>
                </a:solidFill>
                <a:latin typeface="Arial"/>
              </a:rPr>
              <a:t>(англ.) factor – множитель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ерестановк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Содержимое 3" descr="квартет.jpg"/>
          <p:cNvPicPr/>
          <p:nvPr/>
        </p:nvPicPr>
        <p:blipFill>
          <a:blip r:embed="rId1"/>
          <a:stretch/>
        </p:blipFill>
        <p:spPr>
          <a:xfrm>
            <a:off x="5456160" y="1262160"/>
            <a:ext cx="3664080" cy="54435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0" y="1214280"/>
            <a:ext cx="5286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«Проказница-Мартышка, Осел, Козел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Да косолапый Мишка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Затеяли сыграть Квартет.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Достали нот, баса, альта, две скрипки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И сели на лужок под липки,-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Пленять своим искусством свет.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Ударили в смычки, дерут, а толку нет.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"Стой, братцы, стой! - кричит Мартышка. -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Погодите!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Как музыке идти? Ведь вы не так сидите.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***     ***     ***    ***     ***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Послушались Осла: уселись чинно в ряд;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А все-таки Квартет нейдет на лад.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Вот пуще прежнего пошли у них разборы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И споры,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85e7f"/>
                </a:solidFill>
                <a:latin typeface="Arial"/>
              </a:rPr>
              <a:t>Кому и как сидеть…»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2500200" y="621504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5e7f"/>
                </a:solidFill>
                <a:latin typeface="Arial"/>
              </a:rPr>
              <a:t>И.А. Крылов «Квартет»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285840" y="12859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5e7f"/>
                </a:solidFill>
                <a:latin typeface="Arial"/>
              </a:rPr>
              <a:t>Сколькими различными способами могут сесть музыканты?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69" name="Прямоугольник 8" descr=""/>
          <p:cNvPicPr/>
          <p:nvPr/>
        </p:nvPicPr>
        <p:blipFill>
          <a:blip r:embed="rId2"/>
          <a:stretch/>
        </p:blipFill>
        <p:spPr>
          <a:xfrm>
            <a:off x="-79200" y="2457360"/>
            <a:ext cx="1414440" cy="51120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9" descr=""/>
          <p:cNvPicPr/>
          <p:nvPr/>
        </p:nvPicPr>
        <p:blipFill>
          <a:blip r:embed="rId3"/>
          <a:stretch/>
        </p:blipFill>
        <p:spPr>
          <a:xfrm>
            <a:off x="-79200" y="3097080"/>
            <a:ext cx="1493640" cy="51120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10" descr=""/>
          <p:cNvPicPr/>
          <p:nvPr/>
        </p:nvPicPr>
        <p:blipFill>
          <a:blip r:embed="rId4"/>
          <a:stretch/>
        </p:blipFill>
        <p:spPr>
          <a:xfrm>
            <a:off x="-79200" y="3743280"/>
            <a:ext cx="1579320" cy="51120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11" descr=""/>
          <p:cNvPicPr/>
          <p:nvPr/>
        </p:nvPicPr>
        <p:blipFill>
          <a:blip r:embed="rId5"/>
          <a:stretch/>
        </p:blipFill>
        <p:spPr>
          <a:xfrm>
            <a:off x="-79200" y="4383000"/>
            <a:ext cx="1530000" cy="513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2"/>
          <p:cNvSpPr/>
          <p:nvPr/>
        </p:nvSpPr>
        <p:spPr>
          <a:xfrm>
            <a:off x="1285920" y="2500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Любой из четырех зверей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1214280" y="31431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Любой из трех других зверей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5" name="TextBox 14"/>
          <p:cNvSpPr/>
          <p:nvPr/>
        </p:nvSpPr>
        <p:spPr>
          <a:xfrm>
            <a:off x="1214280" y="3786120"/>
            <a:ext cx="44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Любой - из двух оставшихся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6" name="TextBox 15"/>
          <p:cNvSpPr/>
          <p:nvPr/>
        </p:nvSpPr>
        <p:spPr>
          <a:xfrm>
            <a:off x="1357200" y="442908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Единственный оставшийся зверь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7" name="TextBox 16"/>
          <p:cNvSpPr/>
          <p:nvPr/>
        </p:nvSpPr>
        <p:spPr>
          <a:xfrm>
            <a:off x="214200" y="5429160"/>
            <a:ext cx="500076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5e7f"/>
                </a:solidFill>
                <a:latin typeface="Arial"/>
              </a:rPr>
              <a:t>Р</a:t>
            </a:r>
            <a:r>
              <a:rPr b="1" lang="ru-RU" sz="3200" spc="-1" strike="noStrike" baseline="-25000">
                <a:solidFill>
                  <a:srgbClr val="285e7f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285e7f"/>
                </a:solidFill>
                <a:latin typeface="Arial"/>
              </a:rPr>
              <a:t> = 4! = 4 * 3 * 2 * 1 = 24    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5:54Z</dcterms:created>
  <dc:creator>1</dc:creator>
  <dc:description/>
  <dc:language>en-US</dc:language>
  <cp:lastModifiedBy>Елена Жалыбина</cp:lastModifiedBy>
  <dcterms:modified xsi:type="dcterms:W3CDTF">2018-04-02T19:49:30Z</dcterms:modified>
  <cp:revision>90</cp:revision>
  <dc:subject/>
  <dc:title>Слайд 1</dc:title>
</cp:coreProperties>
</file>