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9FB-8300-418B-97C7-D452B406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C05-E9AE-4BD9-97D2-8D6E3CD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64D-5EE3-4CDB-8249-567D7130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32B-552C-4634-8E38-D9527ABE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255-1CCC-4D72-BA2C-CFE2673C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BE6-EEF5-4150-9496-90C06F3F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F53-CA67-4FEF-94C1-3D827614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4E0-AF0F-4FA1-84C3-494A800A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257-1F3A-4719-8BD0-A360D450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317-1D62-4300-92D1-8F603C9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DD3-1D53-4CFC-A98E-65CC79A5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F6B-3CBE-4902-B1C2-52CB469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8DBE-5A1C-4E6F-9DFD-988AAC8A3B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4653000"/>
            <a:ext cx="6232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лектроосветительные при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ветодиодные источники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125000"/>
            <a:ext cx="85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светодиоды имеют сложную структуру, состоящую из слоев разных полупроводниковых материал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476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етодиоде, в отличие от лампы накаливания или люминесцентной лампы, электрический ток преобразуется непосредственно в световое излучение, причем с минимальными потерями. Светодиод – низковольтный электроприбор, он мало нагревается, что делает его более безопасным. Срок службы светодиода может достигать 100 000 ча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светодиоды используются в автомобилях для подсветки экранов электронных устройств, в дизайнерском оформлении интерьеров и изделий, в качестве индикаторов в различной аппаратуре, бытовой техник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5103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Лампа накали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лампа накаливания была изобретена в 1872 году русским электротехником Л.Н. Лодыги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етателем дуговой лампы был русский ученый П.Н. Яблоч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ая лампа накаливания имеет стеклянный баллон, к которому крепится металлический цоколь с винтовой нарез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увеличения срока службы лампы воздух из стеклянной колбы удаляется или заполняют колбу инертным г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ок службы лампы накаливания составляет 1000 часов непрерывной работы или один год работы в домашних услов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ышленность выпускает лампы накаливания разных форм и размеров. Мощность ламп накаливания в бытовых осветительных устройствах колеблется в пределах 15-300 Вт.На колбе и цоколе электрической лампы есть надписи, информирующие о значении рабочего напряжения  лампы и ее мощности в ват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40428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часть электрической энергии (до 95%) в лампе накаливания превращается в невидимое инфракрасное излучение, т.е. в тепло. В некоторых случаях это позволяет использовать лампу накаливания в качестве источника теп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лительном сроке эксплуатации лампы ее нить накала утончается за счет испарения вольфрама. Процесс разрушения нити накала заканчивается ее разры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щиты от пожаро- и травмоопасного явления в отечественных лампах мощностью 60 Вт и выше в одном из медных выводов лампы устанавливается плавкий предохран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ные лампы, лишенные этой защиты, имеют дополнительную маркировку, указывающую, в каком положении должна использоваться лампа: баллоном вверх или вбок, но не вниз (в этом случае стекло баллона наиболее уязвим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35516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алогенная лам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новидностью лампы накаливания  является галогенная лампа. Данные лампы лишены упомянутых недостатков обычных ламп благодаря тому, что к находящемуся внутри инертному газу добавлено немного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галогена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пример йода.  Благодаря химической реакции между галогеном и вольфрамом нить восстанавлив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алогенная лампа делается из жаропрочного кварца, что позволяет нагреть нить до более высокой температуры. Поэтому лампа дает более яркий св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юминесцентное и неоновое осв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Люминесцентные лампы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люминесцентного освещения принадлежит русскому академику С. И. Вавилову и его учени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минесцентные лампы создают сравнительно большой световой поток при относительно малом потреблении электрической энерг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Люминесцентные лам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08000" y="1125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минесцентные лампы работают 12 000 часов при коэффициенте полезного действия в несколько раз большем, чем у ламп накаливания. Эти лампы еще называют энергосберегающими за то, что они потребляют электроэнергии приблизительно в 5 раз меньше, чем лампы накаливания и служат в 10 раз д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еоновые лампы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реклам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бка неоновой лампы заполняется неоном в смеси с другими газами для получения свечения разного цвета. Чистый неон светится оранжевым цветом; добавляя к нему другие газы, можно получить синее, зеленое, красное и белое свечение. Чтобы возникло свечение, к трубке с помощью электродов от источника переменного тока подается высокое напряжение, которое вызывает газовый раз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рофи</cp:lastModifiedBy>
  <dcterms:modified xsi:type="dcterms:W3CDTF">2018-02-26T07:48:58Z</dcterms:modified>
  <cp:revision>774</cp:revision>
  <dc:subject/>
  <dc:title>Diapositiva 1</dc:title>
</cp:coreProperties>
</file>