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87E7-FA7F-4524-A3B3-4D62BD18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CCA5-6C7A-45A5-B5DD-3C253D42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CDB3-9E3A-4BCF-A6D2-F66B3E0F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0C95-DD51-4C46-86A0-1BFF64CF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B307-70B6-4A8C-9D39-280E732E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5CBE-0C2F-4D07-B7F4-93FCF483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A65F-2F12-47BC-B585-3E225F19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13C0-09B4-4957-B29B-93F394F9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572E-A70F-4AC5-B496-45440D02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658D-8AAD-4776-96FF-7E1354D4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347D-F400-4D8F-BA20-9A48C4C7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4D41-AA6D-4266-AA70-B17FEF58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3791-D534-4CBB-8672-6090D2E5AB2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56000" y="4653000"/>
            <a:ext cx="62323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Электроосветительные приб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ветодиодные источники св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560" y="1125000"/>
            <a:ext cx="8569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е светодиоды имеют сложную структуру, состоящую из слоев разных полупроводниковых материалов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50920" y="47628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ветодиоде, в отличие от лампы накаливания или люминесцентной лампы, электрический ток преобразуется непосредственно в световое излучение, причем с минимальными потерями. Светодиод – низковольтный электроприбор, он мало нагревается, что делает его более безопасным. Срок службы светодиода может достигать 100 000 час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 светодиоды используются в автомобилях для подсветки экранов электронных устройств, в дизайнерском оформлении интерьеров и изделий, в качестве индикаторов в различной аппаратуре, бытовой технике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5103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Arial"/>
              </a:rPr>
              <a:t>Лампа накалив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198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ая лампа накаливания была изобретена в 1872 году русским электротехником Л.Н. Лодыгины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198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обретателем дуговой лампы был русский ученый П.Н. Яблоч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198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временная лампа накаливания имеет стеклянный баллон, к которому крепится металлический цоколь с винтовой нарезк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198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увеличения срока службы лампы воздух из стеклянной колбы удаляется или заполняют колбу инертным газ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198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Срок службы лампы накаливания составляет 1000 часов непрерывной работы или один год работы в домашних условия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360" y="47628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мышленность выпускает лампы накаливания разных форм и размеров. Мощность ламп накаливания в бытовых осветительных устройствах колеблется в пределах 15-300 Вт.На колбе и цоколе электрической лампы есть надписи, информирующие о значении рабочего напряжения  лампы и ее мощности в ват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50920" y="404280"/>
            <a:ext cx="8642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часть электрической энергии (до 95%) в лампе накаливания превращается в невидимое инфракрасное излучение, т.е. в тепло. В некоторых случаях это позволяет использовать лампу накаливания в качестве источника теп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длительном сроке эксплуатации лампы ее нить накала утончается за счет испарения вольфрама. Процесс разрушения нити накала заканчивается ее разрыв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защиты от пожаро- и травмоопасного явления в отечественных лампах мощностью 60 Вт и выше в одном из медных выводов лампы устанавливается плавкий предохраните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портные лампы, лишенные этой защиты, имеют дополнительную маркировку, указывающую, в каком положении должна использоваться лампа: баллоном вверх или вбок, но не вниз (в этом случае стекло баллона наиболее уязвим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35516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Галогенная лам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560" y="1052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азновидностью лампы накаливания  является галогенная лампа. Данные лампы лишены упомянутых недостатков обычных ламп благодаря тому, что к находящемуся внутри инертному газу добавлено немного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галогена,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апример йода.  Благодаря химической реакции между галогеном и вольфрамом нить восстанавливается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Галогенная лампа делается из жаропрочного кварца, что позволяет нагреть нить до более высокой температуры. Поэтому лампа дает более яркий све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Люминесцентное и неоновое осве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8920" y="1125000"/>
            <a:ext cx="8713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Люминесцентные лампы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работка люминесцентного освещения принадлежит русскому академику С. И. Вавилову и его ученик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юминесцентные лампы создают сравнительно большой световой поток при относительно малом потреблении электрической энерг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Люминесцентные лам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108000" y="112536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юминесцентные лампы работают 12 000 часов при коэффициенте полезного действия в несколько раз большем, чем у ламп накаливания. Эти лампы еще называют энергосберегающими за то, что они потребляют электроэнергии приблизительно в 5 раз меньше, чем лампы накаливания и служат в 10 раз до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Неоновые лампы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(реклам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бка неоновой лампы заполняется неоном в смеси с другими газами для получения свечения разного цвета. Чистый неон светится оранжевым цветом; добавляя к нему другие газы, можно получить синее, зеленое, красное и белое свечение. Чтобы возникло свечение, к трубке с помощью электродов от источника переменного тока подается высокое напряжение, которое вызывает газовый разря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Профи</cp:lastModifiedBy>
  <dcterms:modified xsi:type="dcterms:W3CDTF">2018-02-26T07:48:58Z</dcterms:modified>
  <cp:revision>774</cp:revision>
  <dc:subject/>
  <dc:title>Diapositiva 1</dc:title>
</cp:coreProperties>
</file>