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28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wind.wav" ContentType="audio/x-wav"/>
  <Override PartName="/ppt/media/image10.wmf" ContentType="image/x-wmf"/>
  <Override PartName="/ppt/media/image8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9.gif" ContentType="image/gif"/>
  <Override PartName="/ppt/media/image27.wmf" ContentType="image/x-wmf"/>
  <Override PartName="/ppt/media/image30.wmf" ContentType="image/x-wmf"/>
  <Override PartName="/ppt/media/drumroll.wav" ContentType="audio/x-wav"/>
  <Override PartName="/ppt/media/image12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7.wmf" ContentType="image/x-wmf"/>
  <Override PartName="/ppt/media/chimes.wav" ContentType="audio/x-wav"/>
  <Override PartName="/ppt/media/image32.wmf" ContentType="image/x-wmf"/>
  <Override PartName="/ppt/media/image2.wmf" ContentType="image/x-wmf"/>
  <Override PartName="/ppt/media/image25.wmf" ContentType="image/x-wmf"/>
  <Override PartName="/ppt/media/image1.gif" ContentType="image/gif"/>
  <Override PartName="/ppt/media/image11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40D-F50E-4732-9D00-0F0CB553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175-6BBD-4020-BE4B-E9F991E9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DF2-1B81-4186-92EE-29413347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BEB-FBC3-4929-934C-438CDABB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EDA-0F50-4B99-A51F-35B357B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15C-C119-4D7D-BB04-71B58CE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B9A-C199-49F9-978D-71D161B6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BEE-4B2D-468E-9491-7DBE01A9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680-59AF-4AA6-A135-584A8D51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976-D8B8-4281-8DA4-EF0995A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AC0-71BD-4B22-B450-DDFC923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90A-CAD6-4AE5-BA3F-6F037E0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5B39-7DDB-441E-A26D-B28551283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357120"/>
          <a:ext cx="8786880" cy="6226200"/>
        </p:xfrm>
        <a:graphic>
          <a:graphicData uri="http://schemas.openxmlformats.org/drawingml/2006/table">
            <a:tbl>
              <a:tblPr/>
              <a:tblGrid>
                <a:gridCol w="2541600"/>
                <a:gridCol w="1251000"/>
                <a:gridCol w="1247760"/>
                <a:gridCol w="1251000"/>
                <a:gridCol w="1245960"/>
                <a:gridCol w="124956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много о налог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оретические основы налогообложения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оходный налог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налог на доходы физических лиц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лог на наследство и 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ц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286160" y="14288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 какого возраста могут привлечь к налоговой  ответствен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:\АНИМАЦИЯ\Анимашки\18.gif"/>
          <p:cNvPicPr/>
          <p:nvPr/>
        </p:nvPicPr>
        <p:blipFill>
          <a:blip r:embed="rId1"/>
          <a:stretch/>
        </p:blipFill>
        <p:spPr>
          <a:xfrm>
            <a:off x="220680" y="285840"/>
            <a:ext cx="3422520" cy="56023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0008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43280" y="2214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разграничивать налоги по уровн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SUPER027.WMF"/>
          <p:cNvPicPr/>
          <p:nvPr/>
        </p:nvPicPr>
        <p:blipFill>
          <a:blip r:embed="rId1"/>
          <a:stretch/>
        </p:blipFill>
        <p:spPr>
          <a:xfrm>
            <a:off x="357120" y="0"/>
            <a:ext cx="4672080" cy="571968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71680" y="857160"/>
            <a:ext cx="378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онимается под доходом, подлежащим налогооблож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SUPER021.WMF"/>
          <p:cNvPicPr/>
          <p:nvPr/>
        </p:nvPicPr>
        <p:blipFill>
          <a:blip r:embed="rId1"/>
          <a:stretch/>
        </p:blipFill>
        <p:spPr>
          <a:xfrm>
            <a:off x="3571920" y="500040"/>
            <a:ext cx="4201920" cy="579132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2143080"/>
            <a:ext cx="46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Назовите основные виды доходов, с которых взимается нал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CRCTR024.WMF"/>
          <p:cNvPicPr/>
          <p:nvPr/>
        </p:nvPicPr>
        <p:blipFill>
          <a:blip r:embed="rId1"/>
          <a:stretch/>
        </p:blipFill>
        <p:spPr>
          <a:xfrm>
            <a:off x="4786200" y="357120"/>
            <a:ext cx="3409920" cy="55054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23080" y="100008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налоговые вычеты существуют для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доходы физических л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:\АНИМАЦИЯ\PUB60COR\AN00790_.WMF"/>
          <p:cNvPicPr/>
          <p:nvPr/>
        </p:nvPicPr>
        <p:blipFill>
          <a:blip r:embed="rId1"/>
          <a:stretch/>
        </p:blipFill>
        <p:spPr>
          <a:xfrm>
            <a:off x="2857680" y="271476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14376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43280" y="1785960"/>
            <a:ext cx="42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ставки налога на доходы существуют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CRCTR016.WMF"/>
          <p:cNvPicPr/>
          <p:nvPr/>
        </p:nvPicPr>
        <p:blipFill>
          <a:blip r:embed="rId1"/>
          <a:stretch/>
        </p:blipFill>
        <p:spPr>
          <a:xfrm>
            <a:off x="214200" y="857160"/>
            <a:ext cx="3857760" cy="539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7358040" y="428760"/>
            <a:ext cx="1143000" cy="83952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143680" y="1936800"/>
            <a:ext cx="36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должен отчитаться перед налогов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ами о своих доход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CRCTR030.WMF"/>
          <p:cNvPicPr/>
          <p:nvPr/>
        </p:nvPicPr>
        <p:blipFill>
          <a:blip r:embed="rId1"/>
          <a:stretch/>
        </p:blipFill>
        <p:spPr>
          <a:xfrm>
            <a:off x="571680" y="571680"/>
            <a:ext cx="4176360" cy="5187600"/>
          </a:xfrm>
          <a:prstGeom prst="rect">
            <a:avLst/>
          </a:prstGeom>
          <a:ln w="0">
            <a:noFill/>
          </a:ln>
        </p:spPr>
      </p:pic>
      <p:sp>
        <p:nvSpPr>
          <p:cNvPr id="9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215040"/>
            <a:ext cx="285480" cy="35712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7014">
                <a:moveTo>
                  <a:pt x="0" y="0"/>
                </a:moveTo>
                <a:lnTo>
                  <a:pt x="21600" y="0"/>
                </a:lnTo>
                <a:lnTo>
                  <a:pt x="21600" y="27014"/>
                </a:lnTo>
                <a:lnTo>
                  <a:pt x="0" y="27014"/>
                </a:lnTo>
                <a:close/>
              </a:path>
              <a:path fill="lightenLess" w="21600" h="270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14">
                <a:moveTo>
                  <a:pt x="21600" y="0"/>
                </a:moveTo>
                <a:lnTo>
                  <a:pt x="21600" y="27014"/>
                </a:lnTo>
                <a:lnTo>
                  <a:pt x="20200" y="25614"/>
                </a:lnTo>
                <a:lnTo>
                  <a:pt x="20200" y="1400"/>
                </a:lnTo>
                <a:close/>
              </a:path>
              <a:path fill="darkenLess" w="21600" h="27014">
                <a:moveTo>
                  <a:pt x="21600" y="27014"/>
                </a:moveTo>
                <a:lnTo>
                  <a:pt x="0" y="27014"/>
                </a:lnTo>
                <a:lnTo>
                  <a:pt x="1400" y="25614"/>
                </a:lnTo>
                <a:lnTo>
                  <a:pt x="20200" y="25614"/>
                </a:lnTo>
                <a:close/>
              </a:path>
              <a:path fill="lighten" w="21600" h="27014">
                <a:moveTo>
                  <a:pt x="0" y="270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14"/>
                </a:lnTo>
                <a:close/>
              </a:path>
              <a:path fill="darken" w="21600" h="27014">
                <a:moveTo>
                  <a:pt x="3794" y="13507"/>
                </a:moveTo>
                <a:lnTo>
                  <a:pt x="17806" y="6500"/>
                </a:lnTo>
                <a:lnTo>
                  <a:pt x="17806" y="2051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429160" y="2286000"/>
            <a:ext cx="335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случаях взимается налог на наслед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SUPER079.WMF"/>
          <p:cNvPicPr/>
          <p:nvPr/>
        </p:nvPicPr>
        <p:blipFill>
          <a:blip r:embed="rId1"/>
          <a:stretch/>
        </p:blipFill>
        <p:spPr>
          <a:xfrm>
            <a:off x="142920" y="128592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9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23572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о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Рисунок2.gif"/>
          <p:cNvPicPr/>
          <p:nvPr/>
        </p:nvPicPr>
        <p:blipFill>
          <a:blip r:embed="rId1"/>
          <a:stretch/>
        </p:blipFill>
        <p:spPr>
          <a:xfrm rot="505200">
            <a:off x="5316120" y="1071720"/>
            <a:ext cx="318456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29920" y="4286160"/>
            <a:ext cx="81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ставка  налога на наслед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7" descr="WEIGHT1.WMF"/>
          <p:cNvPicPr/>
          <p:nvPr/>
        </p:nvPicPr>
        <p:blipFill>
          <a:blip r:embed="rId1"/>
          <a:stretch/>
        </p:blipFill>
        <p:spPr>
          <a:xfrm>
            <a:off x="1500120" y="214200"/>
            <a:ext cx="6105600" cy="324036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71680" y="214308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 помощью какого налога обеспечивается  социальная защита и поддержка населения в государстве? Перечислите фо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>
            <a:hlinkClick r:id="" action="ppaction://hlinkshowjump?jump=firstslide"/>
          </p:cNvPr>
          <p:cNvSpPr/>
          <p:nvPr/>
        </p:nvSpPr>
        <p:spPr>
          <a:xfrm>
            <a:off x="8501040" y="62150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10800" y="6025"/>
                </a:moveTo>
                <a:lnTo>
                  <a:pt x="13376" y="8636"/>
                </a:ln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lnTo>
                  <a:pt x="17763" y="12988"/>
                </a:lnTo>
                <a:lnTo>
                  <a:pt x="16109" y="12988"/>
                </a:lnTo>
                <a:lnTo>
                  <a:pt x="16109" y="20177"/>
                </a:lnTo>
                <a:lnTo>
                  <a:pt x="5491" y="20177"/>
                </a:lnTo>
                <a:lnTo>
                  <a:pt x="5491" y="12988"/>
                </a:lnTo>
                <a:lnTo>
                  <a:pt x="3837" y="12988"/>
                </a:lnTo>
                <a:close/>
              </a:path>
              <a:path fill="darkenLess" w="21600" h="25976">
                <a:moveTo>
                  <a:pt x="13376" y="8636"/>
                </a:move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close/>
              </a:path>
              <a:path fill="darkenLess" w="21600" h="25976">
                <a:moveTo>
                  <a:pt x="9877" y="16487"/>
                </a:moveTo>
                <a:lnTo>
                  <a:pt x="11723" y="16487"/>
                </a:lnTo>
                <a:lnTo>
                  <a:pt x="11723" y="20177"/>
                </a:lnTo>
                <a:lnTo>
                  <a:pt x="16109" y="20177"/>
                </a:lnTo>
                <a:lnTo>
                  <a:pt x="16109" y="12988"/>
                </a:lnTo>
                <a:lnTo>
                  <a:pt x="5491" y="12988"/>
                </a:lnTo>
                <a:lnTo>
                  <a:pt x="5491" y="20177"/>
                </a:lnTo>
                <a:lnTo>
                  <a:pt x="9877" y="201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WHICHB.GIF"/>
          <p:cNvPicPr/>
          <p:nvPr/>
        </p:nvPicPr>
        <p:blipFill>
          <a:blip r:embed="rId1"/>
          <a:stretch/>
        </p:blipFill>
        <p:spPr>
          <a:xfrm>
            <a:off x="714240" y="500040"/>
            <a:ext cx="204156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CRCTR013.WMF"/>
          <p:cNvPicPr/>
          <p:nvPr/>
        </p:nvPicPr>
        <p:blipFill>
          <a:blip r:embed="rId2"/>
          <a:stretch/>
        </p:blipFill>
        <p:spPr>
          <a:xfrm>
            <a:off x="5715000" y="1571760"/>
            <a:ext cx="3071880" cy="47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39920" y="2714760"/>
            <a:ext cx="334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SUPER012.WMF"/>
          <p:cNvPicPr/>
          <p:nvPr/>
        </p:nvPicPr>
        <p:blipFill>
          <a:blip r:embed="rId1"/>
          <a:stretch/>
        </p:blipFill>
        <p:spPr>
          <a:xfrm>
            <a:off x="3929040" y="714240"/>
            <a:ext cx="4672080" cy="521172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19480" y="1571760"/>
            <a:ext cx="469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завещ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о из род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читают наслед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ой очере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SUPER033.WMF"/>
          <p:cNvPicPr/>
          <p:nvPr/>
        </p:nvPicPr>
        <p:blipFill>
          <a:blip r:embed="rId1"/>
          <a:stretch/>
        </p:blipFill>
        <p:spPr>
          <a:xfrm>
            <a:off x="4143240" y="1428840"/>
            <a:ext cx="4672080" cy="497520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8668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4" descr="SUPER018.WMF"/>
          <p:cNvPicPr/>
          <p:nvPr/>
        </p:nvPicPr>
        <p:blipFill>
          <a:blip r:embed="rId1"/>
          <a:stretch/>
        </p:blipFill>
        <p:spPr>
          <a:xfrm>
            <a:off x="4714920" y="642960"/>
            <a:ext cx="361476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5"/>
          <p:cNvSpPr/>
          <p:nvPr/>
        </p:nvSpPr>
        <p:spPr>
          <a:xfrm>
            <a:off x="285840" y="1071720"/>
            <a:ext cx="5357880" cy="2571480"/>
          </a:xfrm>
          <a:prstGeom prst="wedgeEllipseCallout">
            <a:avLst>
              <a:gd name="adj1" fmla="val 49189"/>
              <a:gd name="adj2" fmla="val 48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Почему акцизы можно назвать самым справедливым налог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2150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736080" y="407196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 акци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RDS.WMF"/>
          <p:cNvPicPr/>
          <p:nvPr/>
        </p:nvPicPr>
        <p:blipFill>
          <a:blip r:embed="rId1"/>
          <a:stretch/>
        </p:blipFill>
        <p:spPr>
          <a:xfrm>
            <a:off x="928800" y="571680"/>
            <a:ext cx="3643200" cy="607356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4020120" y="2071800"/>
            <a:ext cx="454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тов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лагаются акциз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SURVEYCO.WMF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5051520"/>
          </a:xfrm>
          <a:prstGeom prst="rect">
            <a:avLst/>
          </a:prstGeom>
          <a:ln w="0">
            <a:noFill/>
          </a:ln>
        </p:spPr>
      </p:pic>
      <p:sp>
        <p:nvSpPr>
          <p:cNvPr id="115" name="Управляющая кнопка: назад 6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0960" y="714240"/>
            <a:ext cx="75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" descr="PIGGYBAN.WMF"/>
          <p:cNvPicPr/>
          <p:nvPr/>
        </p:nvPicPr>
        <p:blipFill>
          <a:blip r:embed="rId1"/>
          <a:stretch/>
        </p:blipFill>
        <p:spPr>
          <a:xfrm>
            <a:off x="2286000" y="1857240"/>
            <a:ext cx="4429080" cy="413244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143760"/>
            <a:ext cx="214200" cy="28548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85480"/>
              <a:gd name="textAreaBottom" fmla="*/ 271800 h 28548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4388"/>
                </a:moveTo>
                <a:lnTo>
                  <a:pt x="17806" y="7381"/>
                </a:lnTo>
                <a:lnTo>
                  <a:pt x="17806" y="213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01000" y="60721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69160" y="135720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товары, на ваш взгля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жно добавить в спис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ожение акцизами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SUPER011.WMF"/>
          <p:cNvPicPr/>
          <p:nvPr/>
        </p:nvPicPr>
        <p:blipFill>
          <a:blip r:embed="rId1"/>
          <a:stretch/>
        </p:blipFill>
        <p:spPr>
          <a:xfrm>
            <a:off x="4857840" y="2214720"/>
            <a:ext cx="3763800" cy="38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1000" y="71424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регистрации каких актов гражда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ояния пошлина не взима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в каких  взим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ANTN034.WMF"/>
          <p:cNvPicPr/>
          <p:nvPr/>
        </p:nvPicPr>
        <p:blipFill>
          <a:blip r:embed="rId1"/>
          <a:stretch/>
        </p:blipFill>
        <p:spPr>
          <a:xfrm>
            <a:off x="2041560" y="2357280"/>
            <a:ext cx="4844880" cy="414360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072280" y="6143760"/>
            <a:ext cx="357480" cy="214200"/>
          </a:xfrm>
          <a:custGeom>
            <a:avLst/>
            <a:gdLst>
              <a:gd name="textAreaLeft" fmla="*/ 13680 w 357480"/>
              <a:gd name="textAreaRight" fmla="*/ 343800 w 357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9" y="3794"/>
                </a:lnTo>
                <a:lnTo>
                  <a:pt x="2501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96000" y="500040"/>
            <a:ext cx="87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размер государственной пошл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обращении в суд с иском имуществен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COALCOLO.WMF"/>
          <p:cNvPicPr/>
          <p:nvPr/>
        </p:nvPicPr>
        <p:blipFill>
          <a:blip r:embed="rId1"/>
          <a:stretch/>
        </p:blipFill>
        <p:spPr>
          <a:xfrm>
            <a:off x="2236680" y="1627200"/>
            <a:ext cx="3621240" cy="507348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858080" y="592920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44480" y="1928880"/>
            <a:ext cx="566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документы вы мож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формить у нотариу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GRD.WMF"/>
          <p:cNvPicPr/>
          <p:nvPr/>
        </p:nvPicPr>
        <p:blipFill>
          <a:blip r:embed="rId1"/>
          <a:stretch/>
        </p:blipFill>
        <p:spPr>
          <a:xfrm>
            <a:off x="6143760" y="1571760"/>
            <a:ext cx="2651040" cy="4786200"/>
          </a:xfrm>
          <a:prstGeom prst="rect">
            <a:avLst/>
          </a:prstGeom>
          <a:ln w="0">
            <a:noFill/>
          </a:ln>
        </p:spPr>
      </p:pic>
      <p:sp>
        <p:nvSpPr>
          <p:cNvPr id="13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501040" y="642924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CRCTR004.WMF"/>
          <p:cNvPicPr/>
          <p:nvPr/>
        </p:nvPicPr>
        <p:blipFill>
          <a:blip r:embed="rId1"/>
          <a:stretch/>
        </p:blipFill>
        <p:spPr>
          <a:xfrm>
            <a:off x="5357880" y="1214280"/>
            <a:ext cx="2913120" cy="5034240"/>
          </a:xfrm>
          <a:prstGeom prst="rect">
            <a:avLst/>
          </a:prstGeom>
          <a:ln w="0">
            <a:noFill/>
          </a:ln>
        </p:spPr>
      </p:pic>
      <p:sp>
        <p:nvSpPr>
          <p:cNvPr id="47" name="Овальная выноска 7"/>
          <p:cNvSpPr/>
          <p:nvPr/>
        </p:nvSpPr>
        <p:spPr>
          <a:xfrm>
            <a:off x="500040" y="1000080"/>
            <a:ext cx="5214960" cy="2571840"/>
          </a:xfrm>
          <a:prstGeom prst="wedgeEllipseCallout">
            <a:avLst>
              <a:gd name="adj1" fmla="val 56861"/>
              <a:gd name="adj2" fmla="val 1912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уда поступают средства от уплаты земельного нало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9880" y="378612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госпошл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SHERLOCK.WMF"/>
          <p:cNvPicPr/>
          <p:nvPr/>
        </p:nvPicPr>
        <p:blipFill>
          <a:blip r:embed="rId1"/>
          <a:stretch/>
        </p:blipFill>
        <p:spPr>
          <a:xfrm>
            <a:off x="142920" y="428760"/>
            <a:ext cx="3857760" cy="5713200"/>
          </a:xfrm>
          <a:prstGeom prst="rect">
            <a:avLst/>
          </a:prstGeom>
          <a:ln w="0">
            <a:noFill/>
          </a:ln>
        </p:spPr>
      </p:pic>
      <p:sp>
        <p:nvSpPr>
          <p:cNvPr id="133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358120" y="6286680"/>
            <a:ext cx="214560" cy="2142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5" y="3794"/>
                </a:lnTo>
                <a:lnTo>
                  <a:pt x="1782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drumroll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34920" y="1071720"/>
            <a:ext cx="67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из русских царей ввёл пош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ношение бо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5" descr="EKING.WMF"/>
          <p:cNvPicPr/>
          <p:nvPr/>
        </p:nvPicPr>
        <p:blipFill>
          <a:blip r:embed="rId1"/>
          <a:stretch/>
        </p:blipFill>
        <p:spPr>
          <a:xfrm>
            <a:off x="5143680" y="2000160"/>
            <a:ext cx="357156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4560" y="981000"/>
            <a:ext cx="844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ая существует связь между эт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метами и налог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16000" y="2997360"/>
            <a:ext cx="187164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SC03980"/>
          <p:cNvPicPr/>
          <p:nvPr/>
        </p:nvPicPr>
        <p:blipFill>
          <a:blip r:embed="rId1"/>
          <a:srcRect l="20676" t="16071" r="15505" b="0"/>
          <a:stretch/>
        </p:blipFill>
        <p:spPr>
          <a:xfrm>
            <a:off x="4572000" y="2708280"/>
            <a:ext cx="2665440" cy="26287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685800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SUPER009.WMF"/>
          <p:cNvPicPr/>
          <p:nvPr/>
        </p:nvPicPr>
        <p:blipFill>
          <a:blip r:embed="rId1"/>
          <a:stretch/>
        </p:blipFill>
        <p:spPr>
          <a:xfrm>
            <a:off x="214200" y="142920"/>
            <a:ext cx="3913200" cy="3643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643120" y="40006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акой налог служит источником формирования дорожного фон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SUPER002.WMF"/>
          <p:cNvPicPr/>
          <p:nvPr/>
        </p:nvPicPr>
        <p:blipFill>
          <a:blip r:embed="rId2"/>
          <a:stretch/>
        </p:blipFill>
        <p:spPr>
          <a:xfrm>
            <a:off x="5214960" y="857160"/>
            <a:ext cx="3187800" cy="240516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0008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72280" y="607212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SUPER026.WMF"/>
          <p:cNvPicPr/>
          <p:nvPr/>
        </p:nvPicPr>
        <p:blipFill>
          <a:blip r:embed="rId1"/>
          <a:stretch/>
        </p:blipFill>
        <p:spPr>
          <a:xfrm>
            <a:off x="4643280" y="714240"/>
            <a:ext cx="3929400" cy="520380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ая прямоугольная выноска 6"/>
          <p:cNvSpPr/>
          <p:nvPr/>
        </p:nvSpPr>
        <p:spPr>
          <a:xfrm>
            <a:off x="714240" y="1285920"/>
            <a:ext cx="4071960" cy="2071800"/>
          </a:xfrm>
          <a:prstGeom prst="wedgeRoundRectCallout">
            <a:avLst>
              <a:gd name="adj1" fmla="val 63828"/>
              <a:gd name="adj2" fmla="val 53231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Назовите примеры прямых и косвенных на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85880" y="1500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Когда начала формироваться налоговая система РФ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когда может быть введен любой новый нал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SUPER008.WMF"/>
          <p:cNvPicPr/>
          <p:nvPr/>
        </p:nvPicPr>
        <p:blipFill>
          <a:blip r:embed="rId1"/>
          <a:stretch/>
        </p:blipFill>
        <p:spPr>
          <a:xfrm>
            <a:off x="5072040" y="357120"/>
            <a:ext cx="3632400" cy="628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428760" y="24120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77680" y="71424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логовый кодек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:\приколы\Educational Cartoons\STUDENT2.WMF"/>
          <p:cNvPicPr/>
          <p:nvPr/>
        </p:nvPicPr>
        <p:blipFill>
          <a:blip r:embed="rId1"/>
          <a:stretch/>
        </p:blipFill>
        <p:spPr>
          <a:xfrm>
            <a:off x="5286240" y="1285920"/>
            <a:ext cx="2862360" cy="516744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39240" y="1285920"/>
            <a:ext cx="45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логовая сист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SUPER043.WMF"/>
          <p:cNvPicPr/>
          <p:nvPr/>
        </p:nvPicPr>
        <p:blipFill>
          <a:blip r:embed="rId1"/>
          <a:stretch/>
        </p:blipFill>
        <p:spPr>
          <a:xfrm>
            <a:off x="4714920" y="428760"/>
            <a:ext cx="2857320" cy="61434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07212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36:26Z</dcterms:created>
  <dc:creator>User</dc:creator>
  <dc:description/>
  <dc:language>en-US</dc:language>
  <cp:lastModifiedBy>Екатерина</cp:lastModifiedBy>
  <dcterms:modified xsi:type="dcterms:W3CDTF">2008-11-12T12:45:37Z</dcterms:modified>
  <cp:revision>31</cp:revision>
  <dc:subject/>
  <dc:title>Слайд 1</dc:title>
</cp:coreProperties>
</file>