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B526-EF14-45A5-8E6E-D642040E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4A60-3666-4799-869C-C7325C68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7A1D-0B1C-4044-9A4A-77DC4226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04CE-43E0-4856-BE84-09BD0E86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D81A-C714-4D30-8496-0D3CF772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62C9-2E7E-42FB-AF26-DA90887E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765-F136-4F2A-A5E9-85DD4D07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987-4147-4F8B-A272-EFED11F5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E85-D187-4C9D-A4FA-E8B1F8EB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CE92-01F8-4073-9150-D72E7B44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C3C8-41CC-4D0E-B32D-63EFA2C4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B561-1CFE-47D0-8F1B-E5FDC309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9CE9-4596-4AC6-8CAD-74A496477C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астное учреждение дошкольного образования детский сад «Сказка» школы «Карьер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1773360"/>
            <a:ext cx="8136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резентац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«Как колос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хлебом на стол пришё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остави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      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оспитатель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уханова Е.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F:\векторные изображения\stog_phenici.gif"/>
          <p:cNvPicPr/>
          <p:nvPr/>
        </p:nvPicPr>
        <p:blipFill>
          <a:blip r:embed="rId1"/>
          <a:stretch/>
        </p:blipFill>
        <p:spPr>
          <a:xfrm rot="2224800">
            <a:off x="7223040" y="2679840"/>
            <a:ext cx="1582920" cy="2157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Darkwindmage\Desktop\Хлеб\sh.jpg"/>
          <p:cNvPicPr/>
          <p:nvPr/>
        </p:nvPicPr>
        <p:blipFill>
          <a:blip r:embed="rId2"/>
          <a:stretch/>
        </p:blipFill>
        <p:spPr>
          <a:xfrm>
            <a:off x="1258920" y="4653000"/>
            <a:ext cx="23050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43280" y="1844280"/>
            <a:ext cx="33559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от запахло хлебом до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Это значит – всё готов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остаём мы из печ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атрушки, плюшки, калач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Булки ароматны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араваи знатны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орочки хрустящи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Румяные, блестящи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C:\Users\Darkwindmage\Desktop\Хлеб\dfb.jpg"/>
          <p:cNvPicPr/>
          <p:nvPr/>
        </p:nvPicPr>
        <p:blipFill>
          <a:blip r:embed="rId1"/>
          <a:stretch/>
        </p:blipFill>
        <p:spPr>
          <a:xfrm>
            <a:off x="287280" y="266760"/>
            <a:ext cx="2382840" cy="1866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:\Users\Darkwindmage\Desktop\Хлеб\sh.jpg"/>
          <p:cNvPicPr/>
          <p:nvPr/>
        </p:nvPicPr>
        <p:blipFill>
          <a:blip r:embed="rId2"/>
          <a:stretch/>
        </p:blipFill>
        <p:spPr>
          <a:xfrm>
            <a:off x="6012000" y="282600"/>
            <a:ext cx="2957400" cy="2473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C:\Users\Darkwindmage\Desktop\Хлеб\agdv.jpg"/>
          <p:cNvPicPr/>
          <p:nvPr/>
        </p:nvPicPr>
        <p:blipFill>
          <a:blip r:embed="rId3"/>
          <a:stretch/>
        </p:blipFill>
        <p:spPr>
          <a:xfrm>
            <a:off x="287280" y="4564080"/>
            <a:ext cx="2540160" cy="2046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C:\Users\Darkwindmage\Desktop\Хлеб\adfg.jpg"/>
          <p:cNvPicPr/>
          <p:nvPr/>
        </p:nvPicPr>
        <p:blipFill>
          <a:blip r:embed="rId4"/>
          <a:stretch/>
        </p:blipFill>
        <p:spPr>
          <a:xfrm>
            <a:off x="6012000" y="4425840"/>
            <a:ext cx="2919240" cy="2183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4"/>
          <p:cNvSpPr/>
          <p:nvPr/>
        </p:nvSpPr>
        <p:spPr>
          <a:xfrm>
            <a:off x="2556000" y="281160"/>
            <a:ext cx="3671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Хлеб, ребята, берегит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Никогда им не сорит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Много рук его растил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Собирали, молотил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Отдыха порой не знал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Долго у печи стоял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Чтоб для нас испечь полезны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Хлеб душистый и чудесный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Вот так малый колос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На стол хлебом прийти смог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Users\Darkwindmage\Desktop\Хлеб\sfdh.jpg"/>
          <p:cNvPicPr/>
          <p:nvPr/>
        </p:nvPicPr>
        <p:blipFill>
          <a:blip r:embed="rId1"/>
          <a:stretch/>
        </p:blipFill>
        <p:spPr>
          <a:xfrm>
            <a:off x="1733400" y="3451320"/>
            <a:ext cx="5645160" cy="3120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374328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ырос в поле колос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ак же хлебом стать он смог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 колоске домов пол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 каждом вызрело зер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C:\Users\Darkwindmage\Desktop\Хлеб\колос.jpg"/>
          <p:cNvPicPr/>
          <p:nvPr/>
        </p:nvPicPr>
        <p:blipFill>
          <a:blip r:embed="rId1"/>
          <a:srcRect l="0" t="778" r="0" b="778"/>
          <a:stretch/>
        </p:blipFill>
        <p:spPr>
          <a:xfrm>
            <a:off x="324000" y="2205000"/>
            <a:ext cx="3240000" cy="411480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  <p:pic>
        <p:nvPicPr>
          <p:cNvPr id="47" name="Picture 4" descr="C:\Users\Darkwindmage\Desktop\Хлеб\dfn.jpg"/>
          <p:cNvPicPr/>
          <p:nvPr/>
        </p:nvPicPr>
        <p:blipFill>
          <a:blip r:embed="rId2"/>
          <a:srcRect l="8695" t="0" r="8695" b="0"/>
          <a:stretch/>
        </p:blipFill>
        <p:spPr>
          <a:xfrm>
            <a:off x="4356000" y="2133720"/>
            <a:ext cx="4248360" cy="41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Рисунок 7" descr=""/>
          <p:cNvPicPr/>
          <p:nvPr/>
        </p:nvPicPr>
        <p:blipFill>
          <a:blip r:embed="rId3"/>
          <a:stretch/>
        </p:blipFill>
        <p:spPr>
          <a:xfrm>
            <a:off x="4840200" y="295200"/>
            <a:ext cx="3279960" cy="1633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393228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ышли в поле трактор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Землю им пахать пор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Чтоб посеять рожь, пшеницу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едь на поле Хлеб родитс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C:\Users\Darkwindmage\Desktop\Хлеб\tg.jpg"/>
          <p:cNvPicPr/>
          <p:nvPr/>
        </p:nvPicPr>
        <p:blipFill>
          <a:blip r:embed="rId1"/>
          <a:stretch/>
        </p:blipFill>
        <p:spPr>
          <a:xfrm>
            <a:off x="250920" y="1773360"/>
            <a:ext cx="3168720" cy="48672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" descr=""/>
          <p:cNvPicPr/>
          <p:nvPr/>
        </p:nvPicPr>
        <p:blipFill>
          <a:blip r:embed="rId2"/>
          <a:stretch/>
        </p:blipFill>
        <p:spPr>
          <a:xfrm>
            <a:off x="3971880" y="333360"/>
            <a:ext cx="4632480" cy="33116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3971880" y="43149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К севу всё уже готов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И кипит работа снова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В сеялки полным-пол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Насыпается зер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С ранней зорьки до тем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В землю сеется он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580000" y="189000"/>
            <a:ext cx="335592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C:\Users\Darkwindmage\Desktop\Хлеб\liy.jpg"/>
          <p:cNvPicPr/>
          <p:nvPr/>
        </p:nvPicPr>
        <p:blipFill>
          <a:blip r:embed="rId1"/>
          <a:srcRect l="0" t="445" r="0" b="445"/>
          <a:stretch/>
        </p:blipFill>
        <p:spPr>
          <a:xfrm>
            <a:off x="755640" y="1916280"/>
            <a:ext cx="3384720" cy="44290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395280" y="10944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Солнце землю согревае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Дождик щедро полива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К концу лета вышел срок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Вырос в поле колосок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5219640" y="41115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Дни промчались… Наступа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Время сбора урожая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C:\Users\Darkwindmage\Desktop\Хлеб\ilh.jpg"/>
          <p:cNvPicPr/>
          <p:nvPr/>
        </p:nvPicPr>
        <p:blipFill>
          <a:blip r:embed="rId2"/>
          <a:stretch/>
        </p:blipFill>
        <p:spPr>
          <a:xfrm>
            <a:off x="4932360" y="189000"/>
            <a:ext cx="341784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3640" y="5157360"/>
            <a:ext cx="381636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ружно взялись все за де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И работа закипел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 ранней зорьки и до ноч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омбайна двигатель клокочет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C:\Users\Darkwindmage\Desktop\Хлеб\j,h.jpg"/>
          <p:cNvPicPr/>
          <p:nvPr/>
        </p:nvPicPr>
        <p:blipFill>
          <a:blip r:embed="rId1"/>
          <a:srcRect l="2359" t="0" r="2359" b="0"/>
          <a:stretch/>
        </p:blipFill>
        <p:spPr>
          <a:xfrm>
            <a:off x="324000" y="260280"/>
            <a:ext cx="5211720" cy="410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5" descr="C:\Users\Darkwindmage\Desktop\Хлеб\kjbl.jpg"/>
          <p:cNvPicPr/>
          <p:nvPr/>
        </p:nvPicPr>
        <p:blipFill>
          <a:blip r:embed="rId2"/>
          <a:srcRect l="0" t="797" r="0" b="797"/>
          <a:stretch/>
        </p:blipFill>
        <p:spPr>
          <a:xfrm>
            <a:off x="3708360" y="22050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5940360" y="47628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Он колосья жнёт умело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Зерно ссыпает в грузовик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Как благородно это дел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И хлебороб к труду привык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435280" y="189000"/>
            <a:ext cx="32115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Везут зерно на элеват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А там трудяга – экскаватор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Перемешает он зерн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Чтобы проветрилось он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Чтобы под солнцем просушилос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И лучше в зиму сохранило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C:\Users\Darkwindmage\Desktop\Хлеб\kjl.jpg"/>
          <p:cNvPicPr/>
          <p:nvPr/>
        </p:nvPicPr>
        <p:blipFill>
          <a:blip r:embed="rId1"/>
          <a:stretch/>
        </p:blipFill>
        <p:spPr>
          <a:xfrm>
            <a:off x="395280" y="26028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Darkwindmage\Desktop\Хлеб\jyg.jpg"/>
          <p:cNvPicPr/>
          <p:nvPr/>
        </p:nvPicPr>
        <p:blipFill>
          <a:blip r:embed="rId2"/>
          <a:stretch/>
        </p:blipFill>
        <p:spPr>
          <a:xfrm>
            <a:off x="4859280" y="3751200"/>
            <a:ext cx="3906720" cy="2881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979280" y="4405320"/>
            <a:ext cx="40035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Лишь зерно проветрится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Его везут на мельниц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Ветер жернова враща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В муку зёрна превращает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Вы готовьте лишь мешки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Хватит здесь для всех мук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F:\классные картинки для оформления\2525\мельница0.png"/>
          <p:cNvPicPr/>
          <p:nvPr/>
        </p:nvPicPr>
        <p:blipFill>
          <a:blip r:embed="rId1"/>
          <a:stretch/>
        </p:blipFill>
        <p:spPr>
          <a:xfrm>
            <a:off x="-396720" y="4076640"/>
            <a:ext cx="2852640" cy="2852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:\Users\Darkwindmage\Desktop\Хлеб\ljl.jpg"/>
          <p:cNvPicPr/>
          <p:nvPr/>
        </p:nvPicPr>
        <p:blipFill>
          <a:blip r:embed="rId2"/>
          <a:stretch/>
        </p:blipFill>
        <p:spPr>
          <a:xfrm>
            <a:off x="324000" y="189000"/>
            <a:ext cx="5256000" cy="3968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Users\Darkwindmage\Desktop\Хлеб\jkhk.jpg"/>
          <p:cNvPicPr/>
          <p:nvPr/>
        </p:nvPicPr>
        <p:blipFill>
          <a:blip r:embed="rId3"/>
          <a:stretch/>
        </p:blipFill>
        <p:spPr>
          <a:xfrm>
            <a:off x="5889600" y="730080"/>
            <a:ext cx="2895480" cy="2886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C:\Users\Darkwindmage\Desktop\Хлеб\lkjm.jpg"/>
          <p:cNvPicPr/>
          <p:nvPr/>
        </p:nvPicPr>
        <p:blipFill>
          <a:blip r:embed="rId4"/>
          <a:stretch/>
        </p:blipFill>
        <p:spPr>
          <a:xfrm>
            <a:off x="5532480" y="4157640"/>
            <a:ext cx="325260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2"/>
          <p:cNvSpPr/>
          <p:nvPr/>
        </p:nvSpPr>
        <p:spPr>
          <a:xfrm>
            <a:off x="1908000" y="4900680"/>
            <a:ext cx="58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Поработаем искус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C:\Users\Darkwindmage\Desktop\Хлеб\,kk..jpg"/>
          <p:cNvPicPr/>
          <p:nvPr/>
        </p:nvPicPr>
        <p:blipFill>
          <a:blip r:embed="rId1"/>
          <a:stretch/>
        </p:blipFill>
        <p:spPr>
          <a:xfrm>
            <a:off x="295200" y="314280"/>
            <a:ext cx="4224240" cy="316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C:\Users\Darkwindmage\Desktop\Хлеб\kih.jpg"/>
          <p:cNvPicPr/>
          <p:nvPr/>
        </p:nvPicPr>
        <p:blipFill>
          <a:blip r:embed="rId2"/>
          <a:stretch/>
        </p:blipFill>
        <p:spPr>
          <a:xfrm>
            <a:off x="279360" y="3662280"/>
            <a:ext cx="4295880" cy="2876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792080" y="5367240"/>
            <a:ext cx="256356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оработаем искус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755640" y="2205000"/>
            <a:ext cx="3529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Яйцо добавим, сахар тож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Тесту это всё помож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Пышным быть и очень вкусн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C:\Users\Darkwindmage\Desktop\Хлеб\kjknm.jpg"/>
          <p:cNvPicPr/>
          <p:nvPr/>
        </p:nvPicPr>
        <p:blipFill>
          <a:blip r:embed="rId3"/>
          <a:stretch/>
        </p:blipFill>
        <p:spPr>
          <a:xfrm>
            <a:off x="4788000" y="247680"/>
            <a:ext cx="4105080" cy="62913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9"/>
          <p:cNvSpPr/>
          <p:nvPr/>
        </p:nvSpPr>
        <p:spPr>
          <a:xfrm>
            <a:off x="5651640" y="2550960"/>
            <a:ext cx="280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А тем временем опар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Мы для теста стави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Дрожжи с молоком, мук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Взобьём и остав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Постоит пускай в тепл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Чтобы выросло вдвойн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211640" y="404280"/>
            <a:ext cx="436392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Тесту нужно дать поднятьс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Чтобы сил могло набратьс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Чтоб воздушным было, пышным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кусный хлеб не будет лишни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C:\Users\Darkwindmage\Desktop\Хлеб\jug.jpg"/>
          <p:cNvPicPr/>
          <p:nvPr/>
        </p:nvPicPr>
        <p:blipFill>
          <a:blip r:embed="rId1"/>
          <a:stretch/>
        </p:blipFill>
        <p:spPr>
          <a:xfrm>
            <a:off x="331920" y="260280"/>
            <a:ext cx="3527280" cy="345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C:\Users\Darkwindmage\Desktop\Хлеб\kjl;.jpg"/>
          <p:cNvPicPr/>
          <p:nvPr/>
        </p:nvPicPr>
        <p:blipFill>
          <a:blip r:embed="rId2"/>
          <a:stretch/>
        </p:blipFill>
        <p:spPr>
          <a:xfrm>
            <a:off x="4137120" y="2536920"/>
            <a:ext cx="4438440" cy="43210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"/>
          <p:cNvSpPr/>
          <p:nvPr/>
        </p:nvSpPr>
        <p:spPr>
          <a:xfrm>
            <a:off x="469800" y="4221000"/>
            <a:ext cx="35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В формы тесто помещае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Пусть немного постои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В печке жару прибавляем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Веселей огонь горит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Ещё нужно подождать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Подрастёт…и в печь саж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5:33:34Z</dcterms:created>
  <dc:creator>Darkwindmage</dc:creator>
  <dc:description/>
  <cp:keywords>мама</cp:keywords>
  <dc:language>en-US</dc:language>
  <cp:lastModifiedBy>ADMIN</cp:lastModifiedBy>
  <dcterms:modified xsi:type="dcterms:W3CDTF">2018-04-02T09:27:50Z</dcterms:modified>
  <cp:revision>45</cp:revision>
  <dc:subject/>
  <dc:title>Муниципальное бюджетное дошкольное образовательное учреждение №194 «Детский сад комбинированного вида»</dc:title>
</cp:coreProperties>
</file>