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EA0-2EAF-42D0-82C5-44DC4183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E76-AE9F-4172-AD9E-C0ADEDA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AD2-EEAE-4F2C-8324-1CF1C4D0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232-38D1-4AFD-90EB-43D64B22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558-DC28-42EA-9CE1-490AA993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7AB-AF4F-47A6-A582-2D23580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350-C16C-49F4-9890-51BFE4C2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D92-5285-42E6-B140-D96DD53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E92-26BC-438B-B282-63693CA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D46-6146-45EF-9CAF-5B970C6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E40-A354-4119-B1C8-41EEBDC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DE7-6B8B-4563-92A7-A2A2BFE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5810-A1CD-4E04-9CE4-98F0C9F62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тное учреждение дошкольного образования детский сад «Сказка» школы «Карье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зентац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Как колос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хлебом на стол пришё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ста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спитатель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уханова Е.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F:\векторные изображения\stog_phenici.gif"/>
          <p:cNvPicPr/>
          <p:nvPr/>
        </p:nvPicPr>
        <p:blipFill>
          <a:blip r:embed="rId1"/>
          <a:stretch/>
        </p:blipFill>
        <p:spPr>
          <a:xfrm rot="2224800">
            <a:off x="7223040" y="2679840"/>
            <a:ext cx="1582920" cy="215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Darkwindmage\Desktop\Хлеб\sh.jpg"/>
          <p:cNvPicPr/>
          <p:nvPr/>
        </p:nvPicPr>
        <p:blipFill>
          <a:blip r:embed="rId2"/>
          <a:stretch/>
        </p:blipFill>
        <p:spPr>
          <a:xfrm>
            <a:off x="1258920" y="4653000"/>
            <a:ext cx="2305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43280" y="1844280"/>
            <a:ext cx="33559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т запахло хлебом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Это значит – всё гото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стаём мы из печ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трушки, плюшки, калач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улки аромат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аваи знатны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рочки хрустящ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умяные, блестящ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C:\Users\Darkwindmage\Desktop\Хлеб\dfb.jpg"/>
          <p:cNvPicPr/>
          <p:nvPr/>
        </p:nvPicPr>
        <p:blipFill>
          <a:blip r:embed="rId1"/>
          <a:stretch/>
        </p:blipFill>
        <p:spPr>
          <a:xfrm>
            <a:off x="287280" y="266760"/>
            <a:ext cx="2382840" cy="1866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Darkwindmage\Desktop\Хлеб\sh.jpg"/>
          <p:cNvPicPr/>
          <p:nvPr/>
        </p:nvPicPr>
        <p:blipFill>
          <a:blip r:embed="rId2"/>
          <a:stretch/>
        </p:blipFill>
        <p:spPr>
          <a:xfrm>
            <a:off x="6012000" y="282600"/>
            <a:ext cx="2957400" cy="247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Users\Darkwindmage\Desktop\Хлеб\agdv.jpg"/>
          <p:cNvPicPr/>
          <p:nvPr/>
        </p:nvPicPr>
        <p:blipFill>
          <a:blip r:embed="rId3"/>
          <a:stretch/>
        </p:blipFill>
        <p:spPr>
          <a:xfrm>
            <a:off x="287280" y="4564080"/>
            <a:ext cx="2540160" cy="204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:\Users\Darkwindmage\Desktop\Хлеб\adfg.jpg"/>
          <p:cNvPicPr/>
          <p:nvPr/>
        </p:nvPicPr>
        <p:blipFill>
          <a:blip r:embed="rId4"/>
          <a:stretch/>
        </p:blipFill>
        <p:spPr>
          <a:xfrm>
            <a:off x="6012000" y="4425840"/>
            <a:ext cx="2919240" cy="218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2556000" y="281160"/>
            <a:ext cx="367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Хлеб, ребята, берег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икогда им не сор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Много рук его расти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Собирали, молоти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Отдыха порой не зна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Долго у печи стоя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Чтоб для нас испечь полез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Хлеб душистый и чудесны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Вот так малый коло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а стол хлебом прийти смог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Darkwindmage\Desktop\Хлеб\sfdh.jpg"/>
          <p:cNvPicPr/>
          <p:nvPr/>
        </p:nvPicPr>
        <p:blipFill>
          <a:blip r:embed="rId1"/>
          <a:stretch/>
        </p:blipFill>
        <p:spPr>
          <a:xfrm>
            <a:off x="1733400" y="3451320"/>
            <a:ext cx="564516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7432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рос в поле колос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же хлебом стать он смо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колоске домов пол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каждом вызрело зер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Users\Darkwindmage\Desktop\Хлеб\колос.jpg"/>
          <p:cNvPicPr/>
          <p:nvPr/>
        </p:nvPicPr>
        <p:blipFill>
          <a:blip r:embed="rId1"/>
          <a:srcRect l="0" t="778" r="0" b="778"/>
          <a:stretch/>
        </p:blipFill>
        <p:spPr>
          <a:xfrm>
            <a:off x="324000" y="2205000"/>
            <a:ext cx="3240000" cy="41148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47" name="Picture 4" descr="C:\Users\Darkwindmage\Desktop\Хлеб\dfn.jpg"/>
          <p:cNvPicPr/>
          <p:nvPr/>
        </p:nvPicPr>
        <p:blipFill>
          <a:blip r:embed="rId2"/>
          <a:srcRect l="8695" t="0" r="8695" b="0"/>
          <a:stretch/>
        </p:blipFill>
        <p:spPr>
          <a:xfrm>
            <a:off x="4356000" y="2133720"/>
            <a:ext cx="4248360" cy="41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7" descr=""/>
          <p:cNvPicPr/>
          <p:nvPr/>
        </p:nvPicPr>
        <p:blipFill>
          <a:blip r:embed="rId3"/>
          <a:stretch/>
        </p:blipFill>
        <p:spPr>
          <a:xfrm>
            <a:off x="4840200" y="295200"/>
            <a:ext cx="3279960" cy="163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9322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шли в поле тракто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емлю им пахать по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 посеять рожь, пшеницу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едь на поле Хлеб роди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Darkwindmage\Desktop\Хлеб\tg.jpg"/>
          <p:cNvPicPr/>
          <p:nvPr/>
        </p:nvPicPr>
        <p:blipFill>
          <a:blip r:embed="rId1"/>
          <a:stretch/>
        </p:blipFill>
        <p:spPr>
          <a:xfrm>
            <a:off x="250920" y="1773360"/>
            <a:ext cx="3168720" cy="4867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3971880" y="333360"/>
            <a:ext cx="4632480" cy="3311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71880" y="4314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К севу всё уже готов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И кипит работа снов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сеялки полным-пол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Насыпается зер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С ранней зорьки до тем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землю сеется о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80000" y="189000"/>
            <a:ext cx="335592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Darkwindmage\Desktop\Хлеб\liy.jpg"/>
          <p:cNvPicPr/>
          <p:nvPr/>
        </p:nvPicPr>
        <p:blipFill>
          <a:blip r:embed="rId1"/>
          <a:srcRect l="0" t="445" r="0" b="445"/>
          <a:stretch/>
        </p:blipFill>
        <p:spPr>
          <a:xfrm>
            <a:off x="755640" y="1916280"/>
            <a:ext cx="338472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395280" y="1094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лнце землю согрева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ождик щедро пол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К концу лета вышел срок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ырос в поле колосо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5219640" y="41115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ни промчались… Наступ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ремя сбора урожа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Darkwindmage\Desktop\Хлеб\ilh.jpg"/>
          <p:cNvPicPr/>
          <p:nvPr/>
        </p:nvPicPr>
        <p:blipFill>
          <a:blip r:embed="rId2"/>
          <a:stretch/>
        </p:blipFill>
        <p:spPr>
          <a:xfrm>
            <a:off x="4932360" y="189000"/>
            <a:ext cx="341784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5157360"/>
            <a:ext cx="381636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ружно взялись все за д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 работа закипе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 ранней зорьки и до но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мбайна двигатель клокочет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Darkwindmage\Desktop\Хлеб\j,h.jpg"/>
          <p:cNvPicPr/>
          <p:nvPr/>
        </p:nvPicPr>
        <p:blipFill>
          <a:blip r:embed="rId1"/>
          <a:srcRect l="2359" t="0" r="2359" b="0"/>
          <a:stretch/>
        </p:blipFill>
        <p:spPr>
          <a:xfrm>
            <a:off x="324000" y="260280"/>
            <a:ext cx="521172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5" descr="C:\Users\Darkwindmage\Desktop\Хлеб\kjbl.jpg"/>
          <p:cNvPicPr/>
          <p:nvPr/>
        </p:nvPicPr>
        <p:blipFill>
          <a:blip r:embed="rId2"/>
          <a:srcRect l="0" t="797" r="0" b="797"/>
          <a:stretch/>
        </p:blipFill>
        <p:spPr>
          <a:xfrm>
            <a:off x="3708360" y="2205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940360" y="47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Он колосья жнёт умел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Зерно ссыпает в грузови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Как благородно это дел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И хлебороб к труду привы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435280" y="189000"/>
            <a:ext cx="32115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Везут зерно на элеват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А там трудяга – экскаватор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Перемешает он зер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Чтобы проветрилось о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Чтобы под солнцем просушилос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И лучше в зиму сохрани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Darkwindmage\Desktop\Хлеб\kjl.jpg"/>
          <p:cNvPicPr/>
          <p:nvPr/>
        </p:nvPicPr>
        <p:blipFill>
          <a:blip r:embed="rId1"/>
          <a:stretch/>
        </p:blipFill>
        <p:spPr>
          <a:xfrm>
            <a:off x="395280" y="26028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Darkwindmage\Desktop\Хлеб\jyg.jpg"/>
          <p:cNvPicPr/>
          <p:nvPr/>
        </p:nvPicPr>
        <p:blipFill>
          <a:blip r:embed="rId2"/>
          <a:stretch/>
        </p:blipFill>
        <p:spPr>
          <a:xfrm>
            <a:off x="4859280" y="3751200"/>
            <a:ext cx="390672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79280" y="4405320"/>
            <a:ext cx="4003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Лишь зерно проветрится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Его везут на мельн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етер жернова вращ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 муку зёрна превращает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 готовьте лишь мешк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Хватит здесь для всех мук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F:\классные картинки для оформления\2525\мельница0.png"/>
          <p:cNvPicPr/>
          <p:nvPr/>
        </p:nvPicPr>
        <p:blipFill>
          <a:blip r:embed="rId1"/>
          <a:stretch/>
        </p:blipFill>
        <p:spPr>
          <a:xfrm>
            <a:off x="-396720" y="407664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Darkwindmage\Desktop\Хлеб\ljl.jpg"/>
          <p:cNvPicPr/>
          <p:nvPr/>
        </p:nvPicPr>
        <p:blipFill>
          <a:blip r:embed="rId2"/>
          <a:stretch/>
        </p:blipFill>
        <p:spPr>
          <a:xfrm>
            <a:off x="324000" y="189000"/>
            <a:ext cx="5256000" cy="396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Darkwindmage\Desktop\Хлеб\jkhk.jpg"/>
          <p:cNvPicPr/>
          <p:nvPr/>
        </p:nvPicPr>
        <p:blipFill>
          <a:blip r:embed="rId3"/>
          <a:stretch/>
        </p:blipFill>
        <p:spPr>
          <a:xfrm>
            <a:off x="5889600" y="730080"/>
            <a:ext cx="2895480" cy="288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Darkwindmage\Desktop\Хлеб\lkjm.jpg"/>
          <p:cNvPicPr/>
          <p:nvPr/>
        </p:nvPicPr>
        <p:blipFill>
          <a:blip r:embed="rId4"/>
          <a:stretch/>
        </p:blipFill>
        <p:spPr>
          <a:xfrm>
            <a:off x="5532480" y="4157640"/>
            <a:ext cx="32526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908000" y="4900680"/>
            <a:ext cx="58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оработаем искус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Darkwindmage\Desktop\Хлеб\,kk..jpg"/>
          <p:cNvPicPr/>
          <p:nvPr/>
        </p:nvPicPr>
        <p:blipFill>
          <a:blip r:embed="rId1"/>
          <a:stretch/>
        </p:blipFill>
        <p:spPr>
          <a:xfrm>
            <a:off x="295200" y="314280"/>
            <a:ext cx="4224240" cy="316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Darkwindmage\Desktop\Хлеб\kih.jpg"/>
          <p:cNvPicPr/>
          <p:nvPr/>
        </p:nvPicPr>
        <p:blipFill>
          <a:blip r:embed="rId2"/>
          <a:stretch/>
        </p:blipFill>
        <p:spPr>
          <a:xfrm>
            <a:off x="279360" y="3662280"/>
            <a:ext cx="4295880" cy="287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080" y="5367240"/>
            <a:ext cx="25635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работаем иску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755640" y="2205000"/>
            <a:ext cx="3529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Яйцо добавим, сахар тож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Тесту это всё помож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ышным быть и очень вкус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Darkwindmage\Desktop\Хлеб\kjknm.jpg"/>
          <p:cNvPicPr/>
          <p:nvPr/>
        </p:nvPicPr>
        <p:blipFill>
          <a:blip r:embed="rId3"/>
          <a:stretch/>
        </p:blipFill>
        <p:spPr>
          <a:xfrm>
            <a:off x="4788000" y="247680"/>
            <a:ext cx="4105080" cy="6291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5651640" y="2550960"/>
            <a:ext cx="280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А тем временем опа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Мы для теста став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рожжи с молоком, му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зобьём и остав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стоит пускай в тепл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Чтобы выросло вдвой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211640" y="404280"/>
            <a:ext cx="436392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есту нужно дать поднять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ы сил могло набрать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 воздушным было, пышны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кусный хлеб не будет лишни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Users\Darkwindmage\Desktop\Хлеб\jug.jpg"/>
          <p:cNvPicPr/>
          <p:nvPr/>
        </p:nvPicPr>
        <p:blipFill>
          <a:blip r:embed="rId1"/>
          <a:stretch/>
        </p:blipFill>
        <p:spPr>
          <a:xfrm>
            <a:off x="331920" y="260280"/>
            <a:ext cx="3527280" cy="345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Users\Darkwindmage\Desktop\Хлеб\kjl;.jpg"/>
          <p:cNvPicPr/>
          <p:nvPr/>
        </p:nvPicPr>
        <p:blipFill>
          <a:blip r:embed="rId2"/>
          <a:stretch/>
        </p:blipFill>
        <p:spPr>
          <a:xfrm>
            <a:off x="4137120" y="2536920"/>
            <a:ext cx="4438440" cy="4321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469800" y="4221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формы тесто помещае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усть немного посто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печке жару прибавляе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еселей огонь гори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Ещё нужно подождать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драстёт…и в печь саж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5:33:34Z</dcterms:created>
  <dc:creator>Darkwindmage</dc:creator>
  <dc:description/>
  <cp:keywords>мама</cp:keywords>
  <dc:language>en-US</dc:language>
  <cp:lastModifiedBy>ADMIN</cp:lastModifiedBy>
  <dcterms:modified xsi:type="dcterms:W3CDTF">2018-04-02T09:27:50Z</dcterms:modified>
  <cp:revision>45</cp:revision>
  <dc:subject/>
  <dc:title>Муниципальное бюджетное дошкольное образовательное учреждение №194 «Детский сад комбинированного вида»</dc:title>
</cp:coreProperties>
</file>