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0F6-DE6A-4AC5-B82C-A41388A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975-D24C-4438-9617-68164B9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7A1-3FE0-4ABD-9122-C77C918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C89-5738-4984-A5FA-88FD5EED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A31-CC47-4A79-ABFE-AB0AEDA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6A9-C70E-45EE-BAB4-989FACEB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38F-E38B-4117-957A-B37DF17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E20-1142-4E0B-B8DB-5C164E7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68E-DB36-4FD2-9AC1-6349C7EB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731-D7BC-462B-9E48-347420F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31C-27FB-4AE5-9381-59BED8E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C7E-7A69-4DA2-9EB2-F4DEF89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A0A-3C6D-4966-A3D4-9331EFFF5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731880" y="349200"/>
            <a:ext cx="9234360" cy="694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400" y="6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03400" y="4571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222640" y="1293840"/>
            <a:ext cx="6253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Black"/>
              </a:rPr>
              <a:t>«Наш любимый лимонад-ты полезен или как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Научно-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Выполнила: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Деньгуб Ангелина, ученица 1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Научный руководитель: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юшкова Ирина Александро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409400" cy="6431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838080" y="365040"/>
            <a:ext cx="4956120" cy="3718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5973840" y="2841480"/>
            <a:ext cx="5273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978200" y="5144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пыт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189080" y="3581280"/>
            <a:ext cx="41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ба со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515600" cy="649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00"/>
                </a:solidFill>
                <a:latin typeface="Calibri Light"/>
              </a:rPr>
              <a:t>ВЫВОДЫ: в состав газированной воды «Кока-кола» и «Спрайт» входит вещество, которое очищает металл от ржавчины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Объект 4" descr=""/>
          <p:cNvPicPr/>
          <p:nvPr/>
        </p:nvPicPr>
        <p:blipFill>
          <a:blip r:embed="rId2"/>
          <a:stretch/>
        </p:blipFill>
        <p:spPr>
          <a:xfrm>
            <a:off x="2828880" y="52236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3497400" y="3897360"/>
            <a:ext cx="47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e79"/>
                </a:solidFill>
                <a:latin typeface="Calibri"/>
              </a:rPr>
              <a:t>Через 2 дня ржавчина полностью сошла в «Кока-Коле», через 4 дня в «Спрайте», в «Лимонаде» ржавчина удалилась не пол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985320" cy="6286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838080" y="387360"/>
            <a:ext cx="4664160" cy="3497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5627520" y="2754360"/>
            <a:ext cx="5195880" cy="389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2332080" y="474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пыт №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246320" y="350820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ба с жирными пят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838080" y="363600"/>
            <a:ext cx="9083880" cy="6494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ВЫВОД: «Кока-Кола» прекрасно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удаляет жирные пятна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2"/>
          <a:stretch/>
        </p:blipFill>
        <p:spPr>
          <a:xfrm>
            <a:off x="2303640" y="488880"/>
            <a:ext cx="5802120" cy="4351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2849400" y="3767040"/>
            <a:ext cx="47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ерез 3 дня жирное пятно в «Кока-Коле» исчезло, а в «Спрайте» и в «Лимонаде» ост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1523880" y="365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Медсестра рассказала мне о болезнях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которые могут развиться, если пи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газированные напитки в больших количествах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1717560" y="257508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7819920" y="3595680"/>
            <a:ext cx="25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ЖИРЕНИЕ    САХАРНЫЙ ДИАБ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ЗДУТИЕ И БОЛИ В ЖИВ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РИ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1185840" y="379440"/>
            <a:ext cx="9489960" cy="7032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9520" y="1298520"/>
            <a:ext cx="80740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79520" y="365040"/>
            <a:ext cx="76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адкие газированные напитки не утоляют жажду, хотя мы покупаем их именно для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мический состав напитков оказывает губительное действие на здоровье: разрушаются зубы, становятся хрупкими кости, может возникнуть ожирение, аллергия, заболевания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утоления жажды лучше использовать морсы, минеральную воду, очищенную питьевую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2"/>
          <a:stretch/>
        </p:blipFill>
        <p:spPr>
          <a:xfrm>
            <a:off x="2006640" y="2911320"/>
            <a:ext cx="2576520" cy="1739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3"/>
          <a:stretch/>
        </p:blipFill>
        <p:spPr>
          <a:xfrm>
            <a:off x="1609560" y="4772160"/>
            <a:ext cx="2216160" cy="2423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4"/>
          <a:stretch/>
        </p:blipFill>
        <p:spPr>
          <a:xfrm>
            <a:off x="6264360" y="284940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5"/>
          <a:stretch/>
        </p:blipFill>
        <p:spPr>
          <a:xfrm>
            <a:off x="4710240" y="4782960"/>
            <a:ext cx="2127240" cy="2175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6"/>
          <a:stretch/>
        </p:blipFill>
        <p:spPr>
          <a:xfrm>
            <a:off x="7786800" y="4851360"/>
            <a:ext cx="271764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66960" y="3405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Объект 5" descr=""/>
          <p:cNvPicPr/>
          <p:nvPr/>
        </p:nvPicPr>
        <p:blipFill>
          <a:blip r:embed="rId1"/>
          <a:stretch/>
        </p:blipFill>
        <p:spPr>
          <a:xfrm>
            <a:off x="811080" y="31680"/>
            <a:ext cx="9441000" cy="7091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450800" y="622440"/>
            <a:ext cx="81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ои со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азированные напитки пейте в особых случаях, а не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ержите дома газированные напи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ержите напиток во рту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йте напитки через соломинку, чтобы жидкость не соприкасалась с зу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щательно полощите рот после приема газированного напитка и чистите зубы по возмож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3040" y="1604520"/>
            <a:ext cx="1995480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725400" y="217440"/>
            <a:ext cx="8418600" cy="593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zdorovoedim.ru/wp-content/uploads/2011/06/vred_gazirovanyh_napitkov.jpg"/>
          <p:cNvPicPr/>
          <p:nvPr/>
        </p:nvPicPr>
        <p:blipFill>
          <a:blip r:embed="rId2"/>
          <a:stretch/>
        </p:blipFill>
        <p:spPr>
          <a:xfrm>
            <a:off x="725400" y="1604880"/>
            <a:ext cx="4550040" cy="4538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5021280" y="2435400"/>
            <a:ext cx="43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УДЬТЕ ЗДОРОВ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15800" y="0"/>
            <a:ext cx="11322000" cy="828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2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Цель: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доказать отрицательное влияние газированных напитков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нать историю возникновения лимонада, а также изучить состав газированных напит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социологический опрос среди своих одноклассников и их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азать вредное воздействие газировки через оп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11441160" cy="80661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0916ea28330d23c47eb0a5d852befe39.jpeg"/>
          <p:cNvPicPr/>
          <p:nvPr/>
        </p:nvPicPr>
        <p:blipFill>
          <a:blip r:embed="rId2"/>
          <a:stretch/>
        </p:blipFill>
        <p:spPr>
          <a:xfrm>
            <a:off x="331920" y="1017720"/>
            <a:ext cx="6697440" cy="584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6880" y="1825560"/>
            <a:ext cx="985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жде чем люди научи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лать лимонад,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ни пили воду из природ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сточ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рвая сладкая вода появила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семнадцатом  веке 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ранци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стую воду и лимонный с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дсластили ме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менно так появился лимона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688680" cy="7256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0_76add_fb9fc0db_XL.jpeg"/>
          <p:cNvPicPr/>
          <p:nvPr/>
        </p:nvPicPr>
        <p:blipFill>
          <a:blip r:embed="rId2"/>
          <a:stretch/>
        </p:blipFill>
        <p:spPr>
          <a:xfrm>
            <a:off x="2500200" y="544680"/>
            <a:ext cx="6415200" cy="5252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76440" y="5904000"/>
            <a:ext cx="100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Россию рецепт первого лимонада привез Петр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лимонад сразу пришелся ко д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90360" y="214200"/>
            <a:ext cx="12101760" cy="6556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2879640" y="503280"/>
            <a:ext cx="6035760" cy="4022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й стране лимонады продавались не только в бутылках, но и на розлив. На улице стояли «аппараты Агрошкина» - сатурат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038320" y="365040"/>
            <a:ext cx="7128000" cy="712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778120" y="365040"/>
            <a:ext cx="515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сладких газиров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ители и ароматиз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мон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сфор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нзоат на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kedem.ru/photo/news/2014/10/big/nphoto1412008879.jpg"/>
          <p:cNvPicPr/>
          <p:nvPr/>
        </p:nvPicPr>
        <p:blipFill>
          <a:blip r:embed="rId1"/>
          <a:stretch/>
        </p:blipFill>
        <p:spPr>
          <a:xfrm>
            <a:off x="990720" y="736560"/>
            <a:ext cx="9137520" cy="6121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03400" y="1861920"/>
            <a:ext cx="2699712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19040" y="736560"/>
            <a:ext cx="732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глекислый газ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вызывает отрыжку, вздутие живота и г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ахар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вызывает ожирение и 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расители и ароматизаторы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приводят к аллергии, а еще разрушают эмаль зубов, что приводит к кари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феин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повышает нагрузку на сердце и вызывает 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имонная кислот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влияет на эмаль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осфорная кислот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мывает кальций из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ензоат натри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может повлиять на наслед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8" descr=""/>
          <p:cNvPicPr/>
          <p:nvPr/>
        </p:nvPicPr>
        <p:blipFill>
          <a:blip r:embed="rId1"/>
          <a:stretch/>
        </p:blipFill>
        <p:spPr>
          <a:xfrm>
            <a:off x="831960" y="365040"/>
            <a:ext cx="10994760" cy="6508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2"/>
          <a:stretch/>
        </p:blipFill>
        <p:spPr>
          <a:xfrm>
            <a:off x="1006560" y="452520"/>
            <a:ext cx="5105160" cy="3828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3"/>
          <a:stretch/>
        </p:blipFill>
        <p:spPr>
          <a:xfrm>
            <a:off x="6242040" y="2657520"/>
            <a:ext cx="5470560" cy="4102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393920" y="66348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пыт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06560" y="3475080"/>
            <a:ext cx="46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ба с яичной скорл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185400" cy="65372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2359080" y="549360"/>
            <a:ext cx="5881680" cy="4411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1382760" y="529272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c3e6"/>
                </a:solidFill>
                <a:latin typeface="Calibri"/>
              </a:rPr>
              <a:t>Выводы: газированная вода «Кока-Кола» содержит красители, которые окрашивают яичную скорлупу; газированная вода растворяет кальций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013200" y="363384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Через день скорлупа в «Кока-Коле» стала темно-коричневого цвета. Позже скорлупа во всех напитках стала хрупкой и лом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09:31:41Z</dcterms:created>
  <dc:creator>User</dc:creator>
  <dc:description/>
  <dc:language>en-US</dc:language>
  <cp:lastModifiedBy>1</cp:lastModifiedBy>
  <dcterms:modified xsi:type="dcterms:W3CDTF">2018-04-02T19:07:12Z</dcterms:modified>
  <cp:revision>37</cp:revision>
  <dc:subject/>
  <dc:title>Презентация PowerPoint</dc:title>
</cp:coreProperties>
</file>