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4CF-4029-45CE-926A-E16F0133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53C-0DD0-45D9-9DBD-3AE88594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D41-A01F-4338-9E29-065480B1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F41-9218-4AAA-ADCA-354C5F90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65A-C851-44F9-9843-E445B72D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BDE-1B29-4FC2-B79B-6F1D8B87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57B-EE21-42B4-8A29-731272CF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56C-F9E2-4C27-8AF7-8BEDB038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90E-18FC-466F-9B69-8ECF7273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431-D8C8-4EF9-86FA-0F12CBB6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189-8DD3-48E3-9E5D-71519016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4F2-540C-40E2-9C33-36EBCD61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9909-3103-469C-95EE-F4BA0AD657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1"/>
          <a:stretch/>
        </p:blipFill>
        <p:spPr>
          <a:xfrm>
            <a:off x="731880" y="349200"/>
            <a:ext cx="9234360" cy="6940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400" y="6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03400" y="4571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222640" y="1293840"/>
            <a:ext cx="62532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 Black"/>
              </a:rPr>
              <a:t>«Наш любимый лимонад-ты полезен или как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Научно-исследовательск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30a0"/>
                </a:solidFill>
                <a:uFillTx/>
                <a:latin typeface="Calibri"/>
              </a:rPr>
              <a:t>Выполнила: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Деньгуб Ангелина, ученица 1 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30a0"/>
                </a:solidFill>
                <a:uFillTx/>
                <a:latin typeface="Calibri"/>
              </a:rPr>
              <a:t>Научный руководитель: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юшкова Ирина Александровна,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10409400" cy="64310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"/>
          <p:cNvPicPr/>
          <p:nvPr/>
        </p:nvPicPr>
        <p:blipFill>
          <a:blip r:embed="rId2"/>
          <a:stretch/>
        </p:blipFill>
        <p:spPr>
          <a:xfrm>
            <a:off x="838080" y="365040"/>
            <a:ext cx="4956120" cy="3718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"/>
          <p:cNvPicPr/>
          <p:nvPr/>
        </p:nvPicPr>
        <p:blipFill>
          <a:blip r:embed="rId3"/>
          <a:stretch/>
        </p:blipFill>
        <p:spPr>
          <a:xfrm>
            <a:off x="5973840" y="2841480"/>
            <a:ext cx="5273640" cy="395460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1978200" y="51444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пыт №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1189080" y="3581280"/>
            <a:ext cx="41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ба со ржавч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5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10515600" cy="6491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00"/>
                </a:solidFill>
                <a:latin typeface="Calibri Light"/>
              </a:rPr>
              <a:t>ВЫВОДЫ: в состав газированной воды «Кока-кола» и «Спрайт» входит вещество, которое очищает металл от ржавчины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Объект 4" descr=""/>
          <p:cNvPicPr/>
          <p:nvPr/>
        </p:nvPicPr>
        <p:blipFill>
          <a:blip r:embed="rId2"/>
          <a:stretch/>
        </p:blipFill>
        <p:spPr>
          <a:xfrm>
            <a:off x="2828880" y="522360"/>
            <a:ext cx="5802480" cy="435132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3497400" y="3897360"/>
            <a:ext cx="476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4e79"/>
                </a:solidFill>
                <a:latin typeface="Calibri"/>
              </a:rPr>
              <a:t>Через 2 дня ржавчина полностью сошла в «Кока-Коле», через 4 дня в «Спрайте», в «Лимонаде» ржавчина удалилась не пол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Объект 3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9985320" cy="62866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"/>
          <p:cNvPicPr/>
          <p:nvPr/>
        </p:nvPicPr>
        <p:blipFill>
          <a:blip r:embed="rId2"/>
          <a:stretch/>
        </p:blipFill>
        <p:spPr>
          <a:xfrm>
            <a:off x="838080" y="387360"/>
            <a:ext cx="4664160" cy="34974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"/>
          <p:cNvPicPr/>
          <p:nvPr/>
        </p:nvPicPr>
        <p:blipFill>
          <a:blip r:embed="rId3"/>
          <a:stretch/>
        </p:blipFill>
        <p:spPr>
          <a:xfrm>
            <a:off x="5627520" y="2754360"/>
            <a:ext cx="5195880" cy="3897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2332080" y="47484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пыт №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246320" y="350820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роба с жирными пят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>
            <a:off x="838080" y="363600"/>
            <a:ext cx="9083880" cy="6494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ВЫВОД: «Кока-Кола» прекрасно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удаляет жирные пятна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6" name="Объект 3" descr=""/>
          <p:cNvPicPr/>
          <p:nvPr/>
        </p:nvPicPr>
        <p:blipFill>
          <a:blip r:embed="rId2"/>
          <a:stretch/>
        </p:blipFill>
        <p:spPr>
          <a:xfrm>
            <a:off x="2303640" y="488880"/>
            <a:ext cx="5802120" cy="43513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2849400" y="3767040"/>
            <a:ext cx="47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Через 3 дня жирное пятно в «Кока-Коле» исчезло, а в «Спрайте» и в «Лимонаде» оста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"/>
          <p:cNvPicPr/>
          <p:nvPr/>
        </p:nvPicPr>
        <p:blipFill>
          <a:blip r:embed="rId1"/>
          <a:stretch/>
        </p:blipFill>
        <p:spPr>
          <a:xfrm>
            <a:off x="1523880" y="3650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7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Медсестра рассказала мне о болезнях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которые могут развиться, если пить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газированные напитки в больших количествах: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2"/>
          <a:stretch/>
        </p:blipFill>
        <p:spPr>
          <a:xfrm>
            <a:off x="1717560" y="2575080"/>
            <a:ext cx="5802480" cy="43513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7819920" y="3595680"/>
            <a:ext cx="254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ЖИРЕНИЕ    САХАРНЫЙ ДИАБ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ЗДУТИЕ И БОЛИ В ЖИВ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АРИ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2" descr=""/>
          <p:cNvPicPr/>
          <p:nvPr/>
        </p:nvPicPr>
        <p:blipFill>
          <a:blip r:embed="rId1"/>
          <a:stretch/>
        </p:blipFill>
        <p:spPr>
          <a:xfrm>
            <a:off x="1185840" y="379440"/>
            <a:ext cx="9489960" cy="7032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9520" y="1298520"/>
            <a:ext cx="807408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379520" y="365040"/>
            <a:ext cx="761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адкие газированные напитки не утоляют жажду, хотя мы покупаем их именно для эт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имический состав напитков оказывает губительное действие на здоровье: разрушаются зубы, становятся хрупкими кости, может возникнуть ожирение, аллергия, заболевания желу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утоления жажды лучше использовать морсы, минеральную воду, очищенную питьевую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Объект 4" descr=""/>
          <p:cNvPicPr/>
          <p:nvPr/>
        </p:nvPicPr>
        <p:blipFill>
          <a:blip r:embed="rId2"/>
          <a:stretch/>
        </p:blipFill>
        <p:spPr>
          <a:xfrm>
            <a:off x="2006640" y="2911320"/>
            <a:ext cx="2576520" cy="17398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"/>
          <p:cNvPicPr/>
          <p:nvPr/>
        </p:nvPicPr>
        <p:blipFill>
          <a:blip r:embed="rId3"/>
          <a:stretch/>
        </p:blipFill>
        <p:spPr>
          <a:xfrm>
            <a:off x="1609560" y="4772160"/>
            <a:ext cx="2216160" cy="24238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"/>
          <p:cNvPicPr/>
          <p:nvPr/>
        </p:nvPicPr>
        <p:blipFill>
          <a:blip r:embed="rId4"/>
          <a:stretch/>
        </p:blipFill>
        <p:spPr>
          <a:xfrm>
            <a:off x="6264360" y="284940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7" descr=""/>
          <p:cNvPicPr/>
          <p:nvPr/>
        </p:nvPicPr>
        <p:blipFill>
          <a:blip r:embed="rId5"/>
          <a:stretch/>
        </p:blipFill>
        <p:spPr>
          <a:xfrm>
            <a:off x="4710240" y="4782960"/>
            <a:ext cx="2127240" cy="21751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"/>
          <p:cNvPicPr/>
          <p:nvPr/>
        </p:nvPicPr>
        <p:blipFill>
          <a:blip r:embed="rId6"/>
          <a:stretch/>
        </p:blipFill>
        <p:spPr>
          <a:xfrm>
            <a:off x="7786800" y="4851360"/>
            <a:ext cx="2717640" cy="27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66960" y="34052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1" name="Объект 5" descr=""/>
          <p:cNvPicPr/>
          <p:nvPr/>
        </p:nvPicPr>
        <p:blipFill>
          <a:blip r:embed="rId1"/>
          <a:stretch/>
        </p:blipFill>
        <p:spPr>
          <a:xfrm>
            <a:off x="811080" y="31680"/>
            <a:ext cx="9441000" cy="7091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1450800" y="622440"/>
            <a:ext cx="8139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Мои со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азированные напитки пейте в особых случаях, а не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держите дома газированные напи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держите напиток во рту дол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йте напитки через соломинку, чтобы жидкость не соприкасалась с зуб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щательно полощите рот после приема газированного напитка и чистите зубы по возмож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83040" y="1604520"/>
            <a:ext cx="19954800" cy="14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4" name="Объект 4" descr=""/>
          <p:cNvPicPr/>
          <p:nvPr/>
        </p:nvPicPr>
        <p:blipFill>
          <a:blip r:embed="rId1"/>
          <a:stretch/>
        </p:blipFill>
        <p:spPr>
          <a:xfrm>
            <a:off x="725400" y="217440"/>
            <a:ext cx="8418600" cy="5931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zdorovoedim.ru/wp-content/uploads/2011/06/vred_gazirovanyh_napitkov.jpg"/>
          <p:cNvPicPr/>
          <p:nvPr/>
        </p:nvPicPr>
        <p:blipFill>
          <a:blip r:embed="rId2"/>
          <a:stretch/>
        </p:blipFill>
        <p:spPr>
          <a:xfrm>
            <a:off x="725400" y="1604880"/>
            <a:ext cx="4550040" cy="45388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5021280" y="2435400"/>
            <a:ext cx="437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БУДЬТЕ ЗДОРОВЫ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415800" y="0"/>
            <a:ext cx="11322000" cy="8283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22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 Light"/>
              </a:rPr>
              <a:t>Цель: 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доказать отрицательное влияние газированных напитков на организм человек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знать историю возникновения лимонада, а также изучить состав газированных напит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сти социологический опрос среди своих одноклассников и их р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казать вредное воздействие газировки через опы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11441160" cy="806616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5" descr="0916ea28330d23c47eb0a5d852befe39.jpeg"/>
          <p:cNvPicPr/>
          <p:nvPr/>
        </p:nvPicPr>
        <p:blipFill>
          <a:blip r:embed="rId2"/>
          <a:stretch/>
        </p:blipFill>
        <p:spPr>
          <a:xfrm>
            <a:off x="331920" y="1017720"/>
            <a:ext cx="6697440" cy="5840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96880" y="1825560"/>
            <a:ext cx="985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ежде чем люди научили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елать лимонад,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ни пили воду из природ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сточни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ервая сладкая вода появилас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 семнадцатом  веке 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Франци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остую воду и лимонный с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дсластили ме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менно так появился лимона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5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9688680" cy="7256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Содержимое 3" descr="0_76add_fb9fc0db_XL.jpeg"/>
          <p:cNvPicPr/>
          <p:nvPr/>
        </p:nvPicPr>
        <p:blipFill>
          <a:blip r:embed="rId2"/>
          <a:stretch/>
        </p:blipFill>
        <p:spPr>
          <a:xfrm>
            <a:off x="2500200" y="544680"/>
            <a:ext cx="6415200" cy="525276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676440" y="5904000"/>
            <a:ext cx="1001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В Россию рецепт первого лимонада привез Петр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, лимонад сразу пришелся ко дв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90360" y="214200"/>
            <a:ext cx="12101760" cy="6556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>
            <a:off x="2879640" y="503280"/>
            <a:ext cx="6035760" cy="4022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ашей стране лимонады продавались не только в бутылках, но и на розлив. На улице стояли «аппараты Агрошкина» - сатурато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2038320" y="365040"/>
            <a:ext cx="7128000" cy="712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2778120" y="365040"/>
            <a:ext cx="5154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став сладких газирово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глекислый г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х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асители и ароматиза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монная кисл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сфорная кисл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ензоат на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kedem.ru/photo/news/2014/10/big/nphoto1412008879.jpg"/>
          <p:cNvPicPr/>
          <p:nvPr/>
        </p:nvPicPr>
        <p:blipFill>
          <a:blip r:embed="rId1"/>
          <a:stretch/>
        </p:blipFill>
        <p:spPr>
          <a:xfrm>
            <a:off x="990720" y="736560"/>
            <a:ext cx="9137520" cy="61214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03400" y="1861920"/>
            <a:ext cx="26997120" cy="35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19040" y="736560"/>
            <a:ext cx="732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глекислый газ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– вызывает отрыжку, вздутие живота и г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ахар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– вызывает ожирение и сахарный диаб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расители и ароматизаторы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– приводят к аллергии, а еще разрушают эмаль зубов, что приводит к кари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офеин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– повышает нагрузку на сердце и вызывает головные б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Лимонная кислота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– влияет на эмаль зу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Фосфорная кислота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ымывает кальций из 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ензоат натрия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– может повлиять на наслед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8" descr=""/>
          <p:cNvPicPr/>
          <p:nvPr/>
        </p:nvPicPr>
        <p:blipFill>
          <a:blip r:embed="rId1"/>
          <a:stretch/>
        </p:blipFill>
        <p:spPr>
          <a:xfrm>
            <a:off x="831960" y="365040"/>
            <a:ext cx="10994760" cy="6508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2"/>
          <a:stretch/>
        </p:blipFill>
        <p:spPr>
          <a:xfrm>
            <a:off x="1006560" y="452520"/>
            <a:ext cx="5105160" cy="38289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"/>
          <p:cNvPicPr/>
          <p:nvPr/>
        </p:nvPicPr>
        <p:blipFill>
          <a:blip r:embed="rId3"/>
          <a:stretch/>
        </p:blipFill>
        <p:spPr>
          <a:xfrm>
            <a:off x="6242040" y="2657520"/>
            <a:ext cx="5470560" cy="410220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1393920" y="663480"/>
            <a:ext cx="37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пыт №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006560" y="3475080"/>
            <a:ext cx="46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роба с яичной скорлуп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9185400" cy="65372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2"/>
          <a:stretch/>
        </p:blipFill>
        <p:spPr>
          <a:xfrm>
            <a:off x="2359080" y="549360"/>
            <a:ext cx="5881680" cy="4411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1382760" y="5292720"/>
            <a:ext cx="76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c3e6"/>
                </a:solidFill>
                <a:latin typeface="Calibri"/>
              </a:rPr>
              <a:t>Выводы: газированная вода «Кока-Кола» содержит красители, которые окрашивают яичную скорлупу; газированная вода растворяет кальций в скорлу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013200" y="363384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</a:rPr>
              <a:t>Через день скорлупа в «Кока-Коле» стала темно-коричневого цвета. Позже скорлупа во всех напитках стала хрупкой и лом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5T09:31:41Z</dcterms:created>
  <dc:creator>User</dc:creator>
  <dc:description/>
  <dc:language>en-US</dc:language>
  <cp:lastModifiedBy>1</cp:lastModifiedBy>
  <dcterms:modified xsi:type="dcterms:W3CDTF">2018-04-02T19:07:12Z</dcterms:modified>
  <cp:revision>37</cp:revision>
  <dc:subject/>
  <dc:title>Презентация PowerPoint</dc:title>
</cp:coreProperties>
</file>