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CE9-4C8D-4111-BF6D-C978ED19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A48-6BF9-4ADE-B7B3-6BF0A4F1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B32-9413-46B3-AC9B-38D579EF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DB6-95E0-4FB3-80F7-7F9DD849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26A-E32E-4B17-AAD9-21039D1F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3B4-7F5A-44CB-956C-9642A3EE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1D8-72CD-4125-AF70-17F5FCE3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33C-E115-4DA7-A1C1-BB51B89D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DF0-7BB4-4ECE-B1A0-992AAD32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84A-B8E9-4CB9-A379-D5D5B729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739-61C4-4AF9-8A1D-66B72D3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254-1B8E-492F-9D83-23D4D0FB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A23B-650C-4E63-8367-8FEA065E1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я В-8 (ОБ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755640" y="765000"/>
            <a:ext cx="7345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менени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извод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В какой точке отрез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3;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функция принимает наибольше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ask-4/ps/task-4.1"/>
          <p:cNvPicPr/>
          <p:nvPr/>
        </p:nvPicPr>
        <p:blipFill>
          <a:blip r:embed="rId1"/>
          <a:stretch/>
        </p:blipFill>
        <p:spPr>
          <a:xfrm>
            <a:off x="1403280" y="1379520"/>
            <a:ext cx="62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В какой точке отрез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7;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я принимает наименьшее знач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ask-4/ps/task-4.7"/>
          <p:cNvPicPr/>
          <p:nvPr/>
        </p:nvPicPr>
        <p:blipFill>
          <a:blip r:embed="rId1"/>
          <a:stretch/>
        </p:blipFill>
        <p:spPr>
          <a:xfrm>
            <a:off x="971640" y="1587600"/>
            <a:ext cx="66247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;(-11;11) . Найдите количество точек экстремума функции на отрез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0;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task-5/ps/task-5.5"/>
          <p:cNvPicPr/>
          <p:nvPr/>
        </p:nvPicPr>
        <p:blipFill>
          <a:blip r:embed="rId1"/>
          <a:stretch/>
        </p:blipFill>
        <p:spPr>
          <a:xfrm>
            <a:off x="0" y="1947960"/>
            <a:ext cx="8604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Найдите промежутки возрастания функции . В ответе укажите длину наибольшего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task-7/ps/task-7.1"/>
          <p:cNvPicPr/>
          <p:nvPr/>
        </p:nvPicPr>
        <p:blipFill>
          <a:blip r:embed="rId1"/>
          <a:stretch/>
        </p:blipFill>
        <p:spPr>
          <a:xfrm>
            <a:off x="1403280" y="1484280"/>
            <a:ext cx="662472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Найдите промежутки убывания функции . В ответе укажите длину наибольшего из ни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sk-7/ps/task-7.3"/>
          <p:cNvPicPr/>
          <p:nvPr/>
        </p:nvPicPr>
        <p:blipFill>
          <a:blip r:embed="rId1"/>
          <a:stretch/>
        </p:blipFill>
        <p:spPr>
          <a:xfrm>
            <a:off x="1403280" y="1773360"/>
            <a:ext cx="68770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ён график функции и касательная к нему в точке с абсциссой . Найдите значение производной функции в точ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task-14/ps/task-14.4"/>
          <p:cNvPicPr/>
          <p:nvPr/>
        </p:nvPicPr>
        <p:blipFill>
          <a:blip r:embed="rId1"/>
          <a:stretch/>
        </p:blipFill>
        <p:spPr>
          <a:xfrm>
            <a:off x="1763640" y="1325520"/>
            <a:ext cx="5329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Найдите количество точек, в которых касательная к графику функции у=-2х-11 параллельна прямой или совпадает с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task-8/ps/task-8.1"/>
          <p:cNvPicPr/>
          <p:nvPr/>
        </p:nvPicPr>
        <p:blipFill>
          <a:blip r:embed="rId1"/>
          <a:stretch/>
        </p:blipFill>
        <p:spPr>
          <a:xfrm>
            <a:off x="1042920" y="1509840"/>
            <a:ext cx="705816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 функции , определенной на интервале . Найдите количество точек, в которых касательная к графику функции параллельна прямой у=6 или совпадает с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.E10.B8.102_dop/innerimg0.jpg"/>
          <p:cNvPicPr/>
          <p:nvPr/>
        </p:nvPicPr>
        <p:blipFill>
          <a:blip r:embed="rId1"/>
          <a:stretch/>
        </p:blipFill>
        <p:spPr>
          <a:xfrm>
            <a:off x="1042920" y="2133720"/>
            <a:ext cx="6637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Найдите количество точек минимума функ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task-5/ps/task-5.3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(-7;14) . Найдите количество точек максимума функции на отрезк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6;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task-5/ps/task-5.1"/>
          <p:cNvPicPr/>
          <p:nvPr/>
        </p:nvPicPr>
        <p:blipFill>
          <a:blip r:embed="rId1"/>
          <a:stretch/>
        </p:blipFill>
        <p:spPr>
          <a:xfrm>
            <a:off x="468360" y="1886040"/>
            <a:ext cx="82072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 график функции , определенной на интервале(-2;12) . Найдите сумму точек экстремума фун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task-3/ps/task-3.2"/>
          <p:cNvPicPr/>
          <p:nvPr/>
        </p:nvPicPr>
        <p:blipFill>
          <a:blip r:embed="rId1"/>
          <a:stretch/>
        </p:blipFill>
        <p:spPr>
          <a:xfrm>
            <a:off x="1187280" y="1844640"/>
            <a:ext cx="604872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 функции , определенной на интервале(-5;5) . Определите количество целых точек, в которых производная функции  отрицатель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A.E10.B8.104_dop/innerimg0.jpg"/>
          <p:cNvPicPr/>
          <p:nvPr/>
        </p:nvPicPr>
        <p:blipFill>
          <a:blip r:embed="rId1"/>
          <a:stretch/>
        </p:blipFill>
        <p:spPr>
          <a:xfrm>
            <a:off x="1187280" y="1773360"/>
            <a:ext cx="648036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функции , определенной на интервале . Определите количество целых точек, в которых производная функции положитель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task-1/ps/task-1.2"/>
          <p:cNvPicPr/>
          <p:nvPr/>
        </p:nvPicPr>
        <p:blipFill>
          <a:blip r:embed="rId1"/>
          <a:stretch/>
        </p:blipFill>
        <p:spPr>
          <a:xfrm>
            <a:off x="900000" y="1452600"/>
            <a:ext cx="72723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0:25:32Z</dcterms:created>
  <dc:creator>Loner-XP</dc:creator>
  <dc:description/>
  <dc:language>en-US</dc:language>
  <cp:lastModifiedBy>ААЛ</cp:lastModifiedBy>
  <dcterms:modified xsi:type="dcterms:W3CDTF">2013-06-27T20:49:00Z</dcterms:modified>
  <cp:revision>7</cp:revision>
  <dc:subject/>
  <dc:title>Применение производной </dc:title>
</cp:coreProperties>
</file>