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8382-EBCB-4896-BFB3-D082C4D1D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C5AB-B7B8-4C1B-896F-D218C396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9077-7BF7-4E1B-93A8-3B4EE9C5B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F26B-1577-42C1-A4E4-32D66F0E1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C7C4-625B-4F65-B8AB-69CE7EDF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2C3D-D77F-42E7-AB6D-2F0F1B02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BC1A-50EE-4C7F-BC92-8269C937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F6DD-6A37-4946-9873-A2CC1944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0FA7-A3AB-4E55-84C4-CF557948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71E9-1600-4893-9AE4-8BB6EB0B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5EA6-7FEB-4BF6-9F8D-8A51654F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ACC3-E7DB-4F96-B2D0-F1B26C36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FD9C-0B53-4CD6-BD0D-EAE6C8D008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ния В-8 (ОБ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755640" y="765000"/>
            <a:ext cx="734544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менение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изводно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исунке изображен график производной функции , определенной на интервале . В какой точке отрез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3;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функция принимает наибольшее знач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task-4/ps/task-4.1"/>
          <p:cNvPicPr/>
          <p:nvPr/>
        </p:nvPicPr>
        <p:blipFill>
          <a:blip r:embed="rId1"/>
          <a:stretch/>
        </p:blipFill>
        <p:spPr>
          <a:xfrm>
            <a:off x="1403280" y="1379520"/>
            <a:ext cx="62643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исунке изображен график производной функции , определенной на интервале . В какой точке отрез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7;-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функция принимает наименьшее значени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task-4/ps/task-4.7"/>
          <p:cNvPicPr/>
          <p:nvPr/>
        </p:nvPicPr>
        <p:blipFill>
          <a:blip r:embed="rId1"/>
          <a:stretch/>
        </p:blipFill>
        <p:spPr>
          <a:xfrm>
            <a:off x="971640" y="1587600"/>
            <a:ext cx="662472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исунке изображен график производной функции , определенной на интервале;(-11;11) . Найдите количество точек экстремума функции на отрезк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10;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task-5/ps/task-5.5"/>
          <p:cNvPicPr/>
          <p:nvPr/>
        </p:nvPicPr>
        <p:blipFill>
          <a:blip r:embed="rId1"/>
          <a:stretch/>
        </p:blipFill>
        <p:spPr>
          <a:xfrm>
            <a:off x="0" y="1947960"/>
            <a:ext cx="8604360" cy="39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исунке изображен график производной функции , определенной на интервале . Найдите промежутки возрастания функции . В ответе укажите длину наибольшего из н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task-7/ps/task-7.1"/>
          <p:cNvPicPr/>
          <p:nvPr/>
        </p:nvPicPr>
        <p:blipFill>
          <a:blip r:embed="rId1"/>
          <a:stretch/>
        </p:blipFill>
        <p:spPr>
          <a:xfrm>
            <a:off x="1403280" y="1484280"/>
            <a:ext cx="662472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исунке изображен график производной функции , определенной на интервале . Найдите промежутки убывания функции . В ответе укажите длину наибольшего из них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task-7/ps/task-7.3"/>
          <p:cNvPicPr/>
          <p:nvPr/>
        </p:nvPicPr>
        <p:blipFill>
          <a:blip r:embed="rId1"/>
          <a:stretch/>
        </p:blipFill>
        <p:spPr>
          <a:xfrm>
            <a:off x="1403280" y="1773360"/>
            <a:ext cx="687708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исунке изображён график функции и касательная к нему в точке с абсциссой . Найдите значение производной функции в точк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task-14/ps/task-14.4"/>
          <p:cNvPicPr/>
          <p:nvPr/>
        </p:nvPicPr>
        <p:blipFill>
          <a:blip r:embed="rId1"/>
          <a:stretch/>
        </p:blipFill>
        <p:spPr>
          <a:xfrm>
            <a:off x="1763640" y="1325520"/>
            <a:ext cx="53294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исунке изображен график производной функции , определенной на интервале . Найдите количество точек, в которых касательная к графику функции у=-2х-11 параллельна прямой или совпадает с 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task-8/ps/task-8.1"/>
          <p:cNvPicPr/>
          <p:nvPr/>
        </p:nvPicPr>
        <p:blipFill>
          <a:blip r:embed="rId1"/>
          <a:stretch/>
        </p:blipFill>
        <p:spPr>
          <a:xfrm>
            <a:off x="1042920" y="1509840"/>
            <a:ext cx="705816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исунке изображен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фик функции , определенной на интервале . Найдите количество точек, в которых касательная к графику функции параллельна прямой у=6 или совпадает с 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A.E10.B8.102_dop/innerimg0.jpg"/>
          <p:cNvPicPr/>
          <p:nvPr/>
        </p:nvPicPr>
        <p:blipFill>
          <a:blip r:embed="rId1"/>
          <a:stretch/>
        </p:blipFill>
        <p:spPr>
          <a:xfrm>
            <a:off x="1042920" y="2133720"/>
            <a:ext cx="66373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исунке изображен график производной функции , определенной на интервале . Найдите количество точек минимума функции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task-5/ps/task-5.3"/>
          <p:cNvPicPr/>
          <p:nvPr/>
        </p:nvPicPr>
        <p:blipFill>
          <a:blip r:embed="rId1"/>
          <a:stretch/>
        </p:blipFill>
        <p:spPr>
          <a:xfrm>
            <a:off x="539640" y="1557360"/>
            <a:ext cx="806472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исунке изображен график производной функции , определенной на интервале(-7;14) . Найдите количество точек максимума функции на отрезке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6;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task-5/ps/task-5.1"/>
          <p:cNvPicPr/>
          <p:nvPr/>
        </p:nvPicPr>
        <p:blipFill>
          <a:blip r:embed="rId1"/>
          <a:stretch/>
        </p:blipFill>
        <p:spPr>
          <a:xfrm>
            <a:off x="468360" y="1886040"/>
            <a:ext cx="820728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8200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рисунке изображен график функции , определенной на интервале(-2;12) . Найдите сумму точек экстремума функц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task-3/ps/task-3.2"/>
          <p:cNvPicPr/>
          <p:nvPr/>
        </p:nvPicPr>
        <p:blipFill>
          <a:blip r:embed="rId1"/>
          <a:stretch/>
        </p:blipFill>
        <p:spPr>
          <a:xfrm>
            <a:off x="1187280" y="1844640"/>
            <a:ext cx="6048720" cy="45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исунке изображен график функции , определенной на интервале(-5;5) . Определите количество целых точек, в которых производная функции  отрицательн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MA.E10.B8.104_dop/innerimg0.jpg"/>
          <p:cNvPicPr/>
          <p:nvPr/>
        </p:nvPicPr>
        <p:blipFill>
          <a:blip r:embed="rId1"/>
          <a:stretch/>
        </p:blipFill>
        <p:spPr>
          <a:xfrm>
            <a:off x="1187280" y="1773360"/>
            <a:ext cx="6480360" cy="41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исунке изображен график функции , определенной на интервале . Определите количество целых точек, в которых производная функции положитель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task-1/ps/task-1.2"/>
          <p:cNvPicPr/>
          <p:nvPr/>
        </p:nvPicPr>
        <p:blipFill>
          <a:blip r:embed="rId1"/>
          <a:stretch/>
        </p:blipFill>
        <p:spPr>
          <a:xfrm>
            <a:off x="900000" y="1452600"/>
            <a:ext cx="727236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0:25:32Z</dcterms:created>
  <dc:creator>Loner-XP</dc:creator>
  <dc:description/>
  <dc:language>en-US</dc:language>
  <cp:lastModifiedBy>ААЛ</cp:lastModifiedBy>
  <dcterms:modified xsi:type="dcterms:W3CDTF">2013-06-27T20:49:00Z</dcterms:modified>
  <cp:revision>7</cp:revision>
  <dc:subject/>
  <dc:title>Применение производной </dc:title>
</cp:coreProperties>
</file>