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92DD0-29A3-453D-803D-73824C01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DC468-B08B-4328-96BA-00B54AB6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01D44-40D8-47E5-985A-20DB1C26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C2B4D-DDE3-4981-9DB6-D4EADAE1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9DAF-8BD9-4A2E-B150-87EB22A0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2D13-FB25-4704-89A8-9DC961A7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C7FF-83A3-4248-AB18-BDE6C616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7F49-6233-4401-ABC0-A6D7B5C1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E6D7-BE48-467F-87D5-2EBC2A7B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93C3-016B-43C8-B1EF-15763BD4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A2F5-F5F4-48BA-941C-9FD4676E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611FB-C155-49C2-9656-0E4EA457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8529-0859-4067-994A-1B198681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90DB-1356-4A4F-A6F3-0E3DB6A7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ED5E-075E-4338-8E2B-91D46206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3D3E-AF6F-42C0-BF5B-F37F5F52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8A7A-D17E-4B1D-8759-DD762256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BB40D-DEDA-4435-A385-61C18019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DF89-5BA1-4A52-8FB7-AEE686CF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8BE45-8766-4869-AE8B-6959C19D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F4E64-91E4-49EF-99EF-848B6496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91119-9E5B-4993-AD3B-13FD0C76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26D22-6DE1-4D21-B115-E86185CD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2A16B-B846-4337-B206-7382ACE0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213F-646A-4FD7-800B-BBE97269032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1804-CF0E-487E-87CD-504D343FDA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Lucida Sans Typewriter"/>
              </a:rPr>
              <a:t>СОЧИНЕНИЕ КАК СРЕДСТВО РАЗВИТИЯ РЕЧИ  МЛАДШИХ ШКОЛЬНИК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91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дорова Кристина Анатолье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оставление рассказа по иллюстраци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8209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етод бесед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993080" cy="46083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Иллюстрация для формирующего этапа эксперимен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2003400" cy="2085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08720" y="1916280"/>
            <a:ext cx="2047680" cy="1742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58920" y="4005360"/>
            <a:ext cx="2047680" cy="2400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508720" y="4437000"/>
            <a:ext cx="1923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онтрольный эксперимент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Цель: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выявление повышения уровня    грамотности и речи учащихся через написание сочинений разных жанров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Иллюстрация для контрольного эксперимен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Контрольный и констатирующий эксперимент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2133720"/>
          <a:ext cx="7777080" cy="34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777708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Совершенствование речевой деятельности школьников предполагает формирование четырех обобщенных умений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ориентироваться в ситуации общения, в том числе осознавать свою коммуникативную задач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планировать содержание обще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формулировать собственные мысли и понимать чужи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осуществлять самоконтроль за речью, восприятием её собеседником, а также за пониманием речи партнер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Три направления для планомерной работы по развитию речи младших школьников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Работа над слов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Работа над словосочетанием и предложением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Работа над связной речью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Речь учащегося должна быть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Содержательной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Выразительной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Логичной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Точной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Богатой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Ясной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Правильной.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Сочинения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– это упражнения для обучению разному языку и, конечно же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естественная и осмысленная работа над выражением собственной мысл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основанная на достаточных данны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168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бъект: развитие речи младших школьник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едмет исследования: использование сочинения для развития речи младших школьник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Цель исследования: изучение теоретического материала по теме, изучение уровня языкого развиития младших школьников, определить возможности сочинения как средства развития речи младших школьник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ипотеза: если использовать современные методы и приёмы, способствующие язщыковому развитию речи через сочинения, то качественно повышается уровень общего развития школьников, уменьшается количество речевых ошибок и повышается уровень грамотност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зучить основные теоретические подходы по теме: «Сочинение как средство развития речи младших школьников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зучить передовой опыт по тем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зучить историю вопроса и опыт работы современных школ по обучению написанию сочинения как формы личностного продук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ставить систему работы по развитию речи младших школьник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азработать  методические рекомендации по развитию речи младших школьников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очинения различаются по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сточникам материал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 степени самостоятельност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Жанрам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Язык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 Black"/>
              </a:rPr>
              <a:t>Список испытуемых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Борисенко Окса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Васильева Анастас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Гончаров Андре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. Ермакова Ир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. Еськов Владимир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6. Катарян Мар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7. Ковтун Всеволод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8. Пивнык Виктор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9. Ни Юл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0. Розина Юл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Констатирующий этап эксперимен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Цель: выявить уровень сформированности навыков учащихс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Методы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составление рассказа по иллюстрации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метод беседы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9:19:52Z</dcterms:created>
  <dc:creator>Кристина</dc:creator>
  <dc:description/>
  <dc:language>en-US</dc:language>
  <cp:lastModifiedBy>01</cp:lastModifiedBy>
  <dcterms:modified xsi:type="dcterms:W3CDTF">2018-04-02T18:59:38Z</dcterms:modified>
  <cp:revision>10</cp:revision>
  <dc:subject/>
  <dc:title>СОЧИНЕНИЕ КАК СРЕДСТВО РАЗВИТИЯ РЕЧИ  МЛАДШИХ ШКОЛЬНИКОВ</dc:title>
</cp:coreProperties>
</file>