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4FA95-8EF9-4E78-80B9-2253AF37D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60237-6789-41F1-8E53-4BDBF69E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09FF7-7CF2-4FA3-9814-9CD2E1025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59C98-D533-454C-A70E-4F99D9C3F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B431-8A3A-4B2A-842F-019202F78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CEE7-FB57-493A-B89F-2A0F01CE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1D6CF-35D6-4B5A-96BB-6BC71692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F1F7-A417-438F-968B-CD163D82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EECD-8D27-47DE-98E0-D177567D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88DCD-CE65-48AB-948D-9F8193EA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6886-5A97-4EA4-A852-9315981D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36D7C-C2E3-4DE4-B9E4-27DAE958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4AA6-37C0-4861-A9A7-05DAC583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750CB-2AEF-49D4-9BC9-09741351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C76AB-D725-4765-99A4-90799D66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4D94-1612-4C6D-A8A1-75511FB80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285A-0884-464D-8938-5E79576FF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25FC3-4841-42D9-8A3C-7BD99DA0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F705A-5C42-443E-AB7B-8575F956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DA588-A647-41CA-88BF-A595F619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DF8E6-7D1A-48E7-964F-7D42FE4D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DCF5F-E3B2-41BE-905E-AF73CEC9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2D81F-275B-451E-AB96-54B68559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98279-9BA7-4253-86EB-1AF81201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F9DB-BF45-47FB-A48D-94043901C7B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4A63-4350-4A1E-8506-49688E4C69E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e5ff"/>
                </a:solidFill>
                <a:latin typeface="Lucida Sans Typewriter"/>
              </a:rPr>
              <a:t>СОЧИНЕНИЕ КАК СРЕДСТВО РАЗВИТИЯ РЕЧИ  МЛАДШИХ ШКОЛЬНИК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32000" y="4653000"/>
            <a:ext cx="6912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идорова Кристина Анатольев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читель начальных класс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Составление рассказа по иллюстрации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82090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Метод беседы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7993080" cy="460836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Иллюстрация для формирующего этапа эксперимент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2003400" cy="2085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508720" y="1916280"/>
            <a:ext cx="2047680" cy="17427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258920" y="4005360"/>
            <a:ext cx="2047680" cy="2400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5508720" y="4437000"/>
            <a:ext cx="19238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Контрольный эксперимент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Цель: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выявление повышения уровня    грамотности и речи учащихся через написание сочинений разных жанров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7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Иллюстрация для контрольного эксперимент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20728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Контрольный и констатирующий эксперимент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11280" y="2133720"/>
          <a:ext cx="7777080" cy="34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7777080" cy="34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Совершенствование речевой деятельности школьников предполагает формирование четырех обобщенных умений: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 ориентироваться в ситуации общения, в том числе осознавать свою коммуникативную задачу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. планировать содержание общени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 формулировать собственные мысли и понимать чужие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. осуществлять самоконтроль за речью, восприятием её собеседником, а также за пониманием речи партнер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Три направления для планомерной работы по развитию речи младших школьников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Работа над слов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Работа над словосочетанием и предложением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Работа над связной речью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Речь учащегося должна быть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Содержательной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Выразительной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Логичной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Точной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Богатой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Ясной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Правильной.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Garamond"/>
              </a:rPr>
              <a:t>Сочинения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– это упражнения для обучению разному языку и, конечно же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естественная и осмысленная работа над выражением собственной мысли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основанная на достаточных данных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1684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бъект: развитие речи младших школьнико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едмет исследования: использование сочинения для развития речи младших школьнико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Цель исследования: изучение теоретического материала по теме, изучение уровня языкого развиития младших школьников, определить возможности сочинения как средства развития речи младших школьнико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Гипотеза: если использовать современные методы и приёмы, способствующие язщыковому развитию речи через сочинения, то качественно повышается уровень общего развития школьников, уменьшается количество речевых ошибок и повышается уровень грамотности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Задачи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зучить основные теоретические подходы по теме: «Сочинение как средство развития речи младших школьников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зучить передовой опыт по теме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зучить историю вопроса и опыт работы современных школ по обучению написанию сочинения как формы личностного продукт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оставить систему работы по развитию речи младших школьнико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Разработать  методические рекомендации по развитию речи младших школьников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1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Сочинения различаются по: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сточникам материал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о степени самостоятельност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Жанрам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Язык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 Black"/>
              </a:rPr>
              <a:t>Список испытуемых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. Борисенко Окса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. Васильева Анастас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3. Гончаров Андрей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4. Ермакова Ири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5. Еськов Владимир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6. Катарян Мар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7. Ковтун Всеволод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8. Пивнык Виктор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9. Ни Юл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0. Розина Юли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Констатирующий этап эксперимент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91440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Цель: выявить уровень сформированности навыков учащихся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Методы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составление рассказа по иллюстрации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метод беседы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9:19:52Z</dcterms:created>
  <dc:creator>Кристина</dc:creator>
  <dc:description/>
  <dc:language>en-US</dc:language>
  <cp:lastModifiedBy>01</cp:lastModifiedBy>
  <dcterms:modified xsi:type="dcterms:W3CDTF">2018-04-02T18:59:38Z</dcterms:modified>
  <cp:revision>10</cp:revision>
  <dc:subject/>
  <dc:title>СОЧИНЕНИЕ КАК СРЕДСТВО РАЗВИТИЯ РЕЧИ  МЛАДШИХ ШКОЛЬНИКОВ</dc:title>
</cp:coreProperties>
</file>