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96CA-8D9D-4265-B347-31FCFB82A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6C6-569D-45F9-842E-8FCA9C665D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2CC4-94B9-4CDF-8C81-10BE4A243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41B1-837B-4816-BA0B-5E3AC533B3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6AA-9638-412D-B729-D97863B2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D23-E2C1-41A1-B40F-ECFE947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9CD-4750-4E3A-BEB5-A07546A6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6E0-7B0C-4DD7-89FA-122A1C9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3A5-8C8B-41D8-8340-F7E07C2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690-8DCA-411F-A8E1-D00F643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4D8-E772-450E-B27A-50E52D5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B16-68FD-4980-AA48-D47395B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544-30BB-4226-BA24-8646F637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B80-DEF0-4C41-ACC6-881DDF4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079-BF94-404C-8774-38B2BB2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BDC-3204-401F-8646-2C5BBCA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DE6-D10B-4023-A762-94DD9C41E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49068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…Геометрия владеет двумя сокровищами – теоремой Пифагора и золотым сечением, и если первое из них можно сравнить с мерой золота, то второе - с  драгоценным камнем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793960" cy="35704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40000" y="5444640"/>
            <a:ext cx="27370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оганн Кеп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 rot="21159000">
            <a:off x="971640" y="2924280"/>
            <a:ext cx="2411280" cy="193500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 rot="21346800">
            <a:off x="4788000" y="2852640"/>
            <a:ext cx="1649160" cy="212904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 rot="409800">
            <a:off x="3348000" y="333000"/>
            <a:ext cx="1576440" cy="23860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1" name="Рисунок 6" descr=""/>
          <p:cNvPicPr/>
          <p:nvPr/>
        </p:nvPicPr>
        <p:blipFill>
          <a:blip r:embed="rId4"/>
          <a:stretch/>
        </p:blipFill>
        <p:spPr>
          <a:xfrm rot="1214400">
            <a:off x="7020000" y="2421000"/>
            <a:ext cx="1554120" cy="245268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02" name="Рисунок 7" descr=""/>
          <p:cNvPicPr/>
          <p:nvPr/>
        </p:nvPicPr>
        <p:blipFill>
          <a:blip r:embed="rId5"/>
          <a:stretch/>
        </p:blipFill>
        <p:spPr>
          <a:xfrm rot="20616000">
            <a:off x="539280" y="764640"/>
            <a:ext cx="2259000" cy="16941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03" name="Рисунок 10" descr=""/>
          <p:cNvPicPr/>
          <p:nvPr/>
        </p:nvPicPr>
        <p:blipFill>
          <a:blip r:embed="rId6"/>
          <a:stretch/>
        </p:blipFill>
        <p:spPr>
          <a:xfrm rot="1051800">
            <a:off x="5364000" y="692280"/>
            <a:ext cx="1789200" cy="178884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04" name="TextBox 11"/>
          <p:cNvSpPr/>
          <p:nvPr/>
        </p:nvSpPr>
        <p:spPr>
          <a:xfrm>
            <a:off x="468360" y="522936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ы , отношения сторон которых выбраны в золотом соотношении , вызывают ощущение гармонии и пок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олотое спираль-это «кривая жи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 rot="20811600">
            <a:off x="236520" y="1685880"/>
            <a:ext cx="2854440" cy="218268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07" name="Рисунок 3" descr=""/>
          <p:cNvPicPr/>
          <p:nvPr/>
        </p:nvPicPr>
        <p:blipFill>
          <a:blip r:embed="rId2"/>
          <a:stretch/>
        </p:blipFill>
        <p:spPr>
          <a:xfrm rot="216000">
            <a:off x="6067080" y="1760400"/>
            <a:ext cx="2876400" cy="19908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 rot="640800">
            <a:off x="3284640" y="2273400"/>
            <a:ext cx="2520720" cy="242892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 rot="21205200">
            <a:off x="320400" y="4330800"/>
            <a:ext cx="3047760" cy="2286000"/>
          </a:xfrm>
          <a:prstGeom prst="rect">
            <a:avLst/>
          </a:prstGeom>
          <a:ln w="28440">
            <a:solidFill>
              <a:srgbClr val="595959"/>
            </a:solidFill>
            <a:miter/>
          </a:ln>
        </p:spPr>
      </p:pic>
      <p:pic>
        <p:nvPicPr>
          <p:cNvPr id="110" name="Рисунок 4" descr=""/>
          <p:cNvPicPr/>
          <p:nvPr/>
        </p:nvPicPr>
        <p:blipFill>
          <a:blip r:embed="rId5"/>
          <a:stretch/>
        </p:blipFill>
        <p:spPr>
          <a:xfrm rot="342600">
            <a:off x="5535360" y="4533840"/>
            <a:ext cx="3378240" cy="19908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971640" y="476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в пропорциях человеческ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826920" y="1930320"/>
            <a:ext cx="4105440" cy="454032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5580000" y="2421000"/>
            <a:ext cx="327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тела точкой пупка – важнейший показатель золотого се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1008000" y="620640"/>
            <a:ext cx="4248360" cy="310212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5" name="TextBox 2"/>
          <p:cNvSpPr/>
          <p:nvPr/>
        </p:nvSpPr>
        <p:spPr>
          <a:xfrm>
            <a:off x="5667480" y="126828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в скульп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3141720" y="4037040"/>
            <a:ext cx="5715000" cy="20001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117" name="TextBox 4"/>
          <p:cNvSpPr/>
          <p:nvPr/>
        </p:nvSpPr>
        <p:spPr>
          <a:xfrm>
            <a:off x="539640" y="419400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в архитек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280" y="5300640"/>
            <a:ext cx="3529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олотое сечение в живоп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2617920" cy="378756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120" name="Рисунок 7" descr=""/>
          <p:cNvPicPr/>
          <p:nvPr/>
        </p:nvPicPr>
        <p:blipFill>
          <a:blip r:embed="rId2"/>
          <a:stretch/>
        </p:blipFill>
        <p:spPr>
          <a:xfrm>
            <a:off x="1000080" y="3141720"/>
            <a:ext cx="3522600" cy="324000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121" name="Объект 9" descr=""/>
          <p:cNvPicPr/>
          <p:nvPr/>
        </p:nvPicPr>
        <p:blipFill>
          <a:blip r:embed="rId3"/>
          <a:stretch/>
        </p:blipFill>
        <p:spPr>
          <a:xfrm>
            <a:off x="824040" y="476280"/>
            <a:ext cx="3816360" cy="250488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868320" y="981000"/>
            <a:ext cx="7777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кое представление о красивом сформировалось под влиянием знаний о  золотой пропор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– это один из основополагающих принципов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42920" y="173484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и учения о золотом сеч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золотого с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лотые фигур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е сечение  вокруг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4360" y="69228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592360" cy="345744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54" name="Объект 6" descr=""/>
          <p:cNvPicPr/>
          <p:nvPr/>
        </p:nvPicPr>
        <p:blipFill>
          <a:blip r:embed="rId2"/>
          <a:stretch/>
        </p:blipFill>
        <p:spPr>
          <a:xfrm>
            <a:off x="5079960" y="1700280"/>
            <a:ext cx="2735280" cy="3384360"/>
          </a:xfrm>
          <a:prstGeom prst="rect">
            <a:avLst/>
          </a:prstGeom>
          <a:ln w="28440">
            <a:solidFill>
              <a:srgbClr val="262626"/>
            </a:solidFill>
            <a:miter/>
          </a:ln>
        </p:spPr>
      </p:pic>
      <p:sp>
        <p:nvSpPr>
          <p:cNvPr id="55" name="TextBox 8"/>
          <p:cNvSpPr/>
          <p:nvPr/>
        </p:nvSpPr>
        <p:spPr>
          <a:xfrm>
            <a:off x="689040" y="341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и учения о золотом сеч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758880" y="5300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понятие о золотом делени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973760" y="534528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«золотое сеч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511520" y="21668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такое деление целого на две неравные части, при котором большая часть так относится к целому, как меньшая к 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581040" y="2182680"/>
            <a:ext cx="3591000" cy="2686320"/>
          </a:xfrm>
          <a:prstGeom prst="rect">
            <a:avLst/>
          </a:prstGeom>
          <a:ln w="19080">
            <a:solidFill>
              <a:srgbClr val="948a54"/>
            </a:solidFill>
            <a:miter/>
          </a:ln>
        </p:spPr>
      </p:pic>
      <p:cxnSp>
        <p:nvCxnSpPr>
          <p:cNvPr id="60" name="Прямая со стрелкой 9"/>
          <p:cNvCxnSpPr/>
          <p:nvPr/>
        </p:nvCxnSpPr>
        <p:spPr>
          <a:xfrm flipV="1">
            <a:off x="1468440" y="4768560"/>
            <a:ext cx="511920" cy="870480"/>
          </a:xfrm>
          <a:prstGeom prst="straightConnector1">
            <a:avLst/>
          </a:prstGeom>
          <a:ln w="5724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61" name="Прямая со стрелкой 13"/>
          <p:cNvCxnSpPr/>
          <p:nvPr/>
        </p:nvCxnSpPr>
        <p:spPr>
          <a:xfrm flipH="1" flipV="1">
            <a:off x="3347280" y="4728960"/>
            <a:ext cx="361080" cy="916560"/>
          </a:xfrm>
          <a:prstGeom prst="straightConnector1">
            <a:avLst/>
          </a:prstGeom>
          <a:ln w="5724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62" name="10-конечная звезда 14"/>
          <p:cNvSpPr/>
          <p:nvPr/>
        </p:nvSpPr>
        <p:spPr>
          <a:xfrm>
            <a:off x="755640" y="5597640"/>
            <a:ext cx="914400" cy="914400"/>
          </a:xfrm>
          <a:prstGeom prst="pie">
            <a:avLst/>
          </a:prstGeom>
          <a:solidFill>
            <a:srgbClr val="948a54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-конечная звезда 18"/>
          <p:cNvSpPr/>
          <p:nvPr/>
        </p:nvSpPr>
        <p:spPr>
          <a:xfrm>
            <a:off x="3348000" y="5645160"/>
            <a:ext cx="936720" cy="817560"/>
          </a:xfrm>
          <a:prstGeom prst="pie">
            <a:avLst/>
          </a:prstGeom>
          <a:solidFill>
            <a:srgbClr val="948a54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844560" y="336600"/>
            <a:ext cx="7375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золотая пропорция, деление в крайнем и среднем отноше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606600" y="1338120"/>
            <a:ext cx="1780920" cy="36118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3564000" y="3384720"/>
            <a:ext cx="3809880" cy="155232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sp>
        <p:nvSpPr>
          <p:cNvPr id="67" name="TextBox 1"/>
          <p:cNvSpPr/>
          <p:nvPr/>
        </p:nvSpPr>
        <p:spPr>
          <a:xfrm>
            <a:off x="2987640" y="1557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лепестков , расстояние между розетками листьев подчинены золотой пропор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сечение в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826920" y="544500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щерице длина хвоста так относится к длине остального тела, как 62 к 3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1341360"/>
            <a:ext cx="3141360" cy="32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1" name="TextBox 4"/>
          <p:cNvSpPr/>
          <p:nvPr/>
        </p:nvSpPr>
        <p:spPr>
          <a:xfrm>
            <a:off x="468360" y="4576320"/>
            <a:ext cx="35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кли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способ построения золотого сечения помощью циркуля и лин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1341360"/>
            <a:ext cx="3457440" cy="318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TextBox 7"/>
          <p:cNvSpPr/>
          <p:nvPr/>
        </p:nvSpPr>
        <p:spPr>
          <a:xfrm>
            <a:off x="4427640" y="4867200"/>
            <a:ext cx="41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Е производит золотое сечение отрезка 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473040" y="825480"/>
            <a:ext cx="3738600" cy="42480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sp>
        <p:nvSpPr>
          <p:cNvPr id="75" name="TextBox 3"/>
          <p:cNvSpPr/>
          <p:nvPr/>
        </p:nvSpPr>
        <p:spPr>
          <a:xfrm>
            <a:off x="684360" y="5516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ах Лука Пач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л свойства золотого сечения и золотых фиг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 rot="21123000">
            <a:off x="4678200" y="696960"/>
            <a:ext cx="2405160" cy="244476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 rot="644400">
            <a:off x="6467400" y="3087720"/>
            <a:ext cx="2176560" cy="217476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Равнобедренный треугольник 1"/>
          <p:cNvSpPr/>
          <p:nvPr/>
        </p:nvSpPr>
        <p:spPr>
          <a:xfrm>
            <a:off x="879480" y="2184480"/>
            <a:ext cx="1905120" cy="26114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ject 9" descr=""/>
          <p:cNvPicPr/>
          <p:nvPr/>
        </p:nvPicPr>
        <p:blipFill>
          <a:blip r:embed="rId1"/>
          <a:stretch/>
        </p:blipFill>
        <p:spPr>
          <a:xfrm>
            <a:off x="1009800" y="5157720"/>
            <a:ext cx="140148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Object 11" descr=""/>
          <p:cNvPicPr/>
          <p:nvPr/>
        </p:nvPicPr>
        <p:blipFill>
          <a:blip r:embed="rId2"/>
          <a:stretch/>
        </p:blipFill>
        <p:spPr>
          <a:xfrm>
            <a:off x="3203640" y="5565600"/>
            <a:ext cx="3857400" cy="93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793800" y="404640"/>
            <a:ext cx="77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ые фиг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42880" y="141300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тре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932360" y="141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5364000" y="2421000"/>
            <a:ext cx="2953080" cy="143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ject 9" descr=""/>
          <p:cNvPicPr/>
          <p:nvPr/>
        </p:nvPicPr>
        <p:blipFill>
          <a:blip r:embed="rId3"/>
          <a:stretch/>
        </p:blipFill>
        <p:spPr>
          <a:xfrm>
            <a:off x="6138720" y="4330800"/>
            <a:ext cx="1401840" cy="928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4"/>
          <p:cNvSpPr/>
          <p:nvPr/>
        </p:nvSpPr>
        <p:spPr>
          <a:xfrm>
            <a:off x="1446120" y="19573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42880" y="465300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2700360" y="469584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500364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8280360" y="21034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8250120" y="378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5102280" y="3789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479520" y="14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ая спир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60880" y="14320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конечная зве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810240" cy="4181400"/>
          </a:xfrm>
          <a:prstGeom prst="rect">
            <a:avLst/>
          </a:prstGeom>
          <a:ln w="28440">
            <a:solidFill>
              <a:srgbClr val="4a452a"/>
            </a:solidFill>
            <a:miter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249120" y="2492280"/>
            <a:ext cx="4253040" cy="3313080"/>
          </a:xfrm>
          <a:prstGeom prst="rect">
            <a:avLst/>
          </a:prstGeom>
          <a:ln w="38160">
            <a:solidFill>
              <a:srgbClr val="4a452a"/>
            </a:solidFill>
            <a:miter/>
          </a:ln>
        </p:spPr>
      </p:pic>
      <p:sp>
        <p:nvSpPr>
          <p:cNvPr id="97" name="TextBox 1"/>
          <p:cNvSpPr/>
          <p:nvPr/>
        </p:nvSpPr>
        <p:spPr>
          <a:xfrm>
            <a:off x="684360" y="476280"/>
            <a:ext cx="80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ые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8:24:01Z</dcterms:created>
  <dc:creator>Даша Зайцева</dc:creator>
  <dc:description/>
  <dc:language>en-US</dc:language>
  <cp:lastModifiedBy>Boss</cp:lastModifiedBy>
  <dcterms:modified xsi:type="dcterms:W3CDTF">2018-04-01T22:39:00Z</dcterms:modified>
  <cp:revision>55</cp:revision>
  <dc:subject/>
  <dc:title>Презентация PowerPoint</dc:title>
</cp:coreProperties>
</file>