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1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4.png" ContentType="image/png"/>
  <Override PartName="/ppt/media/image1.png" ContentType="image/png"/>
  <Override PartName="/ppt/media/image29.wmf" ContentType="image/x-wmf"/>
  <Override PartName="/ppt/media/image27.wmf" ContentType="image/x-wmf"/>
  <Override PartName="/ppt/media/image16.wmf" ContentType="image/x-wmf"/>
  <Override PartName="/ppt/media/image8.png" ContentType="image/png"/>
  <Override PartName="/ppt/media/image41.wmf" ContentType="image/x-wmf"/>
  <Override PartName="/ppt/media/image12.wmf" ContentType="image/x-wmf"/>
  <Override PartName="/ppt/media/image13.png" ContentType="image/png"/>
  <Override PartName="/ppt/media/image33.wmf" ContentType="image/x-wmf"/>
  <Override PartName="/ppt/media/image17.wmf" ContentType="image/x-wmf"/>
  <Override PartName="/ppt/media/image30.wmf" ContentType="image/x-wmf"/>
  <Override PartName="/ppt/media/image36.png" ContentType="image/png"/>
  <Override PartName="/ppt/media/image9.png" ContentType="image/png"/>
  <Override PartName="/ppt/media/image42.wmf" ContentType="image/x-wmf"/>
  <Override PartName="/ppt/media/image39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6C9B-0A75-4E05-B50B-A72FA25EAB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C333-7C6B-49C0-BF65-E30BF25D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B6C-6B1E-483A-BDED-8B962DCE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593-5DF9-4165-972C-5EBD83DB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568-BF3B-499F-9318-DC369E50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852-EFCA-45B2-A764-265ECDC7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AFE-388F-4C84-8E91-5EBAF1F2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EB7A-CBB1-46FD-B616-28BB35E0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F3C-156F-4D90-9F3A-29796E67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01C-065B-4714-8F0C-CA9C3BB8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E3B-7C7C-498B-BA9E-BBC6B285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F13-D422-4177-B9A2-EA6D61E1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F846-0697-4F66-AD3A-9EFDBC77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D29E-DEC2-4DD8-96BF-1507287F1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РАССТОЯНИЕ МЕЖДУ ПРЯМЫМИ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 ПРОСТРАН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1295280"/>
            <a:ext cx="533412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Расстоянием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двумя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не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ересекающимися прямыми в пространстве называется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длина общего перпендикуляра, проведенного к этим прямы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Если одна из двух данных прямых лежит в плоскости, а другая –  параллельна этой плоскости, то расстояние между данными прямыми равно расстоянию между прямой и плоскость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Если ортогональная проекция на плоскость  переводит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точку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а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яму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то расстояние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ежду прямым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вно расстоянию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 точки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о прямой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’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3387960" cy="2298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36576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ой пирамид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боковые ребра которой равны 2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D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152280" y="1879560"/>
            <a:ext cx="8839440" cy="4629240"/>
            <a:chOff x="152280" y="1879560"/>
            <a:chExt cx="8839440" cy="4629240"/>
          </a:xfrm>
        </p:grpSpPr>
        <p:sp>
          <p:nvSpPr>
            <p:cNvPr id="140" name=""/>
            <p:cNvSpPr/>
            <p:nvPr/>
          </p:nvSpPr>
          <p:spPr>
            <a:xfrm>
              <a:off x="914400" y="58672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1879560"/>
              <a:ext cx="5181840" cy="34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рямая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араллельна плоскост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E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Искомое расстояние равно расстоянию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этой плоскостью и равно высот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P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PQ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В этом треугольнике 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а      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PQ =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P = SQ =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тсюда находим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P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2" name=""/>
            <p:cNvGraphicFramePr/>
            <p:nvPr/>
          </p:nvGraphicFramePr>
          <p:xfrm>
            <a:off x="7943760" y="3708360"/>
            <a:ext cx="406440" cy="393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943760" y="370836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4" name="" descr=""/>
            <p:cNvPicPr/>
            <p:nvPr/>
          </p:nvPicPr>
          <p:blipFill>
            <a:blip r:embed="rId4"/>
            <a:stretch/>
          </p:blipFill>
          <p:spPr>
            <a:xfrm>
              <a:off x="152280" y="1981080"/>
              <a:ext cx="3633840" cy="3289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5" name=""/>
            <p:cNvGraphicFramePr/>
            <p:nvPr/>
          </p:nvGraphicFramePr>
          <p:xfrm>
            <a:off x="6311880" y="4089240"/>
            <a:ext cx="660600" cy="787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11880" y="4089240"/>
                      <a:ext cx="66060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"/>
            <p:cNvGraphicFramePr/>
            <p:nvPr/>
          </p:nvGraphicFramePr>
          <p:xfrm>
            <a:off x="6927840" y="4616280"/>
            <a:ext cx="851040" cy="800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27840" y="4616280"/>
                      <a:ext cx="8510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1898640" y="5708520"/>
            <a:ext cx="851040" cy="800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98640" y="5708520"/>
                      <a:ext cx="8510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522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м тетраэдр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CD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D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3579840" cy="325908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457200" y="1066680"/>
            <a:ext cx="8458200" cy="5588280"/>
            <a:chOff x="457200" y="1066680"/>
            <a:chExt cx="8458200" cy="5588280"/>
          </a:xfrm>
        </p:grpSpPr>
        <p:sp>
          <p:nvSpPr>
            <p:cNvPr id="55" name=""/>
            <p:cNvSpPr/>
            <p:nvPr/>
          </p:nvSpPr>
          <p:spPr>
            <a:xfrm>
              <a:off x="609480" y="60199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" y="4343400"/>
              <a:ext cx="845820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ое расстояние равно длине отрез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F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D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F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AG  DA =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1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 = DG =   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F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7" name=""/>
            <p:cNvGraphicFramePr/>
            <p:nvPr/>
          </p:nvGraphicFramePr>
          <p:xfrm>
            <a:off x="2133720" y="5105520"/>
            <a:ext cx="5205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133720" y="510552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" name=""/>
            <p:cNvGraphicFramePr/>
            <p:nvPr/>
          </p:nvGraphicFramePr>
          <p:xfrm>
            <a:off x="5638680" y="5105520"/>
            <a:ext cx="54612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38680" y="510552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"/>
            <p:cNvGraphicFramePr/>
            <p:nvPr/>
          </p:nvGraphicFramePr>
          <p:xfrm>
            <a:off x="1676520" y="5867280"/>
            <a:ext cx="546120" cy="787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676520" y="5867280"/>
                      <a:ext cx="5461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3" name="" descr=""/>
            <p:cNvPicPr/>
            <p:nvPr/>
          </p:nvPicPr>
          <p:blipFill>
            <a:blip r:embed="rId8"/>
            <a:stretch/>
          </p:blipFill>
          <p:spPr>
            <a:xfrm>
              <a:off x="2743200" y="1066680"/>
              <a:ext cx="3579840" cy="325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522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D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2642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522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D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505320" cy="319572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304920" y="1143000"/>
            <a:ext cx="8610480" cy="5295960"/>
            <a:chOff x="304920" y="1143000"/>
            <a:chExt cx="8610480" cy="5295960"/>
          </a:xfrm>
        </p:grpSpPr>
        <p:sp>
          <p:nvSpPr>
            <p:cNvPr id="70" name=""/>
            <p:cNvSpPr/>
            <p:nvPr/>
          </p:nvSpPr>
          <p:spPr>
            <a:xfrm>
              <a:off x="457200" y="57913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920" y="4419720"/>
              <a:ext cx="86104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O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середин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 SA =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O = SO =  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H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" name=""/>
            <p:cNvGraphicFramePr/>
            <p:nvPr/>
          </p:nvGraphicFramePr>
          <p:xfrm>
            <a:off x="3911760" y="5181480"/>
            <a:ext cx="546120" cy="78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11760" y="5181480"/>
                      <a:ext cx="5461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7467480" y="5181480"/>
            <a:ext cx="317520" cy="723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467480" y="5181480"/>
                      <a:ext cx="3175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1447920" y="5715000"/>
            <a:ext cx="317520" cy="723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47920" y="5715000"/>
                      <a:ext cx="3175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8" name="" descr=""/>
            <p:cNvPicPr/>
            <p:nvPr/>
          </p:nvPicPr>
          <p:blipFill>
            <a:blip r:embed="rId8"/>
            <a:stretch/>
          </p:blipFill>
          <p:spPr>
            <a:xfrm>
              <a:off x="2666880" y="1143000"/>
              <a:ext cx="3505320" cy="319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1522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3505320" cy="319572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152280" y="1371600"/>
            <a:ext cx="8839440" cy="4838760"/>
            <a:chOff x="152280" y="1371600"/>
            <a:chExt cx="8839440" cy="4838760"/>
          </a:xfrm>
        </p:grpSpPr>
        <p:sp>
          <p:nvSpPr>
            <p:cNvPr id="82" name=""/>
            <p:cNvSpPr/>
            <p:nvPr/>
          </p:nvSpPr>
          <p:spPr>
            <a:xfrm>
              <a:off x="990720" y="556272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33920" y="1371600"/>
              <a:ext cx="5257800" cy="37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лоско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D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араллельна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Следовательно, искомое расстояние равно расстоянию между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Оно равно высот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треугольника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SEF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гд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D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EF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имеем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F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= 1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E = SF =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H =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6172200" y="3962520"/>
            <a:ext cx="5205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172200" y="396252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3797280" y="4495680"/>
            <a:ext cx="546120" cy="78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797280" y="4495680"/>
                      <a:ext cx="5461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7162920" y="4489560"/>
            <a:ext cx="546120" cy="79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162920" y="4489560"/>
                      <a:ext cx="546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"/>
            <p:cNvGraphicFramePr/>
            <p:nvPr/>
          </p:nvGraphicFramePr>
          <p:xfrm>
            <a:off x="1981080" y="5410080"/>
            <a:ext cx="546120" cy="800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981080" y="5410080"/>
                      <a:ext cx="5461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2" name="" descr=""/>
            <p:cNvPicPr/>
            <p:nvPr/>
          </p:nvPicPr>
          <p:blipFill>
            <a:blip r:embed="rId10"/>
            <a:stretch/>
          </p:blipFill>
          <p:spPr>
            <a:xfrm>
              <a:off x="152280" y="1600200"/>
              <a:ext cx="3505320" cy="319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ой пирамид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ребра основания которой равны 1, н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B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DE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38080" y="5638680"/>
            <a:ext cx="3048120" cy="459720"/>
            <a:chOff x="838080" y="5638680"/>
            <a:chExt cx="3048120" cy="459720"/>
          </a:xfrm>
        </p:grpSpPr>
        <p:sp>
          <p:nvSpPr>
            <p:cNvPr id="95" name=""/>
            <p:cNvSpPr/>
            <p:nvPr/>
          </p:nvSpPr>
          <p:spPr>
            <a:xfrm>
              <a:off x="838080" y="56386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1866960" y="5683320"/>
            <a:ext cx="444600" cy="39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66960" y="5683320"/>
                      <a:ext cx="4446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971800" y="1676520"/>
            <a:ext cx="30258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ой пирамид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боковые ребра которой равны 2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685800" y="1295280"/>
            <a:ext cx="8229600" cy="5562720"/>
            <a:chOff x="685800" y="1295280"/>
            <a:chExt cx="8229600" cy="5562720"/>
          </a:xfrm>
        </p:grpSpPr>
        <p:sp>
          <p:nvSpPr>
            <p:cNvPr id="102" name=""/>
            <p:cNvSpPr/>
            <p:nvPr/>
          </p:nvSpPr>
          <p:spPr>
            <a:xfrm>
              <a:off x="838080" y="622296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" y="4927680"/>
              <a:ext cx="8229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родолжим ребр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F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до пересечения в точ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бщим перпендикуляром 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будет 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G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Она равн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" name=""/>
            <p:cNvGraphicFramePr/>
            <p:nvPr/>
          </p:nvGraphicFramePr>
          <p:xfrm>
            <a:off x="4724280" y="5613480"/>
            <a:ext cx="52092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24280" y="5613480"/>
                      <a:ext cx="5209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1828800" y="6070680"/>
            <a:ext cx="52056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28800" y="607068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8" name="" descr=""/>
            <p:cNvPicPr/>
            <p:nvPr/>
          </p:nvPicPr>
          <p:blipFill>
            <a:blip r:embed="rId6"/>
            <a:stretch/>
          </p:blipFill>
          <p:spPr>
            <a:xfrm>
              <a:off x="2743200" y="1295280"/>
              <a:ext cx="3633840" cy="364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ой пирамид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боковые ребра которой равны 2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F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152280" y="2057400"/>
            <a:ext cx="8763120" cy="4076640"/>
            <a:chOff x="152280" y="2057400"/>
            <a:chExt cx="8763120" cy="4076640"/>
          </a:xfrm>
        </p:grpSpPr>
        <p:sp>
          <p:nvSpPr>
            <p:cNvPr id="112" name=""/>
            <p:cNvSpPr/>
            <p:nvPr/>
          </p:nvSpPr>
          <p:spPr>
            <a:xfrm>
              <a:off x="838080" y="54864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33920" y="2057400"/>
              <a:ext cx="5181480" cy="26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G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точка пересечения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F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 =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1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 =  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тсюда находим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 =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" name=""/>
            <p:cNvGraphicFramePr/>
            <p:nvPr/>
          </p:nvGraphicFramePr>
          <p:xfrm>
            <a:off x="5600880" y="3581280"/>
            <a:ext cx="444240" cy="78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00880" y="3581280"/>
                      <a:ext cx="44424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152280" y="2133720"/>
              <a:ext cx="3633840" cy="3289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7" name=""/>
            <p:cNvGraphicFramePr/>
            <p:nvPr/>
          </p:nvGraphicFramePr>
          <p:xfrm>
            <a:off x="8381880" y="3733920"/>
            <a:ext cx="444600" cy="39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81880" y="3733920"/>
                      <a:ext cx="4446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"/>
            <p:cNvGraphicFramePr/>
            <p:nvPr/>
          </p:nvGraphicFramePr>
          <p:xfrm>
            <a:off x="6921360" y="4146480"/>
            <a:ext cx="317520" cy="72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21360" y="4146480"/>
                      <a:ext cx="3175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"/>
            <p:cNvGraphicFramePr/>
            <p:nvPr/>
          </p:nvGraphicFramePr>
          <p:xfrm>
            <a:off x="1828800" y="5410080"/>
            <a:ext cx="317520" cy="723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28800" y="5410080"/>
                      <a:ext cx="3175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ой пирамид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боковые ребра которой равны 2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152280" y="1828800"/>
            <a:ext cx="8763120" cy="4292640"/>
            <a:chOff x="152280" y="1828800"/>
            <a:chExt cx="8763120" cy="4292640"/>
          </a:xfrm>
        </p:grpSpPr>
        <p:sp>
          <p:nvSpPr>
            <p:cNvPr id="126" name=""/>
            <p:cNvSpPr/>
            <p:nvPr/>
          </p:nvSpPr>
          <p:spPr>
            <a:xfrm>
              <a:off x="838080" y="54864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920" y="2057400"/>
              <a:ext cx="5181480" cy="26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м расстоянием является 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G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точка пересечения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E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A =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2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G = 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тсюда находим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H =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8" name=""/>
            <p:cNvGraphicFramePr/>
            <p:nvPr/>
          </p:nvGraphicFramePr>
          <p:xfrm>
            <a:off x="5638680" y="3581280"/>
            <a:ext cx="241560" cy="723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38680" y="3581280"/>
                      <a:ext cx="2415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"/>
            <p:cNvGraphicFramePr/>
            <p:nvPr/>
          </p:nvGraphicFramePr>
          <p:xfrm>
            <a:off x="3886200" y="4267080"/>
            <a:ext cx="444600" cy="393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86200" y="4267080"/>
                      <a:ext cx="44460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"/>
            <p:cNvGraphicFramePr/>
            <p:nvPr/>
          </p:nvGraphicFramePr>
          <p:xfrm>
            <a:off x="7467480" y="4114800"/>
            <a:ext cx="660600" cy="787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467480" y="4114800"/>
                      <a:ext cx="6606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"/>
            <p:cNvGraphicFramePr/>
            <p:nvPr/>
          </p:nvGraphicFramePr>
          <p:xfrm>
            <a:off x="1828800" y="5334120"/>
            <a:ext cx="660240" cy="787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28800" y="5334120"/>
                      <a:ext cx="660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6" name="" descr=""/>
            <p:cNvPicPr/>
            <p:nvPr/>
          </p:nvPicPr>
          <p:blipFill>
            <a:blip r:embed="rId10"/>
            <a:stretch/>
          </p:blipFill>
          <p:spPr>
            <a:xfrm>
              <a:off x="152280" y="182880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06:58Z</dcterms:created>
  <dc:creator>*</dc:creator>
  <dc:description/>
  <dc:language>en-US</dc:language>
  <cp:lastModifiedBy>*</cp:lastModifiedBy>
  <dcterms:modified xsi:type="dcterms:W3CDTF">2009-07-22T11:37:42Z</dcterms:modified>
  <cp:revision>19</cp:revision>
  <dc:subject/>
  <dc:title>УГОЛ МЕЖДУ ПРЯМЫМИ В ПРОСТРАНСТВЕ</dc:title>
</cp:coreProperties>
</file>