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4.png" ContentType="image/png"/>
  <Override PartName="/ppt/media/image1.png" ContentType="image/png"/>
  <Override PartName="/ppt/media/image29.wmf" ContentType="image/x-wmf"/>
  <Override PartName="/ppt/media/image27.wmf" ContentType="image/x-wmf"/>
  <Override PartName="/ppt/media/image16.wmf" ContentType="image/x-wmf"/>
  <Override PartName="/ppt/media/image8.png" ContentType="image/png"/>
  <Override PartName="/ppt/media/image41.wmf" ContentType="image/x-wmf"/>
  <Override PartName="/ppt/media/image12.wmf" ContentType="image/x-wmf"/>
  <Override PartName="/ppt/media/image13.png" ContentType="image/png"/>
  <Override PartName="/ppt/media/image33.wmf" ContentType="image/x-wmf"/>
  <Override PartName="/ppt/media/image17.wmf" ContentType="image/x-wmf"/>
  <Override PartName="/ppt/media/image30.wmf" ContentType="image/x-wmf"/>
  <Override PartName="/ppt/media/image36.png" ContentType="image/png"/>
  <Override PartName="/ppt/media/image9.png" ContentType="image/png"/>
  <Override PartName="/ppt/media/image42.wmf" ContentType="image/x-wmf"/>
  <Override PartName="/ppt/media/image39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FC34-66B2-4FAA-BD82-9F07F51BCE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44C-C3D0-482D-944A-2E268A7B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6AD-2B4A-4A55-910B-6B99B4D3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947-969F-4488-AF24-F4F9379E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924-381F-45C1-AFE5-D55EF2C6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6B2-5FF8-4267-BD5E-48503C0F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9EA-C620-4EC0-B587-E52B05C3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2A3-D485-426F-AD08-C49522A5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A8D-6C22-4E0C-B857-F9617EB7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557-D2C4-4CB3-B47B-DC64D78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E0E-07C8-43E8-AB5C-012E68A3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930-4F3D-4F26-A359-0A8B5BD0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4AF-5751-4C95-9184-3F7C7FF4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423B-8AF4-45EF-A9E6-E7AF953F8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1295280"/>
            <a:ext cx="53341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е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ресекающимися прямыми в пространстве называетс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Если одна из двух данных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сли ортогональная проекция на плоскость  переводит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точку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а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то расстояние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ежду прямым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но расстояни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о прямой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387960" cy="229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6576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152280" y="1879560"/>
            <a:ext cx="8839440" cy="4629240"/>
            <a:chOff x="152280" y="1879560"/>
            <a:chExt cx="8839440" cy="4629240"/>
          </a:xfrm>
        </p:grpSpPr>
        <p:sp>
          <p:nvSpPr>
            <p:cNvPr id="140" name=""/>
            <p:cNvSpPr/>
            <p:nvPr/>
          </p:nvSpPr>
          <p:spPr>
            <a:xfrm>
              <a:off x="914400" y="5867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1879560"/>
              <a:ext cx="5181840" cy="34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рямая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ьна плоскост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E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Искомое расстояние равно расстоянию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этой плоскостью и равно высот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P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PQ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В этом треугольнике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      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PQ =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P = SQ =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сюда находи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P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7943760" y="3708360"/>
            <a:ext cx="4064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943760" y="370836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152280" y="198108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5" name=""/>
            <p:cNvGraphicFramePr/>
            <p:nvPr/>
          </p:nvGraphicFramePr>
          <p:xfrm>
            <a:off x="6311880" y="4089240"/>
            <a:ext cx="660600" cy="787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11880" y="4089240"/>
                      <a:ext cx="6606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6927840" y="4616280"/>
            <a:ext cx="851040" cy="80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27840" y="461628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1898640" y="5708520"/>
            <a:ext cx="851040" cy="800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98640" y="570852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522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м тетраэдр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D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3579840" cy="325908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457200" y="1066680"/>
            <a:ext cx="8458200" cy="5588280"/>
            <a:chOff x="457200" y="1066680"/>
            <a:chExt cx="8458200" cy="5588280"/>
          </a:xfrm>
        </p:grpSpPr>
        <p:sp>
          <p:nvSpPr>
            <p:cNvPr id="55" name=""/>
            <p:cNvSpPr/>
            <p:nvPr/>
          </p:nvSpPr>
          <p:spPr>
            <a:xfrm>
              <a:off x="60948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" y="4343400"/>
              <a:ext cx="84582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ое расстояние равно длине отрез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F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F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AG  DA =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1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 = DG =  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F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" name=""/>
            <p:cNvGraphicFramePr/>
            <p:nvPr/>
          </p:nvGraphicFramePr>
          <p:xfrm>
            <a:off x="2133720" y="510552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33720" y="510552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5638680" y="5105520"/>
            <a:ext cx="54612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38680" y="510552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1676520" y="5867280"/>
            <a:ext cx="54612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676520" y="586728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2743200" y="1066680"/>
              <a:ext cx="3579840" cy="325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522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2642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522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304920" y="1143000"/>
            <a:ext cx="8610480" cy="5295960"/>
            <a:chOff x="304920" y="1143000"/>
            <a:chExt cx="8610480" cy="5295960"/>
          </a:xfrm>
        </p:grpSpPr>
        <p:sp>
          <p:nvSpPr>
            <p:cNvPr id="70" name=""/>
            <p:cNvSpPr/>
            <p:nvPr/>
          </p:nvSpPr>
          <p:spPr>
            <a:xfrm>
              <a:off x="457200" y="5791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920" y="4419720"/>
              <a:ext cx="86104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O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 SA =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O = SO = 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H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" name=""/>
            <p:cNvGraphicFramePr/>
            <p:nvPr/>
          </p:nvGraphicFramePr>
          <p:xfrm>
            <a:off x="3911760" y="5181480"/>
            <a:ext cx="54612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11760" y="518148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7467480" y="5181480"/>
            <a:ext cx="317520" cy="723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467480" y="518148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1447920" y="5715000"/>
            <a:ext cx="317520" cy="7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47920" y="571500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8" name="" descr=""/>
            <p:cNvPicPr/>
            <p:nvPr/>
          </p:nvPicPr>
          <p:blipFill>
            <a:blip r:embed="rId8"/>
            <a:stretch/>
          </p:blipFill>
          <p:spPr>
            <a:xfrm>
              <a:off x="2666880" y="114300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152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152280" y="1371600"/>
            <a:ext cx="8839440" cy="4838760"/>
            <a:chOff x="152280" y="1371600"/>
            <a:chExt cx="8839440" cy="4838760"/>
          </a:xfrm>
        </p:grpSpPr>
        <p:sp>
          <p:nvSpPr>
            <p:cNvPr id="82" name=""/>
            <p:cNvSpPr/>
            <p:nvPr/>
          </p:nvSpPr>
          <p:spPr>
            <a:xfrm>
              <a:off x="990720" y="55627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1371600"/>
              <a:ext cx="5257800" cy="37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ьна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Следовательно, искомое расстояние равно расстоянию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Оно равно высот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SEF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EF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имеем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= 1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E = SF =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H =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6172200" y="396252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72200" y="396252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3797280" y="4495680"/>
            <a:ext cx="54612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97280" y="449568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7162920" y="4489560"/>
            <a:ext cx="54612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162920" y="448956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"/>
            <p:cNvGraphicFramePr/>
            <p:nvPr/>
          </p:nvGraphicFramePr>
          <p:xfrm>
            <a:off x="1981080" y="5410080"/>
            <a:ext cx="546120" cy="80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981080" y="5410080"/>
                      <a:ext cx="5461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2" name="" descr=""/>
            <p:cNvPicPr/>
            <p:nvPr/>
          </p:nvPicPr>
          <p:blipFill>
            <a:blip r:embed="rId10"/>
            <a:stretch/>
          </p:blipFill>
          <p:spPr>
            <a:xfrm>
              <a:off x="152280" y="160020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ребра основания которой равны 1, 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B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E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5638680"/>
            <a:ext cx="3048120" cy="459720"/>
            <a:chOff x="838080" y="5638680"/>
            <a:chExt cx="3048120" cy="459720"/>
          </a:xfrm>
        </p:grpSpPr>
        <p:sp>
          <p:nvSpPr>
            <p:cNvPr id="95" name=""/>
            <p:cNvSpPr/>
            <p:nvPr/>
          </p:nvSpPr>
          <p:spPr>
            <a:xfrm>
              <a:off x="838080" y="56386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1866960" y="5683320"/>
            <a:ext cx="444600" cy="39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66960" y="56833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971800" y="1676520"/>
            <a:ext cx="30258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685800" y="1295280"/>
            <a:ext cx="8229600" cy="5562720"/>
            <a:chOff x="685800" y="1295280"/>
            <a:chExt cx="8229600" cy="5562720"/>
          </a:xfrm>
        </p:grpSpPr>
        <p:sp>
          <p:nvSpPr>
            <p:cNvPr id="102" name=""/>
            <p:cNvSpPr/>
            <p:nvPr/>
          </p:nvSpPr>
          <p:spPr>
            <a:xfrm>
              <a:off x="838080" y="62229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4927680"/>
              <a:ext cx="822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родолжим ребр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бщим перпендикуляром 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будет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Она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4724280" y="5613480"/>
            <a:ext cx="5209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24280" y="5613480"/>
                      <a:ext cx="5209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1828800" y="6070680"/>
            <a:ext cx="5205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28800" y="607068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>
              <a:off x="2743200" y="1295280"/>
              <a:ext cx="3633840" cy="364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52280" y="2057400"/>
            <a:ext cx="8763120" cy="4076640"/>
            <a:chOff x="152280" y="2057400"/>
            <a:chExt cx="8763120" cy="4076640"/>
          </a:xfrm>
        </p:grpSpPr>
        <p:sp>
          <p:nvSpPr>
            <p:cNvPr id="112" name=""/>
            <p:cNvSpPr/>
            <p:nvPr/>
          </p:nvSpPr>
          <p:spPr>
            <a:xfrm>
              <a:off x="83808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33920" y="2057400"/>
              <a:ext cx="518148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точка пересечения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 =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1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 =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сюда находи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5600880" y="3581280"/>
            <a:ext cx="44424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00880" y="3581280"/>
                      <a:ext cx="4442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152280" y="213372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7" name=""/>
            <p:cNvGraphicFramePr/>
            <p:nvPr/>
          </p:nvGraphicFramePr>
          <p:xfrm>
            <a:off x="8381880" y="3733920"/>
            <a:ext cx="444600" cy="39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1880" y="37339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6921360" y="4146480"/>
            <a:ext cx="317520" cy="72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21360" y="414648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1828800" y="5410080"/>
            <a:ext cx="317520" cy="723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541008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52280" y="1828800"/>
            <a:ext cx="8763120" cy="4292640"/>
            <a:chOff x="152280" y="1828800"/>
            <a:chExt cx="8763120" cy="4292640"/>
          </a:xfrm>
        </p:grpSpPr>
        <p:sp>
          <p:nvSpPr>
            <p:cNvPr id="126" name=""/>
            <p:cNvSpPr/>
            <p:nvPr/>
          </p:nvSpPr>
          <p:spPr>
            <a:xfrm>
              <a:off x="83808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920" y="2057400"/>
              <a:ext cx="518148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точка пересечения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 =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2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 =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сюда находи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5638680" y="3581280"/>
            <a:ext cx="241560" cy="72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3581280"/>
                      <a:ext cx="2415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3886200" y="4267080"/>
            <a:ext cx="444600" cy="39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6200" y="4267080"/>
                      <a:ext cx="444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7467480" y="4114800"/>
            <a:ext cx="66060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467480" y="4114800"/>
                      <a:ext cx="660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1828800" y="5334120"/>
            <a:ext cx="660240" cy="78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5334120"/>
                      <a:ext cx="660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6" name="" descr=""/>
            <p:cNvPicPr/>
            <p:nvPr/>
          </p:nvPicPr>
          <p:blipFill>
            <a:blip r:embed="rId10"/>
            <a:stretch/>
          </p:blipFill>
          <p:spPr>
            <a:xfrm>
              <a:off x="152280" y="182880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*</cp:lastModifiedBy>
  <dcterms:modified xsi:type="dcterms:W3CDTF">2009-07-22T11:37:42Z</dcterms:modified>
  <cp:revision>19</cp:revision>
  <dc:subject/>
  <dc:title>УГОЛ МЕЖДУ ПРЯМЫМИ В ПРОСТРАНСТВЕ</dc:title>
</cp:coreProperties>
</file>