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18.jpeg" ContentType="image/jpeg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39C-055D-41AD-9DB5-56B78DF7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FBE-BA51-4ADA-BE88-C2F57460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0F6-D291-4860-89B8-81E34992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00B-D81E-4C6A-8C74-DCCBFBBB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142-47B4-43F2-A47D-912EE647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D93-2916-4468-B777-065D38C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1BF-99A6-49ED-80CA-6C81E17F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0AE-3DFD-47D5-9320-27461A7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D7C-2107-40C8-88A4-AFEC3F3B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BFB-6D35-4B8F-8AA3-103155BF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89C-4600-4987-ADC3-893240F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E93-48E1-4EE6-BFBB-98D21142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DD3C-E5EB-4182-955D-8B041D97A9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FC75-CFE5-4A0D-BB6B-0F7E64091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2.wmf"/><Relationship Id="rId6" Type="http://schemas.openxmlformats.org/officeDocument/2006/relationships/image" Target="../media/image25.wmf"/><Relationship Id="rId7" Type="http://schemas.openxmlformats.org/officeDocument/2006/relationships/image" Target="../media/image23.wmf"/><Relationship Id="rId8" Type="http://schemas.openxmlformats.org/officeDocument/2006/relationships/image" Target="../media/image25.wmf"/><Relationship Id="rId9" Type="http://schemas.openxmlformats.org/officeDocument/2006/relationships/image" Target="../media/image25.wmf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Овал 11"/>
          <p:cNvGrpSpPr/>
          <p:nvPr/>
        </p:nvGrpSpPr>
        <p:grpSpPr>
          <a:xfrm>
            <a:off x="3693960" y="457200"/>
            <a:ext cx="1195560" cy="1023840"/>
            <a:chOff x="3693960" y="457200"/>
            <a:chExt cx="1195560" cy="1023840"/>
          </a:xfrm>
        </p:grpSpPr>
        <p:pic>
          <p:nvPicPr>
            <p:cNvPr id="50" name="Овал 11" descr=""/>
            <p:cNvPicPr/>
            <p:nvPr/>
          </p:nvPicPr>
          <p:blipFill>
            <a:blip r:embed="rId1"/>
            <a:stretch/>
          </p:blipFill>
          <p:spPr>
            <a:xfrm>
              <a:off x="3693960" y="457200"/>
              <a:ext cx="1195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Овал 20"/>
          <p:cNvGrpSpPr/>
          <p:nvPr/>
        </p:nvGrpSpPr>
        <p:grpSpPr>
          <a:xfrm>
            <a:off x="1006560" y="817560"/>
            <a:ext cx="1146240" cy="1017720"/>
            <a:chOff x="1006560" y="817560"/>
            <a:chExt cx="1146240" cy="1017720"/>
          </a:xfrm>
        </p:grpSpPr>
        <p:pic>
          <p:nvPicPr>
            <p:cNvPr id="61" name="Овал 20" descr=""/>
            <p:cNvPicPr/>
            <p:nvPr/>
          </p:nvPicPr>
          <p:blipFill>
            <a:blip r:embed="rId2"/>
            <a:stretch/>
          </p:blipFill>
          <p:spPr>
            <a:xfrm>
              <a:off x="1006560" y="817560"/>
              <a:ext cx="11462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Овал 29"/>
          <p:cNvGrpSpPr/>
          <p:nvPr/>
        </p:nvGrpSpPr>
        <p:grpSpPr>
          <a:xfrm>
            <a:off x="7589880" y="1420920"/>
            <a:ext cx="1359000" cy="1023840"/>
            <a:chOff x="7589880" y="1420920"/>
            <a:chExt cx="1359000" cy="1023840"/>
          </a:xfrm>
        </p:grpSpPr>
        <p:pic>
          <p:nvPicPr>
            <p:cNvPr id="72" name="Овал 29" descr=""/>
            <p:cNvPicPr/>
            <p:nvPr/>
          </p:nvPicPr>
          <p:blipFill>
            <a:blip r:embed="rId3"/>
            <a:stretch/>
          </p:blipFill>
          <p:spPr>
            <a:xfrm>
              <a:off x="7589880" y="1420920"/>
              <a:ext cx="1359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Овал 83"/>
          <p:cNvGrpSpPr/>
          <p:nvPr/>
        </p:nvGrpSpPr>
        <p:grpSpPr>
          <a:xfrm>
            <a:off x="5810400" y="493560"/>
            <a:ext cx="1352520" cy="1017720"/>
            <a:chOff x="5810400" y="493560"/>
            <a:chExt cx="1352520" cy="1017720"/>
          </a:xfrm>
        </p:grpSpPr>
        <p:pic>
          <p:nvPicPr>
            <p:cNvPr id="128" name="Овал 83" descr=""/>
            <p:cNvPicPr/>
            <p:nvPr/>
          </p:nvPicPr>
          <p:blipFill>
            <a:blip r:embed="rId4"/>
            <a:stretch/>
          </p:blipFill>
          <p:spPr>
            <a:xfrm>
              <a:off x="5810400" y="493560"/>
              <a:ext cx="13525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Овал 93"/>
          <p:cNvGrpSpPr/>
          <p:nvPr/>
        </p:nvGrpSpPr>
        <p:grpSpPr>
          <a:xfrm>
            <a:off x="66600" y="2206800"/>
            <a:ext cx="1262160" cy="1023840"/>
            <a:chOff x="66600" y="2206800"/>
            <a:chExt cx="1262160" cy="1023840"/>
          </a:xfrm>
        </p:grpSpPr>
        <p:pic>
          <p:nvPicPr>
            <p:cNvPr id="140" name="Овал 93" descr=""/>
            <p:cNvPicPr/>
            <p:nvPr/>
          </p:nvPicPr>
          <p:blipFill>
            <a:blip r:embed="rId5"/>
            <a:stretch/>
          </p:blipFill>
          <p:spPr>
            <a:xfrm>
              <a:off x="66600" y="2206800"/>
              <a:ext cx="1262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171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174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77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0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83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86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рок русского языка во 2 классе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МК «Школа России»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Тема: «Написание слов с непроверяемыми гласными  в корне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287600" y="4508280"/>
            <a:ext cx="485604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читель: Марусенко Ирин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60000"/>
                </a:solidFill>
                <a:latin typeface="Arial"/>
              </a:rPr>
              <a:t>Я сегодня научил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«На уроке я узнал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«Мне на уроке удалось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«Самым интересным на уроке было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6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47 № 101 (Р.т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0A4F-ED01-441A-BEC3-42800FAA5E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6FC4-D08B-4362-9A6F-575A4F6E3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Прямоугольник 4" descr=""/>
          <p:cNvPicPr/>
          <p:nvPr/>
        </p:nvPicPr>
        <p:blipFill>
          <a:blip r:embed="rId1"/>
          <a:stretch/>
        </p:blipFill>
        <p:spPr>
          <a:xfrm>
            <a:off x="128520" y="1852560"/>
            <a:ext cx="8886960" cy="1951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0" y="142920"/>
            <a:ext cx="2428920" cy="21067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6" descr="66131114.jpg"/>
          <p:cNvPicPr/>
          <p:nvPr/>
        </p:nvPicPr>
        <p:blipFill>
          <a:blip r:embed="rId3"/>
          <a:stretch/>
        </p:blipFill>
        <p:spPr>
          <a:xfrm rot="2289600">
            <a:off x="4882680" y="3612960"/>
            <a:ext cx="239256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na00433_"/>
          <p:cNvPicPr/>
          <p:nvPr/>
        </p:nvPicPr>
        <p:blipFill>
          <a:blip r:embed="rId1"/>
          <a:stretch/>
        </p:blipFill>
        <p:spPr>
          <a:xfrm>
            <a:off x="250920" y="1125360"/>
            <a:ext cx="2027160" cy="2508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NA01441_"/>
          <p:cNvPicPr/>
          <p:nvPr/>
        </p:nvPicPr>
        <p:blipFill>
          <a:blip r:embed="rId2"/>
          <a:stretch/>
        </p:blipFill>
        <p:spPr>
          <a:xfrm>
            <a:off x="3348000" y="1197000"/>
            <a:ext cx="2300400" cy="2367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na00417_"/>
          <p:cNvPicPr/>
          <p:nvPr/>
        </p:nvPicPr>
        <p:blipFill>
          <a:blip r:embed="rId3"/>
          <a:stretch/>
        </p:blipFill>
        <p:spPr>
          <a:xfrm>
            <a:off x="6300720" y="11970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na00417_"/>
          <p:cNvPicPr/>
          <p:nvPr/>
        </p:nvPicPr>
        <p:blipFill>
          <a:blip r:embed="rId4"/>
          <a:stretch/>
        </p:blipFill>
        <p:spPr>
          <a:xfrm>
            <a:off x="0" y="3716280"/>
            <a:ext cx="2438280" cy="2641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na00433_"/>
          <p:cNvPicPr/>
          <p:nvPr/>
        </p:nvPicPr>
        <p:blipFill>
          <a:blip r:embed="rId5"/>
          <a:stretch/>
        </p:blipFill>
        <p:spPr>
          <a:xfrm>
            <a:off x="3419640" y="3860640"/>
            <a:ext cx="2361960" cy="2508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na00042_"/>
          <p:cNvPicPr/>
          <p:nvPr/>
        </p:nvPicPr>
        <p:blipFill>
          <a:blip r:embed="rId6"/>
          <a:stretch/>
        </p:blipFill>
        <p:spPr>
          <a:xfrm>
            <a:off x="2484360" y="5229360"/>
            <a:ext cx="798480" cy="914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NA01441_"/>
          <p:cNvPicPr/>
          <p:nvPr/>
        </p:nvPicPr>
        <p:blipFill>
          <a:blip r:embed="rId7"/>
          <a:stretch/>
        </p:blipFill>
        <p:spPr>
          <a:xfrm>
            <a:off x="6300720" y="3933720"/>
            <a:ext cx="2300400" cy="2590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na00042_"/>
          <p:cNvPicPr/>
          <p:nvPr/>
        </p:nvPicPr>
        <p:blipFill>
          <a:blip r:embed="rId8"/>
          <a:stretch/>
        </p:blipFill>
        <p:spPr>
          <a:xfrm>
            <a:off x="5651640" y="5589720"/>
            <a:ext cx="798480" cy="914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na00042_"/>
          <p:cNvPicPr/>
          <p:nvPr/>
        </p:nvPicPr>
        <p:blipFill>
          <a:blip r:embed="rId9"/>
          <a:stretch/>
        </p:blipFill>
        <p:spPr>
          <a:xfrm>
            <a:off x="8345520" y="5516640"/>
            <a:ext cx="798480" cy="9144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5"/>
          <p:cNvSpPr/>
          <p:nvPr/>
        </p:nvSpPr>
        <p:spPr>
          <a:xfrm>
            <a:off x="108000" y="1844640"/>
            <a:ext cx="26748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аба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3419640" y="1844640"/>
            <a:ext cx="2520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наво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6372360" y="2997360"/>
            <a:ext cx="2592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вар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8" descr="na00042_"/>
          <p:cNvPicPr/>
          <p:nvPr/>
        </p:nvPicPr>
        <p:blipFill>
          <a:blip r:embed="rId10"/>
          <a:stretch/>
        </p:blipFill>
        <p:spPr>
          <a:xfrm>
            <a:off x="2556000" y="2708280"/>
            <a:ext cx="798480" cy="9144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9"/>
          <p:cNvSpPr/>
          <p:nvPr/>
        </p:nvSpPr>
        <p:spPr>
          <a:xfrm>
            <a:off x="468360" y="4292640"/>
            <a:ext cx="2519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альп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5940360" y="4869000"/>
            <a:ext cx="3095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беовой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3203640" y="3645000"/>
            <a:ext cx="29509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дьдв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8"/>
          <p:cNvSpPr/>
          <p:nvPr/>
        </p:nvSpPr>
        <p:spPr>
          <a:xfrm>
            <a:off x="250920" y="33336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Verdana"/>
              </a:rPr>
              <a:t>Словарная работа. Анаграм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Объект 5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30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EC21-1238-4F96-9B13-5F81002B54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2F21-D8D8-4A87-9BF9-CB2687ACA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6" descr=""/>
          <p:cNvPicPr/>
          <p:nvPr/>
        </p:nvPicPr>
        <p:blipFill>
          <a:blip r:embed="rId2"/>
          <a:stretch/>
        </p:blipFill>
        <p:spPr>
          <a:xfrm>
            <a:off x="1476360" y="2421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стопис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ятел стучит по коре ос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325A-AC34-4FA1-B928-697585976C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AE48-D5F4-4352-9721-DD7FD47E2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5940360" y="1125360"/>
            <a:ext cx="292752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6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бей-в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бышек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а-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ни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ва-м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вичи, вет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-вет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а-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ный, яг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-яг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дь-т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дка, н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брь-н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брь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EBA2-062C-42B6-80D0-4BE1E1DFCC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E5AC-8926-49C2-96AF-920D83B83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Арка 1"/>
          <p:cNvSpPr/>
          <p:nvPr/>
        </p:nvSpPr>
        <p:spPr>
          <a:xfrm rot="513000">
            <a:off x="660240" y="2021040"/>
            <a:ext cx="1035360" cy="817560"/>
          </a:xfrm>
          <a:custGeom>
            <a:avLst/>
            <a:gdLst>
              <a:gd name="textAreaLeft" fmla="*/ 0 w 1035360"/>
              <a:gd name="textAreaRight" fmla="*/ 973080 w 103536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035050" h="817562">
                <a:moveTo>
                  <a:pt x="0" y="408780"/>
                </a:moveTo>
                <a:lnTo>
                  <a:pt x="0" y="408780"/>
                </a:lnTo>
                <a:arcTo wR="517525" hR="408781" stAng="-10799993" swAng="9411169"/>
                <a:lnTo>
                  <a:pt x="907704" y="241977"/>
                </a:lnTo>
                <a:lnTo>
                  <a:pt x="907704" y="241977"/>
                </a:lnTo>
                <a:arcTo wR="448057" hR="339313" stAng="-1388821" swAng="-941117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Арка 6"/>
          <p:cNvSpPr/>
          <p:nvPr/>
        </p:nvSpPr>
        <p:spPr>
          <a:xfrm rot="450600">
            <a:off x="660240" y="3281040"/>
            <a:ext cx="1111320" cy="817560"/>
          </a:xfrm>
          <a:custGeom>
            <a:avLst/>
            <a:gdLst>
              <a:gd name="textAreaLeft" fmla="*/ 0 w 1111320"/>
              <a:gd name="textAreaRight" fmla="*/ 1036080 w 11113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111250" h="817562">
                <a:moveTo>
                  <a:pt x="0" y="408780"/>
                </a:moveTo>
                <a:lnTo>
                  <a:pt x="0" y="408780"/>
                </a:lnTo>
                <a:arcTo wR="555625" hR="408781" stAng="-10799994" swAng="9411170"/>
                <a:lnTo>
                  <a:pt x="970194" y="231550"/>
                </a:lnTo>
                <a:lnTo>
                  <a:pt x="970194" y="231550"/>
                </a:lnTo>
                <a:arcTo wR="486157" hR="339313" stAng="-1388822" swAng="-941117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Арка 7"/>
          <p:cNvSpPr/>
          <p:nvPr/>
        </p:nvSpPr>
        <p:spPr>
          <a:xfrm rot="450600">
            <a:off x="1956960" y="2684520"/>
            <a:ext cx="1058760" cy="817560"/>
          </a:xfrm>
          <a:custGeom>
            <a:avLst/>
            <a:gdLst>
              <a:gd name="textAreaLeft" fmla="*/ 0 w 1058760"/>
              <a:gd name="textAreaRight" fmla="*/ 992520 w 1058760"/>
              <a:gd name="textAreaTop" fmla="*/ 0 h 817560"/>
              <a:gd name="textAreaBottom" fmla="*/ 404640 h 817560"/>
            </a:gdLst>
            <a:ahLst/>
            <a:rect l="textAreaLeft" t="textAreaTop" r="textAreaRight" b="textAreaBottom"/>
            <a:pathLst>
              <a:path w="1058862" h="817562">
                <a:moveTo>
                  <a:pt x="38" y="403878"/>
                </a:moveTo>
                <a:lnTo>
                  <a:pt x="38" y="403878"/>
                </a:lnTo>
                <a:arcTo wR="529431" hR="408781" stAng="-10768162" swAng="9379337"/>
                <a:lnTo>
                  <a:pt x="927397" y="238648"/>
                </a:lnTo>
                <a:lnTo>
                  <a:pt x="927397" y="238648"/>
                </a:lnTo>
                <a:arcTo wR="459963" hR="339313" stAng="-1388821" swAng="-937934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Арка 8"/>
          <p:cNvSpPr/>
          <p:nvPr/>
        </p:nvSpPr>
        <p:spPr>
          <a:xfrm rot="450600">
            <a:off x="588960" y="2633400"/>
            <a:ext cx="1111320" cy="817560"/>
          </a:xfrm>
          <a:custGeom>
            <a:avLst/>
            <a:gdLst>
              <a:gd name="textAreaLeft" fmla="*/ 0 w 1111320"/>
              <a:gd name="textAreaRight" fmla="*/ 1036080 w 11113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111250" h="817562">
                <a:moveTo>
                  <a:pt x="0" y="408780"/>
                </a:moveTo>
                <a:lnTo>
                  <a:pt x="0" y="408780"/>
                </a:lnTo>
                <a:arcTo wR="555625" hR="408781" stAng="-10799994" swAng="9411170"/>
                <a:lnTo>
                  <a:pt x="970194" y="231550"/>
                </a:lnTo>
                <a:lnTo>
                  <a:pt x="970194" y="231550"/>
                </a:lnTo>
                <a:arcTo wR="486157" hR="339313" stAng="-1388822" swAng="-941117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Арка 9"/>
          <p:cNvSpPr/>
          <p:nvPr/>
        </p:nvSpPr>
        <p:spPr>
          <a:xfrm rot="450600">
            <a:off x="4909680" y="269388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960 h 817560"/>
            </a:gdLst>
            <a:ahLst/>
            <a:rect l="textAreaLeft" t="textAreaTop" r="textAreaRight" b="textAreaBottom"/>
            <a:pathLst>
              <a:path w="914400" h="817562">
                <a:moveTo>
                  <a:pt x="0" y="408780"/>
                </a:moveTo>
                <a:lnTo>
                  <a:pt x="0" y="408780"/>
                </a:lnTo>
                <a:arcTo wR="457200" hR="408781" stAng="-10799992" swAng="9411166"/>
                <a:lnTo>
                  <a:pt x="805584" y="259844"/>
                </a:lnTo>
                <a:lnTo>
                  <a:pt x="805584" y="259844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Арка 10"/>
          <p:cNvSpPr/>
          <p:nvPr/>
        </p:nvSpPr>
        <p:spPr>
          <a:xfrm rot="450600">
            <a:off x="3828600" y="269388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960 h 817560"/>
            </a:gdLst>
            <a:ahLst/>
            <a:rect l="textAreaLeft" t="textAreaTop" r="textAreaRight" b="textAreaBottom"/>
            <a:pathLst>
              <a:path w="914400" h="817562">
                <a:moveTo>
                  <a:pt x="0" y="408780"/>
                </a:moveTo>
                <a:lnTo>
                  <a:pt x="0" y="408780"/>
                </a:lnTo>
                <a:arcTo wR="457200" hR="408781" stAng="-10799992" swAng="9411166"/>
                <a:lnTo>
                  <a:pt x="805584" y="259844"/>
                </a:lnTo>
                <a:lnTo>
                  <a:pt x="805584" y="259844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Арка 11"/>
          <p:cNvSpPr/>
          <p:nvPr/>
        </p:nvSpPr>
        <p:spPr>
          <a:xfrm rot="450600">
            <a:off x="5486040" y="204480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914400" h="817563">
                <a:moveTo>
                  <a:pt x="0" y="408781"/>
                </a:moveTo>
                <a:lnTo>
                  <a:pt x="0" y="408781"/>
                </a:lnTo>
                <a:arcTo wR="457200" hR="408782" stAng="-10799992" swAng="9411169"/>
                <a:lnTo>
                  <a:pt x="805584" y="259845"/>
                </a:lnTo>
                <a:lnTo>
                  <a:pt x="805584" y="259845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Арка 12"/>
          <p:cNvSpPr/>
          <p:nvPr/>
        </p:nvSpPr>
        <p:spPr>
          <a:xfrm rot="450600">
            <a:off x="2244240" y="211788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914400" h="817563">
                <a:moveTo>
                  <a:pt x="0" y="408781"/>
                </a:moveTo>
                <a:lnTo>
                  <a:pt x="0" y="408781"/>
                </a:lnTo>
                <a:arcTo wR="457200" hR="408782" stAng="-10799992" swAng="9411169"/>
                <a:lnTo>
                  <a:pt x="805584" y="259845"/>
                </a:lnTo>
                <a:lnTo>
                  <a:pt x="805584" y="259845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Арка 13"/>
          <p:cNvSpPr/>
          <p:nvPr/>
        </p:nvSpPr>
        <p:spPr>
          <a:xfrm rot="450600">
            <a:off x="4333680" y="204480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914400" h="817563">
                <a:moveTo>
                  <a:pt x="0" y="408781"/>
                </a:moveTo>
                <a:lnTo>
                  <a:pt x="0" y="408781"/>
                </a:lnTo>
                <a:arcTo wR="457200" hR="408782" stAng="-10799992" swAng="9411169"/>
                <a:lnTo>
                  <a:pt x="805584" y="259845"/>
                </a:lnTo>
                <a:lnTo>
                  <a:pt x="805584" y="259845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Арка 14"/>
          <p:cNvSpPr/>
          <p:nvPr/>
        </p:nvSpPr>
        <p:spPr>
          <a:xfrm rot="450600">
            <a:off x="2100240" y="3936960"/>
            <a:ext cx="1222560" cy="817560"/>
          </a:xfrm>
          <a:custGeom>
            <a:avLst/>
            <a:gdLst>
              <a:gd name="textAreaLeft" fmla="*/ 12240 w 1222560"/>
              <a:gd name="textAreaRight" fmla="*/ 1126440 w 1222560"/>
              <a:gd name="textAreaTop" fmla="*/ 0 h 817560"/>
              <a:gd name="textAreaBottom" fmla="*/ 336960 h 817560"/>
            </a:gdLst>
            <a:ahLst/>
            <a:rect l="textAreaLeft" t="textAreaTop" r="textAreaRight" b="textAreaBottom"/>
            <a:pathLst>
              <a:path w="1222375" h="817563">
                <a:moveTo>
                  <a:pt x="12242" y="327376"/>
                </a:moveTo>
                <a:lnTo>
                  <a:pt x="12242" y="327376"/>
                </a:lnTo>
                <a:arcTo wR="611188" hR="408782" stAng="-10335603" swAng="8946782"/>
                <a:lnTo>
                  <a:pt x="1058624" y="217499"/>
                </a:lnTo>
                <a:lnTo>
                  <a:pt x="1058624" y="217499"/>
                </a:lnTo>
                <a:arcTo wR="541719" hR="339313" stAng="-1388823" swAng="-894678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Арка 15"/>
          <p:cNvSpPr/>
          <p:nvPr/>
        </p:nvSpPr>
        <p:spPr>
          <a:xfrm rot="450600">
            <a:off x="2100240" y="3281040"/>
            <a:ext cx="1111320" cy="817560"/>
          </a:xfrm>
          <a:custGeom>
            <a:avLst/>
            <a:gdLst>
              <a:gd name="textAreaLeft" fmla="*/ 0 w 1111320"/>
              <a:gd name="textAreaRight" fmla="*/ 1036080 w 11113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111250" h="817562">
                <a:moveTo>
                  <a:pt x="0" y="408780"/>
                </a:moveTo>
                <a:lnTo>
                  <a:pt x="0" y="408780"/>
                </a:lnTo>
                <a:arcTo wR="555625" hR="408781" stAng="-10799994" swAng="9411170"/>
                <a:lnTo>
                  <a:pt x="970194" y="231550"/>
                </a:lnTo>
                <a:lnTo>
                  <a:pt x="970194" y="231550"/>
                </a:lnTo>
                <a:arcTo wR="486157" hR="339313" stAng="-1388822" swAng="-941117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Арка 16"/>
          <p:cNvSpPr/>
          <p:nvPr/>
        </p:nvSpPr>
        <p:spPr>
          <a:xfrm rot="766800">
            <a:off x="684000" y="3862080"/>
            <a:ext cx="1406520" cy="817560"/>
          </a:xfrm>
          <a:custGeom>
            <a:avLst/>
            <a:gdLst>
              <a:gd name="textAreaLeft" fmla="*/ 0 w 1406520"/>
              <a:gd name="textAreaRight" fmla="*/ 1270080 w 14065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406525" h="817562">
                <a:moveTo>
                  <a:pt x="0" y="408780"/>
                </a:moveTo>
                <a:lnTo>
                  <a:pt x="0" y="408780"/>
                </a:lnTo>
                <a:arcTo wR="703263" hR="408781" stAng="-10799995" swAng="9411168"/>
                <a:lnTo>
                  <a:pt x="1198527" y="197052"/>
                </a:lnTo>
                <a:lnTo>
                  <a:pt x="1198527" y="197052"/>
                </a:lnTo>
                <a:arcTo wR="633794" hR="339313" stAng="-1388821" swAng="-941117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Арка 17"/>
          <p:cNvSpPr/>
          <p:nvPr/>
        </p:nvSpPr>
        <p:spPr>
          <a:xfrm rot="450600">
            <a:off x="3827520" y="3868200"/>
            <a:ext cx="1263600" cy="817920"/>
          </a:xfrm>
          <a:custGeom>
            <a:avLst/>
            <a:gdLst>
              <a:gd name="textAreaLeft" fmla="*/ 0 w 1263600"/>
              <a:gd name="textAreaRight" fmla="*/ 1159200 w 1263600"/>
              <a:gd name="textAreaTop" fmla="*/ 0 h 817920"/>
              <a:gd name="textAreaBottom" fmla="*/ 408960 h 817920"/>
            </a:gdLst>
            <a:ahLst/>
            <a:rect l="textAreaLeft" t="textAreaTop" r="textAreaRight" b="textAreaBottom"/>
            <a:pathLst>
              <a:path w="1263650" h="817562">
                <a:moveTo>
                  <a:pt x="0" y="408780"/>
                </a:moveTo>
                <a:lnTo>
                  <a:pt x="0" y="408780"/>
                </a:lnTo>
                <a:arcTo wR="631825" hR="408781" stAng="-10799995" swAng="9411169"/>
                <a:lnTo>
                  <a:pt x="1090680" y="212617"/>
                </a:lnTo>
                <a:lnTo>
                  <a:pt x="1090680" y="212617"/>
                </a:lnTo>
                <a:arcTo wR="562357" hR="339313" stAng="-1388822" swAng="-941117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Арка 18"/>
          <p:cNvSpPr/>
          <p:nvPr/>
        </p:nvSpPr>
        <p:spPr>
          <a:xfrm rot="450600">
            <a:off x="5268600" y="3867120"/>
            <a:ext cx="1244520" cy="817560"/>
          </a:xfrm>
          <a:custGeom>
            <a:avLst/>
            <a:gdLst>
              <a:gd name="textAreaLeft" fmla="*/ 0 w 1244520"/>
              <a:gd name="textAreaRight" fmla="*/ 1144080 w 12445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244600" h="817563">
                <a:moveTo>
                  <a:pt x="0" y="408781"/>
                </a:moveTo>
                <a:lnTo>
                  <a:pt x="0" y="408781"/>
                </a:lnTo>
                <a:arcTo wR="622300" hR="408782" stAng="-10799994" swAng="9411167"/>
                <a:lnTo>
                  <a:pt x="1075937" y="214848"/>
                </a:lnTo>
                <a:lnTo>
                  <a:pt x="1075937" y="214848"/>
                </a:lnTo>
                <a:arcTo wR="552832" hR="339313" stAng="-1388823" swAng="-941117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Арка 19"/>
          <p:cNvSpPr/>
          <p:nvPr/>
        </p:nvSpPr>
        <p:spPr>
          <a:xfrm rot="450600">
            <a:off x="4046040" y="3262320"/>
            <a:ext cx="816120" cy="817560"/>
          </a:xfrm>
          <a:custGeom>
            <a:avLst/>
            <a:gdLst>
              <a:gd name="textAreaLeft" fmla="*/ 0 w 816120"/>
              <a:gd name="textAreaRight" fmla="*/ 783720 w 816120"/>
              <a:gd name="textAreaTop" fmla="*/ 0 h 817560"/>
              <a:gd name="textAreaBottom" fmla="*/ 408960 h 817560"/>
            </a:gdLst>
            <a:ahLst/>
            <a:rect l="textAreaLeft" t="textAreaTop" r="textAreaRight" b="textAreaBottom"/>
            <a:pathLst>
              <a:path w="815975" h="817562">
                <a:moveTo>
                  <a:pt x="0" y="408781"/>
                </a:moveTo>
                <a:lnTo>
                  <a:pt x="0" y="408781"/>
                </a:lnTo>
                <a:arcTo wR="407988" hR="408781" stAng="10800000" swAng="9411177"/>
                <a:lnTo>
                  <a:pt x="719492" y="275611"/>
                </a:lnTo>
                <a:lnTo>
                  <a:pt x="719493" y="275611"/>
                </a:lnTo>
                <a:arcTo wR="338654" hR="339448" stAng="-1388822" swAng="-941117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Арка 20"/>
          <p:cNvSpPr/>
          <p:nvPr/>
        </p:nvSpPr>
        <p:spPr>
          <a:xfrm rot="450600">
            <a:off x="5052600" y="3339720"/>
            <a:ext cx="889200" cy="817560"/>
          </a:xfrm>
          <a:custGeom>
            <a:avLst/>
            <a:gdLst>
              <a:gd name="textAreaLeft" fmla="*/ 0 w 889200"/>
              <a:gd name="textAreaRight" fmla="*/ 847800 w 88920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889000" h="817563">
                <a:moveTo>
                  <a:pt x="0" y="408781"/>
                </a:moveTo>
                <a:lnTo>
                  <a:pt x="0" y="408781"/>
                </a:lnTo>
                <a:arcTo wR="444500" hR="408782" stAng="-10799992" swAng="9411164"/>
                <a:lnTo>
                  <a:pt x="783584" y="263820"/>
                </a:lnTo>
                <a:lnTo>
                  <a:pt x="783584" y="263820"/>
                </a:lnTo>
                <a:arcTo wR="375032" hR="339313" stAng="-1388825" swAng="-941117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24"/>
          <p:cNvSpPr/>
          <p:nvPr/>
        </p:nvSpPr>
        <p:spPr>
          <a:xfrm flipH="1">
            <a:off x="1763280" y="2133720"/>
            <a:ext cx="14436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26"/>
          <p:cNvSpPr/>
          <p:nvPr/>
        </p:nvSpPr>
        <p:spPr>
          <a:xfrm flipH="1">
            <a:off x="2916360" y="2349360"/>
            <a:ext cx="7128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8"/>
          <p:cNvSpPr/>
          <p:nvPr/>
        </p:nvSpPr>
        <p:spPr>
          <a:xfrm flipH="1">
            <a:off x="4858920" y="2205000"/>
            <a:ext cx="730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0"/>
          <p:cNvSpPr/>
          <p:nvPr/>
        </p:nvSpPr>
        <p:spPr>
          <a:xfrm flipH="1">
            <a:off x="6012000" y="2205000"/>
            <a:ext cx="7272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2"/>
          <p:cNvSpPr/>
          <p:nvPr/>
        </p:nvSpPr>
        <p:spPr>
          <a:xfrm flipH="1">
            <a:off x="1763280" y="2781360"/>
            <a:ext cx="7164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4"/>
          <p:cNvSpPr/>
          <p:nvPr/>
        </p:nvSpPr>
        <p:spPr>
          <a:xfrm flipH="1">
            <a:off x="3564000" y="2781360"/>
            <a:ext cx="712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6"/>
          <p:cNvSpPr/>
          <p:nvPr/>
        </p:nvSpPr>
        <p:spPr>
          <a:xfrm flipH="1">
            <a:off x="4140000" y="2781360"/>
            <a:ext cx="14436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38"/>
          <p:cNvSpPr/>
          <p:nvPr/>
        </p:nvSpPr>
        <p:spPr>
          <a:xfrm flipH="1">
            <a:off x="6012000" y="2781360"/>
            <a:ext cx="7272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40"/>
          <p:cNvSpPr/>
          <p:nvPr/>
        </p:nvSpPr>
        <p:spPr>
          <a:xfrm flipH="1">
            <a:off x="1331640" y="3429000"/>
            <a:ext cx="144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42"/>
          <p:cNvSpPr/>
          <p:nvPr/>
        </p:nvSpPr>
        <p:spPr>
          <a:xfrm flipH="1">
            <a:off x="2771280" y="3429000"/>
            <a:ext cx="7164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44"/>
          <p:cNvSpPr/>
          <p:nvPr/>
        </p:nvSpPr>
        <p:spPr>
          <a:xfrm flipH="1">
            <a:off x="4211280" y="3500280"/>
            <a:ext cx="73080" cy="73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46"/>
          <p:cNvSpPr/>
          <p:nvPr/>
        </p:nvSpPr>
        <p:spPr>
          <a:xfrm flipH="1">
            <a:off x="5219280" y="3429000"/>
            <a:ext cx="144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48"/>
          <p:cNvSpPr/>
          <p:nvPr/>
        </p:nvSpPr>
        <p:spPr>
          <a:xfrm flipH="1">
            <a:off x="1402920" y="4005360"/>
            <a:ext cx="144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50"/>
          <p:cNvSpPr/>
          <p:nvPr/>
        </p:nvSpPr>
        <p:spPr>
          <a:xfrm flipH="1">
            <a:off x="2916000" y="4005360"/>
            <a:ext cx="14292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2"/>
          <p:cNvSpPr/>
          <p:nvPr/>
        </p:nvSpPr>
        <p:spPr>
          <a:xfrm flipH="1">
            <a:off x="4427280" y="4005360"/>
            <a:ext cx="7308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54"/>
          <p:cNvSpPr/>
          <p:nvPr/>
        </p:nvSpPr>
        <p:spPr>
          <a:xfrm flipH="1">
            <a:off x="5796000" y="3933720"/>
            <a:ext cx="712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авит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то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д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508720" y="160020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бь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E46C-51DE-465B-8B99-29277335388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5219-1125-40C3-967D-1591BE4BD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3054240" y="1981080"/>
            <a:ext cx="24926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т мы руки развели, словно удивилис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уг другу до земли низко поклонилис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клонились, выпрямилис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клонились, выпрямили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же, дети, не ленитесь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лонитесь, улыбнитес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812000" y="1600200"/>
            <a:ext cx="87480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A172-9FFF-4DFC-A822-3FEF241BD2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EAA7-9542-40E9-9449-758B65955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о словар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ф…вит, оз…ро, ж…лтый, зв..зда, пл…щадка, ч…сы, б…льница, н…ябрь, ябл…ко, м…ряк, л…ства, б…рёза, п…ль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alibri"/>
              </a:rPr>
              <a:t>Можно провери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Нельзя провери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FB3C-D7E7-464C-BBF2-2850C90176F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06D4-B2AB-400B-838B-B16EB8DCD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2" descr=""/>
          <p:cNvPicPr/>
          <p:nvPr/>
        </p:nvPicPr>
        <p:blipFill>
          <a:blip r:embed="rId1"/>
          <a:srcRect l="0" t="0" r="31941" b="0"/>
          <a:stretch/>
        </p:blipFill>
        <p:spPr>
          <a:xfrm>
            <a:off x="684360" y="1844640"/>
            <a:ext cx="3314520" cy="3240000"/>
          </a:xfrm>
          <a:prstGeom prst="rect">
            <a:avLst/>
          </a:prstGeom>
          <a:ln w="0">
            <a:noFill/>
          </a:ln>
        </p:spPr>
      </p:pic>
      <p:grpSp>
        <p:nvGrpSpPr>
          <p:cNvPr id="253" name="Группа 11"/>
          <p:cNvGrpSpPr/>
          <p:nvPr/>
        </p:nvGrpSpPr>
        <p:grpSpPr>
          <a:xfrm>
            <a:off x="5321160" y="6845400"/>
            <a:ext cx="360" cy="360"/>
            <a:chOff x="5321160" y="6845400"/>
            <a:chExt cx="360" cy="360"/>
          </a:xfrm>
        </p:grpSpPr>
        <p:sp>
          <p:nvSpPr>
            <p:cNvPr id="254" name="Полилиния 12"/>
            <p:cNvSpPr/>
            <p:nvPr/>
          </p:nvSpPr>
          <p:spPr>
            <a:xfrm>
              <a:off x="5321160" y="6845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lose/>
                </a:path>
              </a:pathLst>
            </a:custGeom>
            <a:noFill/>
            <a:ln w="23040">
              <a:solidFill>
                <a:srgbClr val="00b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Полилиния 13"/>
            <p:cNvSpPr/>
            <p:nvPr/>
          </p:nvSpPr>
          <p:spPr>
            <a:xfrm>
              <a:off x="5321160" y="6845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lose/>
                </a:path>
              </a:pathLst>
            </a:custGeom>
            <a:noFill/>
            <a:ln w="23040">
              <a:solidFill>
                <a:srgbClr val="00b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олилиния 14"/>
            <p:cNvSpPr/>
            <p:nvPr/>
          </p:nvSpPr>
          <p:spPr>
            <a:xfrm>
              <a:off x="5321160" y="6845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lose/>
                </a:path>
              </a:pathLst>
            </a:custGeom>
            <a:noFill/>
            <a:ln w="23040">
              <a:solidFill>
                <a:srgbClr val="00b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123640" y="620280"/>
            <a:ext cx="3251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сы красные вися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кустов на нас гляд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любят бусы э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, птицы и медве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Объект 2" descr=""/>
          <p:cNvPicPr/>
          <p:nvPr/>
        </p:nvPicPr>
        <p:blipFill>
          <a:blip r:embed="rId1"/>
          <a:stretch/>
        </p:blipFill>
        <p:spPr>
          <a:xfrm>
            <a:off x="1042920" y="579600"/>
            <a:ext cx="5905440" cy="4066920"/>
          </a:xfrm>
          <a:prstGeom prst="rect">
            <a:avLst/>
          </a:prstGeom>
          <a:ln w="0">
            <a:noFill/>
          </a:ln>
        </p:spPr>
      </p:pic>
      <p:sp>
        <p:nvSpPr>
          <p:cNvPr id="26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0A1A-E15B-4416-B161-644B8F97B3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8E9A-8F1F-4758-9DA4-3C70C03A0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ngsana New"/>
              </a:rPr>
              <a:t>Работа с интерактивной  дос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AD5E-84D4-4412-80A1-066D8BBD8A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8450-4104-432F-980D-35F19BDEC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фразеологизм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ь на ухо наступ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щит как со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зык до киева довед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жать во все лопа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6D3-AFF2-499B-B7AD-2BBB31D580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CCD8-DD9F-446F-83D4-3812C4C73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Объект 5" descr=""/>
          <p:cNvPicPr/>
          <p:nvPr/>
        </p:nvPicPr>
        <p:blipFill>
          <a:blip r:embed="rId1"/>
          <a:srcRect l="14426" t="0" r="19215" b="0"/>
          <a:stretch/>
        </p:blipFill>
        <p:spPr>
          <a:xfrm>
            <a:off x="6443640" y="1989000"/>
            <a:ext cx="23050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7:13:36Z</dcterms:created>
  <dc:creator>1</dc:creator>
  <dc:description/>
  <dc:language>en-US</dc:language>
  <cp:lastModifiedBy>INF99</cp:lastModifiedBy>
  <dcterms:modified xsi:type="dcterms:W3CDTF">2017-11-22T02:52:02Z</dcterms:modified>
  <cp:revision>103</cp:revision>
  <dc:subject/>
  <dc:title>БЕЗУДАРНЫЕ ГЛАСНЫЕ</dc:title>
</cp:coreProperties>
</file>