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11.png" ContentType="image/png"/>
  <Override PartName="/ppt/media/image7.png" ContentType="image/png"/>
  <Override PartName="/ppt/media/image15.wmf" ContentType="image/x-wmf"/>
  <Override PartName="/ppt/media/image12.png" ContentType="image/png"/>
  <Override PartName="/ppt/media/image16.wmf" ContentType="image/x-wmf"/>
  <Override PartName="/ppt/media/image8.png" ContentType="image/png"/>
  <Override PartName="/ppt/media/image31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9.png" ContentType="image/png"/>
  <Override PartName="/ppt/media/image33.wmf" ContentType="image/x-wmf"/>
  <Override PartName="/ppt/media/image6.png" ContentType="image/png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CDF2-FCA4-4B0B-A2FA-143870C99E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0DD-9E31-491C-A023-E1F83FA6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9B0-875F-4EF3-8E8D-18313CB5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8C5-1782-456D-9797-3459ACA8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32F-535C-4A0F-99FA-F2596091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396-42AB-4564-8DA9-7AB5E65B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1FF-CF75-4EA8-83C7-F120C620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76E-75E7-4BE5-9D1B-DB34DF96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D33-B4F6-496B-9450-31199921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BCE-27BE-46AE-826C-049DDDBF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4A6-B295-4266-A1B8-0F29A960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62E-05B9-4AA1-99F5-3A299C85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5C9-A2E7-4466-834A-2FABB4FA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1397-67F9-4772-B7A2-3D21C2E0F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Е МЕЖДУ ПРЯМЫМИ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1295280"/>
            <a:ext cx="533412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двум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е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ересекающимися прямыми в пространстве называетс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длина общего перпендикуляра, проведенного к этим прямы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Если одна из двух данных прямых лежит в плоскости, а другая –  параллельна этой плоскости, то расстояние между данными прямыми равно расстоянию между прямой и плоскост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сли ортогональная проекция на плоскость  переводит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точку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а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то расстояние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ежду прямым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вно расстояни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 точк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о прямой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3387960" cy="229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6576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808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C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54400" y="1555920"/>
            <a:ext cx="44337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3049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685800" y="5029200"/>
            <a:ext cx="5943600" cy="520560"/>
            <a:chOff x="685800" y="5029200"/>
            <a:chExt cx="5943600" cy="520560"/>
          </a:xfrm>
        </p:grpSpPr>
        <p:sp>
          <p:nvSpPr>
            <p:cNvPr id="82" name=""/>
            <p:cNvSpPr/>
            <p:nvPr/>
          </p:nvSpPr>
          <p:spPr>
            <a:xfrm>
              <a:off x="685800" y="50292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1828800" y="5029200"/>
            <a:ext cx="53352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5029200"/>
                      <a:ext cx="5335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808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68800" cy="33544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533520" y="1371600"/>
            <a:ext cx="8381880" cy="5029200"/>
            <a:chOff x="533520" y="1371600"/>
            <a:chExt cx="8381880" cy="5029200"/>
          </a:xfrm>
        </p:grpSpPr>
        <p:sp>
          <p:nvSpPr>
            <p:cNvPr id="88" name=""/>
            <p:cNvSpPr/>
            <p:nvPr/>
          </p:nvSpPr>
          <p:spPr>
            <a:xfrm>
              <a:off x="6094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" name=""/>
            <p:cNvGraphicFramePr/>
            <p:nvPr/>
          </p:nvGraphicFramePr>
          <p:xfrm>
            <a:off x="1828800" y="5486400"/>
            <a:ext cx="62244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54864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533520" y="472428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асстоянием является длина отрез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O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Она равна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2" name=""/>
            <p:cNvGraphicFramePr/>
            <p:nvPr/>
          </p:nvGraphicFramePr>
          <p:xfrm>
            <a:off x="5638680" y="5105520"/>
            <a:ext cx="62244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38680" y="510552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2438280" y="1371600"/>
              <a:ext cx="4168800" cy="335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3808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480" y="5486400"/>
            <a:ext cx="5943600" cy="914400"/>
            <a:chOff x="609480" y="5486400"/>
            <a:chExt cx="5943600" cy="914400"/>
          </a:xfrm>
        </p:grpSpPr>
        <p:sp>
          <p:nvSpPr>
            <p:cNvPr id="97" name=""/>
            <p:cNvSpPr/>
            <p:nvPr/>
          </p:nvSpPr>
          <p:spPr>
            <a:xfrm>
              <a:off x="6094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828800" y="5486400"/>
            <a:ext cx="62244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54864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286000" y="1371600"/>
            <a:ext cx="39625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380880"/>
            <a:ext cx="876312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168800" cy="335448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609480" y="1371600"/>
            <a:ext cx="8001000" cy="5029200"/>
            <a:chOff x="609480" y="1371600"/>
            <a:chExt cx="8001000" cy="5029200"/>
          </a:xfrm>
        </p:grpSpPr>
        <p:grpSp>
          <p:nvGrpSpPr>
            <p:cNvPr id="104" name=""/>
            <p:cNvGrpSpPr/>
            <p:nvPr/>
          </p:nvGrpSpPr>
          <p:grpSpPr>
            <a:xfrm>
              <a:off x="609480" y="4800600"/>
              <a:ext cx="8001000" cy="1600200"/>
              <a:chOff x="609480" y="4800600"/>
              <a:chExt cx="8001000" cy="1600200"/>
            </a:xfrm>
          </p:grpSpPr>
          <p:sp>
            <p:nvSpPr>
              <p:cNvPr id="105" name=""/>
              <p:cNvSpPr/>
              <p:nvPr/>
            </p:nvSpPr>
            <p:spPr>
              <a:xfrm>
                <a:off x="685800" y="571500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          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6" name=""/>
              <p:cNvGraphicFramePr/>
              <p:nvPr/>
            </p:nvGraphicFramePr>
            <p:xfrm>
              <a:off x="1905120" y="5486400"/>
              <a:ext cx="62208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905120" y="5486400"/>
                        <a:ext cx="62208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609480" y="4800600"/>
                <a:ext cx="800100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Решение.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Пусть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P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,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Q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 – середины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AA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,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BD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скомым расстоянием является длина отрезка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PQ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. Она равн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9" name=""/>
              <p:cNvGraphicFramePr/>
              <p:nvPr/>
            </p:nvGraphicFramePr>
            <p:xfrm>
              <a:off x="7467480" y="5105520"/>
              <a:ext cx="622440" cy="9144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10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467480" y="5105520"/>
                        <a:ext cx="62244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2286000" y="1371600"/>
              <a:ext cx="4168800" cy="335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380880"/>
            <a:ext cx="876312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85800" y="5486400"/>
            <a:ext cx="5943600" cy="914400"/>
            <a:chOff x="685800" y="5486400"/>
            <a:chExt cx="5943600" cy="914400"/>
          </a:xfrm>
        </p:grpSpPr>
        <p:sp>
          <p:nvSpPr>
            <p:cNvPr id="114" name=""/>
            <p:cNvSpPr/>
            <p:nvPr/>
          </p:nvSpPr>
          <p:spPr>
            <a:xfrm>
              <a:off x="68580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1905120" y="5486400"/>
            <a:ext cx="62208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5486400"/>
                      <a:ext cx="6220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354400" y="1555920"/>
            <a:ext cx="44337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380880"/>
            <a:ext cx="883944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71772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380880"/>
            <a:ext cx="876312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C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168800" cy="335412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0" y="1523880"/>
            <a:ext cx="8991720" cy="4584960"/>
            <a:chOff x="0" y="1523880"/>
            <a:chExt cx="8991720" cy="4584960"/>
          </a:xfrm>
        </p:grpSpPr>
        <p:sp>
          <p:nvSpPr>
            <p:cNvPr id="124" name=""/>
            <p:cNvSpPr/>
            <p:nvPr/>
          </p:nvSpPr>
          <p:spPr>
            <a:xfrm>
              <a:off x="533520" y="533412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1752480" y="5181480"/>
            <a:ext cx="596880" cy="92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5181480"/>
                      <a:ext cx="59688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>
              <a:off x="4114800" y="1523880"/>
              <a:ext cx="4876920" cy="35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Искомое р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асстояние равно расстоянию между параллельными плоскостям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4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D</a:t>
              </a:r>
              <a:r>
                <a:rPr b="0" lang="ru-RU" sz="24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BDC</a:t>
              </a:r>
              <a:r>
                <a:rPr b="0" lang="ru-RU" sz="24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. Диагонал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перпендикулярна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этим плоскостям и делится в точках пересечения на три равные части. Следовательно, искомое расстояние равно длине отрез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E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и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6705720" y="4419720"/>
            <a:ext cx="596880" cy="92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05720" y="4419720"/>
                      <a:ext cx="59688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0" name="" descr=""/>
            <p:cNvPicPr/>
            <p:nvPr/>
          </p:nvPicPr>
          <p:blipFill>
            <a:blip r:embed="rId6"/>
            <a:stretch/>
          </p:blipFill>
          <p:spPr>
            <a:xfrm>
              <a:off x="0" y="1676520"/>
              <a:ext cx="4168800" cy="335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380880"/>
            <a:ext cx="883944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717720" cy="301644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609480" y="4876920"/>
            <a:ext cx="7620120" cy="1384200"/>
            <a:chOff x="609480" y="4876920"/>
            <a:chExt cx="7620120" cy="1384200"/>
          </a:xfrm>
        </p:grpSpPr>
        <p:grpSp>
          <p:nvGrpSpPr>
            <p:cNvPr id="134" name=""/>
            <p:cNvGrpSpPr/>
            <p:nvPr/>
          </p:nvGrpSpPr>
          <p:grpSpPr>
            <a:xfrm>
              <a:off x="685800" y="5334120"/>
              <a:ext cx="5943600" cy="927000"/>
              <a:chOff x="685800" y="5334120"/>
              <a:chExt cx="5943600" cy="92700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548640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6" name=""/>
              <p:cNvGraphicFramePr/>
              <p:nvPr/>
            </p:nvGraphicFramePr>
            <p:xfrm>
              <a:off x="1905120" y="5334120"/>
              <a:ext cx="596880" cy="9270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905120" y="5334120"/>
                        <a:ext cx="596880" cy="92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8" name=""/>
            <p:cNvSpPr/>
            <p:nvPr/>
          </p:nvSpPr>
          <p:spPr>
            <a:xfrm>
              <a:off x="609480" y="487692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Решение аналогично предыдущему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380880"/>
            <a:ext cx="883944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09480" y="4876920"/>
            <a:ext cx="7620120" cy="1384200"/>
            <a:chOff x="609480" y="4876920"/>
            <a:chExt cx="7620120" cy="1384200"/>
          </a:xfrm>
        </p:grpSpPr>
        <p:grpSp>
          <p:nvGrpSpPr>
            <p:cNvPr id="141" name=""/>
            <p:cNvGrpSpPr/>
            <p:nvPr/>
          </p:nvGrpSpPr>
          <p:grpSpPr>
            <a:xfrm>
              <a:off x="685800" y="5334120"/>
              <a:ext cx="5943600" cy="927000"/>
              <a:chOff x="685800" y="5334120"/>
              <a:chExt cx="5943600" cy="927000"/>
            </a:xfrm>
          </p:grpSpPr>
          <p:sp>
            <p:nvSpPr>
              <p:cNvPr id="142" name=""/>
              <p:cNvSpPr/>
              <p:nvPr/>
            </p:nvSpPr>
            <p:spPr>
              <a:xfrm>
                <a:off x="685800" y="548640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3" name=""/>
              <p:cNvGraphicFramePr/>
              <p:nvPr/>
            </p:nvGraphicFramePr>
            <p:xfrm>
              <a:off x="1905120" y="5334120"/>
              <a:ext cx="596880" cy="927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05120" y="5334120"/>
                        <a:ext cx="596880" cy="92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5" name=""/>
            <p:cNvSpPr/>
            <p:nvPr/>
          </p:nvSpPr>
          <p:spPr>
            <a:xfrm>
              <a:off x="609480" y="487692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Решение аналогично предыдущему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590920" y="1523880"/>
            <a:ext cx="38862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3049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380880"/>
            <a:ext cx="89154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168800" cy="335412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0" y="1676520"/>
            <a:ext cx="8991720" cy="4356000"/>
            <a:chOff x="0" y="1676520"/>
            <a:chExt cx="8991720" cy="4356000"/>
          </a:xfrm>
        </p:grpSpPr>
        <p:sp>
          <p:nvSpPr>
            <p:cNvPr id="150" name=""/>
            <p:cNvSpPr/>
            <p:nvPr/>
          </p:nvSpPr>
          <p:spPr>
            <a:xfrm>
              <a:off x="609480" y="52578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1816200" y="5105520"/>
            <a:ext cx="62208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16200" y="5105520"/>
                      <a:ext cx="62208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4267080" y="1676520"/>
              <a:ext cx="4724640" cy="33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Диагонал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BD</a:t>
              </a:r>
              <a:r>
                <a:rPr b="0" lang="ru-RU" sz="24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перпендикулярна плоскости равностороннего 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CB</a:t>
              </a:r>
              <a:r>
                <a:rPr b="0" lang="ru-RU" sz="24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и пересекает его в центр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P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вписанной в него окружности. Искомое расстояние равно радиус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OP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этой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окружности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OP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0" y="1676520"/>
              <a:ext cx="4168800" cy="3354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55" name=""/>
            <p:cNvGraphicFramePr/>
            <p:nvPr/>
          </p:nvGraphicFramePr>
          <p:xfrm>
            <a:off x="5105520" y="4267080"/>
            <a:ext cx="622080" cy="927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05520" y="4267080"/>
                      <a:ext cx="62208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3049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C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3717720" cy="3016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3049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7180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3049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4337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3049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54400" y="1555920"/>
            <a:ext cx="44337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3808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C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718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3808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54400" y="1555920"/>
            <a:ext cx="44337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3808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718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*</cp:lastModifiedBy>
  <dcterms:modified xsi:type="dcterms:W3CDTF">2008-10-15T04:30:05Z</dcterms:modified>
  <cp:revision>19</cp:revision>
  <dc:subject/>
  <dc:title>УГОЛ МЕЖДУ ПРЯМЫМИ В ПРОСТРАНСТВЕ</dc:title>
</cp:coreProperties>
</file>