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7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9.jpeg" ContentType="image/jpeg"/>
  <Override PartName="/ppt/media/image20.jpeg" ContentType="image/jpeg"/>
  <Override PartName="/ppt/media/image21.png" ContentType="image/png"/>
  <Override PartName="/ppt/media/image2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703C-BC99-41D1-B6BE-D40AEB18C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3435-7CC0-4005-8C59-3F4B0701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D2AD0-1684-49A7-851E-7E009119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5844E-14AB-4BAE-B400-AB5FFF59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3BA88D-BBD6-41CA-9FED-8A475466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D9CD4D-70C8-4FBD-889F-CAC15053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BF29AB-9FEA-48E1-AE50-3058EE05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A30EA5-2543-4459-AD38-096C1D94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4F02F2-CE93-4DA5-AA6D-905E2191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F07655-BEAB-4A01-BAFC-4DC403CDD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E23D11-A9DE-450D-B40D-86DD9148F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DA84-A6FF-4F21-92D8-5CDE16A3C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0FF6-3F0D-4DB8-B5CE-A6F0D5CF1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6086-41F0-4DD9-8658-4C4F02A02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B0A1C-3546-44C8-8D43-2FC16709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F433-73CC-43C3-BFCB-CE911078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DF0A-5802-450A-86CF-BF10FACD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117C-50BB-4C44-8FD4-4C62EAF2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011F-57B7-479E-BA46-CA3784C1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024F5-4692-4235-80DF-DE8780C2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0AEF-71EA-4B45-8DFB-629D2587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B5E5-B552-4C04-948E-07FC1951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A29C0-7078-4D8C-A44B-BBC9BAE5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DFE4C-F823-4892-96F3-08D68908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FB42-4DF8-433E-BF22-211799362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8B674-0F9D-421C-B704-7725C78AB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DF5C7-4BD0-4A6D-8B1A-85378BC0E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55D7D-51C3-4D44-9C1A-75A896FE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CFC00-BE08-46A1-98B0-A5DB014F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E8032-A218-41B3-A434-87DCA2A1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1F915-79DE-4405-B804-42BA0EE4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9C51-A64A-4332-A53E-00B0FE73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33B27-7B77-4BC4-A465-48245613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D0C00-70EC-4A3E-9757-780507B3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A404E-8DAD-4D59-A8DC-02E0D61E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0F962-7FFF-4E7D-B858-E046755E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549F2-DD5D-4E02-B3FF-DE21CECE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60F4D-E3F0-4202-8435-7350A2950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28C2E-956B-49CD-8D1D-8BF330002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D5460-A8CE-4AE2-B751-21C32EEB6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95D8A-7B21-40CF-800B-A8D276CC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5002D-D638-4DE4-8458-307897F5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EC4E-32B7-4C9E-AC8B-A4D798EE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1D577-A49B-489D-899B-A0F9C031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9EC08-120B-4528-94EC-BAE19FBF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04314-EE62-4D8A-ABAD-6EC23D90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5D484-648C-4460-AE65-BE1C476C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48A81-3A0B-4915-8E0E-2E39D487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CE2C1-D4CF-429C-9E6D-A4E5CAD0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826D2-4EA2-4A8D-AF07-182836E5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A15A5-75DC-4073-8F82-FA09E7D22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5B4BD-5C4A-4CB5-B576-AD868C471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E6AE0-0B2D-493F-BBD2-B8834A9CD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0C22-2D42-45E0-AE4D-3E319B7D9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E4953-F707-448B-8E6D-9981F54D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C605C-9784-42FF-9A74-0A044863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78ACE-63BD-43C7-A946-0A1A4932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BE19B-4B15-46FA-B770-F142CDE3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FED9D-C6A7-44E2-B5FB-F66410EB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BB56B-F586-4E70-91FC-B355F960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6E8C1-C4B7-4F53-AD1D-D55552A6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D776B-5163-4117-82DE-4BCCE25C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8CE0D-A694-4DA1-8E59-45FBA825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E20C9-139A-4D13-B606-980619410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12E8-FF08-4F47-928D-5B90CFB7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51B35-55F7-465C-BD5D-A45C851DC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E9E43-1F50-4BD5-B650-522A50C14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072DE-9EAD-4E28-BDB1-0ABE2474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6C62E-BDDB-46E8-94BA-F9DADF1B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17B3E-1EE0-40D4-9D59-909D8EEF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E9292-2FB7-4B05-B2DB-C4FAFF5F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9EF11-5293-40E6-86C4-6C3C9767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CDA52-AF85-4AD0-8775-CA08F808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D1A34-8E5B-420F-A63D-6EFF82B5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15C49-8EAE-4E85-BE40-C29726D8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F026-9379-45EC-8E3E-8F6C386E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75FE1-A4DB-479C-9FE6-DB3CD5BA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3AE63-A38D-4CD9-B06F-F70790F2E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2EC96-96C0-4AAF-8F30-5679452E6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8656A-5894-4E5E-A8D8-9313EF8C0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861E3-98EA-40C6-BD98-2ABE807B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C9C84-4929-4FD2-B75C-417BB6C1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09DC4-FD5F-457F-A116-47ABCAB7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717B3-9978-4C55-8A28-453DD3D4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7A529-EF20-4806-BC1B-691EDF2E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4BA43-556F-4513-BA86-ED6969BB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2D80-8D39-4FFA-8868-9EE3CAA8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1C1D9-04DF-4C14-BF48-6F4BA292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0467C-D5D0-47AD-8C14-9D62B950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8862C-AAF9-4EBB-B9EF-321D767F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E6165-CC4F-44F3-9DF7-D5C2C3F50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13ECC-5447-423D-A1F1-608C27268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2D614-70FD-4237-BB0E-6DFC318FE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D548C-781B-49D0-9E9B-F49F8C7D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EC277-3F94-4640-A22E-F754AC44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D1564-1E66-40A4-B329-FA3400A5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7AB60-3F5C-4FC7-B735-8A78FED3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D84C-11AD-463F-9D6E-5E8508CC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92BC9-38B5-4DA5-9B9C-F9E73357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C8DF0-9016-4CF4-9310-79CD099B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BF428-2C7D-4F02-BE02-72E1D258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B25CA-032B-4C12-8895-E3E75E58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655E4-990F-4B97-8BAE-01434FB1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EB548-CDD3-4790-B3FB-A7F270DF4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B24B5-AE87-46EF-825A-759ED915B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59675-7E4B-4BB8-B1BB-6084E82EF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491F7-B117-4830-8B15-4112EAEA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CD1849-AB19-495D-93DD-E6497DAE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683B-AC14-4A5D-8245-BB5FFBFEC94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BE01-C339-471A-B80E-88E85869A9E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FC75-324F-4AC2-A2F8-67640165909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D103-F4B2-437D-B56E-AB540FB536E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557E-CE15-4DE0-A4FE-6A0068134C4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8766-07CD-4E89-B3EE-34BD2A58CE4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ADC6-0986-43C7-B5C0-D6A9778467C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42CA-18DE-4C96-9E7E-11C4C2DD25D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28B8-08D5-4B44-84E8-E330B4F1446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Franklin Gothic Medium"/>
              </a:rPr>
              <a:t>«ДЫМКОВСКАЯ ИГРУШКА»</a:t>
            </a:r>
            <a:br>
              <a:rPr sz="4800"/>
            </a:br>
            <a:r>
              <a:rPr b="1" lang="ru-RU" sz="2400" spc="-1" strike="noStrike">
                <a:solidFill>
                  <a:srgbClr val="000000"/>
                </a:solidFill>
                <a:latin typeface="Franklin Gothic Medium"/>
              </a:rPr>
              <a:t>ПРЕЗЕНТАЦИЯ ДЛЯ ДЕТЕЙ МЛАДШЕГО ДОШКОЛЬНОГО ВОЗРАСТА</a:t>
            </a:r>
            <a:endParaRPr b="0" lang="en-US" sz="24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0" name="Picture 6" descr="Tvorcheskie-kompozicii---10--800"/>
          <p:cNvPicPr/>
          <p:nvPr/>
        </p:nvPicPr>
        <p:blipFill>
          <a:blip r:embed="rId1"/>
          <a:stretch/>
        </p:blipFill>
        <p:spPr>
          <a:xfrm>
            <a:off x="380880" y="1374840"/>
            <a:ext cx="822960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Medium"/>
              </a:rPr>
              <a:t>А ИГРУШКИ ВЫХОДЯТ – ПРОСТО ЗАГЛЯДЕНЬЕ!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6" name="Picture 5" descr="110018201_4954089_Baran_1_"/>
          <p:cNvPicPr/>
          <p:nvPr/>
        </p:nvPicPr>
        <p:blipFill>
          <a:blip r:embed="rId1"/>
          <a:stretch/>
        </p:blipFill>
        <p:spPr>
          <a:xfrm>
            <a:off x="6248520" y="914400"/>
            <a:ext cx="2619360" cy="48578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7" descr="t1@b8ca69f3-97a9-4d05-8f32-ef4d7460afe9"/>
          <p:cNvPicPr/>
          <p:nvPr/>
        </p:nvPicPr>
        <p:blipFill>
          <a:blip r:embed="rId2"/>
          <a:stretch/>
        </p:blipFill>
        <p:spPr>
          <a:xfrm>
            <a:off x="0" y="17524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8"/>
          <p:cNvSpPr/>
          <p:nvPr/>
        </p:nvSpPr>
        <p:spPr>
          <a:xfrm>
            <a:off x="4648320" y="5638680"/>
            <a:ext cx="39621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лень – золотые рожки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 груди полосы и горошки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9520" y="228240"/>
            <a:ext cx="5032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Medium"/>
              </a:rPr>
              <a:t>ДЫМКОВСКИЙ ИНДЮК ХОРОШ!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Franklin Gothic Medium"/>
              </a:rPr>
              <a:t>ЛУЧШЕ В МИРЕ НЕ НАЙДЕШЬ!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Franklin Gothic Medium"/>
              </a:rPr>
              <a:t>КРАСНЫЙ, СИНИЙ, ЗОЛОТОЙ –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Franklin Gothic Medium"/>
              </a:rPr>
              <a:t>ВОТ КАКОЙ ВЕСЬ РАСПИСНОЙ!</a:t>
            </a:r>
            <a:endParaRPr b="0" lang="en-US" sz="22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30" name="Picture 6" descr="img12"/>
          <p:cNvPicPr/>
          <p:nvPr/>
        </p:nvPicPr>
        <p:blipFill>
          <a:blip r:embed="rId1"/>
          <a:stretch/>
        </p:blipFill>
        <p:spPr>
          <a:xfrm>
            <a:off x="1630440" y="1554120"/>
            <a:ext cx="6035760" cy="45259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5" descr="58477952_duym23"/>
          <p:cNvPicPr/>
          <p:nvPr/>
        </p:nvPicPr>
        <p:blipFill>
          <a:blip r:embed="rId2"/>
          <a:stretch/>
        </p:blipFill>
        <p:spPr>
          <a:xfrm>
            <a:off x="0" y="609480"/>
            <a:ext cx="354024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715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Medium"/>
              </a:rPr>
              <a:t>КОНЬ ДОМЧИТ ДО КАРУСЕЛИ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Franklin Gothic Medium"/>
              </a:rPr>
              <a:t>НА КОНЯ ВСКОЧИЛ ЕМЕЛЯ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Franklin Gothic Medium"/>
              </a:rPr>
              <a:t>УЛЫБНУЛСЯ, ЗАСВИСТАЛ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Franklin Gothic Medium"/>
              </a:rPr>
              <a:t>ЗАСВИСТАЛ И ПОСКАКАЛ!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33" name="Picture 8" descr="6_Dimkovskay_igrushka"/>
          <p:cNvPicPr/>
          <p:nvPr/>
        </p:nvPicPr>
        <p:blipFill>
          <a:blip r:embed="rId1"/>
          <a:stretch/>
        </p:blipFill>
        <p:spPr>
          <a:xfrm>
            <a:off x="6162840" y="0"/>
            <a:ext cx="2981160" cy="44989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foto_57"/>
          <p:cNvPicPr/>
          <p:nvPr/>
        </p:nvPicPr>
        <p:blipFill>
          <a:blip r:embed="rId2"/>
          <a:stretch/>
        </p:blipFill>
        <p:spPr>
          <a:xfrm>
            <a:off x="0" y="2133720"/>
            <a:ext cx="3673440" cy="41446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7" descr="3c5046c628a3f8d8dc634a36526ff76a"/>
          <p:cNvPicPr/>
          <p:nvPr/>
        </p:nvPicPr>
        <p:blipFill>
          <a:blip r:embed="rId3"/>
          <a:stretch/>
        </p:blipFill>
        <p:spPr>
          <a:xfrm>
            <a:off x="3581280" y="3048120"/>
            <a:ext cx="2667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723920" y="228240"/>
            <a:ext cx="41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Medium"/>
              </a:rPr>
              <a:t>ПО ДВОРУ ПЕТУХ ШАГАЕТ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Franklin Gothic Medium"/>
              </a:rPr>
              <a:t>КУРОЧЕК ОН ОХРАНЯЕТ!</a:t>
            </a:r>
            <a:endParaRPr b="0" lang="en-US" sz="2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8" name="Picture 5" descr="imgB"/>
          <p:cNvPicPr/>
          <p:nvPr/>
        </p:nvPicPr>
        <p:blipFill>
          <a:blip r:embed="rId1"/>
          <a:stretch/>
        </p:blipFill>
        <p:spPr>
          <a:xfrm>
            <a:off x="4952880" y="1600200"/>
            <a:ext cx="3772080" cy="50292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7" descr="1294329054172779352"/>
          <p:cNvPicPr/>
          <p:nvPr/>
        </p:nvPicPr>
        <p:blipFill>
          <a:blip r:embed="rId2"/>
          <a:stretch/>
        </p:blipFill>
        <p:spPr>
          <a:xfrm>
            <a:off x="0" y="0"/>
            <a:ext cx="453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352320" y="228600"/>
            <a:ext cx="548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Medium"/>
              </a:rPr>
              <a:t>ДЫМКОВСКАЯ БАРЫШН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Franklin Gothic Medium"/>
              </a:rPr>
              <a:t>ХОДИТ НЕ СПЕШ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Franklin Gothic Medium"/>
              </a:rPr>
              <a:t>ЕЮ ВСЕ ЛЮБУЮТСЯ-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Franklin Gothic Medium"/>
              </a:rPr>
              <a:t>АХ, КАК ХОРОША!</a:t>
            </a:r>
            <a:endParaRPr b="0" lang="en-US" sz="2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2" name="Picture 5" descr="?c=nvBahiAqBdhuAel8bBC2bc5ycDel8btCguuChdpCbbsfyabibph5ef3uadse3rihpbfhdfao_29"/>
          <p:cNvPicPr/>
          <p:nvPr/>
        </p:nvPicPr>
        <p:blipFill>
          <a:blip r:embed="rId1"/>
          <a:stretch/>
        </p:blipFill>
        <p:spPr>
          <a:xfrm>
            <a:off x="-304920" y="0"/>
            <a:ext cx="3578400" cy="39592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7" descr="861_image1_476x570"/>
          <p:cNvPicPr/>
          <p:nvPr/>
        </p:nvPicPr>
        <p:blipFill>
          <a:blip r:embed="rId2"/>
          <a:stretch/>
        </p:blipFill>
        <p:spPr>
          <a:xfrm>
            <a:off x="5564160" y="2571840"/>
            <a:ext cx="3579840" cy="428616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233_image1_476x570"/>
          <p:cNvPicPr/>
          <p:nvPr/>
        </p:nvPicPr>
        <p:blipFill>
          <a:blip r:embed="rId3"/>
          <a:stretch/>
        </p:blipFill>
        <p:spPr>
          <a:xfrm>
            <a:off x="2514600" y="2057400"/>
            <a:ext cx="345276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54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Franklin Gothic Medium"/>
              </a:rPr>
              <a:t>ВОТ КАКИЕ ЯРКИЕ , ВЕСЕЛЫЕ, НАРЯДНЫЕ ИГРУШКИ ДЕЛАЮТ ДЫМКОВСКИЕ МАСТЕРА!</a:t>
            </a:r>
            <a:endParaRPr b="0" lang="en-US" sz="25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7" name="Picture 7" descr="129242"/>
          <p:cNvPicPr/>
          <p:nvPr/>
        </p:nvPicPr>
        <p:blipFill>
          <a:blip r:embed="rId1"/>
          <a:stretch/>
        </p:blipFill>
        <p:spPr>
          <a:xfrm>
            <a:off x="533520" y="914400"/>
            <a:ext cx="80010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Medium"/>
              </a:rPr>
              <a:t>НА БЕРЕГУ РЕКИ ВЯТКИ СТОИТ СЕЛО – ДЫМКОВСКАЯ СЛОБОДА.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2" name="Picture 4" descr="img1"/>
          <p:cNvPicPr/>
          <p:nvPr/>
        </p:nvPicPr>
        <p:blipFill>
          <a:blip r:embed="rId1"/>
          <a:stretch/>
        </p:blipFill>
        <p:spPr>
          <a:xfrm>
            <a:off x="685800" y="1371600"/>
            <a:ext cx="72388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Medium"/>
              </a:rPr>
              <a:t>И ДЕЛАЮТ ТАМ ИГРУШКИ, ДА НЕ ПРОСТЫЕ, А ИЗ ГЛИНЫ!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5" name="Picture 5" descr="629lxnxcyNc"/>
          <p:cNvPicPr/>
          <p:nvPr/>
        </p:nvPicPr>
        <p:blipFill>
          <a:blip r:embed="rId1"/>
          <a:stretch/>
        </p:blipFill>
        <p:spPr>
          <a:xfrm>
            <a:off x="0" y="1074600"/>
            <a:ext cx="9144000" cy="57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40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Medium"/>
              </a:rPr>
              <a:t>БЕРЕТ МАСТЕР КУСОК ГЛИНЫ И НАЧИНАЕТ ЛЕПИТЬ ФИГУРКУ. А ГЛИНА МЯГКАЯ, МЯГЧЕ, ЧЕМ ПЛАСТИЛИН!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7" name="Picture 8" descr="head_pic01"/>
          <p:cNvPicPr/>
          <p:nvPr/>
        </p:nvPicPr>
        <p:blipFill>
          <a:blip r:embed="rId1"/>
          <a:stretch/>
        </p:blipFill>
        <p:spPr>
          <a:xfrm>
            <a:off x="0" y="1295280"/>
            <a:ext cx="5181480" cy="34401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7" descr="dsc_0986"/>
          <p:cNvPicPr/>
          <p:nvPr/>
        </p:nvPicPr>
        <p:blipFill>
          <a:blip r:embed="rId2"/>
          <a:stretch/>
        </p:blipFill>
        <p:spPr>
          <a:xfrm>
            <a:off x="4648320" y="348624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4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Medium"/>
              </a:rPr>
              <a:t>СЛЕПИТ – И СРАЗУ В ПЕЧЬ!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1" name="Picture 7" descr="ref-2_1692534265-13914"/>
          <p:cNvPicPr/>
          <p:nvPr/>
        </p:nvPicPr>
        <p:blipFill>
          <a:blip r:embed="rId1"/>
          <a:stretch/>
        </p:blipFill>
        <p:spPr>
          <a:xfrm>
            <a:off x="609480" y="838080"/>
            <a:ext cx="7772400" cy="58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Franklin Gothic Medium"/>
              </a:rPr>
              <a:t>ОТ ОГНЯ И ЖАРА ФИГУРКА ВЫСОХНЕТ И СТАНЕТ ТВЕРДОЙ, КАК КАМЕНЬ.</a:t>
            </a:r>
            <a:endParaRPr b="0" lang="en-US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13" name="Picture 6" descr="dymkovskaya-igrushka1"/>
          <p:cNvPicPr/>
          <p:nvPr/>
        </p:nvPicPr>
        <p:blipFill>
          <a:blip r:embed="rId1"/>
          <a:stretch/>
        </p:blipFill>
        <p:spPr>
          <a:xfrm>
            <a:off x="4343400" y="1371600"/>
            <a:ext cx="4800600" cy="38401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7" descr="dymkovskaya-igrushka1"/>
          <p:cNvPicPr/>
          <p:nvPr/>
        </p:nvPicPr>
        <p:blipFill>
          <a:blip r:embed="rId2"/>
          <a:stretch/>
        </p:blipFill>
        <p:spPr>
          <a:xfrm>
            <a:off x="0" y="2666880"/>
            <a:ext cx="4343400" cy="41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Franklin Gothic Medium"/>
              </a:rPr>
              <a:t>ОСТЫНЕТ ИГРУШКА ПОСЛЕ ПЕЧИ – МАСТЕР КРАСИТ ЕЕ ВСЮ В БЕЛЫЙ ЦВЕТ.</a:t>
            </a:r>
            <a:endParaRPr b="0" lang="en-US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7" name="Picture 7" descr="14_enl"/>
          <p:cNvPicPr/>
          <p:nvPr/>
        </p:nvPicPr>
        <p:blipFill>
          <a:blip r:embed="rId1"/>
          <a:stretch/>
        </p:blipFill>
        <p:spPr>
          <a:xfrm>
            <a:off x="228600" y="1447920"/>
            <a:ext cx="4743360" cy="51814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181220104598_0"/>
          <p:cNvPicPr/>
          <p:nvPr/>
        </p:nvPicPr>
        <p:blipFill>
          <a:blip r:embed="rId2"/>
          <a:stretch/>
        </p:blipFill>
        <p:spPr>
          <a:xfrm>
            <a:off x="5029200" y="1447920"/>
            <a:ext cx="4025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Medium"/>
              </a:rPr>
              <a:t>КОГДА ВЫСОХНЕТ БЕЛАЯ КРАСКА – НАЧИНАЕТСЯ НАСТОЯЩЕЕ ВОЛШЕБСТВО!... МАСТЕР БЕРЕТ ЯРКИЕ КРАСКИ И НАЧИНАЕТ РАСПИСЫВАТЬ ИГРУШКУ РАЗНОЦВЕТНЫМИ УЗОРАМИ.</a:t>
            </a:r>
            <a:endParaRPr b="0" lang="en-US" sz="22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20" name="Picture 4" descr="Rozhdenie-dyimkovskoy-igrushki"/>
          <p:cNvPicPr/>
          <p:nvPr/>
        </p:nvPicPr>
        <p:blipFill>
          <a:blip r:embed="rId1"/>
          <a:stretch/>
        </p:blipFill>
        <p:spPr>
          <a:xfrm>
            <a:off x="609480" y="1085760"/>
            <a:ext cx="769644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47242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Medium"/>
              </a:rPr>
              <a:t>УЗОРЫ ОЧЕНЬ ПРОСТЫЕ. ЭТО ПРЯМЫЕ И ВОЛНИСТЫЕ ЛИНИИ, КРУЖКИ И ОВАЛЫ, ГОРОШИНЫ И ТОЧКИ.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22" name="Picture 4" descr="11630_html_29c9ce5e"/>
          <p:cNvPicPr/>
          <p:nvPr/>
        </p:nvPicPr>
        <p:blipFill>
          <a:blip r:embed="rId1"/>
          <a:stretch/>
        </p:blipFill>
        <p:spPr>
          <a:xfrm>
            <a:off x="5079960" y="380880"/>
            <a:ext cx="4064040" cy="60962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5191f43b2b6476f68c08ec3f09d25619"/>
          <p:cNvPicPr/>
          <p:nvPr/>
        </p:nvPicPr>
        <p:blipFill>
          <a:blip r:embed="rId2"/>
          <a:stretch/>
        </p:blipFill>
        <p:spPr>
          <a:xfrm>
            <a:off x="152280" y="2514600"/>
            <a:ext cx="487368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ополек</dc:creator>
  <dc:description/>
  <dc:language>en-US</dc:language>
  <cp:lastModifiedBy>Тополек</cp:lastModifiedBy>
  <dcterms:modified xsi:type="dcterms:W3CDTF">2018-04-03T03:13:1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