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713-AE25-45A6-9372-D7DD222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D9C-2506-4062-87F6-4C9546CD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EBD80-4E8F-41EA-80EE-4DF206EF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896AE-4D04-4451-A07E-023BDDE2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1EBB3-190E-494E-BC72-0FC1C671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B2546-9159-45DC-9F68-A090545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A7B65-F59D-4996-A7D1-FDDAB4C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C0162-53E9-4DA1-AC31-4F5FBAC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C298B-A71A-4335-AEDD-72C61751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C458B-4873-4561-B883-72D97C10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A5B79-9C00-4E7C-8991-8C91416F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89E-7A03-4038-BED5-CB2ED716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247-FC5E-4163-8618-76D71806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C48A-6410-45D1-9E18-0BC26DDF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DFE4-36FD-4021-A2BE-7DC3B83B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A5AE-1B85-4AAA-8885-FDD39D9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469B-F8A0-4E7A-AAC9-86D5FF10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9D7D-05FF-4053-ABEF-347675E5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E635-1A26-4EDC-BB55-ABB82860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46B-8575-4A54-984E-0CCF14C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B81-65A6-4DCB-9FBA-0DC2B28A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1FA8-7C93-4644-B51C-C829AE8E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A204-F817-4EB5-8FC7-3376BAC0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19ED-E07E-4CAC-A743-7B1CAB22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014C-5332-4B20-9F89-B2EFE46D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5620-3C95-42E7-8045-99CAC523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EA4E-D5E8-4D51-8421-1E1D2289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0A7D-85EE-4ED6-AA8B-1F2C4449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FA5A-63F2-4B32-95EB-40DB396A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581D-48BA-4CF4-A01F-23B752EC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CB8F-3054-4EAE-9304-B9566CED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382-F3AA-4FED-BACA-0BC45AA8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E49A-0440-4486-B333-AF9BAA97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68FC-7D7A-45DD-85C4-4950697D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88CE-0EEA-4C14-8F6E-378D6295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AD64-518D-4AB4-AE0C-E429F10F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0A8F-29B2-45E7-A19F-153C42C8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987B-B36D-46BE-BF4E-A089E1BA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91A5-05A0-4BA6-AF91-1205417B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E0F2-DA9C-4D32-9904-45F22296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D29CE-EBF1-4DAB-A2C4-C511073A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F75AF-4E17-4D74-BAE9-414F710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3AD-1DEA-4187-A825-977BB7E0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8E0B-A241-40BB-BD49-E55B04D7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FFF3-02DB-4746-A3EF-107CE541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E7E0A-BD23-4AAD-A63A-D765AD4B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FFF6-20B6-4A5F-A77E-92175BA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600C1-1D53-4D43-B129-AC66556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8AEA-D6CD-4A80-ADF6-740B5FCD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09A0D-7BC3-4142-9ED6-260269F0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4A3A-FF81-4904-AF3D-3AEEB5B5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DB332-C01C-426A-8722-639A736D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02D12-CD7D-41B8-AF99-7762590B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F9C-45BD-416E-9F7E-636E123C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DE229-CA2F-4C4E-BD8E-3F2C535B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1658-6863-4A80-9FDD-FC4863D7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ABE1-2487-4064-9979-E4B19BF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92DD8-5C21-472D-AE09-4DA11503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4A15-1D28-4774-8741-0BAF4CED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BB877-9932-449D-83E8-D5A305D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B4B2F-B969-4A7E-8B79-C673299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83E1F-DF5B-4717-BF7B-F6A0AFE7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EC399-D097-4841-8811-25538BDA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30A6F-B869-4BB1-B6DF-9B08C4FC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287-181D-4836-B066-C754D9E8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6CB28-4401-4649-B845-02AEDD9F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0620F-DC55-40CB-8D56-E0E295C5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5E090-244E-409A-B70E-B2D0C76F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FAA1-D8E5-492C-8E6A-8FEC9872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9FCF0-1919-4BB9-9031-77049857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1437E-8A2A-4805-BF5D-FE8CCFFE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A8A8-99DB-4F85-BDAB-FE87781D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F288-03B8-4737-9300-A9D1869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2D5E-760D-4188-9CAD-9B243631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2B398-2C97-4E78-9CF9-D2D0846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50F-60A2-4C45-B465-A56D6040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227EA-C5A3-4E18-8658-E1232D63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B2610-285F-4392-8FD9-836A70E6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057B1-B169-4883-8503-F701BC58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CDC5B-613D-42A8-BECA-0E6F3F54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44A6-B94D-45F1-99BC-04EDBE1D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D28DC-08E6-4896-B365-F0C7C368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8766B-45DD-4FC0-848A-BA654469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A4EC6-2135-46BA-B6A3-2D816866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A1044-AA08-4384-99D6-24AD77CE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7034F-38FD-4B3C-A802-845FDC4D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F04-B9F7-44C0-AF85-1F92BAC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0146F-8262-4F34-BE74-E5B026B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01350-337B-4060-81C6-C8DBD8EB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804CD-D228-4639-A796-C9DDC046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2715D-C547-4B61-AF19-5688DC4B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47C65-B99C-45DC-AEF0-63C64D23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EB50C-B13E-497C-9470-608AF69F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BC5A-7B75-4E37-AEB7-739EFDF3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E9819-D16A-49C6-B36F-C2E74B1A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74DC4-9C23-48BD-9043-BCF115A6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B57EC-D7AB-4604-BE95-4536E91F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793-58A6-4C13-9991-33F78BCF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68812-8E60-477C-9BF6-02C6A0D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6761C-8D32-49AB-A7A5-EB29AEC1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B3EB6-8C1B-414A-B575-C4B74FF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CD46E-07FF-49CD-A433-6AC2605E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C5283-D5D3-461D-BD00-E774A451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65F3A-29B9-488A-B94E-C81FE09D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D31BB-F8DD-4457-8E44-4C3AC500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21FB7-7A8E-49DF-A927-9CCC9E47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45C79-AF39-48A8-949A-551CCD52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50EB7-6FD6-4B2E-B29C-C7AC6655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C420-A4B8-4754-92E7-FD39297DBFE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DA74-44A4-431D-AA76-66EE7B3C0B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B592-D590-4C3B-A9A1-1DFAE311FC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9FDC-342B-4D2A-9BE1-9694847756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EB87-11AD-48C0-81FD-E601D778A7F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20FD-3CDB-42A4-AF8B-58178A1BA1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5950-1DC0-4FB3-8960-835F386892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F4FA-5858-41B1-8C1E-620E3F345E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2DC7-1DB1-4E9B-BBFE-8E7D702375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«ДЫМКОВСКАЯ ИГРУШКА»</a:t>
            </a:r>
            <a:br>
              <a:rPr sz="48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РЕЗЕНТАЦИЯ ДЛЯ ДЕТЕЙ МЛАДШЕГО ДОШКОЛЬНОГО ВОЗРАСТА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Picture 6" descr="Tvorcheskie-kompozicii---10--800"/>
          <p:cNvPicPr/>
          <p:nvPr/>
        </p:nvPicPr>
        <p:blipFill>
          <a:blip r:embed="rId1"/>
          <a:stretch/>
        </p:blipFill>
        <p:spPr>
          <a:xfrm>
            <a:off x="380880" y="1374840"/>
            <a:ext cx="82296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Medium"/>
              </a:rPr>
              <a:t>А ИГРУШКИ ВЫХОДЯТ – ПРОСТО ЗАГЛЯДЕНЬЕ!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5" descr="110018201_4954089_Baran_1_"/>
          <p:cNvPicPr/>
          <p:nvPr/>
        </p:nvPicPr>
        <p:blipFill>
          <a:blip r:embed="rId1"/>
          <a:stretch/>
        </p:blipFill>
        <p:spPr>
          <a:xfrm>
            <a:off x="6248520" y="914400"/>
            <a:ext cx="2619360" cy="4857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t1@b8ca69f3-97a9-4d05-8f32-ef4d7460afe9"/>
          <p:cNvPicPr/>
          <p:nvPr/>
        </p:nvPicPr>
        <p:blipFill>
          <a:blip r:embed="rId2"/>
          <a:stretch/>
        </p:blipFill>
        <p:spPr>
          <a:xfrm>
            <a:off x="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8"/>
          <p:cNvSpPr/>
          <p:nvPr/>
        </p:nvSpPr>
        <p:spPr>
          <a:xfrm>
            <a:off x="4648320" y="5638680"/>
            <a:ext cx="3962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лень – золотые рожк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груди полосы и горошк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5032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ДЫМКОВСКИЙ ИНДЮК ХОРОШ!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ЛУЧШЕ В МИРЕ НЕ НАЙДЕШЬ!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КРАСНЫЙ, СИНИЙ, ЗОЛОТОЙ –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ВОТ КАКОЙ ВЕСЬ РАСПИСНОЙ!</a:t>
            </a:r>
            <a:endParaRPr b="0" lang="en-US" sz="2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0" name="Picture 6" descr="img12"/>
          <p:cNvPicPr/>
          <p:nvPr/>
        </p:nvPicPr>
        <p:blipFill>
          <a:blip r:embed="rId1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58477952_duym23"/>
          <p:cNvPicPr/>
          <p:nvPr/>
        </p:nvPicPr>
        <p:blipFill>
          <a:blip r:embed="rId2"/>
          <a:stretch/>
        </p:blipFill>
        <p:spPr>
          <a:xfrm>
            <a:off x="0" y="609480"/>
            <a:ext cx="35402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КОНЬ ДОМЧИТ ДО КАРУСЕЛ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НА КОНЯ ВСКОЧИЛ ЕМЕЛ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УЛЫБНУЛСЯ, ЗАСВИСТАЛ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ЗАСВИСТАЛ И ПОСКАКАЛ!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3" name="Picture 8" descr="6_Dimkovskay_igrushka"/>
          <p:cNvPicPr/>
          <p:nvPr/>
        </p:nvPicPr>
        <p:blipFill>
          <a:blip r:embed="rId1"/>
          <a:stretch/>
        </p:blipFill>
        <p:spPr>
          <a:xfrm>
            <a:off x="6162840" y="0"/>
            <a:ext cx="2981160" cy="4498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foto_57"/>
          <p:cNvPicPr/>
          <p:nvPr/>
        </p:nvPicPr>
        <p:blipFill>
          <a:blip r:embed="rId2"/>
          <a:stretch/>
        </p:blipFill>
        <p:spPr>
          <a:xfrm>
            <a:off x="0" y="2133720"/>
            <a:ext cx="3673440" cy="4144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3c5046c628a3f8d8dc634a36526ff76a"/>
          <p:cNvPicPr/>
          <p:nvPr/>
        </p:nvPicPr>
        <p:blipFill>
          <a:blip r:embed="rId3"/>
          <a:stretch/>
        </p:blipFill>
        <p:spPr>
          <a:xfrm>
            <a:off x="3581280" y="3048120"/>
            <a:ext cx="2667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23920" y="22824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О ДВОРУ ПЕТУХ ШАГА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КУРОЧЕК ОН ОХРАНЯЕТ!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5" descr="imgB"/>
          <p:cNvPicPr/>
          <p:nvPr/>
        </p:nvPicPr>
        <p:blipFill>
          <a:blip r:embed="rId1"/>
          <a:stretch/>
        </p:blipFill>
        <p:spPr>
          <a:xfrm>
            <a:off x="4952880" y="160020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1294329054172779352"/>
          <p:cNvPicPr/>
          <p:nvPr/>
        </p:nvPicPr>
        <p:blipFill>
          <a:blip r:embed="rId2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352320" y="228600"/>
            <a:ext cx="548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ДЫМКОВСКАЯ БАРЫШН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ХОДИТ НЕ СПЕШ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ЕЮ ВСЕ ЛЮБУЮТСЯ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АХ, КАК ХОРОША!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5" descr="?c=nvBahiAqBdhuAel8bBC2bc5ycDel8btCguuChdpCbbsfyabibph5ef3uadse3rihpbfhdfao_29"/>
          <p:cNvPicPr/>
          <p:nvPr/>
        </p:nvPicPr>
        <p:blipFill>
          <a:blip r:embed="rId1"/>
          <a:stretch/>
        </p:blipFill>
        <p:spPr>
          <a:xfrm>
            <a:off x="-304920" y="0"/>
            <a:ext cx="3578400" cy="3959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861_image1_476x570"/>
          <p:cNvPicPr/>
          <p:nvPr/>
        </p:nvPicPr>
        <p:blipFill>
          <a:blip r:embed="rId2"/>
          <a:stretch/>
        </p:blipFill>
        <p:spPr>
          <a:xfrm>
            <a:off x="5564160" y="2571840"/>
            <a:ext cx="3579840" cy="4286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233_image1_476x570"/>
          <p:cNvPicPr/>
          <p:nvPr/>
        </p:nvPicPr>
        <p:blipFill>
          <a:blip r:embed="rId3"/>
          <a:stretch/>
        </p:blipFill>
        <p:spPr>
          <a:xfrm>
            <a:off x="2514600" y="2057400"/>
            <a:ext cx="34527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Medium"/>
              </a:rPr>
              <a:t>ВОТ КАКИЕ ЯРКИЕ , ВЕСЕЛЫЕ, НАРЯДНЫЕ ИГРУШКИ ДЕЛАЮТ ДЫМКОВСКИЕ МАСТЕРА!</a:t>
            </a:r>
            <a:endParaRPr b="0" lang="en-US" sz="2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Picture 7" descr="129242"/>
          <p:cNvPicPr/>
          <p:nvPr/>
        </p:nvPicPr>
        <p:blipFill>
          <a:blip r:embed="rId1"/>
          <a:stretch/>
        </p:blipFill>
        <p:spPr>
          <a:xfrm>
            <a:off x="533520" y="914400"/>
            <a:ext cx="80010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НА БЕРЕГУ РЕКИ ВЯТКИ СТОИТ СЕЛО – ДЫМКОВСКАЯ СЛОБОДА.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2" name="Picture 4" descr="img1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И ДЕЛАЮТ ТАМ ИГРУШКИ, ДА НЕ ПРОСТЫЕ, А ИЗ ГЛИНЫ!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5" descr="629lxnxcyNc"/>
          <p:cNvPicPr/>
          <p:nvPr/>
        </p:nvPicPr>
        <p:blipFill>
          <a:blip r:embed="rId1"/>
          <a:stretch/>
        </p:blipFill>
        <p:spPr>
          <a:xfrm>
            <a:off x="0" y="1074600"/>
            <a:ext cx="914400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БЕРЕТ МАСТЕР КУСОК ГЛИНЫ И НАЧИНАЕТ ЛЕПИТЬ ФИГУРКУ. А ГЛИНА МЯГКАЯ, МЯГЧЕ, ЧЕМ ПЛАСТИЛИН!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7" name="Picture 8" descr="head_pic01"/>
          <p:cNvPicPr/>
          <p:nvPr/>
        </p:nvPicPr>
        <p:blipFill>
          <a:blip r:embed="rId1"/>
          <a:stretch/>
        </p:blipFill>
        <p:spPr>
          <a:xfrm>
            <a:off x="0" y="1295280"/>
            <a:ext cx="5181480" cy="3440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dsc_0986"/>
          <p:cNvPicPr/>
          <p:nvPr/>
        </p:nvPicPr>
        <p:blipFill>
          <a:blip r:embed="rId2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Medium"/>
              </a:rPr>
              <a:t>СЛЕПИТ – И СРАЗУ В ПЕЧЬ!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7" descr="ref-2_1692534265-13914"/>
          <p:cNvPicPr/>
          <p:nvPr/>
        </p:nvPicPr>
        <p:blipFill>
          <a:blip r:embed="rId1"/>
          <a:stretch/>
        </p:blipFill>
        <p:spPr>
          <a:xfrm>
            <a:off x="609480" y="838080"/>
            <a:ext cx="777240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Franklin Gothic Medium"/>
              </a:rPr>
              <a:t>ОТ ОГНЯ И ЖАРА ФИГУРКА ВЫСОХНЕТ И СТАНЕТ ТВЕРДОЙ, КАК КАМЕНЬ.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6" descr="dymkovskaya-igrushka1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840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ymkovskaya-igrushka1"/>
          <p:cNvPicPr/>
          <p:nvPr/>
        </p:nvPicPr>
        <p:blipFill>
          <a:blip r:embed="rId2"/>
          <a:stretch/>
        </p:blipFill>
        <p:spPr>
          <a:xfrm>
            <a:off x="0" y="2666880"/>
            <a:ext cx="43434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Franklin Gothic Medium"/>
              </a:rPr>
              <a:t>ОСТЫНЕТ ИГРУШКА ПОСЛЕ ПЕЧИ – МАСТЕР КРАСИТ ЕЕ ВСЮ В БЕЛЫЙ ЦВЕТ.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7" descr="14_enl"/>
          <p:cNvPicPr/>
          <p:nvPr/>
        </p:nvPicPr>
        <p:blipFill>
          <a:blip r:embed="rId1"/>
          <a:stretch/>
        </p:blipFill>
        <p:spPr>
          <a:xfrm>
            <a:off x="228600" y="1447920"/>
            <a:ext cx="4743360" cy="5181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181220104598_0"/>
          <p:cNvPicPr/>
          <p:nvPr/>
        </p:nvPicPr>
        <p:blipFill>
          <a:blip r:embed="rId2"/>
          <a:stretch/>
        </p:blipFill>
        <p:spPr>
          <a:xfrm>
            <a:off x="5029200" y="1447920"/>
            <a:ext cx="4025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КОГДА ВЫСОХНЕТ БЕЛАЯ КРАСКА – НАЧИНАЕТСЯ НАСТОЯЩЕЕ ВОЛШЕБСТВО!... МАСТЕР БЕРЕТ ЯРКИЕ КРАСКИ И НАЧИНАЕТ РАСПИСЫВАТЬ ИГРУШКУ РАЗНОЦВЕТНЫМИ УЗОРАМИ.</a:t>
            </a:r>
            <a:endParaRPr b="0" lang="en-US" sz="2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Picture 4" descr="Rozhdenie-dyimkovskoy-igrushki"/>
          <p:cNvPicPr/>
          <p:nvPr/>
        </p:nvPicPr>
        <p:blipFill>
          <a:blip r:embed="rId1"/>
          <a:stretch/>
        </p:blipFill>
        <p:spPr>
          <a:xfrm>
            <a:off x="609480" y="108576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724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УЗОРЫ ОЧЕНЬ ПРОСТЫЕ. ЭТО ПРЯМЫЕ И ВОЛНИСТЫЕ ЛИНИИ, КРУЖКИ И ОВАЛЫ, ГОРОШИНЫ И ТОЧКИ.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2" name="Picture 4" descr="11630_html_29c9ce5e"/>
          <p:cNvPicPr/>
          <p:nvPr/>
        </p:nvPicPr>
        <p:blipFill>
          <a:blip r:embed="rId1"/>
          <a:stretch/>
        </p:blipFill>
        <p:spPr>
          <a:xfrm>
            <a:off x="5079960" y="380880"/>
            <a:ext cx="4064040" cy="6096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5191f43b2b6476f68c08ec3f09d25619"/>
          <p:cNvPicPr/>
          <p:nvPr/>
        </p:nvPicPr>
        <p:blipFill>
          <a:blip r:embed="rId2"/>
          <a:stretch/>
        </p:blipFill>
        <p:spPr>
          <a:xfrm>
            <a:off x="152280" y="2514600"/>
            <a:ext cx="48736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ополек</dc:creator>
  <dc:description/>
  <dc:language>en-US</dc:language>
  <cp:lastModifiedBy>Тополек</cp:lastModifiedBy>
  <dcterms:modified xsi:type="dcterms:W3CDTF">2018-04-03T03:13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