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9.png" ContentType="image/png"/>
  <Override PartName="/ppt/media/image7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png" ContentType="image/png"/>
  <Override PartName="/ppt/media/image26.jpeg" ContentType="image/jpeg"/>
  <Override PartName="/ppt/media/image19.png" ContentType="image/png"/>
  <Override PartName="/ppt/media/image1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8.jpeg" ContentType="image/jpeg"/>
  <Override PartName="/ppt/media/image20.png" ContentType="image/png"/>
  <Override PartName="/ppt/media/image15.jpeg" ContentType="image/jpeg"/>
  <Override PartName="/ppt/media/image1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3AC3B-3F58-499B-A795-E7883F47C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094FB-2300-401D-AB9A-8B489BE84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60E29-6322-4A87-BF81-C6A98B9B5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8D3A0-50FC-40BA-8585-F98EDF542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8A907-9600-423B-9378-DBC60E850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386A6-8FB5-4B97-A53A-714AE62D6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1A77D-61DC-4502-968F-B65631042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6586F-7B5D-4E57-AB5C-C9FD95647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C56DB-107F-407C-AE2F-1A25D24B3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82872-3757-47F9-92D2-074D26AFE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E35F9-51B3-4199-92F6-D65C36E4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8D22B-2AE8-46AD-A4E2-180BDDB9D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6E5FB-B43C-49B8-A523-E92249B2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418C2-31FE-461B-A144-13A5D030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65563-79AC-46FE-B757-5B49F05DB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ED5E1-6FB9-48E5-A5F1-0C0D5E51F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D28C2-CFB7-4953-A1C9-EEB7B89BD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10C99-6EDD-4C41-BDE7-2D1DD66BE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FCD5A-BF51-4053-A1DA-CF4F60EA5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0392E-4E5E-4560-9D49-4CEA1A92A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04D2F-9CB9-411B-BDAE-44D8C8951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84318-72A1-46E4-9A49-69F2D6A5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5CB3D-67E9-426C-8F9D-128A3DEB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AD220-D9AA-4DBC-9E0C-B2034FE6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64CBC-DB2F-4CD2-BEF9-06025B34D08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8AAA8-CE28-405A-96F0-352F551FE6C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000" y="907920"/>
            <a:ext cx="754380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cc"/>
                </a:solidFill>
                <a:latin typeface="Tahoma"/>
              </a:rPr>
              <a:t>Flora and Fauna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762120" y="4727520"/>
            <a:ext cx="6858000" cy="99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hcheglova Irina 7 “V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45716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cc"/>
                </a:solidFill>
                <a:latin typeface="Tahoma"/>
              </a:rPr>
              <a:t>Sakhalin is referred to a taiga zone.</a:t>
            </a:r>
            <a:endParaRPr b="0" lang="en-US" sz="39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-117360" y="549360"/>
            <a:ext cx="4473360" cy="27525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"/>
          <p:cNvPicPr/>
          <p:nvPr/>
        </p:nvPicPr>
        <p:blipFill>
          <a:blip r:embed="rId2"/>
          <a:stretch/>
        </p:blipFill>
        <p:spPr>
          <a:xfrm>
            <a:off x="3924360" y="2205000"/>
            <a:ext cx="4248000" cy="3029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3480" y="458100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cc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en-US" sz="3900" spc="-1" strike="noStrike">
                <a:solidFill>
                  <a:srgbClr val="ffffcc"/>
                </a:solidFill>
                <a:latin typeface="Tahoma"/>
              </a:rPr>
              <a:t>Yew-tree, oak, maple, cherry-tree</a:t>
            </a:r>
            <a:endParaRPr b="0" lang="en-US" sz="39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08000" y="549360"/>
            <a:ext cx="3263760" cy="2448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"/>
          <p:cNvPicPr/>
          <p:nvPr/>
        </p:nvPicPr>
        <p:blipFill>
          <a:blip r:embed="rId2"/>
          <a:stretch/>
        </p:blipFill>
        <p:spPr>
          <a:xfrm>
            <a:off x="2627280" y="2565360"/>
            <a:ext cx="2095560" cy="2838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"/>
          <p:cNvPicPr/>
          <p:nvPr/>
        </p:nvPicPr>
        <p:blipFill>
          <a:blip r:embed="rId3"/>
          <a:stretch/>
        </p:blipFill>
        <p:spPr>
          <a:xfrm>
            <a:off x="4356000" y="290520"/>
            <a:ext cx="2737080" cy="26258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"/>
          <p:cNvPicPr/>
          <p:nvPr/>
        </p:nvPicPr>
        <p:blipFill>
          <a:blip r:embed="rId4"/>
          <a:stretch/>
        </p:blipFill>
        <p:spPr>
          <a:xfrm>
            <a:off x="5364000" y="3002040"/>
            <a:ext cx="3613320" cy="2405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8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55640" y="458100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Bird-cherry-tre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392120" y="1600200"/>
            <a:ext cx="6359760" cy="4530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4572000"/>
            <a:ext cx="9144000" cy="17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Tahoma"/>
              </a:rPr>
              <a:t>Severe climate and poor soils make unfavorable conditions for plants in the northern part of the islands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758880" y="476280"/>
            <a:ext cx="7626240" cy="4105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108360" y="4571640"/>
            <a:ext cx="95043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Tahoma"/>
              </a:rPr>
              <a:t>The Kuril Islands have a similar picture of nature-green blossoms and a bare stony north.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2220840" cy="38862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"/>
          <p:cNvPicPr/>
          <p:nvPr/>
        </p:nvPicPr>
        <p:blipFill>
          <a:blip r:embed="rId2"/>
          <a:stretch/>
        </p:blipFill>
        <p:spPr>
          <a:xfrm>
            <a:off x="3238560" y="115920"/>
            <a:ext cx="3284640" cy="49276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"/>
          <p:cNvPicPr/>
          <p:nvPr/>
        </p:nvPicPr>
        <p:blipFill>
          <a:blip r:embed="rId3"/>
          <a:stretch/>
        </p:blipFill>
        <p:spPr>
          <a:xfrm>
            <a:off x="6659640" y="836640"/>
            <a:ext cx="2247840" cy="3981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27628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cc"/>
                </a:solidFill>
                <a:latin typeface="Tahoma"/>
              </a:rPr>
              <a:t>To love and save nature means to love the land you live on. </a:t>
            </a:r>
            <a:endParaRPr b="0" lang="en-US" sz="39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spd="slow">
    <p:fade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81160" y="262872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Marine Fauna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 rot="10800000">
            <a:off x="683640" y="6667560"/>
            <a:ext cx="754380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rmAutofit/>
          </a:bodyPr>
          <a:p>
            <a:pPr marL="272880" indent="-272880">
              <a:lnSpc>
                <a:spcPct val="80000"/>
              </a:lnSpc>
              <a:spcBef>
                <a:spcPts val="2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45716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almon, herring, cod, flat fish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3754440" cy="1790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"/>
          <p:cNvPicPr/>
          <p:nvPr/>
        </p:nvPicPr>
        <p:blipFill>
          <a:blip r:embed="rId2"/>
          <a:stretch/>
        </p:blipFill>
        <p:spPr>
          <a:xfrm>
            <a:off x="179280" y="2706840"/>
            <a:ext cx="3524400" cy="1511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"/>
          <p:cNvPicPr/>
          <p:nvPr/>
        </p:nvPicPr>
        <p:blipFill>
          <a:blip r:embed="rId3"/>
          <a:stretch/>
        </p:blipFill>
        <p:spPr>
          <a:xfrm>
            <a:off x="4788000" y="785880"/>
            <a:ext cx="3051000" cy="1901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"/>
          <p:cNvPicPr/>
          <p:nvPr/>
        </p:nvPicPr>
        <p:blipFill>
          <a:blip r:embed="rId4"/>
          <a:stretch/>
        </p:blipFill>
        <p:spPr>
          <a:xfrm>
            <a:off x="4211640" y="2924280"/>
            <a:ext cx="3422520" cy="2450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45716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Navaga, Pacific saury, smel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3760920" cy="244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"/>
          <p:cNvPicPr/>
          <p:nvPr/>
        </p:nvPicPr>
        <p:blipFill>
          <a:blip r:embed="rId2"/>
          <a:stretch/>
        </p:blipFill>
        <p:spPr>
          <a:xfrm>
            <a:off x="2627280" y="2781360"/>
            <a:ext cx="3889440" cy="2592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"/>
          <p:cNvPicPr/>
          <p:nvPr/>
        </p:nvPicPr>
        <p:blipFill>
          <a:blip r:embed="rId3"/>
          <a:stretch/>
        </p:blipFill>
        <p:spPr>
          <a:xfrm>
            <a:off x="4135320" y="836640"/>
            <a:ext cx="4762440" cy="16095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47760" y="4581000"/>
            <a:ext cx="88200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rabs, midia, shrimps, squid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3452760" cy="30304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"/>
          <p:cNvPicPr/>
          <p:nvPr/>
        </p:nvPicPr>
        <p:blipFill>
          <a:blip r:embed="rId2"/>
          <a:stretch/>
        </p:blipFill>
        <p:spPr>
          <a:xfrm>
            <a:off x="3635280" y="2565360"/>
            <a:ext cx="2952720" cy="2951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"/>
          <p:cNvPicPr/>
          <p:nvPr/>
        </p:nvPicPr>
        <p:blipFill>
          <a:blip r:embed="rId3"/>
          <a:stretch/>
        </p:blipFill>
        <p:spPr>
          <a:xfrm>
            <a:off x="4859280" y="260280"/>
            <a:ext cx="4186440" cy="26575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cc"/>
                </a:solidFill>
                <a:latin typeface="Tahoma"/>
              </a:rPr>
              <a:t>Seals, fur seals, sea lions</a:t>
            </a:r>
            <a:endParaRPr b="0" lang="en-US" sz="39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15840" y="428760"/>
            <a:ext cx="4427640" cy="19922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2"/>
          <a:stretch/>
        </p:blipFill>
        <p:spPr>
          <a:xfrm>
            <a:off x="4572000" y="692280"/>
            <a:ext cx="3809880" cy="2533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"/>
          <p:cNvPicPr/>
          <p:nvPr/>
        </p:nvPicPr>
        <p:blipFill>
          <a:blip r:embed="rId3"/>
          <a:stretch/>
        </p:blipFill>
        <p:spPr>
          <a:xfrm>
            <a:off x="539640" y="2349360"/>
            <a:ext cx="4392720" cy="29419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32000" y="227628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Flora of Sakhali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spd="slow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45716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cc"/>
                </a:solidFill>
                <a:latin typeface="Tahoma"/>
              </a:rPr>
              <a:t>The beauty of Sakhalin’s nature has enchanted many people.</a:t>
            </a:r>
            <a:endParaRPr b="0" lang="en-US" sz="39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2590560" cy="38862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Картинки по запросу The beauty of Sakhalin nature has enchanted many people."/>
          <p:cNvPicPr/>
          <p:nvPr/>
        </p:nvPicPr>
        <p:blipFill>
          <a:blip r:embed="rId2"/>
          <a:stretch/>
        </p:blipFill>
        <p:spPr>
          <a:xfrm>
            <a:off x="3708360" y="765000"/>
            <a:ext cx="52405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45716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cc"/>
                </a:solidFill>
                <a:latin typeface="Tahoma"/>
              </a:rPr>
              <a:t>Forests cover over two-thirds of the Sakhalin territory. </a:t>
            </a:r>
            <a:endParaRPr b="0" lang="en-US" sz="39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2438280" cy="2438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3581280" y="755640"/>
            <a:ext cx="3870360" cy="35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3T05:43:04Z</dcterms:created>
  <dc:creator>220</dc:creator>
  <dc:description/>
  <dc:language>en-US</dc:language>
  <cp:lastModifiedBy>220</cp:lastModifiedBy>
  <dcterms:modified xsi:type="dcterms:W3CDTF">2018-04-03T05:43:57Z</dcterms:modified>
  <cp:revision>1</cp:revision>
  <dc:subject/>
  <dc:title>Flora and Fauna</dc:title>
</cp:coreProperties>
</file>