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E674-4E02-4FE0-948B-CD41A6C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341F-96EF-45FD-851A-27E732EA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BB20-6A1E-42B2-B7BD-7F187C98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D740-1EFA-4CC7-9879-DF56CB50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4AFF-A682-4D15-BA7E-D2F057E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1D2-B70E-45A2-8F32-102F78D3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95FF-A6E5-49E4-8C56-3A84FEAE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56F0-2500-4253-8DA4-EB05EE7E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E655-669D-4174-8099-1882FF7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25F-35B8-40FF-8527-CF5FE2D9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44A-43AA-4009-8BF0-AD4E31B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FB73-C9B6-419F-A8AC-DB777CA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D5EC-8B6F-41B7-AEC3-8957629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FEB7-93AF-418B-B051-A531DEA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0D1-86D8-40DD-9623-5DE0B5A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BBBB-48CE-40B5-A4FA-84C7A03A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2BA-F476-451F-BFCB-C1191F72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1B93-DDE2-4F95-896E-F2DCCA07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F73F-4EE9-4223-A789-B4D849F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D78D-244C-454B-8647-FE212A2B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4095-D21A-4003-BF5B-65E94F94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3D53-C6E1-4311-BD44-B8063BB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B903-13AF-446D-9BB8-BFD300B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AC06-4B70-499A-8863-9D0DAA9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DFF-0393-4CDE-9816-060D8BD109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CA6D-12CA-41C4-96FA-7F6DEAD5CA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Flora and Faun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4727520"/>
            <a:ext cx="68580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cheglova Irina 7 “V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Sakhalin is referred to a taiga zone.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117360" y="549360"/>
            <a:ext cx="4473360" cy="27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24800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3480" y="458100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Yew-tree, oak, maple, cherry-tree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2095560" cy="2838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4356000" y="290520"/>
            <a:ext cx="2737080" cy="262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5364000" y="3002040"/>
            <a:ext cx="3613320" cy="24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458100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rd-cherry-tre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92120" y="1600200"/>
            <a:ext cx="6359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Severe climate and poor soils make unfavorable conditions for plants in the northern part of the islands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58880" y="476280"/>
            <a:ext cx="76262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08360" y="4571640"/>
            <a:ext cx="9504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The Kuril Islands have a similar picture of nature-green blossoms and a bare stony north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22084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238560" y="115920"/>
            <a:ext cx="3284640" cy="492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6659640" y="836640"/>
            <a:ext cx="224784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To love and save nature means to love the land you live on. 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rine Fau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0800000">
            <a:off x="683640" y="6667560"/>
            <a:ext cx="7543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lmon, herring, cod, flat fish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754440" cy="179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79280" y="2706840"/>
            <a:ext cx="352440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4788000" y="785880"/>
            <a:ext cx="3051000" cy="190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4211640" y="2924280"/>
            <a:ext cx="3422520" cy="245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vaga, Pacific saury, sme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76092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627280" y="278136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135320" y="836640"/>
            <a:ext cx="476244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4581000"/>
            <a:ext cx="8820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abs, midia, shrimps, squi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452760" cy="3030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418644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Seals, fur seals, sea lions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840" y="428760"/>
            <a:ext cx="4427640" cy="1992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4392720" cy="2941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lora of Sakhal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The beauty of Sakhalin’s nature has enchanted many people.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590560" cy="388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Картинки по запросу The beauty of Sakhalin nature has enchanted many people."/>
          <p:cNvPicPr/>
          <p:nvPr/>
        </p:nvPicPr>
        <p:blipFill>
          <a:blip r:embed="rId2"/>
          <a:stretch/>
        </p:blipFill>
        <p:spPr>
          <a:xfrm>
            <a:off x="3708360" y="765000"/>
            <a:ext cx="5240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Forests cover over two-thirds of the Sakhalin territory. 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581280" y="755640"/>
            <a:ext cx="38703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5:43:04Z</dcterms:created>
  <dc:creator>220</dc:creator>
  <dc:description/>
  <dc:language>en-US</dc:language>
  <cp:lastModifiedBy>220</cp:lastModifiedBy>
  <dcterms:modified xsi:type="dcterms:W3CDTF">2018-04-03T05:43:57Z</dcterms:modified>
  <cp:revision>1</cp:revision>
  <dc:subject/>
  <dc:title>Flora and Fauna</dc:title>
</cp:coreProperties>
</file>