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28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wind.wav" ContentType="audio/x-wav"/>
  <Override PartName="/ppt/media/image10.wmf" ContentType="image/x-wmf"/>
  <Override PartName="/ppt/media/image8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9.gif" ContentType="image/gif"/>
  <Override PartName="/ppt/media/image27.wmf" ContentType="image/x-wmf"/>
  <Override PartName="/ppt/media/image30.wmf" ContentType="image/x-wmf"/>
  <Override PartName="/ppt/media/drumroll.wav" ContentType="audio/x-wav"/>
  <Override PartName="/ppt/media/image12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7.wmf" ContentType="image/x-wmf"/>
  <Override PartName="/ppt/media/chimes.wav" ContentType="audio/x-wav"/>
  <Override PartName="/ppt/media/image32.wmf" ContentType="image/x-wmf"/>
  <Override PartName="/ppt/media/image2.wmf" ContentType="image/x-wmf"/>
  <Override PartName="/ppt/media/image25.wmf" ContentType="image/x-wmf"/>
  <Override PartName="/ppt/media/image1.gif" ContentType="image/gif"/>
  <Override PartName="/ppt/media/image11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EE7-0DAA-4DCF-89E1-954060A0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BAA-DE6B-4CFA-81EE-BEB5C980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AA8-97C8-426B-A294-FF700853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E03-FB83-4CC5-B780-4E9E8E03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A34-FE68-42FF-A368-1589A0CE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5F5-BB4E-4627-A171-001C8A83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10C-164A-4D03-9F03-45597481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193-7B9B-44F2-965C-C9EB9214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ED8-B520-4878-A352-5D6F9CDE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8F0-0A96-484F-B59C-0BCAFDED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1AC-6B08-48A1-AFAE-FC15B3D4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EEE-E11B-4676-B533-88D5E03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4CAA-6699-4A99-A776-1962C4CD7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9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2920" y="357120"/>
          <a:ext cx="8786880" cy="6226200"/>
        </p:xfrm>
        <a:graphic>
          <a:graphicData uri="http://schemas.openxmlformats.org/drawingml/2006/table">
            <a:tbl>
              <a:tblPr/>
              <a:tblGrid>
                <a:gridCol w="2541600"/>
                <a:gridCol w="1251000"/>
                <a:gridCol w="1247760"/>
                <a:gridCol w="1251000"/>
                <a:gridCol w="1245960"/>
                <a:gridCol w="124956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много о налог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оретические основы налогообложения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оходный налог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налог на доходы физических лиц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лог на наследство и да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кци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286160" y="1428840"/>
            <a:ext cx="421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является плательщиком нало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 какого возраста могут привлечь к налоговой  ответствен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D:\АНИМАЦИЯ\Анимашки\18.gif"/>
          <p:cNvPicPr/>
          <p:nvPr/>
        </p:nvPicPr>
        <p:blipFill>
          <a:blip r:embed="rId1"/>
          <a:stretch/>
        </p:blipFill>
        <p:spPr>
          <a:xfrm>
            <a:off x="220680" y="285840"/>
            <a:ext cx="3422520" cy="560232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7858080" y="60008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43280" y="2214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разграничивать налоги по уровн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SUPER027.WMF"/>
          <p:cNvPicPr/>
          <p:nvPr/>
        </p:nvPicPr>
        <p:blipFill>
          <a:blip r:embed="rId1"/>
          <a:stretch/>
        </p:blipFill>
        <p:spPr>
          <a:xfrm>
            <a:off x="357120" y="0"/>
            <a:ext cx="4672080" cy="571968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15200" y="6143760"/>
            <a:ext cx="357480" cy="28548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41" h="21600">
                <a:moveTo>
                  <a:pt x="0" y="0"/>
                </a:moveTo>
                <a:lnTo>
                  <a:pt x="27041" y="0"/>
                </a:lnTo>
                <a:lnTo>
                  <a:pt x="27041" y="21600"/>
                </a:lnTo>
                <a:lnTo>
                  <a:pt x="0" y="21600"/>
                </a:lnTo>
                <a:close/>
              </a:path>
              <a:path fill="lightenLess" w="27041" h="21600">
                <a:moveTo>
                  <a:pt x="0" y="0"/>
                </a:moveTo>
                <a:lnTo>
                  <a:pt x="27041" y="0"/>
                </a:lnTo>
                <a:lnTo>
                  <a:pt x="25641" y="1400"/>
                </a:lnTo>
                <a:lnTo>
                  <a:pt x="1400" y="1400"/>
                </a:lnTo>
                <a:close/>
              </a:path>
              <a:path fill="darken" w="27041" h="21600">
                <a:moveTo>
                  <a:pt x="27041" y="0"/>
                </a:moveTo>
                <a:lnTo>
                  <a:pt x="27041" y="21600"/>
                </a:lnTo>
                <a:lnTo>
                  <a:pt x="25641" y="20200"/>
                </a:lnTo>
                <a:lnTo>
                  <a:pt x="25641" y="1400"/>
                </a:lnTo>
                <a:close/>
              </a:path>
              <a:path fill="darkenLess" w="27041" h="21600">
                <a:moveTo>
                  <a:pt x="27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41" y="20200"/>
                </a:lnTo>
                <a:close/>
              </a:path>
              <a:path fill="lighten" w="27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41" h="21600">
                <a:moveTo>
                  <a:pt x="6514" y="10800"/>
                </a:moveTo>
                <a:lnTo>
                  <a:pt x="20527" y="3794"/>
                </a:lnTo>
                <a:lnTo>
                  <a:pt x="2052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571680" y="857160"/>
            <a:ext cx="378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понимается под доходом, подлежащим налогообложе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SUPER021.WMF"/>
          <p:cNvPicPr/>
          <p:nvPr/>
        </p:nvPicPr>
        <p:blipFill>
          <a:blip r:embed="rId1"/>
          <a:stretch/>
        </p:blipFill>
        <p:spPr>
          <a:xfrm>
            <a:off x="3571920" y="500040"/>
            <a:ext cx="4201920" cy="5791320"/>
          </a:xfrm>
          <a:prstGeom prst="rect">
            <a:avLst/>
          </a:prstGeom>
          <a:ln w="0">
            <a:noFill/>
          </a:ln>
        </p:spPr>
      </p:pic>
      <p:sp>
        <p:nvSpPr>
          <p:cNvPr id="78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35812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2143080"/>
            <a:ext cx="46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Назовите основные виды доходов, с которых взимается нало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6" descr="CRCTR024.WMF"/>
          <p:cNvPicPr/>
          <p:nvPr/>
        </p:nvPicPr>
        <p:blipFill>
          <a:blip r:embed="rId1"/>
          <a:stretch/>
        </p:blipFill>
        <p:spPr>
          <a:xfrm>
            <a:off x="4786200" y="357120"/>
            <a:ext cx="3409920" cy="550548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15200" y="614376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23080" y="100008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налоговые вычеты существуют для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доходы физических ли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D:\АНИМАЦИЯ\PUB60COR\AN00790_.WMF"/>
          <p:cNvPicPr/>
          <p:nvPr/>
        </p:nvPicPr>
        <p:blipFill>
          <a:blip r:embed="rId1"/>
          <a:stretch/>
        </p:blipFill>
        <p:spPr>
          <a:xfrm>
            <a:off x="2857680" y="2714760"/>
            <a:ext cx="3294000" cy="343512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429760" y="6143760"/>
            <a:ext cx="285480" cy="28548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643280" y="1785960"/>
            <a:ext cx="428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ие ставки налога на доходы существуют в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CRCTR016.WMF"/>
          <p:cNvPicPr/>
          <p:nvPr/>
        </p:nvPicPr>
        <p:blipFill>
          <a:blip r:embed="rId1"/>
          <a:stretch/>
        </p:blipFill>
        <p:spPr>
          <a:xfrm>
            <a:off x="214200" y="857160"/>
            <a:ext cx="3857760" cy="539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D:\АНИМАЦИЯ\Анимашки\флаг.gif"/>
          <p:cNvPicPr/>
          <p:nvPr/>
        </p:nvPicPr>
        <p:blipFill>
          <a:blip r:embed="rId2"/>
          <a:stretch/>
        </p:blipFill>
        <p:spPr>
          <a:xfrm>
            <a:off x="7358040" y="428760"/>
            <a:ext cx="1143000" cy="83952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5143680" y="1936800"/>
            <a:ext cx="36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должен отчитаться перед налогов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ами о своих доход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CRCTR030.WMF"/>
          <p:cNvPicPr/>
          <p:nvPr/>
        </p:nvPicPr>
        <p:blipFill>
          <a:blip r:embed="rId1"/>
          <a:stretch/>
        </p:blipFill>
        <p:spPr>
          <a:xfrm>
            <a:off x="571680" y="571680"/>
            <a:ext cx="4176360" cy="5187600"/>
          </a:xfrm>
          <a:prstGeom prst="rect">
            <a:avLst/>
          </a:prstGeom>
          <a:ln w="0">
            <a:noFill/>
          </a:ln>
        </p:spPr>
      </p:pic>
      <p:sp>
        <p:nvSpPr>
          <p:cNvPr id="91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429760" y="6215040"/>
            <a:ext cx="285480" cy="35712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7014">
                <a:moveTo>
                  <a:pt x="0" y="0"/>
                </a:moveTo>
                <a:lnTo>
                  <a:pt x="21600" y="0"/>
                </a:lnTo>
                <a:lnTo>
                  <a:pt x="21600" y="27014"/>
                </a:lnTo>
                <a:lnTo>
                  <a:pt x="0" y="27014"/>
                </a:lnTo>
                <a:close/>
              </a:path>
              <a:path fill="lightenLess" w="21600" h="270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14">
                <a:moveTo>
                  <a:pt x="21600" y="0"/>
                </a:moveTo>
                <a:lnTo>
                  <a:pt x="21600" y="27014"/>
                </a:lnTo>
                <a:lnTo>
                  <a:pt x="20200" y="25614"/>
                </a:lnTo>
                <a:lnTo>
                  <a:pt x="20200" y="1400"/>
                </a:lnTo>
                <a:close/>
              </a:path>
              <a:path fill="darkenLess" w="21600" h="27014">
                <a:moveTo>
                  <a:pt x="21600" y="27014"/>
                </a:moveTo>
                <a:lnTo>
                  <a:pt x="0" y="27014"/>
                </a:lnTo>
                <a:lnTo>
                  <a:pt x="1400" y="25614"/>
                </a:lnTo>
                <a:lnTo>
                  <a:pt x="20200" y="25614"/>
                </a:lnTo>
                <a:close/>
              </a:path>
              <a:path fill="lighten" w="21600" h="27014">
                <a:moveTo>
                  <a:pt x="0" y="270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14"/>
                </a:lnTo>
                <a:close/>
              </a:path>
              <a:path fill="darken" w="21600" h="27014">
                <a:moveTo>
                  <a:pt x="3794" y="13507"/>
                </a:moveTo>
                <a:lnTo>
                  <a:pt x="17806" y="6500"/>
                </a:lnTo>
                <a:lnTo>
                  <a:pt x="17806" y="2051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429160" y="2286000"/>
            <a:ext cx="3357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их случаях взимается налог на наслед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SUPER079.WMF"/>
          <p:cNvPicPr/>
          <p:nvPr/>
        </p:nvPicPr>
        <p:blipFill>
          <a:blip r:embed="rId1"/>
          <a:stretch/>
        </p:blipFill>
        <p:spPr>
          <a:xfrm>
            <a:off x="142920" y="128592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94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14376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7858080" y="614376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86000" y="235728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ео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Рисунок2.gif"/>
          <p:cNvPicPr/>
          <p:nvPr/>
        </p:nvPicPr>
        <p:blipFill>
          <a:blip r:embed="rId1"/>
          <a:stretch/>
        </p:blipFill>
        <p:spPr>
          <a:xfrm rot="505200">
            <a:off x="5316120" y="1071720"/>
            <a:ext cx="318456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529920" y="4286160"/>
            <a:ext cx="81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 чего зависит ставка  налога на наслед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7" descr="WEIGHT1.WMF"/>
          <p:cNvPicPr/>
          <p:nvPr/>
        </p:nvPicPr>
        <p:blipFill>
          <a:blip r:embed="rId1"/>
          <a:stretch/>
        </p:blipFill>
        <p:spPr>
          <a:xfrm>
            <a:off x="1500120" y="214200"/>
            <a:ext cx="6105600" cy="324036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143920" y="614376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571680" y="214308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 помощью какого налога обеспечивается  социальная защита и поддержка населения в государстве? Перечислите фо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>
            <a:hlinkClick r:id="" action="ppaction://hlinkshowjump?jump=firstslide"/>
          </p:cNvPr>
          <p:cNvSpPr/>
          <p:nvPr/>
        </p:nvSpPr>
        <p:spPr>
          <a:xfrm>
            <a:off x="8501040" y="6215040"/>
            <a:ext cx="360360" cy="433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5976">
                <a:moveTo>
                  <a:pt x="0" y="0"/>
                </a:moveTo>
                <a:lnTo>
                  <a:pt x="21600" y="0"/>
                </a:lnTo>
                <a:lnTo>
                  <a:pt x="21600" y="25976"/>
                </a:lnTo>
                <a:lnTo>
                  <a:pt x="0" y="25976"/>
                </a:lnTo>
                <a:close/>
              </a:path>
              <a:path fill="lightenLess" w="21600" h="25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6">
                <a:moveTo>
                  <a:pt x="21600" y="0"/>
                </a:moveTo>
                <a:lnTo>
                  <a:pt x="21600" y="25976"/>
                </a:lnTo>
                <a:lnTo>
                  <a:pt x="20200" y="24576"/>
                </a:lnTo>
                <a:lnTo>
                  <a:pt x="20200" y="1400"/>
                </a:lnTo>
                <a:close/>
              </a:path>
              <a:path fill="darkenLess" w="21600" h="25976">
                <a:moveTo>
                  <a:pt x="21600" y="25976"/>
                </a:moveTo>
                <a:lnTo>
                  <a:pt x="0" y="25976"/>
                </a:lnTo>
                <a:lnTo>
                  <a:pt x="1400" y="24576"/>
                </a:lnTo>
                <a:lnTo>
                  <a:pt x="20200" y="24576"/>
                </a:lnTo>
                <a:close/>
              </a:path>
              <a:path fill="lighten" w="21600" h="25976">
                <a:moveTo>
                  <a:pt x="0" y="25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6"/>
                </a:lnTo>
                <a:close/>
              </a:path>
              <a:path fill="darken" w="21600" h="25976">
                <a:moveTo>
                  <a:pt x="10800" y="6025"/>
                </a:moveTo>
                <a:lnTo>
                  <a:pt x="13376" y="8636"/>
                </a:lnTo>
                <a:lnTo>
                  <a:pt x="13376" y="6895"/>
                </a:lnTo>
                <a:lnTo>
                  <a:pt x="15152" y="6895"/>
                </a:lnTo>
                <a:lnTo>
                  <a:pt x="15152" y="10412"/>
                </a:lnTo>
                <a:lnTo>
                  <a:pt x="17763" y="12988"/>
                </a:lnTo>
                <a:lnTo>
                  <a:pt x="16109" y="12988"/>
                </a:lnTo>
                <a:lnTo>
                  <a:pt x="16109" y="20177"/>
                </a:lnTo>
                <a:lnTo>
                  <a:pt x="5491" y="20177"/>
                </a:lnTo>
                <a:lnTo>
                  <a:pt x="5491" y="12988"/>
                </a:lnTo>
                <a:lnTo>
                  <a:pt x="3837" y="12988"/>
                </a:lnTo>
                <a:close/>
              </a:path>
              <a:path fill="darkenLess" w="21600" h="25976">
                <a:moveTo>
                  <a:pt x="13376" y="8636"/>
                </a:moveTo>
                <a:lnTo>
                  <a:pt x="13376" y="6895"/>
                </a:lnTo>
                <a:lnTo>
                  <a:pt x="15152" y="6895"/>
                </a:lnTo>
                <a:lnTo>
                  <a:pt x="15152" y="10412"/>
                </a:lnTo>
                <a:close/>
              </a:path>
              <a:path fill="darkenLess" w="21600" h="25976">
                <a:moveTo>
                  <a:pt x="9877" y="16487"/>
                </a:moveTo>
                <a:lnTo>
                  <a:pt x="11723" y="16487"/>
                </a:lnTo>
                <a:lnTo>
                  <a:pt x="11723" y="20177"/>
                </a:lnTo>
                <a:lnTo>
                  <a:pt x="16109" y="20177"/>
                </a:lnTo>
                <a:lnTo>
                  <a:pt x="16109" y="12988"/>
                </a:lnTo>
                <a:lnTo>
                  <a:pt x="5491" y="12988"/>
                </a:lnTo>
                <a:lnTo>
                  <a:pt x="5491" y="20177"/>
                </a:lnTo>
                <a:lnTo>
                  <a:pt x="9877" y="201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5" descr="WHICHB.GIF"/>
          <p:cNvPicPr/>
          <p:nvPr/>
        </p:nvPicPr>
        <p:blipFill>
          <a:blip r:embed="rId1"/>
          <a:stretch/>
        </p:blipFill>
        <p:spPr>
          <a:xfrm>
            <a:off x="714240" y="500040"/>
            <a:ext cx="2041560" cy="1212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CRCTR013.WMF"/>
          <p:cNvPicPr/>
          <p:nvPr/>
        </p:nvPicPr>
        <p:blipFill>
          <a:blip r:embed="rId2"/>
          <a:stretch/>
        </p:blipFill>
        <p:spPr>
          <a:xfrm>
            <a:off x="5715000" y="1571760"/>
            <a:ext cx="3071880" cy="47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439920" y="2714760"/>
            <a:ext cx="334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4" descr="SUPER012.WMF"/>
          <p:cNvPicPr/>
          <p:nvPr/>
        </p:nvPicPr>
        <p:blipFill>
          <a:blip r:embed="rId1"/>
          <a:stretch/>
        </p:blipFill>
        <p:spPr>
          <a:xfrm>
            <a:off x="3929040" y="714240"/>
            <a:ext cx="4672080" cy="5211720"/>
          </a:xfrm>
          <a:prstGeom prst="rect">
            <a:avLst/>
          </a:prstGeom>
          <a:ln w="0">
            <a:noFill/>
          </a:ln>
        </p:spPr>
      </p:pic>
      <p:sp>
        <p:nvSpPr>
          <p:cNvPr id="103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19480" y="1571760"/>
            <a:ext cx="4693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такое завещ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го из родстве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читают наслед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ой очеред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4" descr="SUPER033.WMF"/>
          <p:cNvPicPr/>
          <p:nvPr/>
        </p:nvPicPr>
        <p:blipFill>
          <a:blip r:embed="rId1"/>
          <a:stretch/>
        </p:blipFill>
        <p:spPr>
          <a:xfrm>
            <a:off x="4143240" y="1428840"/>
            <a:ext cx="4672080" cy="497520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28668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4" descr="SUPER018.WMF"/>
          <p:cNvPicPr/>
          <p:nvPr/>
        </p:nvPicPr>
        <p:blipFill>
          <a:blip r:embed="rId1"/>
          <a:stretch/>
        </p:blipFill>
        <p:spPr>
          <a:xfrm>
            <a:off x="4714920" y="642960"/>
            <a:ext cx="361476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ьная выноска 5"/>
          <p:cNvSpPr/>
          <p:nvPr/>
        </p:nvSpPr>
        <p:spPr>
          <a:xfrm>
            <a:off x="285840" y="1071720"/>
            <a:ext cx="5357880" cy="2571480"/>
          </a:xfrm>
          <a:prstGeom prst="wedgeEllipseCallout">
            <a:avLst>
              <a:gd name="adj1" fmla="val 49189"/>
              <a:gd name="adj2" fmla="val 483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Почему акцизы можно назвать самым справедливым налог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15200" y="621504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736080" y="4071960"/>
            <a:ext cx="46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такое акци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CRDS.WMF"/>
          <p:cNvPicPr/>
          <p:nvPr/>
        </p:nvPicPr>
        <p:blipFill>
          <a:blip r:embed="rId1"/>
          <a:stretch/>
        </p:blipFill>
        <p:spPr>
          <a:xfrm>
            <a:off x="928800" y="571680"/>
            <a:ext cx="3643200" cy="607356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7929720" y="6143760"/>
            <a:ext cx="285480" cy="21420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10800"/>
                </a:moveTo>
                <a:lnTo>
                  <a:pt x="21394" y="3794"/>
                </a:lnTo>
                <a:lnTo>
                  <a:pt x="213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4020120" y="2071800"/>
            <a:ext cx="454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тов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лагаются акциз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5" descr="SURVEYCO.WMF"/>
          <p:cNvPicPr/>
          <p:nvPr/>
        </p:nvPicPr>
        <p:blipFill>
          <a:blip r:embed="rId1"/>
          <a:stretch/>
        </p:blipFill>
        <p:spPr>
          <a:xfrm>
            <a:off x="214200" y="857160"/>
            <a:ext cx="4214880" cy="5051520"/>
          </a:xfrm>
          <a:prstGeom prst="rect">
            <a:avLst/>
          </a:prstGeom>
          <a:ln w="0">
            <a:noFill/>
          </a:ln>
        </p:spPr>
      </p:pic>
      <p:sp>
        <p:nvSpPr>
          <p:cNvPr id="115" name="Управляющая кнопка: назад 6">
            <a:hlinkClick r:id="" action="ppaction://hlinkshowjump?jump=firstslide"/>
          </p:cNvPr>
          <p:cNvSpPr/>
          <p:nvPr/>
        </p:nvSpPr>
        <p:spPr>
          <a:xfrm>
            <a:off x="7929720" y="6143760"/>
            <a:ext cx="285480" cy="21420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10800"/>
                </a:moveTo>
                <a:lnTo>
                  <a:pt x="21394" y="3794"/>
                </a:lnTo>
                <a:lnTo>
                  <a:pt x="213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750960" y="714240"/>
            <a:ext cx="75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.Кто является плательщиком нало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" descr="PIGGYBAN.WMF"/>
          <p:cNvPicPr/>
          <p:nvPr/>
        </p:nvPicPr>
        <p:blipFill>
          <a:blip r:embed="rId1"/>
          <a:stretch/>
        </p:blipFill>
        <p:spPr>
          <a:xfrm>
            <a:off x="2286000" y="1857240"/>
            <a:ext cx="4429080" cy="4132440"/>
          </a:xfrm>
          <a:prstGeom prst="rect">
            <a:avLst/>
          </a:prstGeom>
          <a:ln w="0">
            <a:noFill/>
          </a:ln>
        </p:spPr>
      </p:pic>
      <p:sp>
        <p:nvSpPr>
          <p:cNvPr id="118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8286840" y="6143760"/>
            <a:ext cx="214200" cy="28548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85480"/>
              <a:gd name="textAreaBottom" fmla="*/ 271800 h 28548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4388"/>
                </a:moveTo>
                <a:lnTo>
                  <a:pt x="17806" y="7381"/>
                </a:lnTo>
                <a:lnTo>
                  <a:pt x="17806" y="213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Управляющая кнопка: назад 1">
            <a:hlinkClick r:id="" action="ppaction://hlinkshowjump?jump=firstslide"/>
          </p:cNvPr>
          <p:cNvSpPr/>
          <p:nvPr/>
        </p:nvSpPr>
        <p:spPr>
          <a:xfrm>
            <a:off x="8001000" y="607212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69160" y="1357200"/>
            <a:ext cx="49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товары, на ваш взгля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жно добавить в список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ложение акцизами.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SUPER011.WMF"/>
          <p:cNvPicPr/>
          <p:nvPr/>
        </p:nvPicPr>
        <p:blipFill>
          <a:blip r:embed="rId1"/>
          <a:stretch/>
        </p:blipFill>
        <p:spPr>
          <a:xfrm>
            <a:off x="4857840" y="2214720"/>
            <a:ext cx="3763800" cy="38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31000" y="714240"/>
            <a:ext cx="73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регистрации каких актов гражда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тояния пошлина не взима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в каких  взим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ANTN034.WMF"/>
          <p:cNvPicPr/>
          <p:nvPr/>
        </p:nvPicPr>
        <p:blipFill>
          <a:blip r:embed="rId1"/>
          <a:stretch/>
        </p:blipFill>
        <p:spPr>
          <a:xfrm>
            <a:off x="2041560" y="2357280"/>
            <a:ext cx="4844880" cy="414360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072280" y="6143760"/>
            <a:ext cx="357480" cy="214200"/>
          </a:xfrm>
          <a:custGeom>
            <a:avLst/>
            <a:gdLst>
              <a:gd name="textAreaLeft" fmla="*/ 13680 w 357480"/>
              <a:gd name="textAreaRight" fmla="*/ 343800 w 357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9" y="3794"/>
                </a:lnTo>
                <a:lnTo>
                  <a:pt x="2501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96000" y="500040"/>
            <a:ext cx="87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чего зависит размер государственной пошл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 обращении в суд с иском имущественного харак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COALCOLO.WMF"/>
          <p:cNvPicPr/>
          <p:nvPr/>
        </p:nvPicPr>
        <p:blipFill>
          <a:blip r:embed="rId1"/>
          <a:stretch/>
        </p:blipFill>
        <p:spPr>
          <a:xfrm>
            <a:off x="2236680" y="1627200"/>
            <a:ext cx="3621240" cy="507348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7858080" y="5929200"/>
            <a:ext cx="214200" cy="21456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744480" y="1928880"/>
            <a:ext cx="566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документы вы може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формить у нотариу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GRD.WMF"/>
          <p:cNvPicPr/>
          <p:nvPr/>
        </p:nvPicPr>
        <p:blipFill>
          <a:blip r:embed="rId1"/>
          <a:stretch/>
        </p:blipFill>
        <p:spPr>
          <a:xfrm>
            <a:off x="6143760" y="1571760"/>
            <a:ext cx="2651040" cy="4786200"/>
          </a:xfrm>
          <a:prstGeom prst="rect">
            <a:avLst/>
          </a:prstGeom>
          <a:ln w="0">
            <a:noFill/>
          </a:ln>
        </p:spPr>
      </p:pic>
      <p:sp>
        <p:nvSpPr>
          <p:cNvPr id="130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501040" y="6429240"/>
            <a:ext cx="214200" cy="21456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CRCTR004.WMF"/>
          <p:cNvPicPr/>
          <p:nvPr/>
        </p:nvPicPr>
        <p:blipFill>
          <a:blip r:embed="rId1"/>
          <a:stretch/>
        </p:blipFill>
        <p:spPr>
          <a:xfrm>
            <a:off x="5357880" y="1214280"/>
            <a:ext cx="2913120" cy="5034240"/>
          </a:xfrm>
          <a:prstGeom prst="rect">
            <a:avLst/>
          </a:prstGeom>
          <a:ln w="0">
            <a:noFill/>
          </a:ln>
        </p:spPr>
      </p:pic>
      <p:sp>
        <p:nvSpPr>
          <p:cNvPr id="47" name="Овальная выноска 7"/>
          <p:cNvSpPr/>
          <p:nvPr/>
        </p:nvSpPr>
        <p:spPr>
          <a:xfrm>
            <a:off x="500040" y="1000080"/>
            <a:ext cx="5214960" cy="2571840"/>
          </a:xfrm>
          <a:prstGeom prst="wedgeEllipseCallout">
            <a:avLst>
              <a:gd name="adj1" fmla="val 56861"/>
              <a:gd name="adj2" fmla="val 1912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уда поступают средства от уплаты земельного нало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8684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09880" y="3786120"/>
            <a:ext cx="49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такое госпошл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SHERLOCK.WMF"/>
          <p:cNvPicPr/>
          <p:nvPr/>
        </p:nvPicPr>
        <p:blipFill>
          <a:blip r:embed="rId1"/>
          <a:stretch/>
        </p:blipFill>
        <p:spPr>
          <a:xfrm>
            <a:off x="142920" y="428760"/>
            <a:ext cx="3857760" cy="5713200"/>
          </a:xfrm>
          <a:prstGeom prst="rect">
            <a:avLst/>
          </a:prstGeom>
          <a:ln w="0">
            <a:noFill/>
          </a:ln>
        </p:spPr>
      </p:pic>
      <p:sp>
        <p:nvSpPr>
          <p:cNvPr id="133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8358120" y="6286680"/>
            <a:ext cx="214560" cy="214200"/>
          </a:xfrm>
          <a:custGeom>
            <a:avLst/>
            <a:gdLst>
              <a:gd name="textAreaLeft" fmla="*/ 13680 w 214560"/>
              <a:gd name="textAreaRight" fmla="*/ 200880 w 21456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5" y="3794"/>
                </a:lnTo>
                <a:lnTo>
                  <a:pt x="1782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2" name="drumroll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Управляющая кнопка: назад 1">
            <a:hlinkClick r:id="" action="ppaction://hlinkshowjump?jump=firstslide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34920" y="1071720"/>
            <a:ext cx="67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из русских царей ввёл пошл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ношение бор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5" descr="EKING.WMF"/>
          <p:cNvPicPr/>
          <p:nvPr/>
        </p:nvPicPr>
        <p:blipFill>
          <a:blip r:embed="rId1"/>
          <a:stretch/>
        </p:blipFill>
        <p:spPr>
          <a:xfrm>
            <a:off x="5143680" y="2000160"/>
            <a:ext cx="3571560" cy="38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94560" y="981000"/>
            <a:ext cx="844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ая существует связь между эти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дметами и налог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116000" y="2997360"/>
            <a:ext cx="1871640" cy="20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SC03980"/>
          <p:cNvPicPr/>
          <p:nvPr/>
        </p:nvPicPr>
        <p:blipFill>
          <a:blip r:embed="rId1"/>
          <a:srcRect l="20676" t="16071" r="15505" b="0"/>
          <a:stretch/>
        </p:blipFill>
        <p:spPr>
          <a:xfrm>
            <a:off x="4572000" y="2708280"/>
            <a:ext cx="2665440" cy="262872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6858000" y="6143760"/>
            <a:ext cx="428760" cy="28548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10800"/>
                </a:moveTo>
                <a:lnTo>
                  <a:pt x="23220" y="3794"/>
                </a:lnTo>
                <a:lnTo>
                  <a:pt x="2322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SUPER009.WMF"/>
          <p:cNvPicPr/>
          <p:nvPr/>
        </p:nvPicPr>
        <p:blipFill>
          <a:blip r:embed="rId1"/>
          <a:stretch/>
        </p:blipFill>
        <p:spPr>
          <a:xfrm>
            <a:off x="214200" y="142920"/>
            <a:ext cx="3913200" cy="3643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643120" y="400068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Какой налог служит источником формирования дорожного фон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SUPER002.WMF"/>
          <p:cNvPicPr/>
          <p:nvPr/>
        </p:nvPicPr>
        <p:blipFill>
          <a:blip r:embed="rId2"/>
          <a:stretch/>
        </p:blipFill>
        <p:spPr>
          <a:xfrm>
            <a:off x="5214960" y="857160"/>
            <a:ext cx="3187800" cy="240516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назад 5">
            <a:hlinkClick r:id="" action="ppaction://hlinkshowjump?jump=firstslide"/>
          </p:cNvPr>
          <p:cNvSpPr/>
          <p:nvPr/>
        </p:nvSpPr>
        <p:spPr>
          <a:xfrm>
            <a:off x="8215200" y="600084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Управляющая кнопка: назад 1">
            <a:hlinkClick r:id="" action="ppaction://hlinkshowjump?jump=firstslide"/>
          </p:cNvPr>
          <p:cNvSpPr/>
          <p:nvPr/>
        </p:nvSpPr>
        <p:spPr>
          <a:xfrm>
            <a:off x="8072280" y="607212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SUPER026.WMF"/>
          <p:cNvPicPr/>
          <p:nvPr/>
        </p:nvPicPr>
        <p:blipFill>
          <a:blip r:embed="rId1"/>
          <a:stretch/>
        </p:blipFill>
        <p:spPr>
          <a:xfrm>
            <a:off x="4643280" y="714240"/>
            <a:ext cx="3929400" cy="5203800"/>
          </a:xfrm>
          <a:prstGeom prst="rect">
            <a:avLst/>
          </a:prstGeom>
          <a:ln w="0">
            <a:noFill/>
          </a:ln>
        </p:spPr>
      </p:pic>
      <p:sp>
        <p:nvSpPr>
          <p:cNvPr id="59" name="Скругленная прямоугольная выноска 6"/>
          <p:cNvSpPr/>
          <p:nvPr/>
        </p:nvSpPr>
        <p:spPr>
          <a:xfrm>
            <a:off x="714240" y="1285920"/>
            <a:ext cx="4071960" cy="2071800"/>
          </a:xfrm>
          <a:prstGeom prst="wedgeRoundRectCallout">
            <a:avLst>
              <a:gd name="adj1" fmla="val 63828"/>
              <a:gd name="adj2" fmla="val 53231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Назовите примеры прямых и косвенных нал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85880" y="1500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Когда начала формироваться налоговая система РФ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когда может быть введен любой новый нало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SUPER008.WMF"/>
          <p:cNvPicPr/>
          <p:nvPr/>
        </p:nvPicPr>
        <p:blipFill>
          <a:blip r:embed="rId1"/>
          <a:stretch/>
        </p:blipFill>
        <p:spPr>
          <a:xfrm>
            <a:off x="5072040" y="357120"/>
            <a:ext cx="3632400" cy="628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:\АНИМАЦИЯ\Анимашки\флаг.gif"/>
          <p:cNvPicPr/>
          <p:nvPr/>
        </p:nvPicPr>
        <p:blipFill>
          <a:blip r:embed="rId2"/>
          <a:stretch/>
        </p:blipFill>
        <p:spPr>
          <a:xfrm>
            <a:off x="428760" y="241200"/>
            <a:ext cx="1143000" cy="839880"/>
          </a:xfrm>
          <a:prstGeom prst="rect">
            <a:avLst/>
          </a:prstGeom>
          <a:ln w="0">
            <a:noFill/>
          </a:ln>
        </p:spPr>
      </p:pic>
      <p:sp>
        <p:nvSpPr>
          <p:cNvPr id="63" name="Управляющая кнопка: назад 5">
            <a:hlinkClick r:id="" action="ppaction://hlinkshowjump?jump=firstslide"/>
          </p:cNvPr>
          <p:cNvSpPr/>
          <p:nvPr/>
        </p:nvSpPr>
        <p:spPr>
          <a:xfrm>
            <a:off x="8215200" y="6143760"/>
            <a:ext cx="357480" cy="28548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41" h="21600">
                <a:moveTo>
                  <a:pt x="0" y="0"/>
                </a:moveTo>
                <a:lnTo>
                  <a:pt x="27041" y="0"/>
                </a:lnTo>
                <a:lnTo>
                  <a:pt x="27041" y="21600"/>
                </a:lnTo>
                <a:lnTo>
                  <a:pt x="0" y="21600"/>
                </a:lnTo>
                <a:close/>
              </a:path>
              <a:path fill="lightenLess" w="27041" h="21600">
                <a:moveTo>
                  <a:pt x="0" y="0"/>
                </a:moveTo>
                <a:lnTo>
                  <a:pt x="27041" y="0"/>
                </a:lnTo>
                <a:lnTo>
                  <a:pt x="25641" y="1400"/>
                </a:lnTo>
                <a:lnTo>
                  <a:pt x="1400" y="1400"/>
                </a:lnTo>
                <a:close/>
              </a:path>
              <a:path fill="darken" w="27041" h="21600">
                <a:moveTo>
                  <a:pt x="27041" y="0"/>
                </a:moveTo>
                <a:lnTo>
                  <a:pt x="27041" y="21600"/>
                </a:lnTo>
                <a:lnTo>
                  <a:pt x="25641" y="20200"/>
                </a:lnTo>
                <a:lnTo>
                  <a:pt x="25641" y="1400"/>
                </a:lnTo>
                <a:close/>
              </a:path>
              <a:path fill="darkenLess" w="27041" h="21600">
                <a:moveTo>
                  <a:pt x="27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41" y="20200"/>
                </a:lnTo>
                <a:close/>
              </a:path>
              <a:path fill="lighten" w="27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41" h="21600">
                <a:moveTo>
                  <a:pt x="6514" y="10800"/>
                </a:moveTo>
                <a:lnTo>
                  <a:pt x="20527" y="3794"/>
                </a:lnTo>
                <a:lnTo>
                  <a:pt x="2052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877680" y="71424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логовый кодек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:\приколы\Educational Cartoons\STUDENT2.WMF"/>
          <p:cNvPicPr/>
          <p:nvPr/>
        </p:nvPicPr>
        <p:blipFill>
          <a:blip r:embed="rId1"/>
          <a:stretch/>
        </p:blipFill>
        <p:spPr>
          <a:xfrm>
            <a:off x="5286240" y="1285920"/>
            <a:ext cx="2862360" cy="516744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35812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39240" y="1285920"/>
            <a:ext cx="450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логовая систе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SUPER043.WMF"/>
          <p:cNvPicPr/>
          <p:nvPr/>
        </p:nvPicPr>
        <p:blipFill>
          <a:blip r:embed="rId1"/>
          <a:stretch/>
        </p:blipFill>
        <p:spPr>
          <a:xfrm>
            <a:off x="4714920" y="428760"/>
            <a:ext cx="2857320" cy="614340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143920" y="607212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36:26Z</dcterms:created>
  <dc:creator>User</dc:creator>
  <dc:description/>
  <dc:language>en-US</dc:language>
  <cp:lastModifiedBy>Екатерина</cp:lastModifiedBy>
  <dcterms:modified xsi:type="dcterms:W3CDTF">2008-11-12T12:45:37Z</dcterms:modified>
  <cp:revision>31</cp:revision>
  <dc:subject/>
  <dc:title>Слайд 1</dc:title>
</cp:coreProperties>
</file>