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8.gif" ContentType="image/gif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9329-8592-462B-9320-7B9E31E63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FAB3-57EB-4CD5-9882-E1EF358E3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2374-2011-4ED6-8A63-EB79B63C4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7156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63984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328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7156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63984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4C2F-9E92-44FE-B74C-AC45F6B2E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3F552-1CFA-45C1-95F0-1B3374B86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93D4-7F74-4334-9F4C-6C7D34B9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8C02-1697-4AEE-996F-5C79E620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96140-10CE-486F-9603-6735D7BF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987A5-43B9-4AD7-B901-EEAC13BF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68F0-FF6D-4F9B-B8A5-3AADD081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0825-24A7-4312-9559-CF7AFF9E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6584-BDAA-470E-BBF3-13F4D4DD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30EC-CE23-434C-880F-9D6A67A7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25AD3-FA1A-4C7D-8A1C-0907AB39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B0D73-7770-449C-B363-66F2BF5C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5D1A-CA2D-479C-A05A-AAF80A1A6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7156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3984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328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7156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3984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CD55-2AF3-48DD-82FD-CBB621CB7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5C239-C414-42AC-9B87-94CB11EE7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58411-447B-4820-86A7-4760B4C1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81634-9514-4E2D-A39F-C20A0966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5EB84-49FB-40B2-9CD1-4C4B2F0F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AC345-2B88-4CB6-84A5-7674153B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003B-ADBB-4BD0-91C2-000C6272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74B2F-83CD-43EA-B251-FF4F9482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A40CB-C6B9-4790-831E-02458A90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ECC48-4CD0-4E1B-8996-FA2AB216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B441D-6CFD-4D27-AF93-A4D40602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41EB6-3ED2-42EB-A71F-CE657768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724EF-593B-40DA-9D4E-3411D3F7C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7156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63984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328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7156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63984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E4449-4A8B-4939-ADDE-363A32766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33502-4482-41E5-9D58-CB7126FC9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2EB3B-F73E-4917-AA72-3BDDE5CE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37E0B-7A6B-4178-978D-DC432B10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CF7C-D9E2-4B71-81FD-8A13BA95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35068-143E-4279-AFC7-5D9C6CB5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F7485-533C-4297-A6E9-C05BE7D2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EF461-2C98-4C7C-9F31-7FE3984A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6C072-F5AF-48C5-AA05-E63ECA72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977B3-26FF-4D2E-A532-4B9ED281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17898-8B66-489A-893D-5AA7462D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ECD94-F9AD-4803-8D8F-AEB0DF86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22FE1-AF54-4606-B048-C085123A8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7156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63984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0328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7156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63984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2725F-E9BC-4299-A10C-4E85E413B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C3A4E-1CE3-4A68-9B0E-317642550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C56B-088D-4B66-B5A9-AC7B25F5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83318-E053-4364-A8D4-AE224C46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7A76A-54EB-4188-8D02-5651AF5F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8453E-C617-4578-9A8C-BB74B6E5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B089F-3A4C-4A05-9999-23DC31AE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597F3-DB1E-4637-A7F6-4E45F0C0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8962C-392F-4B3A-A7FE-069E9E42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472C3-4A43-40DF-99BE-E0B258C7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4AACB-DB97-4182-AA23-52DC2FD9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8931B-6248-42B7-885B-CAB406A3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A1B34-79B8-4E43-85C0-AF60044DB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8DF0-027B-4BA5-8BAC-27EA5A94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7156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63984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50328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7156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63984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3D949-65EE-428E-9E0E-69835AC0D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25910-2CCE-407D-9954-B9CEA4EB0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BECF6-0741-49EC-BD33-0C1AB8C7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1058D-8715-415F-B73D-01587142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D558B-6FC2-4C14-AAF2-0FB789C9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66AE3-6B4B-4BA2-855F-D0CC172F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6D2E7-2D52-45D8-82DC-3A4327C4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D730A-47F5-434A-B92E-AF5380AD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103F1-F657-43AD-AA11-8B0E706F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4D01D-C76B-43BA-AEA8-99937619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D15A-3218-4BFA-B547-93675002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C37D6-83C6-4A14-BAD7-A39832A6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ED8EC-AE70-4667-867A-D536734A5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7156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63984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50328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7156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63984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61CC7-4854-4825-A7CC-DE1BDF98E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70011-53D0-4866-9F2A-5356585F9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80527-8285-4179-8F7F-5FF0DFE7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07CF7-FCCC-440E-8F39-7AA762A6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9D166-9582-46D7-9247-F5A19E43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F0EDF-B6BC-4094-B576-E73EEDF1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AB13D-92B9-46C6-9A62-FC612560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336D2-F312-41C3-A719-AE1014D1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E621-01B3-4871-9CBD-05DA13D2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3C372-556A-4E78-931B-5D8CB793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AC7DB-CF07-4921-8964-B84CE0CA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A62B8-33B7-4762-B519-57511ED4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F20C4-6BAB-4877-9F66-7934F7C09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57156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984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50328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57156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63984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56445-152F-4295-B5AC-16665D98D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B8C4A-F809-4C2E-8328-6B8684E8E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0F2DF-B310-4457-BFFE-8036F2D8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30917-F086-4F16-8CD7-D2765C6B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665B9-96D6-478F-9DD1-27A38AF8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12DEE-9CC0-459F-BF13-5D1A22F9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4A18-B242-47B0-9392-D9682DD9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F51AD-62BA-4518-BC43-442F261D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A3F2A-C784-4DEF-AA1C-A384F203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A57C6-EEFC-4B15-9583-8A00479D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C23FF-66BA-48A4-B039-371FE893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87658-986F-4C34-A030-C76E0FE3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7D4CB-0651-4935-8B59-36A77088E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57156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63984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0328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57156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63984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E2B48-1685-43E3-B8A2-36CC8CE68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90560" y="5513400"/>
            <a:ext cx="4191120" cy="159084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8680" y="6377040"/>
            <a:ext cx="4191120" cy="923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6377040"/>
            <a:ext cx="3762360" cy="1206360"/>
            <a:chOff x="-12600" y="6377040"/>
            <a:chExt cx="3762360" cy="120636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6377040"/>
              <a:ext cx="376236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306360" y="7078680"/>
              <a:ext cx="1874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6040"/>
                  <a:tab algn="l" pos="892080"/>
                  <a:tab algn="l" pos="1338120"/>
                  <a:tab algn="l" pos="1784520"/>
                  <a:tab algn="l" pos="2230560"/>
                  <a:tab algn="l" pos="2676600"/>
                  <a:tab algn="l" pos="3122640"/>
                  <a:tab algn="l" pos="3568680"/>
                  <a:tab algn="l" pos="4014720"/>
                  <a:tab algn="l" pos="4460760"/>
                  <a:tab algn="l" pos="4906800"/>
                  <a:tab algn="l" pos="5353200"/>
                  <a:tab algn="l" pos="5799240"/>
                  <a:tab algn="l" pos="6245280"/>
                  <a:tab algn="l" pos="6691320"/>
                  <a:tab algn="l" pos="7137360"/>
                  <a:tab algn="l" pos="7583400"/>
                  <a:tab algn="l" pos="8029440"/>
                  <a:tab algn="l" pos="8475840"/>
                  <a:tab algn="l" pos="8921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6370560"/>
            <a:ext cx="3768840" cy="1219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84360" indent="-250920">
              <a:spcBef>
                <a:spcPts val="437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460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25892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5112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511280" indent="-250920">
              <a:spcBef>
                <a:spcPts val="437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511280" indent="-250920">
              <a:spcBef>
                <a:spcPts val="437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16720" y="7062840"/>
            <a:ext cx="21160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828680" y="7062840"/>
            <a:ext cx="2590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9532800" y="7062840"/>
            <a:ext cx="4032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fld id="{5A73E49A-F2E2-4BD7-8D7A-42C3184A91F5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5141880"/>
            <a:ext cx="1008864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-50040" bIns="-500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4680" y="5459400"/>
            <a:ext cx="10085400" cy="2108160"/>
            <a:chOff x="-4680" y="5459400"/>
            <a:chExt cx="10085400" cy="2108160"/>
          </a:xfrm>
        </p:grpSpPr>
        <p:sp>
          <p:nvSpPr>
            <p:cNvPr id="49" name="Полилиния 15"/>
            <p:cNvSpPr/>
            <p:nvPr/>
          </p:nvSpPr>
          <p:spPr>
            <a:xfrm>
              <a:off x="1865160" y="5459400"/>
              <a:ext cx="8207280" cy="5371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6040"/>
                  <a:tab algn="l" pos="892080"/>
                  <a:tab algn="l" pos="1338120"/>
                  <a:tab algn="l" pos="1784520"/>
                  <a:tab algn="l" pos="2230560"/>
                  <a:tab algn="l" pos="2676600"/>
                  <a:tab algn="l" pos="3122640"/>
                  <a:tab algn="l" pos="3568680"/>
                  <a:tab algn="l" pos="4014720"/>
                  <a:tab algn="l" pos="4460760"/>
                  <a:tab algn="l" pos="4906800"/>
                  <a:tab algn="l" pos="5353200"/>
                  <a:tab algn="l" pos="5799240"/>
                  <a:tab algn="l" pos="6245280"/>
                  <a:tab algn="l" pos="6691320"/>
                  <a:tab algn="l" pos="7137360"/>
                  <a:tab algn="l" pos="7583400"/>
                  <a:tab algn="l" pos="8029440"/>
                  <a:tab algn="l" pos="8475840"/>
                  <a:tab algn="l" pos="8921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772960"/>
              <a:ext cx="10027080" cy="868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6040"/>
                  <a:tab algn="l" pos="892080"/>
                  <a:tab algn="l" pos="1338120"/>
                  <a:tab algn="l" pos="1784520"/>
                  <a:tab algn="l" pos="2230560"/>
                  <a:tab algn="l" pos="2676600"/>
                  <a:tab algn="l" pos="3122640"/>
                  <a:tab algn="l" pos="3568680"/>
                  <a:tab algn="l" pos="4014720"/>
                  <a:tab algn="l" pos="4460760"/>
                  <a:tab algn="l" pos="4906800"/>
                  <a:tab algn="l" pos="5353200"/>
                  <a:tab algn="l" pos="5799240"/>
                  <a:tab algn="l" pos="6245280"/>
                  <a:tab algn="l" pos="6691320"/>
                  <a:tab algn="l" pos="7137360"/>
                  <a:tab algn="l" pos="7583400"/>
                  <a:tab algn="l" pos="8029440"/>
                  <a:tab algn="l" pos="8475840"/>
                  <a:tab algn="l" pos="8921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1080" y="5504400"/>
              <a:ext cx="10079640" cy="2063160"/>
              <a:chOff x="1080" y="5504400"/>
              <a:chExt cx="10079640" cy="206316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1080" y="5504400"/>
                <a:ext cx="10079640" cy="206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6480" y="55119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6040"/>
                    <a:tab algn="l" pos="892080"/>
                    <a:tab algn="l" pos="1338120"/>
                    <a:tab algn="l" pos="1784520"/>
                    <a:tab algn="l" pos="2230560"/>
                    <a:tab algn="l" pos="2676600"/>
                    <a:tab algn="l" pos="3122640"/>
                    <a:tab algn="l" pos="3568680"/>
                    <a:tab algn="l" pos="4014720"/>
                    <a:tab algn="l" pos="4460760"/>
                    <a:tab algn="l" pos="4906800"/>
                    <a:tab algn="l" pos="5353200"/>
                    <a:tab algn="l" pos="5799240"/>
                    <a:tab algn="l" pos="6245280"/>
                    <a:tab algn="l" pos="6691320"/>
                    <a:tab algn="l" pos="7137360"/>
                    <a:tab algn="l" pos="7583400"/>
                    <a:tab algn="l" pos="8029440"/>
                    <a:tab algn="l" pos="8475840"/>
                    <a:tab algn="l" pos="892188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4680" y="5498280"/>
              <a:ext cx="10085400" cy="89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84360" indent="-250920">
              <a:spcBef>
                <a:spcPts val="437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460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25892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5112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511280" indent="-250920">
              <a:spcBef>
                <a:spcPts val="437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511280" indent="-250920">
              <a:spcBef>
                <a:spcPts val="437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7416720" y="7062840"/>
            <a:ext cx="21160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828680" y="7062840"/>
            <a:ext cx="2590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9532800" y="7062840"/>
            <a:ext cx="4032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fld id="{47BAC95D-BA99-4C23-B11F-B563840369EE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90560" y="5513400"/>
            <a:ext cx="4191120" cy="159084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8680" y="6377040"/>
            <a:ext cx="4191120" cy="923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6377040"/>
            <a:ext cx="3762360" cy="1206360"/>
            <a:chOff x="-12600" y="6377040"/>
            <a:chExt cx="3762360" cy="120636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6377040"/>
              <a:ext cx="376236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06360" y="7078680"/>
              <a:ext cx="1874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6040"/>
                  <a:tab algn="l" pos="892080"/>
                  <a:tab algn="l" pos="1338120"/>
                  <a:tab algn="l" pos="1784520"/>
                  <a:tab algn="l" pos="2230560"/>
                  <a:tab algn="l" pos="2676600"/>
                  <a:tab algn="l" pos="3122640"/>
                  <a:tab algn="l" pos="3568680"/>
                  <a:tab algn="l" pos="4014720"/>
                  <a:tab algn="l" pos="4460760"/>
                  <a:tab algn="l" pos="4906800"/>
                  <a:tab algn="l" pos="5353200"/>
                  <a:tab algn="l" pos="5799240"/>
                  <a:tab algn="l" pos="6245280"/>
                  <a:tab algn="l" pos="6691320"/>
                  <a:tab algn="l" pos="7137360"/>
                  <a:tab algn="l" pos="7583400"/>
                  <a:tab algn="l" pos="8029440"/>
                  <a:tab algn="l" pos="8475840"/>
                  <a:tab algn="l" pos="8921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6370560"/>
            <a:ext cx="3768840" cy="12193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4008600" y="3313080"/>
            <a:ext cx="201600" cy="252360"/>
          </a:xfrm>
          <a:custGeom>
            <a:avLst/>
            <a:gdLst>
              <a:gd name="textAreaLeft" fmla="*/ 0 w 201600"/>
              <a:gd name="textAreaRight" fmla="*/ 201960 w 20160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803760" y="3313080"/>
            <a:ext cx="201600" cy="252360"/>
          </a:xfrm>
          <a:custGeom>
            <a:avLst/>
            <a:gdLst>
              <a:gd name="textAreaLeft" fmla="*/ 0 w 201600"/>
              <a:gd name="textAreaRight" fmla="*/ 201960 w 20160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5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84360" indent="-250920">
              <a:spcBef>
                <a:spcPts val="437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9460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25892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5112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511280" indent="-250920">
              <a:spcBef>
                <a:spcPts val="437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511280" indent="-250920">
              <a:spcBef>
                <a:spcPts val="437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7416720" y="7062840"/>
            <a:ext cx="21160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828680" y="7062840"/>
            <a:ext cx="2590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9532800" y="7062840"/>
            <a:ext cx="4032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fld id="{44B5A69F-8F41-4BD9-82BE-9D38F17492A0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90560" y="5513400"/>
            <a:ext cx="4191120" cy="159084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8680" y="6377040"/>
            <a:ext cx="4191120" cy="923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6377040"/>
            <a:ext cx="3762360" cy="1206360"/>
            <a:chOff x="-12600" y="6377040"/>
            <a:chExt cx="3762360" cy="120636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6377040"/>
              <a:ext cx="376236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306360" y="7078680"/>
              <a:ext cx="1874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6040"/>
                  <a:tab algn="l" pos="892080"/>
                  <a:tab algn="l" pos="1338120"/>
                  <a:tab algn="l" pos="1784520"/>
                  <a:tab algn="l" pos="2230560"/>
                  <a:tab algn="l" pos="2676600"/>
                  <a:tab algn="l" pos="3122640"/>
                  <a:tab algn="l" pos="3568680"/>
                  <a:tab algn="l" pos="4014720"/>
                  <a:tab algn="l" pos="4460760"/>
                  <a:tab algn="l" pos="4906800"/>
                  <a:tab algn="l" pos="5353200"/>
                  <a:tab algn="l" pos="5799240"/>
                  <a:tab algn="l" pos="6245280"/>
                  <a:tab algn="l" pos="6691320"/>
                  <a:tab algn="l" pos="7137360"/>
                  <a:tab algn="l" pos="7583400"/>
                  <a:tab algn="l" pos="8029440"/>
                  <a:tab algn="l" pos="8475840"/>
                  <a:tab algn="l" pos="8921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6370560"/>
            <a:ext cx="3768840" cy="1219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5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84360" indent="-250920">
              <a:spcBef>
                <a:spcPts val="437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9460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25892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5112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511280" indent="-250920">
              <a:spcBef>
                <a:spcPts val="437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511280" indent="-250920">
              <a:spcBef>
                <a:spcPts val="437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16720" y="7062840"/>
            <a:ext cx="21160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828680" y="7062840"/>
            <a:ext cx="2590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9532800" y="7062840"/>
            <a:ext cx="4032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fld id="{04653173-A98D-493D-B842-FCBEC997C89E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84360" indent="-250920">
              <a:spcBef>
                <a:spcPts val="437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460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25892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5112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511280" indent="-250920">
              <a:spcBef>
                <a:spcPts val="437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511280" indent="-250920">
              <a:spcBef>
                <a:spcPts val="437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7416720" y="7062840"/>
            <a:ext cx="21160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828680" y="7062840"/>
            <a:ext cx="2590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9532800" y="7062840"/>
            <a:ext cx="4032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fld id="{9697634B-FABD-4C81-A38C-B40B27C15E64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90560" y="5513400"/>
            <a:ext cx="4191120" cy="159084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8680" y="6377040"/>
            <a:ext cx="4191120" cy="923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6377040"/>
            <a:ext cx="3762360" cy="1206360"/>
            <a:chOff x="-12600" y="6377040"/>
            <a:chExt cx="3762360" cy="120636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6377040"/>
              <a:ext cx="376236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306360" y="7078680"/>
              <a:ext cx="1874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6040"/>
                  <a:tab algn="l" pos="892080"/>
                  <a:tab algn="l" pos="1338120"/>
                  <a:tab algn="l" pos="1784520"/>
                  <a:tab algn="l" pos="2230560"/>
                  <a:tab algn="l" pos="2676600"/>
                  <a:tab algn="l" pos="3122640"/>
                  <a:tab algn="l" pos="3568680"/>
                  <a:tab algn="l" pos="4014720"/>
                  <a:tab algn="l" pos="4460760"/>
                  <a:tab algn="l" pos="4906800"/>
                  <a:tab algn="l" pos="5353200"/>
                  <a:tab algn="l" pos="5799240"/>
                  <a:tab algn="l" pos="6245280"/>
                  <a:tab algn="l" pos="6691320"/>
                  <a:tab algn="l" pos="7137360"/>
                  <a:tab algn="l" pos="7583400"/>
                  <a:tab algn="l" pos="8029440"/>
                  <a:tab algn="l" pos="8475840"/>
                  <a:tab algn="l" pos="8921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6370560"/>
            <a:ext cx="3768840" cy="1219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5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84360" indent="-250920">
              <a:spcBef>
                <a:spcPts val="437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9460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25892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5112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511280" indent="-250920">
              <a:spcBef>
                <a:spcPts val="437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511280" indent="-250920">
              <a:spcBef>
                <a:spcPts val="437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7416720" y="7062840"/>
            <a:ext cx="21160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828680" y="7062840"/>
            <a:ext cx="2590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9532800" y="7062840"/>
            <a:ext cx="4032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fld id="{1F3DF81A-6BC3-448B-B06E-6B3A8193C938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84360" indent="-250920">
              <a:spcBef>
                <a:spcPts val="437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460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25892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5112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511280" indent="-250920">
              <a:spcBef>
                <a:spcPts val="437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511280" indent="-250920">
              <a:spcBef>
                <a:spcPts val="437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7416720" y="7062840"/>
            <a:ext cx="21160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828680" y="7062840"/>
            <a:ext cx="2590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9532800" y="7062840"/>
            <a:ext cx="4032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fld id="{E181C072-CB2D-4FE5-89A8-D97D9D21E786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90560" y="5513400"/>
            <a:ext cx="4191120" cy="159084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8680" y="6377040"/>
            <a:ext cx="4191120" cy="923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12600" y="6377040"/>
            <a:ext cx="3762360" cy="1206360"/>
            <a:chOff x="-12600" y="6377040"/>
            <a:chExt cx="3762360" cy="120636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12600" y="6377040"/>
              <a:ext cx="376236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306360" y="7078680"/>
              <a:ext cx="1874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6040"/>
                  <a:tab algn="l" pos="892080"/>
                  <a:tab algn="l" pos="1338120"/>
                  <a:tab algn="l" pos="1784520"/>
                  <a:tab algn="l" pos="2230560"/>
                  <a:tab algn="l" pos="2676600"/>
                  <a:tab algn="l" pos="3122640"/>
                  <a:tab algn="l" pos="3568680"/>
                  <a:tab algn="l" pos="4014720"/>
                  <a:tab algn="l" pos="4460760"/>
                  <a:tab algn="l" pos="4906800"/>
                  <a:tab algn="l" pos="5353200"/>
                  <a:tab algn="l" pos="5799240"/>
                  <a:tab algn="l" pos="6245280"/>
                  <a:tab algn="l" pos="6691320"/>
                  <a:tab algn="l" pos="7137360"/>
                  <a:tab algn="l" pos="7583400"/>
                  <a:tab algn="l" pos="8029440"/>
                  <a:tab algn="l" pos="8475840"/>
                  <a:tab algn="l" pos="8921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6370560"/>
            <a:ext cx="3768840" cy="12193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9551880" y="5499000"/>
            <a:ext cx="201600" cy="252360"/>
          </a:xfrm>
          <a:custGeom>
            <a:avLst/>
            <a:gdLst>
              <a:gd name="textAreaLeft" fmla="*/ 0 w 201600"/>
              <a:gd name="textAreaRight" fmla="*/ 201960 w 20160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9345600" y="5499000"/>
            <a:ext cx="201600" cy="252360"/>
          </a:xfrm>
          <a:custGeom>
            <a:avLst/>
            <a:gdLst>
              <a:gd name="textAreaLeft" fmla="*/ 0 w 201600"/>
              <a:gd name="textAreaRight" fmla="*/ 201960 w 20160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5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84360" indent="-250920">
              <a:spcBef>
                <a:spcPts val="437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9460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25892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5112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511280" indent="-250920">
              <a:spcBef>
                <a:spcPts val="437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511280" indent="-250920">
              <a:spcBef>
                <a:spcPts val="437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7416720" y="7062840"/>
            <a:ext cx="21160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828680" y="7062840"/>
            <a:ext cx="2590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9532800" y="7062840"/>
            <a:ext cx="4032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fld id="{619BE7A9-26AB-4DB7-8E9F-D0C508B1F5E5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1"/>
          <p:cNvSpPr/>
          <p:nvPr/>
        </p:nvSpPr>
        <p:spPr>
          <a:xfrm>
            <a:off x="968400" y="636480"/>
            <a:ext cx="850104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2"/>
          <p:cNvSpPr/>
          <p:nvPr/>
        </p:nvSpPr>
        <p:spPr>
          <a:xfrm>
            <a:off x="468360" y="493560"/>
            <a:ext cx="9070920" cy="74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7280" indent="-284040" algn="ctr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287280"/>
                <a:tab algn="l" pos="392040"/>
                <a:tab algn="l" pos="841320"/>
                <a:tab algn="l" pos="1290600"/>
                <a:tab algn="l" pos="1739880"/>
                <a:tab algn="l" pos="2189160"/>
                <a:tab algn="l" pos="2638440"/>
                <a:tab algn="l" pos="3087720"/>
                <a:tab algn="l" pos="3537000"/>
                <a:tab algn="l" pos="3984480"/>
                <a:tab algn="l" pos="4433760"/>
                <a:tab algn="l" pos="488304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4760"/>
                <a:tab algn="l" pos="8474040"/>
                <a:tab algn="l" pos="892332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7280" indent="-284040" algn="ctr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287280"/>
                <a:tab algn="l" pos="392040"/>
                <a:tab algn="l" pos="841320"/>
                <a:tab algn="l" pos="1290600"/>
                <a:tab algn="l" pos="1739880"/>
                <a:tab algn="l" pos="2189160"/>
                <a:tab algn="l" pos="2638440"/>
                <a:tab algn="l" pos="3087720"/>
                <a:tab algn="l" pos="3537000"/>
                <a:tab algn="l" pos="3984480"/>
                <a:tab algn="l" pos="4433760"/>
                <a:tab algn="l" pos="488304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4760"/>
                <a:tab algn="l" pos="8474040"/>
                <a:tab algn="l" pos="892332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7280" indent="-284040" algn="ctr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287280"/>
                <a:tab algn="l" pos="392040"/>
                <a:tab algn="l" pos="841320"/>
                <a:tab algn="l" pos="1290600"/>
                <a:tab algn="l" pos="1739880"/>
                <a:tab algn="l" pos="2189160"/>
                <a:tab algn="l" pos="2638440"/>
                <a:tab algn="l" pos="3087720"/>
                <a:tab algn="l" pos="3537000"/>
                <a:tab algn="l" pos="3984480"/>
                <a:tab algn="l" pos="4433760"/>
                <a:tab algn="l" pos="488304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4760"/>
                <a:tab algn="l" pos="8474040"/>
                <a:tab algn="l" pos="892332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7280" indent="-284040" algn="ctr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287280"/>
                <a:tab algn="l" pos="392040"/>
                <a:tab algn="l" pos="841320"/>
                <a:tab algn="l" pos="1290600"/>
                <a:tab algn="l" pos="1739880"/>
                <a:tab algn="l" pos="2189160"/>
                <a:tab algn="l" pos="2638440"/>
                <a:tab algn="l" pos="3087720"/>
                <a:tab algn="l" pos="3537000"/>
                <a:tab algn="l" pos="3984480"/>
                <a:tab algn="l" pos="4433760"/>
                <a:tab algn="l" pos="488304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4760"/>
                <a:tab algn="l" pos="8474040"/>
                <a:tab algn="l" pos="892332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7280" indent="-284040" algn="ctr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287280"/>
                <a:tab algn="l" pos="392040"/>
                <a:tab algn="l" pos="841320"/>
                <a:tab algn="l" pos="1290600"/>
                <a:tab algn="l" pos="1739880"/>
                <a:tab algn="l" pos="2189160"/>
                <a:tab algn="l" pos="2638440"/>
                <a:tab algn="l" pos="3087720"/>
                <a:tab algn="l" pos="3537000"/>
                <a:tab algn="l" pos="3984480"/>
                <a:tab algn="l" pos="4433760"/>
                <a:tab algn="l" pos="488304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4760"/>
                <a:tab algn="l" pos="8474040"/>
                <a:tab algn="l" pos="892332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7280" indent="-284040" algn="ctr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287280"/>
                <a:tab algn="l" pos="392040"/>
                <a:tab algn="l" pos="841320"/>
                <a:tab algn="l" pos="1290600"/>
                <a:tab algn="l" pos="1739880"/>
                <a:tab algn="l" pos="2189160"/>
                <a:tab algn="l" pos="2638440"/>
                <a:tab algn="l" pos="3087720"/>
                <a:tab algn="l" pos="3537000"/>
                <a:tab algn="l" pos="3984480"/>
                <a:tab algn="l" pos="4433760"/>
                <a:tab algn="l" pos="488304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4760"/>
                <a:tab algn="l" pos="8474040"/>
                <a:tab algn="l" pos="892332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Cинони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7280" indent="-284040" algn="ctr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287280"/>
                <a:tab algn="l" pos="392040"/>
                <a:tab algn="l" pos="841320"/>
                <a:tab algn="l" pos="1290600"/>
                <a:tab algn="l" pos="1739880"/>
                <a:tab algn="l" pos="2189160"/>
                <a:tab algn="l" pos="2638440"/>
                <a:tab algn="l" pos="3087720"/>
                <a:tab algn="l" pos="3537000"/>
                <a:tab algn="l" pos="3984480"/>
                <a:tab algn="l" pos="4433760"/>
                <a:tab algn="l" pos="488304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4760"/>
                <a:tab algn="l" pos="8474040"/>
                <a:tab algn="l" pos="892332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Урок русского языка в 6 класс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7280" indent="-28404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87280"/>
                <a:tab algn="l" pos="392040"/>
                <a:tab algn="l" pos="841320"/>
                <a:tab algn="l" pos="1290600"/>
                <a:tab algn="l" pos="1739880"/>
                <a:tab algn="l" pos="2189160"/>
                <a:tab algn="l" pos="2638440"/>
                <a:tab algn="l" pos="3087720"/>
                <a:tab algn="l" pos="3537000"/>
                <a:tab algn="l" pos="3984480"/>
                <a:tab algn="l" pos="4433760"/>
                <a:tab algn="l" pos="488304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4760"/>
                <a:tab algn="l" pos="8474040"/>
                <a:tab algn="l" pos="892332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7280" indent="-28404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87280"/>
                <a:tab algn="l" pos="392040"/>
                <a:tab algn="l" pos="841320"/>
                <a:tab algn="l" pos="1290600"/>
                <a:tab algn="l" pos="1739880"/>
                <a:tab algn="l" pos="2189160"/>
                <a:tab algn="l" pos="2638440"/>
                <a:tab algn="l" pos="3087720"/>
                <a:tab algn="l" pos="3537000"/>
                <a:tab algn="l" pos="3984480"/>
                <a:tab algn="l" pos="4433760"/>
                <a:tab algn="l" pos="488304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4760"/>
                <a:tab algn="l" pos="8474040"/>
                <a:tab algn="l" pos="892332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7280" indent="-28404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87280"/>
                <a:tab algn="l" pos="392040"/>
                <a:tab algn="l" pos="841320"/>
                <a:tab algn="l" pos="1290600"/>
                <a:tab algn="l" pos="1739880"/>
                <a:tab algn="l" pos="2189160"/>
                <a:tab algn="l" pos="2638440"/>
                <a:tab algn="l" pos="3087720"/>
                <a:tab algn="l" pos="3537000"/>
                <a:tab algn="l" pos="3984480"/>
                <a:tab algn="l" pos="4433760"/>
                <a:tab algn="l" pos="488304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4760"/>
                <a:tab algn="l" pos="8474040"/>
                <a:tab algn="l" pos="892332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7280" indent="-28404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87280"/>
                <a:tab algn="l" pos="392040"/>
                <a:tab algn="l" pos="841320"/>
                <a:tab algn="l" pos="1290600"/>
                <a:tab algn="l" pos="1739880"/>
                <a:tab algn="l" pos="2189160"/>
                <a:tab algn="l" pos="2638440"/>
                <a:tab algn="l" pos="3087720"/>
                <a:tab algn="l" pos="3537000"/>
                <a:tab algn="l" pos="3984480"/>
                <a:tab algn="l" pos="4433760"/>
                <a:tab algn="l" pos="488304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4760"/>
                <a:tab algn="l" pos="8474040"/>
                <a:tab algn="l" pos="892332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2"/>
          <p:cNvSpPr/>
          <p:nvPr/>
        </p:nvSpPr>
        <p:spPr>
          <a:xfrm>
            <a:off x="868320" y="851040"/>
            <a:ext cx="8601120" cy="59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гнен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3"/>
          <p:cNvSpPr/>
          <p:nvPr/>
        </p:nvSpPr>
        <p:spPr>
          <a:xfrm>
            <a:off x="5478480" y="1768320"/>
            <a:ext cx="445752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11200" indent="-50976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511200"/>
                <a:tab algn="l" pos="615960"/>
                <a:tab algn="l" pos="1065240"/>
                <a:tab algn="l" pos="1514520"/>
                <a:tab algn="l" pos="1963800"/>
                <a:tab algn="l" pos="2413080"/>
                <a:tab algn="l" pos="2862360"/>
                <a:tab algn="l" pos="3311640"/>
                <a:tab algn="l" pos="3760920"/>
                <a:tab algn="l" pos="4208400"/>
                <a:tab algn="l" pos="4657680"/>
                <a:tab algn="l" pos="5105520"/>
                <a:tab algn="l" pos="5554800"/>
                <a:tab algn="l" pos="6004080"/>
                <a:tab algn="l" pos="6453360"/>
                <a:tab algn="l" pos="6902280"/>
                <a:tab algn="l" pos="7351560"/>
                <a:tab algn="l" pos="7799400"/>
                <a:tab algn="l" pos="8248680"/>
                <a:tab algn="l" pos="8697960"/>
                <a:tab algn="l" pos="914724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Прямоугольник 4"/>
          <p:cNvSpPr/>
          <p:nvPr/>
        </p:nvSpPr>
        <p:spPr>
          <a:xfrm>
            <a:off x="825480" y="1065240"/>
            <a:ext cx="8682120" cy="11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Picture 4" descr="огонь6"/>
          <p:cNvPicPr/>
          <p:nvPr/>
        </p:nvPicPr>
        <p:blipFill>
          <a:blip r:embed="rId1"/>
          <a:stretch/>
        </p:blipFill>
        <p:spPr>
          <a:xfrm>
            <a:off x="620640" y="1268280"/>
            <a:ext cx="8207280" cy="44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539640" y="708120"/>
            <a:ext cx="9072720" cy="64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нев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Picture 4" descr="виш"/>
          <p:cNvPicPr/>
          <p:nvPr/>
        </p:nvPicPr>
        <p:blipFill>
          <a:blip r:embed="rId1"/>
          <a:stretch/>
        </p:blipFill>
        <p:spPr>
          <a:xfrm>
            <a:off x="684360" y="404640"/>
            <a:ext cx="7056360" cy="466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790560" y="636480"/>
            <a:ext cx="8821800" cy="62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611280" y="422280"/>
            <a:ext cx="925344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44600"/>
                <a:tab algn="l" pos="89532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44600"/>
                <a:tab algn="l" pos="89532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44600"/>
                <a:tab algn="l" pos="89532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44600"/>
                <a:tab algn="l" pos="89532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44600"/>
                <a:tab algn="l" pos="89532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44600"/>
                <a:tab algn="l" pos="89532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44600"/>
                <a:tab algn="l" pos="89532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44600"/>
                <a:tab algn="l" pos="89532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44600"/>
                <a:tab algn="l" pos="89532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44600"/>
                <a:tab algn="l" pos="89532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44600"/>
                <a:tab algn="l" pos="89532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44600"/>
                <a:tab algn="l" pos="89532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44600"/>
                <a:tab algn="l" pos="89532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алинов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Прямоугольник 6"/>
          <p:cNvSpPr/>
          <p:nvPr/>
        </p:nvSpPr>
        <p:spPr>
          <a:xfrm>
            <a:off x="754200" y="779400"/>
            <a:ext cx="8429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Picture 7" descr="мал2"/>
          <p:cNvPicPr/>
          <p:nvPr/>
        </p:nvPicPr>
        <p:blipFill>
          <a:blip r:embed="rId1"/>
          <a:stretch/>
        </p:blipFill>
        <p:spPr>
          <a:xfrm>
            <a:off x="755640" y="404640"/>
            <a:ext cx="762012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539640" y="993600"/>
            <a:ext cx="8786880" cy="614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lnSpc>
                <a:spcPct val="80000"/>
              </a:lnSpc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lnSpc>
                <a:spcPct val="80000"/>
              </a:lnSpc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Синонимы</a:t>
            </a:r>
            <a:r>
              <a:rPr b="0" i="1" lang="ru-RU" sz="20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(греч. synonymos – одноименный) – это разные слова, выражающие одно и то же понятие, имеющие одинаковые или близкие лексические значения. Например, </a:t>
            </a: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вежливый, деликатный, корректный; сиять, блестеть, сверкать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 и т.д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На базе общего лексического значения синонимы объединяются в ряды. Слова, объединенные синонимическими отношениями, называются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синонимическим рядом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. Каждому синонимическому ряду присуще общее значение, в котором концентрируются оттенки единого смысла, заключенного в отдельных значениях всех членов данного ряда. Общее значение синонимического ряда обычно выражается одним из его членов, который является для данного ряда стержневым словом и называется 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доминантой 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(от лат. dominans – господствующий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lnSpc>
                <a:spcPct val="80000"/>
              </a:lnSpc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Прямоугольник 2"/>
          <p:cNvSpPr/>
          <p:nvPr/>
        </p:nvSpPr>
        <p:spPr>
          <a:xfrm>
            <a:off x="968400" y="565200"/>
            <a:ext cx="8110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1"/>
          <p:cNvSpPr/>
          <p:nvPr/>
        </p:nvSpPr>
        <p:spPr>
          <a:xfrm>
            <a:off x="468360" y="779400"/>
            <a:ext cx="9067680" cy="56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ть и слова с неблагоприятным значением. Самое, пожалуй, известное – число четыре. Его китайцы стараются по возможности избегать. Дело в том, что «четыре»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四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sì звучит почти как «смерть»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死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sǐ (о символике чисел смотрите подробнее здесь). Один мой знакомый, который в свое время занимался поставками наших самолетов в Поднебесную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936720" y="565200"/>
            <a:ext cx="896616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9570960" y="3494160"/>
            <a:ext cx="46080" cy="32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Прямоугольник 4"/>
          <p:cNvSpPr/>
          <p:nvPr/>
        </p:nvSpPr>
        <p:spPr>
          <a:xfrm>
            <a:off x="396720" y="708120"/>
            <a:ext cx="9001440" cy="62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оли доминанты синонимического ряда выступает наиболее употребительное и стилистически нейтральное слово. Например, синонимический ряд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еприятный, мерзкий, отталкивающий, отвратительный, гадкий, скверный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ет общее значение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ладающий отрицательными свойствам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"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общее значение выражается словом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прият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торое и служит доминантой. Как правило, стержневое слово синонимического ряда выступает в своем прямом (номинативном) значении и может заменять любое слово ряда, но не наоборот, так как любое слово ряда богаче доминанты: к основному значению присоединяются различные оттенки смысла, экспрессии, стилистической принадлежности и т.д. Например, синонимы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жадный, скупой, корыстолюбив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имеют общее значение, заключенное в слове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жад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о каждое из слов ряда имеет свой смысловой оттенок: – желающий захватить себе побольше;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куп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– мало или вовсе ничего не дающий;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рыстолюбив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– любящий выгоду, корысть и деньг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оставе данного ряда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жад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объединяются слова только одной части речи. Например,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ореть, пылать, бушевать, полыхать, пламенеть, тлеть; красный, алый, багряный, багровый; жара, зн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и т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936720" y="493560"/>
            <a:ext cx="8632800" cy="6500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Семантические, 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или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 идеографические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 (от лат. idea – понятие, grapho – пишу), - это синонимы, различающиеся оттенками значения: </a:t>
            </a: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безветрие, тишь, затишье; метель, буран, вьюга, пурга; медленный, небыстрый, неторопливый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 и т.д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Градационные 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(от лат. gradatio – постепенное усилие) – это синонимы, обозначающие разные степени качества: </a:t>
            </a: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большой – огромный – грандиозный; верх – вершина – венец – апогея – зенит; беспокойство – волнение – тревога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и др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Эмоционально–экспрессивные, 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или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 стилистические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, – это синонимы, обозначая одно и то же явление действительности, имеют разную сферу употребления или различную стилистическую окраску, например: </a:t>
            </a: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губы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 (нейтр.) –</a:t>
            </a: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уста 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(поэтич., устар.); </a:t>
            </a: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умереть 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(нейтр.) – </a:t>
            </a: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скончаться 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(кн., высок.) – </a:t>
            </a: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окочуриться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(разг., прост.); </a:t>
            </a: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есть 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(нейтр.) – </a:t>
            </a: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кушать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 (разг.) – </a:t>
            </a: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вкушать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 (кн., устар.) – </a:t>
            </a: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жрать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 (груб., простореч.) и т.д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 algn="just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 algn="just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 algn="just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 algn="just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 algn="just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 algn="just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 algn="just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 algn="just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 algn="just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 algn="just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1"/>
          <p:cNvSpPr/>
          <p:nvPr/>
        </p:nvSpPr>
        <p:spPr>
          <a:xfrm>
            <a:off x="503280" y="301680"/>
            <a:ext cx="906768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15"/>
          <p:cNvSpPr/>
          <p:nvPr/>
        </p:nvSpPr>
        <p:spPr>
          <a:xfrm>
            <a:off x="5113440" y="1768320"/>
            <a:ext cx="445752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Прямоугольник 5"/>
          <p:cNvSpPr/>
          <p:nvPr/>
        </p:nvSpPr>
        <p:spPr>
          <a:xfrm>
            <a:off x="754200" y="636480"/>
            <a:ext cx="8501040" cy="72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бсолютные,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убле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(франц. doublet из double – двойной), - это синонимы, имеющие одинаковые лексические значения и не отличающиеся друг от друга ни экспрессивной окрашенностью, ни стилистической закрепленностью; это абсолютно равнозначные слова. Как правило, они однозначны и возникают в языке случайно: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языкознание – языковедение – лингвистика; довод – аргумент; гостиница – отель, возмещать – компенсирова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и т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ме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еязыковых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остоянных, сложившихся), или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зуальн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инонимов, представленных в словарях, например: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ечальный, невеселый, нерадостный, грустный, скорбный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существуют также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текстуальные,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казиональные,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онимы – слова, которые сближаются по значению только в данном контексте и обусловлены особенностями языка и стиля автора. Так, прилагательные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аж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и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ерьезный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являются синонимами. Однако у А.П.Чехова эти прилагательные становятся контекстуальными синонимам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1"/>
          <p:cNvSpPr/>
          <p:nvPr/>
        </p:nvSpPr>
        <p:spPr>
          <a:xfrm>
            <a:off x="504720" y="1994040"/>
            <a:ext cx="907272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тарику хотелось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ажных, серьезных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 мыслей, хотелось ему не просто думать, а размышля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ще пример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колько раз пытался я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скори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ремя, что несло меня впер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дхлестнуть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вспугнуть его,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шпорить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Чтобы слышать, как оно идет.   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(С.Марша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онимы тесно связаны с явлением многозначности. Каждое значение многозначного слова имеет свой синонимический ряд: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ихий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 голос – глухой, слабый, едва слышный;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иха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 езда – медленная, небыстрая, черепашьим шагом, еле-еле;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ихий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человек – скромный, смирный, кроткий;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ихий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 сон – безмятежный, спокой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онимы наделены определенными функциями в речи. Они делают речь красочнее, разнообразнее, помогают избегать повторения одних и тех же слов, позволяют образно выразить мысл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Times New Roman"/>
              </a:rPr>
              <a:t>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504720" y="1692360"/>
            <a:ext cx="44532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6"/>
          <p:cNvSpPr/>
          <p:nvPr/>
        </p:nvSpPr>
        <p:spPr>
          <a:xfrm>
            <a:off x="5897520" y="4637160"/>
            <a:ext cx="44560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7"/>
          <p:cNvSpPr/>
          <p:nvPr/>
        </p:nvSpPr>
        <p:spPr>
          <a:xfrm>
            <a:off x="539640" y="1547640"/>
            <a:ext cx="9541080" cy="49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12640" indent="-5126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1"/>
          <p:cNvSpPr/>
          <p:nvPr/>
        </p:nvSpPr>
        <p:spPr>
          <a:xfrm>
            <a:off x="0" y="810360"/>
            <a:ext cx="10080720" cy="57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синонимы, синонимический рад и доминанта синонимического ряд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кие типы делятся синоним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ем заключается стилистическая функция синонимов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йди синони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тест выявляет ваше чувство слова. В каждом ряду шесть слов: два из них более тесно связаны между собой, чем остальные, означают практически одно и то же. Найди эти два слова. Подчеркни и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гулять, бегать, ехать, летать, сидеть, прогуливать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гулять и прогуливаться - синони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йди синони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коре, почти, едва, частично, часто, отдель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екаться, забывать, ненавидеть, оставлять, владеть, презира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счеловечный, жестокий, мужественный, осторожный, жалостливый, добродетельны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ной, необычный, странный, усталый, напыщенный, забавны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уховный, отвратительный, благообразный, стройный, ужасный, безвкусны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призный, посредственный, отталкивающий, нелепый, абсурдный, значительны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ий, смешанный, много, главный, сплошной, полны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ровительствующий, наблюдающий, приводящий, сопровождающий, аккомпанирующий, вступающ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503280" y="279360"/>
            <a:ext cx="9074160" cy="619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ступающий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Сражаться, осуществлять, сопротивляться, существовать, воздействовать, применять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репона, допущение, мотив, препятствие, скорбь, эффект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Дельный, дерзкий, абсурдный, уместный, нетерпеливый, навязчивый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олдень, село, сумерки, день, степь, потемки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Ссориться, ассистировать, демонстрировать, скандалить, разрушать, отдавать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ересекающийся, непристойный, непостоянный, меняющийся, значимый, аргументированный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Расщепить, трещина, менеджер, устоять, сомнительный, разрушить</a:t>
            </a:r>
            <a:r>
              <a:rPr b="0" lang="ru-RU" sz="4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1"/>
          <p:cNvSpPr/>
          <p:nvPr/>
        </p:nvSpPr>
        <p:spPr>
          <a:xfrm>
            <a:off x="325440" y="1065240"/>
            <a:ext cx="952992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Тема: Синони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Цел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Знать: енками значений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Тема: Синони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Цел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Знать: определение синонимов; о различении синонимов оттенками значений, эмоциональной окраской и стилевой неоднородностью; о роли синонимов в речи; о синонимических рядах; выборе из них слов в соответствии со стилем высказыва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Уметь: подбирать синонимы к данному слову; использовать синонимы в речи в соответствии с их стилистическими особенностями; употреблять синонимы в речи с целью её обогащ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й неоднородностью; о роли синонимов в речи; о синонимических рядах; выборе из них слов в соответствии со стилем высказыва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Уметь: подбирать синонимы к данному слову; использовать синонимы в речи в соответствии с их стилистическими особенностями; употреблять синонимы в речи с целью её обогащ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1"/>
          <p:cNvSpPr/>
          <p:nvPr/>
        </p:nvSpPr>
        <p:spPr>
          <a:xfrm>
            <a:off x="468360" y="1636560"/>
            <a:ext cx="928692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иноним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Син – «одно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инонимика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               оним – «имя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2"/>
          <p:cNvSpPr/>
          <p:nvPr/>
        </p:nvSpPr>
        <p:spPr>
          <a:xfrm>
            <a:off x="3254400" y="993600"/>
            <a:ext cx="442584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1"/>
          <p:cNvSpPr/>
          <p:nvPr/>
        </p:nvSpPr>
        <p:spPr>
          <a:xfrm>
            <a:off x="539640" y="565200"/>
            <a:ext cx="9144000" cy="65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ение согласных :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костный –кос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646200" y="1959120"/>
            <a:ext cx="442584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6183360" y="1565280"/>
            <a:ext cx="442584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Прямоугольник 6"/>
          <p:cNvSpPr/>
          <p:nvPr/>
        </p:nvSpPr>
        <p:spPr>
          <a:xfrm>
            <a:off x="4516920" y="3605040"/>
            <a:ext cx="1046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Крас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Picture 4" descr="мак3"/>
          <p:cNvPicPr/>
          <p:nvPr/>
        </p:nvPicPr>
        <p:blipFill>
          <a:blip r:embed="rId1"/>
          <a:stretch/>
        </p:blipFill>
        <p:spPr>
          <a:xfrm>
            <a:off x="968400" y="636480"/>
            <a:ext cx="6978600" cy="4680000"/>
          </a:xfrm>
          <a:prstGeom prst="rect">
            <a:avLst/>
          </a:prstGeom>
          <a:ln w="0">
            <a:noFill/>
          </a:ln>
        </p:spPr>
      </p:pic>
      <p:sp>
        <p:nvSpPr>
          <p:cNvPr id="380" name="Прямоугольник 9"/>
          <p:cNvSpPr/>
          <p:nvPr/>
        </p:nvSpPr>
        <p:spPr>
          <a:xfrm>
            <a:off x="2968560" y="5703840"/>
            <a:ext cx="42148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Крас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1"/>
          <p:cNvSpPr/>
          <p:nvPr/>
        </p:nvSpPr>
        <p:spPr>
          <a:xfrm>
            <a:off x="504720" y="4280040"/>
            <a:ext cx="90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не как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что иное)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504720" y="1692360"/>
            <a:ext cx="44532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3"/>
          <p:cNvSpPr/>
          <p:nvPr/>
        </p:nvSpPr>
        <p:spPr>
          <a:xfrm>
            <a:off x="611280" y="4959360"/>
            <a:ext cx="445284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агров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5121360" y="1692360"/>
            <a:ext cx="445608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Picture 6" descr="вечер2"/>
          <p:cNvPicPr/>
          <p:nvPr/>
        </p:nvPicPr>
        <p:blipFill>
          <a:blip r:embed="rId1"/>
          <a:stretch/>
        </p:blipFill>
        <p:spPr>
          <a:xfrm>
            <a:off x="468360" y="549360"/>
            <a:ext cx="8136000" cy="4410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96720" y="493560"/>
            <a:ext cx="9133200" cy="706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)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    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озможно, одна из причин появления омофонов то, что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гряный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Picture 6" descr="вечер2"/>
          <p:cNvPicPr/>
          <p:nvPr/>
        </p:nvPicPr>
        <p:blipFill>
          <a:blip r:embed="rId1"/>
          <a:stretch/>
        </p:blipFill>
        <p:spPr>
          <a:xfrm>
            <a:off x="468360" y="549360"/>
            <a:ext cx="813600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1"/>
          <p:cNvSpPr/>
          <p:nvPr/>
        </p:nvSpPr>
        <p:spPr>
          <a:xfrm>
            <a:off x="504720" y="301680"/>
            <a:ext cx="33163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968400" y="357120"/>
            <a:ext cx="8715240" cy="7280280"/>
          </a:xfrm>
          <a:prstGeom prst="rect">
            <a:avLst/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л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4968720" y="3494160"/>
            <a:ext cx="4786560" cy="33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3456000" y="3646440"/>
            <a:ext cx="4786200" cy="33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2" name="Picture 4" descr="пур3"/>
          <p:cNvPicPr/>
          <p:nvPr/>
        </p:nvPicPr>
        <p:blipFill>
          <a:blip r:embed="rId1"/>
          <a:stretch/>
        </p:blipFill>
        <p:spPr>
          <a:xfrm>
            <a:off x="1325520" y="636480"/>
            <a:ext cx="6929640" cy="43052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1"/>
          <p:cNvSpPr/>
          <p:nvPr/>
        </p:nvSpPr>
        <p:spPr>
          <a:xfrm>
            <a:off x="754200" y="136440"/>
            <a:ext cx="87120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2"/>
          <p:cNvSpPr/>
          <p:nvPr/>
        </p:nvSpPr>
        <p:spPr>
          <a:xfrm>
            <a:off x="504720" y="1692360"/>
            <a:ext cx="44532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5121360" y="1692360"/>
            <a:ext cx="445608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2039760" y="779400"/>
            <a:ext cx="445644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нцов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Прямоугольник 6"/>
          <p:cNvSpPr/>
          <p:nvPr/>
        </p:nvSpPr>
        <p:spPr>
          <a:xfrm>
            <a:off x="396720" y="351000"/>
            <a:ext cx="7162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Picture 4" descr="пур2"/>
          <p:cNvPicPr/>
          <p:nvPr/>
        </p:nvPicPr>
        <p:blipFill>
          <a:blip r:embed="rId1"/>
          <a:stretch/>
        </p:blipFill>
        <p:spPr>
          <a:xfrm>
            <a:off x="725400" y="549360"/>
            <a:ext cx="7620120" cy="45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1"/>
          <p:cNvSpPr/>
          <p:nvPr/>
        </p:nvSpPr>
        <p:spPr>
          <a:xfrm>
            <a:off x="503280" y="301680"/>
            <a:ext cx="906768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рубинов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21"/>
          <p:cNvSpPr/>
          <p:nvPr/>
        </p:nvSpPr>
        <p:spPr>
          <a:xfrm>
            <a:off x="5113440" y="1768320"/>
            <a:ext cx="445752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Picture 4" descr="рубин3"/>
          <p:cNvPicPr/>
          <p:nvPr/>
        </p:nvPicPr>
        <p:blipFill>
          <a:blip r:embed="rId1"/>
          <a:stretch/>
        </p:blipFill>
        <p:spPr>
          <a:xfrm>
            <a:off x="1141560" y="861840"/>
            <a:ext cx="4319280" cy="2630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08:51:30Z</dcterms:created>
  <dc:creator>Сазонов</dc:creator>
  <dc:description/>
  <cp:keywords>мотивация</cp:keywords>
  <dc:language>en-US</dc:language>
  <cp:lastModifiedBy>Mamed</cp:lastModifiedBy>
  <dcterms:modified xsi:type="dcterms:W3CDTF">2014-03-31T16:05:20Z</dcterms:modified>
  <cp:revision>138</cp:revision>
  <dc:subject>Мотивация учащихся</dc:subject>
  <dc:title>Родительское собрание на тему «Мотивация учебной деятельности учащихся и создание условий для ее реализации»</dc:title>
</cp:coreProperties>
</file>