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8.gif" ContentType="image/gif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30A4F-1B1F-4621-91E4-0CFDC2938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03280" y="1633320"/>
            <a:ext cx="90741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3280" y="4238640"/>
            <a:ext cx="90741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2A8D0-66D2-43BD-8D0B-3F510CBF8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3280" y="163332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53040" y="163332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03280" y="423864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53040" y="423864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9B96B-6954-4825-A61A-B59359EBC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503280" y="1633320"/>
            <a:ext cx="29217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71560" y="1633320"/>
            <a:ext cx="29217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639840" y="1633320"/>
            <a:ext cx="29217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03280" y="4238640"/>
            <a:ext cx="29217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71560" y="4238640"/>
            <a:ext cx="29217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639840" y="4238640"/>
            <a:ext cx="29217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E061D-982A-4CAA-8B6C-FE8D3F1C4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58CB2-E95A-4BFE-8D37-A0480B156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503280" y="1633320"/>
            <a:ext cx="907416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20600"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5D566-BAFF-4E6F-8E21-B095B2995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03280" y="1633320"/>
            <a:ext cx="9074160" cy="498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0E8B1-A857-48FF-9033-11DC54614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3280" y="1633320"/>
            <a:ext cx="4428000" cy="498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53040" y="1633320"/>
            <a:ext cx="4428000" cy="498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2152C-80C1-4089-BDC2-39EB7381F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242B3-B4FF-451E-98C8-1A0A5735C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503280" y="302760"/>
            <a:ext cx="907416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20600" algn="ctr"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F0260-28F1-47A3-B577-F2E80F6C9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03280" y="163332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53040" y="1633320"/>
            <a:ext cx="4428000" cy="498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03280" y="423864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4941D-D74F-438F-BC1F-19DFFB9E5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503280" y="1633320"/>
            <a:ext cx="907416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20600"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19CC8-BE8B-4F8B-A476-4DA70D6F0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3280" y="1633320"/>
            <a:ext cx="4428000" cy="498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3040" y="163332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153040" y="423864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E44DF-F25D-449D-948C-E71DCA73E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3280" y="163332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3040" y="163332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03280" y="4238640"/>
            <a:ext cx="90741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E735B-1396-41E3-8AE1-93AEDD056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3280" y="1633320"/>
            <a:ext cx="90741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3280" y="4238640"/>
            <a:ext cx="90741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B8B0D-89D0-4986-9254-306983E50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03280" y="163332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153040" y="163332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03280" y="423864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5153040" y="423864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B3F6F-2A55-4E0A-BC42-251AB695C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03280" y="1633320"/>
            <a:ext cx="29217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71560" y="1633320"/>
            <a:ext cx="29217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639840" y="1633320"/>
            <a:ext cx="29217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3280" y="4238640"/>
            <a:ext cx="29217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71560" y="4238640"/>
            <a:ext cx="29217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639840" y="4238640"/>
            <a:ext cx="29217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82A37-A1B2-4570-9479-1ADF72B40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57FFCB-F0E0-4D8F-971F-79F7D39EA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503280" y="1633320"/>
            <a:ext cx="907416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20600"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C1895A-720C-4AB0-B6F7-7EF0F30DD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3280" y="1633320"/>
            <a:ext cx="9074160" cy="498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3BFA5A-0D5A-42F7-A325-68DF1DAC5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03280" y="1633320"/>
            <a:ext cx="4428000" cy="498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153040" y="1633320"/>
            <a:ext cx="4428000" cy="498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2AC016-0AAA-4BE0-BCAC-E05CFCAB2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365A9D-3886-45ED-8287-61B559B31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1633320"/>
            <a:ext cx="9074160" cy="498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D9650-29B9-40FD-A23A-9577E478A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503280" y="302760"/>
            <a:ext cx="907416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20600" algn="ctr"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F65571-FCFE-407C-9E29-7BE8E365B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3280" y="163332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153040" y="1633320"/>
            <a:ext cx="4428000" cy="498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03280" y="423864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383F45-5225-47B0-9E8D-13D87667E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03280" y="1633320"/>
            <a:ext cx="4428000" cy="498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53040" y="163332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153040" y="423864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FEA824-D09E-4E8E-BFBA-86BC5AEC9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03280" y="163332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153040" y="163332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03280" y="4238640"/>
            <a:ext cx="90741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FDA5E8-4BFD-45B1-9AB5-6584BA78C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03280" y="1633320"/>
            <a:ext cx="90741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03280" y="4238640"/>
            <a:ext cx="90741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7CE1DA-73C2-477C-9788-49C4792FF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3280" y="163332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153040" y="163332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503280" y="423864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5153040" y="423864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6EB855-8ED5-4999-A20E-6E4028055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3280" y="1633320"/>
            <a:ext cx="29217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571560" y="1633320"/>
            <a:ext cx="29217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639840" y="1633320"/>
            <a:ext cx="29217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503280" y="4238640"/>
            <a:ext cx="29217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571560" y="4238640"/>
            <a:ext cx="29217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639840" y="4238640"/>
            <a:ext cx="29217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323094-C58C-42B2-B8DC-A12DA830A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11CE63-AEC8-4382-A93C-A9C7A7B4E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503280" y="1633320"/>
            <a:ext cx="907416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20600"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C2FEAB-624E-463B-8365-439F425DF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1633320"/>
            <a:ext cx="9074160" cy="498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122EE3-960A-4DEE-8F9C-197E84916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03280" y="1633320"/>
            <a:ext cx="4428000" cy="498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53040" y="1633320"/>
            <a:ext cx="4428000" cy="498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5B93B-00AD-4CE9-8870-408F1BD66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3280" y="1633320"/>
            <a:ext cx="4428000" cy="498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5153040" y="1633320"/>
            <a:ext cx="4428000" cy="498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5C7361-07BE-4C72-8732-4BE0497C8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CDB574-4206-436E-9DE1-F24DE272B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503280" y="302760"/>
            <a:ext cx="907416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20600" algn="ctr"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52A32D-EB79-4885-B53F-BBC724AFE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163332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153040" y="1633320"/>
            <a:ext cx="4428000" cy="498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423864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3196F0-59E3-4082-BFB5-1BE9CA5CF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3280" y="1633320"/>
            <a:ext cx="4428000" cy="498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153040" y="163332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153040" y="423864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708C13-4D93-4B71-8F06-9378E628C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03280" y="163332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153040" y="163332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503280" y="4238640"/>
            <a:ext cx="90741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15D0BF-F422-46E5-9426-BE404BA3A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03280" y="1633320"/>
            <a:ext cx="90741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503280" y="4238640"/>
            <a:ext cx="90741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D3A014-C82C-4F31-8AFC-10A296B63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3280" y="163332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153040" y="163332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503280" y="423864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5153040" y="423864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715BCD-1465-4C75-B3AA-D0A262197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03280" y="1633320"/>
            <a:ext cx="29217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571560" y="1633320"/>
            <a:ext cx="29217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639840" y="1633320"/>
            <a:ext cx="29217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503280" y="4238640"/>
            <a:ext cx="29217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571560" y="4238640"/>
            <a:ext cx="29217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639840" y="4238640"/>
            <a:ext cx="29217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1B6913-B967-4856-B2A1-9B2ED6453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849FD6-34DC-4296-8EE7-2C760BB95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17B0C-B109-454D-9D0F-3E33377F4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3280" y="1633320"/>
            <a:ext cx="907416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20600"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A527E6-F7C5-4B52-AB85-EECF1D759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3280" y="1633320"/>
            <a:ext cx="9074160" cy="498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E7C18B-FC4E-4EFC-A5B0-0D7CCA296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1633320"/>
            <a:ext cx="4428000" cy="498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5153040" y="1633320"/>
            <a:ext cx="4428000" cy="498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6647E7-9B51-4A7B-9907-7BDC02C9F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E0A51F-5C9E-4AFC-8682-044C80F73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503280" y="302760"/>
            <a:ext cx="907416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20600" algn="ctr"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EA8585-5E6C-4FFC-9E7B-AF21BCC77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03280" y="163332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5153040" y="1633320"/>
            <a:ext cx="4428000" cy="498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03280" y="423864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CC863B-9853-409A-910F-87534B74A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503280" y="1633320"/>
            <a:ext cx="4428000" cy="498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5153040" y="163332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5153040" y="423864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767FD7-81A8-408B-83C3-AC8A4ED6A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03280" y="163332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5153040" y="163332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503280" y="4238640"/>
            <a:ext cx="90741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720F1E-B1A0-4F22-9829-7183E4587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03280" y="1633320"/>
            <a:ext cx="90741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503280" y="4238640"/>
            <a:ext cx="90741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06FF2D-82CB-4CFD-8196-D541CEAD8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03280" y="163332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5153040" y="163332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503280" y="423864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5153040" y="423864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990E73-8275-418C-83B3-78F7BFC14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503280" y="302760"/>
            <a:ext cx="907416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20600" algn="ctr"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25490-713A-4C84-AEFD-AF96F001F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3280" y="1633320"/>
            <a:ext cx="29217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571560" y="1633320"/>
            <a:ext cx="29217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639840" y="1633320"/>
            <a:ext cx="29217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503280" y="4238640"/>
            <a:ext cx="29217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571560" y="4238640"/>
            <a:ext cx="29217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639840" y="4238640"/>
            <a:ext cx="29217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2610BE-9510-4275-B0D4-ED3F383A3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ED42C9-DF04-4026-B985-ADD8DCD64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503280" y="1633320"/>
            <a:ext cx="907416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20600"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50EA59-BA60-414C-B4C0-F96D4061A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3280" y="1633320"/>
            <a:ext cx="9074160" cy="498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D1F5B5-3E6B-474F-BE04-69507A51F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503280" y="1633320"/>
            <a:ext cx="4428000" cy="498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153040" y="1633320"/>
            <a:ext cx="4428000" cy="498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D17CF8-8234-4D77-B1ED-3C89D0591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B61978-DE10-4D80-BDF5-B152836C9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503280" y="302760"/>
            <a:ext cx="907416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20600" algn="ctr"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FFEF18-3F70-479E-8B40-4EBC94D35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03280" y="163332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153040" y="1633320"/>
            <a:ext cx="4428000" cy="498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503280" y="423864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941B37-42C0-4B9C-8F7A-4D02239E9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503280" y="1633320"/>
            <a:ext cx="4428000" cy="498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5153040" y="163332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5153040" y="423864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D75C92-339C-456C-BD3F-8A3B277B3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503280" y="163332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5153040" y="163332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503280" y="4238640"/>
            <a:ext cx="90741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6A2F86-166A-4594-B9D2-51B11F1EC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03280" y="163332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53040" y="1633320"/>
            <a:ext cx="4428000" cy="498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3280" y="423864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6FFBD-90DF-406B-94AD-16FD9D235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503280" y="1633320"/>
            <a:ext cx="90741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503280" y="4238640"/>
            <a:ext cx="90741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B62781-B075-4BC2-A495-0271856AB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3280" y="163332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153040" y="163332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503280" y="423864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5153040" y="423864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262416-5919-4B00-A5D2-91FEFCFDC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503280" y="1633320"/>
            <a:ext cx="29217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571560" y="1633320"/>
            <a:ext cx="29217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639840" y="1633320"/>
            <a:ext cx="29217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503280" y="4238640"/>
            <a:ext cx="29217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571560" y="4238640"/>
            <a:ext cx="29217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639840" y="4238640"/>
            <a:ext cx="29217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0FC81C-CF94-414A-919A-46A159D12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55FB36-FF30-4317-8B77-FBACEEF64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503280" y="1633320"/>
            <a:ext cx="907416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20600"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B61CC3-9232-4608-9067-013D14349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3280" y="1633320"/>
            <a:ext cx="9074160" cy="498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9F6D64-7A53-4533-8ECA-CCE4F699F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503280" y="1633320"/>
            <a:ext cx="4428000" cy="498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5153040" y="1633320"/>
            <a:ext cx="4428000" cy="498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F0147C-CD55-48B3-8F39-42FEA5937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872892-4968-482A-838D-05762DCAF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503280" y="302760"/>
            <a:ext cx="907416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20600" algn="ctr"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DF6D9B-80C6-4C78-B6C0-9F22B342F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03280" y="163332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5153040" y="1633320"/>
            <a:ext cx="4428000" cy="498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503280" y="423864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7E898B-BBE9-40E1-A206-A08D75A30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03280" y="1633320"/>
            <a:ext cx="4428000" cy="498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53040" y="163332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53040" y="423864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9D391-D300-4436-8E96-1F97C3415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503280" y="1633320"/>
            <a:ext cx="4428000" cy="498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5153040" y="163332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5153040" y="423864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142C5C-6A1C-47FF-9779-DE07DD4A9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503280" y="163332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5153040" y="163332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503280" y="4238640"/>
            <a:ext cx="90741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1EE2F1-5CE6-46AA-91B2-A358AD510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503280" y="1633320"/>
            <a:ext cx="90741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03280" y="4238640"/>
            <a:ext cx="90741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06B8CF-809F-4102-81A8-6F6A16DF6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503280" y="163332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5153040" y="163332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03280" y="423864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5153040" y="423864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E0F8B0-C2A8-4E1C-ADE4-B8EE94700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3280" y="1633320"/>
            <a:ext cx="29217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571560" y="1633320"/>
            <a:ext cx="29217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639840" y="1633320"/>
            <a:ext cx="29217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503280" y="4238640"/>
            <a:ext cx="29217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571560" y="4238640"/>
            <a:ext cx="29217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639840" y="4238640"/>
            <a:ext cx="29217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C3F157-370C-427A-B588-97095DA26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4417E1-A9D2-4377-A9FD-255D4549E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503280" y="1633320"/>
            <a:ext cx="907416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20600"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257CA5-C2A6-4D08-BDD0-2713E81CB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503280" y="1633320"/>
            <a:ext cx="9074160" cy="498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BCC617-76C9-42B5-81D3-6A83887F2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3280" y="1633320"/>
            <a:ext cx="4428000" cy="498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5153040" y="1633320"/>
            <a:ext cx="4428000" cy="498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F82585-AE1F-49FD-88D8-3CE0EB3B2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936AD1-45C3-4E2B-A598-34AAB05F9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03280" y="163332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53040" y="163332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03280" y="4238640"/>
            <a:ext cx="90741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24F61-1C62-4D1A-A67B-CECCF1191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503280" y="302760"/>
            <a:ext cx="907416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20600" algn="ctr"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DCC671-94D1-4865-B288-3077B2BBC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503280" y="163332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5153040" y="1633320"/>
            <a:ext cx="4428000" cy="498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03280" y="423864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ECF71B-1171-4677-B130-EBD6A4A95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503280" y="1633320"/>
            <a:ext cx="4428000" cy="498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5153040" y="163332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5153040" y="423864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AFDABA-8E29-4B45-BC7F-C8C4E8B2A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503280" y="163332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5153040" y="163332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503280" y="4238640"/>
            <a:ext cx="90741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85186F-EFA6-4F46-B4CA-077D65CE4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503280" y="1633320"/>
            <a:ext cx="90741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503280" y="4238640"/>
            <a:ext cx="90741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36274B-3093-40DB-AD60-F1E151864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3280" y="163332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5153040" y="163332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503280" y="423864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153040" y="423864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FA3345-54C5-444A-B7BF-97196331D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3280" y="1633320"/>
            <a:ext cx="29217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571560" y="1633320"/>
            <a:ext cx="29217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639840" y="1633320"/>
            <a:ext cx="29217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503280" y="4238640"/>
            <a:ext cx="29217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571560" y="4238640"/>
            <a:ext cx="29217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639840" y="4238640"/>
            <a:ext cx="29217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5E2E1D-27E6-4749-8083-3596931E9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790560" y="5513400"/>
            <a:ext cx="4191120" cy="159084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-58680" y="6377040"/>
            <a:ext cx="4191120" cy="9237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12600" y="6377040"/>
            <a:ext cx="3762360" cy="1206360"/>
            <a:chOff x="-12600" y="6377040"/>
            <a:chExt cx="3762360" cy="120636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6377040"/>
              <a:ext cx="3762360" cy="120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306360" y="7078680"/>
              <a:ext cx="187488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50400" bIns="504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6040"/>
                  <a:tab algn="l" pos="892080"/>
                  <a:tab algn="l" pos="1338120"/>
                  <a:tab algn="l" pos="1784520"/>
                  <a:tab algn="l" pos="2230560"/>
                  <a:tab algn="l" pos="2676600"/>
                  <a:tab algn="l" pos="3122640"/>
                  <a:tab algn="l" pos="3568680"/>
                  <a:tab algn="l" pos="4014720"/>
                  <a:tab algn="l" pos="4460760"/>
                  <a:tab algn="l" pos="4906800"/>
                  <a:tab algn="l" pos="5353200"/>
                  <a:tab algn="l" pos="5799240"/>
                  <a:tab algn="l" pos="6245280"/>
                  <a:tab algn="l" pos="6691320"/>
                  <a:tab algn="l" pos="7137360"/>
                  <a:tab algn="l" pos="7583400"/>
                  <a:tab algn="l" pos="8029440"/>
                  <a:tab algn="l" pos="8475840"/>
                  <a:tab algn="l" pos="892188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6370560"/>
            <a:ext cx="3768840" cy="12193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503280" y="1633320"/>
            <a:ext cx="9074160" cy="498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401760" indent="-281160">
              <a:spcBef>
                <a:spcPts val="437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84360" indent="-250920">
              <a:spcBef>
                <a:spcPts val="437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946080" indent="-250920">
              <a:spcBef>
                <a:spcPts val="437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258920" indent="-250920">
              <a:spcBef>
                <a:spcPts val="437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511280" indent="-250920">
              <a:spcBef>
                <a:spcPts val="437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511280" indent="-250920">
              <a:spcBef>
                <a:spcPts val="437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511280" indent="-250920">
              <a:spcBef>
                <a:spcPts val="437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7416720" y="7062840"/>
            <a:ext cx="2116080" cy="403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  <a:defRPr b="0" lang="ru-RU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828680" y="7062840"/>
            <a:ext cx="2590920" cy="403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9532800" y="7062840"/>
            <a:ext cx="403200" cy="403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  <a:defRPr b="0" lang="ru-RU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fld id="{28E518AA-CECE-4737-A276-5E85FA4BF27D}" type="slidenum">
              <a:rPr b="0" lang="ru-RU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5141880"/>
            <a:ext cx="1008864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-50040" bIns="-5004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4680" y="5459400"/>
            <a:ext cx="10085400" cy="2108160"/>
            <a:chOff x="-4680" y="5459400"/>
            <a:chExt cx="10085400" cy="2108160"/>
          </a:xfrm>
        </p:grpSpPr>
        <p:sp>
          <p:nvSpPr>
            <p:cNvPr id="49" name="Полилиния 15"/>
            <p:cNvSpPr/>
            <p:nvPr/>
          </p:nvSpPr>
          <p:spPr>
            <a:xfrm>
              <a:off x="1865160" y="5459400"/>
              <a:ext cx="8207280" cy="53712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6040"/>
                  <a:tab algn="l" pos="892080"/>
                  <a:tab algn="l" pos="1338120"/>
                  <a:tab algn="l" pos="1784520"/>
                  <a:tab algn="l" pos="2230560"/>
                  <a:tab algn="l" pos="2676600"/>
                  <a:tab algn="l" pos="3122640"/>
                  <a:tab algn="l" pos="3568680"/>
                  <a:tab algn="l" pos="4014720"/>
                  <a:tab algn="l" pos="4460760"/>
                  <a:tab algn="l" pos="4906800"/>
                  <a:tab algn="l" pos="5353200"/>
                  <a:tab algn="l" pos="5799240"/>
                  <a:tab algn="l" pos="6245280"/>
                  <a:tab algn="l" pos="6691320"/>
                  <a:tab algn="l" pos="7137360"/>
                  <a:tab algn="l" pos="7583400"/>
                  <a:tab algn="l" pos="8029440"/>
                  <a:tab algn="l" pos="8475840"/>
                  <a:tab algn="l" pos="892188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5360" y="5772960"/>
              <a:ext cx="10027080" cy="868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6040"/>
                  <a:tab algn="l" pos="892080"/>
                  <a:tab algn="l" pos="1338120"/>
                  <a:tab algn="l" pos="1784520"/>
                  <a:tab algn="l" pos="2230560"/>
                  <a:tab algn="l" pos="2676600"/>
                  <a:tab algn="l" pos="3122640"/>
                  <a:tab algn="l" pos="3568680"/>
                  <a:tab algn="l" pos="4014720"/>
                  <a:tab algn="l" pos="4460760"/>
                  <a:tab algn="l" pos="4906800"/>
                  <a:tab algn="l" pos="5353200"/>
                  <a:tab algn="l" pos="5799240"/>
                  <a:tab algn="l" pos="6245280"/>
                  <a:tab algn="l" pos="6691320"/>
                  <a:tab algn="l" pos="7137360"/>
                  <a:tab algn="l" pos="7583400"/>
                  <a:tab algn="l" pos="8029440"/>
                  <a:tab algn="l" pos="8475840"/>
                  <a:tab algn="l" pos="892188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1" name="Полилиния 18"/>
            <p:cNvGrpSpPr/>
            <p:nvPr/>
          </p:nvGrpSpPr>
          <p:grpSpPr>
            <a:xfrm>
              <a:off x="1080" y="5504400"/>
              <a:ext cx="10079640" cy="2063160"/>
              <a:chOff x="1080" y="5504400"/>
              <a:chExt cx="10079640" cy="2063160"/>
            </a:xfrm>
          </p:grpSpPr>
          <p:pic>
            <p:nvPicPr>
              <p:cNvPr id="52" name="Полилиния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1080" y="5504400"/>
                <a:ext cx="10079640" cy="2063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6480" y="55119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46040"/>
                    <a:tab algn="l" pos="892080"/>
                    <a:tab algn="l" pos="1338120"/>
                    <a:tab algn="l" pos="1784520"/>
                    <a:tab algn="l" pos="2230560"/>
                    <a:tab algn="l" pos="2676600"/>
                    <a:tab algn="l" pos="3122640"/>
                    <a:tab algn="l" pos="3568680"/>
                    <a:tab algn="l" pos="4014720"/>
                    <a:tab algn="l" pos="4460760"/>
                    <a:tab algn="l" pos="4906800"/>
                    <a:tab algn="l" pos="5353200"/>
                    <a:tab algn="l" pos="5799240"/>
                    <a:tab algn="l" pos="6245280"/>
                    <a:tab algn="l" pos="6691320"/>
                    <a:tab algn="l" pos="7137360"/>
                    <a:tab algn="l" pos="7583400"/>
                    <a:tab algn="l" pos="8029440"/>
                    <a:tab algn="l" pos="8475840"/>
                    <a:tab algn="l" pos="892188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54" name="Прямая соединительная линия 19" descr=""/>
            <p:cNvPicPr/>
            <p:nvPr/>
          </p:nvPicPr>
          <p:blipFill>
            <a:blip r:embed="rId3"/>
            <a:stretch/>
          </p:blipFill>
          <p:spPr>
            <a:xfrm>
              <a:off x="-4680" y="5498280"/>
              <a:ext cx="10085400" cy="894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503280" y="1633320"/>
            <a:ext cx="9074160" cy="498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401760" indent="-281160">
              <a:spcBef>
                <a:spcPts val="437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84360" indent="-250920">
              <a:spcBef>
                <a:spcPts val="437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946080" indent="-250920">
              <a:spcBef>
                <a:spcPts val="437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258920" indent="-250920">
              <a:spcBef>
                <a:spcPts val="437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511280" indent="-250920">
              <a:spcBef>
                <a:spcPts val="437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511280" indent="-250920">
              <a:spcBef>
                <a:spcPts val="437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511280" indent="-250920">
              <a:spcBef>
                <a:spcPts val="437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7416720" y="7062840"/>
            <a:ext cx="2116080" cy="403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  <a:defRPr b="0" lang="ru-RU" sz="11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828680" y="7062840"/>
            <a:ext cx="2590920" cy="403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9532800" y="7062840"/>
            <a:ext cx="403200" cy="403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  <a:defRPr b="0" lang="ru-RU" sz="11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fld id="{726D1B19-60E6-4B73-B46C-C16E9FCDE545}" type="slidenum">
              <a:rPr b="0" lang="ru-RU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790560" y="5513400"/>
            <a:ext cx="4191120" cy="159084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-58680" y="6377040"/>
            <a:ext cx="4191120" cy="9237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12600" y="6377040"/>
            <a:ext cx="3762360" cy="1206360"/>
            <a:chOff x="-12600" y="6377040"/>
            <a:chExt cx="3762360" cy="120636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6377040"/>
              <a:ext cx="3762360" cy="120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306360" y="7078680"/>
              <a:ext cx="187488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50400" bIns="504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6040"/>
                  <a:tab algn="l" pos="892080"/>
                  <a:tab algn="l" pos="1338120"/>
                  <a:tab algn="l" pos="1784520"/>
                  <a:tab algn="l" pos="2230560"/>
                  <a:tab algn="l" pos="2676600"/>
                  <a:tab algn="l" pos="3122640"/>
                  <a:tab algn="l" pos="3568680"/>
                  <a:tab algn="l" pos="4014720"/>
                  <a:tab algn="l" pos="4460760"/>
                  <a:tab algn="l" pos="4906800"/>
                  <a:tab algn="l" pos="5353200"/>
                  <a:tab algn="l" pos="5799240"/>
                  <a:tab algn="l" pos="6245280"/>
                  <a:tab algn="l" pos="6691320"/>
                  <a:tab algn="l" pos="7137360"/>
                  <a:tab algn="l" pos="7583400"/>
                  <a:tab algn="l" pos="8029440"/>
                  <a:tab algn="l" pos="8475840"/>
                  <a:tab algn="l" pos="892188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6370560"/>
            <a:ext cx="3768840" cy="12193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10"/>
          <p:cNvSpPr/>
          <p:nvPr/>
        </p:nvSpPr>
        <p:spPr>
          <a:xfrm>
            <a:off x="4008600" y="3313080"/>
            <a:ext cx="201600" cy="252360"/>
          </a:xfrm>
          <a:custGeom>
            <a:avLst/>
            <a:gdLst>
              <a:gd name="textAreaLeft" fmla="*/ 0 w 201600"/>
              <a:gd name="textAreaRight" fmla="*/ 201960 w 201600"/>
              <a:gd name="textAreaTop" fmla="*/ 0 h 252360"/>
              <a:gd name="textAreaBottom" fmla="*/ 252720 h 25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Нашивка 11"/>
          <p:cNvSpPr/>
          <p:nvPr/>
        </p:nvSpPr>
        <p:spPr>
          <a:xfrm>
            <a:off x="3803760" y="3313080"/>
            <a:ext cx="201600" cy="252360"/>
          </a:xfrm>
          <a:custGeom>
            <a:avLst/>
            <a:gdLst>
              <a:gd name="textAreaLeft" fmla="*/ 0 w 201600"/>
              <a:gd name="textAreaRight" fmla="*/ 201960 w 201600"/>
              <a:gd name="textAreaTop" fmla="*/ 0 h 252360"/>
              <a:gd name="textAreaBottom" fmla="*/ 252720 h 25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5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503280" y="1633320"/>
            <a:ext cx="9074160" cy="498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401760" indent="-281160">
              <a:spcBef>
                <a:spcPts val="437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84360" indent="-250920">
              <a:spcBef>
                <a:spcPts val="437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946080" indent="-250920">
              <a:spcBef>
                <a:spcPts val="437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258920" indent="-250920">
              <a:spcBef>
                <a:spcPts val="437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511280" indent="-250920">
              <a:spcBef>
                <a:spcPts val="437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511280" indent="-250920">
              <a:spcBef>
                <a:spcPts val="437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511280" indent="-250920">
              <a:spcBef>
                <a:spcPts val="437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7416720" y="7062840"/>
            <a:ext cx="2116080" cy="403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  <a:defRPr b="0" lang="ru-RU" sz="11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828680" y="7062840"/>
            <a:ext cx="2590920" cy="403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9532800" y="7062840"/>
            <a:ext cx="403200" cy="403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  <a:defRPr b="0" lang="ru-RU" sz="11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fld id="{EBBB07C2-7B3B-44BA-B811-A546AE676391}" type="slidenum">
              <a:rPr b="0" lang="ru-RU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олилиния 12"/>
          <p:cNvSpPr/>
          <p:nvPr/>
        </p:nvSpPr>
        <p:spPr>
          <a:xfrm>
            <a:off x="790560" y="5513400"/>
            <a:ext cx="4191120" cy="159084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Полилиния 11"/>
          <p:cNvSpPr/>
          <p:nvPr/>
        </p:nvSpPr>
        <p:spPr>
          <a:xfrm>
            <a:off x="-58680" y="6377040"/>
            <a:ext cx="4191120" cy="9237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7" name="Прямоугольный треугольник 13"/>
          <p:cNvGrpSpPr/>
          <p:nvPr/>
        </p:nvGrpSpPr>
        <p:grpSpPr>
          <a:xfrm>
            <a:off x="-12600" y="6377040"/>
            <a:ext cx="3762360" cy="1206360"/>
            <a:chOff x="-12600" y="6377040"/>
            <a:chExt cx="3762360" cy="1206360"/>
          </a:xfrm>
        </p:grpSpPr>
        <p:pic>
          <p:nvPicPr>
            <p:cNvPr id="148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6377040"/>
              <a:ext cx="3762360" cy="120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306360" y="7078680"/>
              <a:ext cx="187488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50400" bIns="504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6040"/>
                  <a:tab algn="l" pos="892080"/>
                  <a:tab algn="l" pos="1338120"/>
                  <a:tab algn="l" pos="1784520"/>
                  <a:tab algn="l" pos="2230560"/>
                  <a:tab algn="l" pos="2676600"/>
                  <a:tab algn="l" pos="3122640"/>
                  <a:tab algn="l" pos="3568680"/>
                  <a:tab algn="l" pos="4014720"/>
                  <a:tab algn="l" pos="4460760"/>
                  <a:tab algn="l" pos="4906800"/>
                  <a:tab algn="l" pos="5353200"/>
                  <a:tab algn="l" pos="5799240"/>
                  <a:tab algn="l" pos="6245280"/>
                  <a:tab algn="l" pos="6691320"/>
                  <a:tab algn="l" pos="7137360"/>
                  <a:tab algn="l" pos="7583400"/>
                  <a:tab algn="l" pos="8029440"/>
                  <a:tab algn="l" pos="8475840"/>
                  <a:tab algn="l" pos="892188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50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6370560"/>
            <a:ext cx="3768840" cy="1219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5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503280" y="1633320"/>
            <a:ext cx="9074160" cy="498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401760" indent="-281160">
              <a:spcBef>
                <a:spcPts val="437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84360" indent="-250920">
              <a:spcBef>
                <a:spcPts val="437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946080" indent="-250920">
              <a:spcBef>
                <a:spcPts val="437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258920" indent="-250920">
              <a:spcBef>
                <a:spcPts val="437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511280" indent="-250920">
              <a:spcBef>
                <a:spcPts val="437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511280" indent="-250920">
              <a:spcBef>
                <a:spcPts val="437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511280" indent="-250920">
              <a:spcBef>
                <a:spcPts val="437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7416720" y="7062840"/>
            <a:ext cx="2116080" cy="403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  <a:defRPr b="0" lang="ru-RU" sz="11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828680" y="7062840"/>
            <a:ext cx="2590920" cy="403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9532800" y="7062840"/>
            <a:ext cx="403200" cy="403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  <a:defRPr b="0" lang="ru-RU" sz="11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fld id="{886C2A37-6841-41C7-B978-D055E294AA8A}" type="slidenum">
              <a:rPr b="0" lang="ru-RU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503280" y="1633320"/>
            <a:ext cx="9074160" cy="498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401760" indent="-281160">
              <a:spcBef>
                <a:spcPts val="437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84360" indent="-250920">
              <a:spcBef>
                <a:spcPts val="437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946080" indent="-250920">
              <a:spcBef>
                <a:spcPts val="437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258920" indent="-250920">
              <a:spcBef>
                <a:spcPts val="437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511280" indent="-250920">
              <a:spcBef>
                <a:spcPts val="437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511280" indent="-250920">
              <a:spcBef>
                <a:spcPts val="437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511280" indent="-250920">
              <a:spcBef>
                <a:spcPts val="437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7416720" y="7062840"/>
            <a:ext cx="2116080" cy="403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  <a:defRPr b="0" lang="ru-RU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828680" y="7062840"/>
            <a:ext cx="2590920" cy="403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9532800" y="7062840"/>
            <a:ext cx="403200" cy="403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  <a:defRPr b="0" lang="ru-RU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fld id="{192EC98D-C72E-4663-8B1A-476C0B3A69A2}" type="slidenum">
              <a:rPr b="0" lang="ru-RU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олилиния 12"/>
          <p:cNvSpPr/>
          <p:nvPr/>
        </p:nvSpPr>
        <p:spPr>
          <a:xfrm>
            <a:off x="790560" y="5513400"/>
            <a:ext cx="4191120" cy="159084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Полилиния 11"/>
          <p:cNvSpPr/>
          <p:nvPr/>
        </p:nvSpPr>
        <p:spPr>
          <a:xfrm>
            <a:off x="-58680" y="6377040"/>
            <a:ext cx="4191120" cy="9237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5" name="Прямоугольный треугольник 13"/>
          <p:cNvGrpSpPr/>
          <p:nvPr/>
        </p:nvGrpSpPr>
        <p:grpSpPr>
          <a:xfrm>
            <a:off x="-12600" y="6377040"/>
            <a:ext cx="3762360" cy="1206360"/>
            <a:chOff x="-12600" y="6377040"/>
            <a:chExt cx="3762360" cy="1206360"/>
          </a:xfrm>
        </p:grpSpPr>
        <p:pic>
          <p:nvPicPr>
            <p:cNvPr id="236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6377040"/>
              <a:ext cx="3762360" cy="120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306360" y="7078680"/>
              <a:ext cx="187488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50400" bIns="504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6040"/>
                  <a:tab algn="l" pos="892080"/>
                  <a:tab algn="l" pos="1338120"/>
                  <a:tab algn="l" pos="1784520"/>
                  <a:tab algn="l" pos="2230560"/>
                  <a:tab algn="l" pos="2676600"/>
                  <a:tab algn="l" pos="3122640"/>
                  <a:tab algn="l" pos="3568680"/>
                  <a:tab algn="l" pos="4014720"/>
                  <a:tab algn="l" pos="4460760"/>
                  <a:tab algn="l" pos="4906800"/>
                  <a:tab algn="l" pos="5353200"/>
                  <a:tab algn="l" pos="5799240"/>
                  <a:tab algn="l" pos="6245280"/>
                  <a:tab algn="l" pos="6691320"/>
                  <a:tab algn="l" pos="7137360"/>
                  <a:tab algn="l" pos="7583400"/>
                  <a:tab algn="l" pos="8029440"/>
                  <a:tab algn="l" pos="8475840"/>
                  <a:tab algn="l" pos="892188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238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6370560"/>
            <a:ext cx="3768840" cy="12193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5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503280" y="1633320"/>
            <a:ext cx="9074160" cy="498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401760" indent="-281160">
              <a:spcBef>
                <a:spcPts val="437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84360" indent="-250920">
              <a:spcBef>
                <a:spcPts val="437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946080" indent="-250920">
              <a:spcBef>
                <a:spcPts val="437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258920" indent="-250920">
              <a:spcBef>
                <a:spcPts val="437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511280" indent="-250920">
              <a:spcBef>
                <a:spcPts val="437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511280" indent="-250920">
              <a:spcBef>
                <a:spcPts val="437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511280" indent="-250920">
              <a:spcBef>
                <a:spcPts val="437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7416720" y="7062840"/>
            <a:ext cx="2116080" cy="403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  <a:defRPr b="0" lang="ru-RU" sz="11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828680" y="7062840"/>
            <a:ext cx="2590920" cy="403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9532800" y="7062840"/>
            <a:ext cx="403200" cy="403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  <a:defRPr b="0" lang="ru-RU" sz="11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fld id="{B87FC6D9-0137-4E03-B61C-143AEEC9D0F3}" type="slidenum">
              <a:rPr b="0" lang="ru-RU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503280" y="1633320"/>
            <a:ext cx="9074160" cy="498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401760" indent="-281160">
              <a:spcBef>
                <a:spcPts val="437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84360" indent="-250920">
              <a:spcBef>
                <a:spcPts val="437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946080" indent="-250920">
              <a:spcBef>
                <a:spcPts val="437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258920" indent="-250920">
              <a:spcBef>
                <a:spcPts val="437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511280" indent="-250920">
              <a:spcBef>
                <a:spcPts val="437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511280" indent="-250920">
              <a:spcBef>
                <a:spcPts val="437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511280" indent="-250920">
              <a:spcBef>
                <a:spcPts val="437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7416720" y="7062840"/>
            <a:ext cx="2116080" cy="403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  <a:defRPr b="0" lang="ru-RU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828680" y="7062840"/>
            <a:ext cx="2590920" cy="403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9532800" y="7062840"/>
            <a:ext cx="403200" cy="403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  <a:defRPr b="0" lang="ru-RU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fld id="{3D36C980-5228-4844-9CF8-779252F84BF8}" type="slidenum">
              <a:rPr b="0" lang="ru-RU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олилиния 10"/>
          <p:cNvSpPr/>
          <p:nvPr/>
        </p:nvSpPr>
        <p:spPr>
          <a:xfrm>
            <a:off x="790560" y="5513400"/>
            <a:ext cx="4191120" cy="159084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Полилиния 15"/>
          <p:cNvSpPr/>
          <p:nvPr/>
        </p:nvSpPr>
        <p:spPr>
          <a:xfrm>
            <a:off x="-58680" y="6377040"/>
            <a:ext cx="4191120" cy="9237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3" name="Прямоугольный треугольник 15"/>
          <p:cNvGrpSpPr/>
          <p:nvPr/>
        </p:nvGrpSpPr>
        <p:grpSpPr>
          <a:xfrm>
            <a:off x="-12600" y="6377040"/>
            <a:ext cx="3762360" cy="1206360"/>
            <a:chOff x="-12600" y="6377040"/>
            <a:chExt cx="3762360" cy="1206360"/>
          </a:xfrm>
        </p:grpSpPr>
        <p:pic>
          <p:nvPicPr>
            <p:cNvPr id="324" name="Прямоугольный треугольник 15" descr=""/>
            <p:cNvPicPr/>
            <p:nvPr/>
          </p:nvPicPr>
          <p:blipFill>
            <a:blip r:embed="rId3"/>
            <a:stretch/>
          </p:blipFill>
          <p:spPr>
            <a:xfrm>
              <a:off x="-12600" y="6377040"/>
              <a:ext cx="3762360" cy="120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306360" y="7078680"/>
              <a:ext cx="187488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50400" bIns="504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6040"/>
                  <a:tab algn="l" pos="892080"/>
                  <a:tab algn="l" pos="1338120"/>
                  <a:tab algn="l" pos="1784520"/>
                  <a:tab algn="l" pos="2230560"/>
                  <a:tab algn="l" pos="2676600"/>
                  <a:tab algn="l" pos="3122640"/>
                  <a:tab algn="l" pos="3568680"/>
                  <a:tab algn="l" pos="4014720"/>
                  <a:tab algn="l" pos="4460760"/>
                  <a:tab algn="l" pos="4906800"/>
                  <a:tab algn="l" pos="5353200"/>
                  <a:tab algn="l" pos="5799240"/>
                  <a:tab algn="l" pos="6245280"/>
                  <a:tab algn="l" pos="6691320"/>
                  <a:tab algn="l" pos="7137360"/>
                  <a:tab algn="l" pos="7583400"/>
                  <a:tab algn="l" pos="8029440"/>
                  <a:tab algn="l" pos="8475840"/>
                  <a:tab algn="l" pos="892188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326" name="Прямая соединительная линия 16" descr=""/>
          <p:cNvPicPr/>
          <p:nvPr/>
        </p:nvPicPr>
        <p:blipFill>
          <a:blip r:embed="rId4"/>
          <a:stretch/>
        </p:blipFill>
        <p:spPr>
          <a:xfrm>
            <a:off x="-19080" y="6370560"/>
            <a:ext cx="3768840" cy="1219320"/>
          </a:xfrm>
          <a:prstGeom prst="rect">
            <a:avLst/>
          </a:prstGeom>
          <a:ln w="0">
            <a:noFill/>
          </a:ln>
        </p:spPr>
      </p:pic>
      <p:sp>
        <p:nvSpPr>
          <p:cNvPr id="327" name="Нашивка 18"/>
          <p:cNvSpPr/>
          <p:nvPr/>
        </p:nvSpPr>
        <p:spPr>
          <a:xfrm>
            <a:off x="9551880" y="5499000"/>
            <a:ext cx="201600" cy="252360"/>
          </a:xfrm>
          <a:custGeom>
            <a:avLst/>
            <a:gdLst>
              <a:gd name="textAreaLeft" fmla="*/ 0 w 201600"/>
              <a:gd name="textAreaRight" fmla="*/ 201960 w 201600"/>
              <a:gd name="textAreaTop" fmla="*/ 0 h 252360"/>
              <a:gd name="textAreaBottom" fmla="*/ 252720 h 25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Нашивка 19"/>
          <p:cNvSpPr/>
          <p:nvPr/>
        </p:nvSpPr>
        <p:spPr>
          <a:xfrm>
            <a:off x="9345600" y="5499000"/>
            <a:ext cx="201600" cy="252360"/>
          </a:xfrm>
          <a:custGeom>
            <a:avLst/>
            <a:gdLst>
              <a:gd name="textAreaLeft" fmla="*/ 0 w 201600"/>
              <a:gd name="textAreaRight" fmla="*/ 201960 w 201600"/>
              <a:gd name="textAreaTop" fmla="*/ 0 h 252360"/>
              <a:gd name="textAreaBottom" fmla="*/ 252720 h 25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5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503280" y="1633320"/>
            <a:ext cx="9074160" cy="498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401760" indent="-281160">
              <a:spcBef>
                <a:spcPts val="437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84360" indent="-250920">
              <a:spcBef>
                <a:spcPts val="437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946080" indent="-250920">
              <a:spcBef>
                <a:spcPts val="437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258920" indent="-250920">
              <a:spcBef>
                <a:spcPts val="437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511280" indent="-250920">
              <a:spcBef>
                <a:spcPts val="437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511280" indent="-250920">
              <a:spcBef>
                <a:spcPts val="437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511280" indent="-250920">
              <a:spcBef>
                <a:spcPts val="437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7416720" y="7062840"/>
            <a:ext cx="2116080" cy="403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  <a:defRPr b="0" lang="ru-RU" sz="11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828680" y="7062840"/>
            <a:ext cx="2590920" cy="403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9532800" y="7062840"/>
            <a:ext cx="403200" cy="403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  <a:defRPr b="0" lang="ru-RU" sz="11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fld id="{732E81FF-6081-43EC-8F99-65B5DE43A008}" type="slidenum">
              <a:rPr b="0" lang="ru-RU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Text Box 1"/>
          <p:cNvSpPr/>
          <p:nvPr/>
        </p:nvSpPr>
        <p:spPr>
          <a:xfrm>
            <a:off x="968400" y="636480"/>
            <a:ext cx="8501040" cy="249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7040"/>
                <a:tab algn="l" pos="4486320"/>
                <a:tab algn="l" pos="49356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7320"/>
                <a:tab algn="l" pos="8526600"/>
                <a:tab algn="l" pos="8975880"/>
                <a:tab algn="l" pos="9367920"/>
                <a:tab algn="l" pos="9813960"/>
                <a:tab algn="l" pos="10260000"/>
                <a:tab algn="l" pos="107060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Text Box 2"/>
          <p:cNvSpPr/>
          <p:nvPr/>
        </p:nvSpPr>
        <p:spPr>
          <a:xfrm>
            <a:off x="468360" y="493560"/>
            <a:ext cx="9070920" cy="741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87280" indent="-284040" algn="ctr">
              <a:lnSpc>
                <a:spcPct val="95000"/>
              </a:lnSpc>
              <a:spcBef>
                <a:spcPts val="675"/>
              </a:spcBef>
              <a:tabLst>
                <a:tab algn="l" pos="0"/>
                <a:tab algn="l" pos="287280"/>
                <a:tab algn="l" pos="392040"/>
                <a:tab algn="l" pos="841320"/>
                <a:tab algn="l" pos="1290600"/>
                <a:tab algn="l" pos="1739880"/>
                <a:tab algn="l" pos="2189160"/>
                <a:tab algn="l" pos="2638440"/>
                <a:tab algn="l" pos="3087720"/>
                <a:tab algn="l" pos="3537000"/>
                <a:tab algn="l" pos="3984480"/>
                <a:tab algn="l" pos="4433760"/>
                <a:tab algn="l" pos="4883040"/>
                <a:tab algn="l" pos="5330880"/>
                <a:tab algn="l" pos="5780160"/>
                <a:tab algn="l" pos="6229440"/>
                <a:tab algn="l" pos="6678720"/>
                <a:tab algn="l" pos="7128000"/>
                <a:tab algn="l" pos="7577280"/>
                <a:tab algn="l" pos="8024760"/>
                <a:tab algn="l" pos="8474040"/>
                <a:tab algn="l" pos="8923320"/>
                <a:tab algn="l" pos="9367920"/>
                <a:tab algn="l" pos="9813960"/>
                <a:tab algn="l" pos="10260000"/>
                <a:tab algn="l" pos="1070604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87280" indent="-284040" algn="ctr">
              <a:lnSpc>
                <a:spcPct val="95000"/>
              </a:lnSpc>
              <a:spcBef>
                <a:spcPts val="675"/>
              </a:spcBef>
              <a:tabLst>
                <a:tab algn="l" pos="0"/>
                <a:tab algn="l" pos="287280"/>
                <a:tab algn="l" pos="392040"/>
                <a:tab algn="l" pos="841320"/>
                <a:tab algn="l" pos="1290600"/>
                <a:tab algn="l" pos="1739880"/>
                <a:tab algn="l" pos="2189160"/>
                <a:tab algn="l" pos="2638440"/>
                <a:tab algn="l" pos="3087720"/>
                <a:tab algn="l" pos="3537000"/>
                <a:tab algn="l" pos="3984480"/>
                <a:tab algn="l" pos="4433760"/>
                <a:tab algn="l" pos="4883040"/>
                <a:tab algn="l" pos="5330880"/>
                <a:tab algn="l" pos="5780160"/>
                <a:tab algn="l" pos="6229440"/>
                <a:tab algn="l" pos="6678720"/>
                <a:tab algn="l" pos="7128000"/>
                <a:tab algn="l" pos="7577280"/>
                <a:tab algn="l" pos="8024760"/>
                <a:tab algn="l" pos="8474040"/>
                <a:tab algn="l" pos="8923320"/>
                <a:tab algn="l" pos="9367920"/>
                <a:tab algn="l" pos="9813960"/>
                <a:tab algn="l" pos="10260000"/>
                <a:tab algn="l" pos="1070604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87280" indent="-284040" algn="ctr">
              <a:lnSpc>
                <a:spcPct val="95000"/>
              </a:lnSpc>
              <a:spcBef>
                <a:spcPts val="675"/>
              </a:spcBef>
              <a:tabLst>
                <a:tab algn="l" pos="0"/>
                <a:tab algn="l" pos="287280"/>
                <a:tab algn="l" pos="392040"/>
                <a:tab algn="l" pos="841320"/>
                <a:tab algn="l" pos="1290600"/>
                <a:tab algn="l" pos="1739880"/>
                <a:tab algn="l" pos="2189160"/>
                <a:tab algn="l" pos="2638440"/>
                <a:tab algn="l" pos="3087720"/>
                <a:tab algn="l" pos="3537000"/>
                <a:tab algn="l" pos="3984480"/>
                <a:tab algn="l" pos="4433760"/>
                <a:tab algn="l" pos="4883040"/>
                <a:tab algn="l" pos="5330880"/>
                <a:tab algn="l" pos="5780160"/>
                <a:tab algn="l" pos="6229440"/>
                <a:tab algn="l" pos="6678720"/>
                <a:tab algn="l" pos="7128000"/>
                <a:tab algn="l" pos="7577280"/>
                <a:tab algn="l" pos="8024760"/>
                <a:tab algn="l" pos="8474040"/>
                <a:tab algn="l" pos="8923320"/>
                <a:tab algn="l" pos="9367920"/>
                <a:tab algn="l" pos="9813960"/>
                <a:tab algn="l" pos="10260000"/>
                <a:tab algn="l" pos="1070604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87280" indent="-284040" algn="ctr">
              <a:lnSpc>
                <a:spcPct val="95000"/>
              </a:lnSpc>
              <a:spcBef>
                <a:spcPts val="675"/>
              </a:spcBef>
              <a:tabLst>
                <a:tab algn="l" pos="0"/>
                <a:tab algn="l" pos="287280"/>
                <a:tab algn="l" pos="392040"/>
                <a:tab algn="l" pos="841320"/>
                <a:tab algn="l" pos="1290600"/>
                <a:tab algn="l" pos="1739880"/>
                <a:tab algn="l" pos="2189160"/>
                <a:tab algn="l" pos="2638440"/>
                <a:tab algn="l" pos="3087720"/>
                <a:tab algn="l" pos="3537000"/>
                <a:tab algn="l" pos="3984480"/>
                <a:tab algn="l" pos="4433760"/>
                <a:tab algn="l" pos="4883040"/>
                <a:tab algn="l" pos="5330880"/>
                <a:tab algn="l" pos="5780160"/>
                <a:tab algn="l" pos="6229440"/>
                <a:tab algn="l" pos="6678720"/>
                <a:tab algn="l" pos="7128000"/>
                <a:tab algn="l" pos="7577280"/>
                <a:tab algn="l" pos="8024760"/>
                <a:tab algn="l" pos="8474040"/>
                <a:tab algn="l" pos="8923320"/>
                <a:tab algn="l" pos="9367920"/>
                <a:tab algn="l" pos="9813960"/>
                <a:tab algn="l" pos="10260000"/>
                <a:tab algn="l" pos="107060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7280" indent="-284040" algn="ctr">
              <a:lnSpc>
                <a:spcPct val="95000"/>
              </a:lnSpc>
              <a:spcBef>
                <a:spcPts val="675"/>
              </a:spcBef>
              <a:tabLst>
                <a:tab algn="l" pos="0"/>
                <a:tab algn="l" pos="287280"/>
                <a:tab algn="l" pos="392040"/>
                <a:tab algn="l" pos="841320"/>
                <a:tab algn="l" pos="1290600"/>
                <a:tab algn="l" pos="1739880"/>
                <a:tab algn="l" pos="2189160"/>
                <a:tab algn="l" pos="2638440"/>
                <a:tab algn="l" pos="3087720"/>
                <a:tab algn="l" pos="3537000"/>
                <a:tab algn="l" pos="3984480"/>
                <a:tab algn="l" pos="4433760"/>
                <a:tab algn="l" pos="4883040"/>
                <a:tab algn="l" pos="5330880"/>
                <a:tab algn="l" pos="5780160"/>
                <a:tab algn="l" pos="6229440"/>
                <a:tab algn="l" pos="6678720"/>
                <a:tab algn="l" pos="7128000"/>
                <a:tab algn="l" pos="7577280"/>
                <a:tab algn="l" pos="8024760"/>
                <a:tab algn="l" pos="8474040"/>
                <a:tab algn="l" pos="8923320"/>
                <a:tab algn="l" pos="9367920"/>
                <a:tab algn="l" pos="9813960"/>
                <a:tab algn="l" pos="10260000"/>
                <a:tab algn="l" pos="107060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7280" indent="-284040" algn="ctr">
              <a:lnSpc>
                <a:spcPct val="95000"/>
              </a:lnSpc>
              <a:spcBef>
                <a:spcPts val="675"/>
              </a:spcBef>
              <a:tabLst>
                <a:tab algn="l" pos="0"/>
                <a:tab algn="l" pos="287280"/>
                <a:tab algn="l" pos="392040"/>
                <a:tab algn="l" pos="841320"/>
                <a:tab algn="l" pos="1290600"/>
                <a:tab algn="l" pos="1739880"/>
                <a:tab algn="l" pos="2189160"/>
                <a:tab algn="l" pos="2638440"/>
                <a:tab algn="l" pos="3087720"/>
                <a:tab algn="l" pos="3537000"/>
                <a:tab algn="l" pos="3984480"/>
                <a:tab algn="l" pos="4433760"/>
                <a:tab algn="l" pos="4883040"/>
                <a:tab algn="l" pos="5330880"/>
                <a:tab algn="l" pos="5780160"/>
                <a:tab algn="l" pos="6229440"/>
                <a:tab algn="l" pos="6678720"/>
                <a:tab algn="l" pos="7128000"/>
                <a:tab algn="l" pos="7577280"/>
                <a:tab algn="l" pos="8024760"/>
                <a:tab algn="l" pos="8474040"/>
                <a:tab algn="l" pos="8923320"/>
                <a:tab algn="l" pos="9367920"/>
                <a:tab algn="l" pos="9813960"/>
                <a:tab algn="l" pos="10260000"/>
                <a:tab algn="l" pos="1070604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Times New Roman"/>
              </a:rPr>
              <a:t>Cиноним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7280" indent="-284040" algn="ctr">
              <a:lnSpc>
                <a:spcPct val="95000"/>
              </a:lnSpc>
              <a:spcBef>
                <a:spcPts val="675"/>
              </a:spcBef>
              <a:tabLst>
                <a:tab algn="l" pos="0"/>
                <a:tab algn="l" pos="287280"/>
                <a:tab algn="l" pos="392040"/>
                <a:tab algn="l" pos="841320"/>
                <a:tab algn="l" pos="1290600"/>
                <a:tab algn="l" pos="1739880"/>
                <a:tab algn="l" pos="2189160"/>
                <a:tab algn="l" pos="2638440"/>
                <a:tab algn="l" pos="3087720"/>
                <a:tab algn="l" pos="3537000"/>
                <a:tab algn="l" pos="3984480"/>
                <a:tab algn="l" pos="4433760"/>
                <a:tab algn="l" pos="4883040"/>
                <a:tab algn="l" pos="5330880"/>
                <a:tab algn="l" pos="5780160"/>
                <a:tab algn="l" pos="6229440"/>
                <a:tab algn="l" pos="6678720"/>
                <a:tab algn="l" pos="7128000"/>
                <a:tab algn="l" pos="7577280"/>
                <a:tab algn="l" pos="8024760"/>
                <a:tab algn="l" pos="8474040"/>
                <a:tab algn="l" pos="8923320"/>
                <a:tab algn="l" pos="9367920"/>
                <a:tab algn="l" pos="9813960"/>
                <a:tab algn="l" pos="10260000"/>
                <a:tab algn="l" pos="1070604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Times New Roman"/>
              </a:rPr>
              <a:t>Урок русского языка в 6 класс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7280" indent="-284040"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287280"/>
                <a:tab algn="l" pos="392040"/>
                <a:tab algn="l" pos="841320"/>
                <a:tab algn="l" pos="1290600"/>
                <a:tab algn="l" pos="1739880"/>
                <a:tab algn="l" pos="2189160"/>
                <a:tab algn="l" pos="2638440"/>
                <a:tab algn="l" pos="3087720"/>
                <a:tab algn="l" pos="3537000"/>
                <a:tab algn="l" pos="3984480"/>
                <a:tab algn="l" pos="4433760"/>
                <a:tab algn="l" pos="4883040"/>
                <a:tab algn="l" pos="5330880"/>
                <a:tab algn="l" pos="5780160"/>
                <a:tab algn="l" pos="6229440"/>
                <a:tab algn="l" pos="6678720"/>
                <a:tab algn="l" pos="7128000"/>
                <a:tab algn="l" pos="7577280"/>
                <a:tab algn="l" pos="8024760"/>
                <a:tab algn="l" pos="8474040"/>
                <a:tab algn="l" pos="8923320"/>
                <a:tab algn="l" pos="9367920"/>
                <a:tab algn="l" pos="9813960"/>
                <a:tab algn="l" pos="10260000"/>
                <a:tab algn="l" pos="107060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7280" indent="-284040"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287280"/>
                <a:tab algn="l" pos="392040"/>
                <a:tab algn="l" pos="841320"/>
                <a:tab algn="l" pos="1290600"/>
                <a:tab algn="l" pos="1739880"/>
                <a:tab algn="l" pos="2189160"/>
                <a:tab algn="l" pos="2638440"/>
                <a:tab algn="l" pos="3087720"/>
                <a:tab algn="l" pos="3537000"/>
                <a:tab algn="l" pos="3984480"/>
                <a:tab algn="l" pos="4433760"/>
                <a:tab algn="l" pos="4883040"/>
                <a:tab algn="l" pos="5330880"/>
                <a:tab algn="l" pos="5780160"/>
                <a:tab algn="l" pos="6229440"/>
                <a:tab algn="l" pos="6678720"/>
                <a:tab algn="l" pos="7128000"/>
                <a:tab algn="l" pos="7577280"/>
                <a:tab algn="l" pos="8024760"/>
                <a:tab algn="l" pos="8474040"/>
                <a:tab algn="l" pos="8923320"/>
                <a:tab algn="l" pos="9367920"/>
                <a:tab algn="l" pos="9813960"/>
                <a:tab algn="l" pos="10260000"/>
                <a:tab algn="l" pos="107060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7280" indent="-284040"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287280"/>
                <a:tab algn="l" pos="392040"/>
                <a:tab algn="l" pos="841320"/>
                <a:tab algn="l" pos="1290600"/>
                <a:tab algn="l" pos="1739880"/>
                <a:tab algn="l" pos="2189160"/>
                <a:tab algn="l" pos="2638440"/>
                <a:tab algn="l" pos="3087720"/>
                <a:tab algn="l" pos="3537000"/>
                <a:tab algn="l" pos="3984480"/>
                <a:tab algn="l" pos="4433760"/>
                <a:tab algn="l" pos="4883040"/>
                <a:tab algn="l" pos="5330880"/>
                <a:tab algn="l" pos="5780160"/>
                <a:tab algn="l" pos="6229440"/>
                <a:tab algn="l" pos="6678720"/>
                <a:tab algn="l" pos="7128000"/>
                <a:tab algn="l" pos="7577280"/>
                <a:tab algn="l" pos="8024760"/>
                <a:tab algn="l" pos="8474040"/>
                <a:tab algn="l" pos="8923320"/>
                <a:tab algn="l" pos="9367920"/>
                <a:tab algn="l" pos="9813960"/>
                <a:tab algn="l" pos="10260000"/>
                <a:tab algn="l" pos="107060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7280" indent="-284040"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287280"/>
                <a:tab algn="l" pos="392040"/>
                <a:tab algn="l" pos="841320"/>
                <a:tab algn="l" pos="1290600"/>
                <a:tab algn="l" pos="1739880"/>
                <a:tab algn="l" pos="2189160"/>
                <a:tab algn="l" pos="2638440"/>
                <a:tab algn="l" pos="3087720"/>
                <a:tab algn="l" pos="3537000"/>
                <a:tab algn="l" pos="3984480"/>
                <a:tab algn="l" pos="4433760"/>
                <a:tab algn="l" pos="4883040"/>
                <a:tab algn="l" pos="5330880"/>
                <a:tab algn="l" pos="5780160"/>
                <a:tab algn="l" pos="6229440"/>
                <a:tab algn="l" pos="6678720"/>
                <a:tab algn="l" pos="7128000"/>
                <a:tab algn="l" pos="7577280"/>
                <a:tab algn="l" pos="8024760"/>
                <a:tab algn="l" pos="8474040"/>
                <a:tab algn="l" pos="8923320"/>
                <a:tab algn="l" pos="9367920"/>
                <a:tab algn="l" pos="9813960"/>
                <a:tab algn="l" pos="10260000"/>
                <a:tab algn="l" pos="107060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ll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Text Box 2"/>
          <p:cNvSpPr/>
          <p:nvPr/>
        </p:nvSpPr>
        <p:spPr>
          <a:xfrm>
            <a:off x="868320" y="851040"/>
            <a:ext cx="8601120" cy="59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39840" indent="-33840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7040"/>
                <a:tab algn="l" pos="4486320"/>
                <a:tab algn="l" pos="49356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7320"/>
                <a:tab algn="l" pos="8526600"/>
                <a:tab algn="l" pos="8975880"/>
                <a:tab algn="l" pos="9367920"/>
                <a:tab algn="l" pos="9813960"/>
                <a:tab algn="l" pos="10260000"/>
                <a:tab algn="l" pos="107060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840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7040"/>
                <a:tab algn="l" pos="4486320"/>
                <a:tab algn="l" pos="49356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7320"/>
                <a:tab algn="l" pos="8526600"/>
                <a:tab algn="l" pos="8975880"/>
                <a:tab algn="l" pos="9367920"/>
                <a:tab algn="l" pos="9813960"/>
                <a:tab algn="l" pos="10260000"/>
                <a:tab algn="l" pos="107060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840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7040"/>
                <a:tab algn="l" pos="4486320"/>
                <a:tab algn="l" pos="49356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7320"/>
                <a:tab algn="l" pos="8526600"/>
                <a:tab algn="l" pos="8975880"/>
                <a:tab algn="l" pos="9367920"/>
                <a:tab algn="l" pos="9813960"/>
                <a:tab algn="l" pos="10260000"/>
                <a:tab algn="l" pos="107060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840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7040"/>
                <a:tab algn="l" pos="4486320"/>
                <a:tab algn="l" pos="49356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7320"/>
                <a:tab algn="l" pos="8526600"/>
                <a:tab algn="l" pos="8975880"/>
                <a:tab algn="l" pos="9367920"/>
                <a:tab algn="l" pos="9813960"/>
                <a:tab algn="l" pos="10260000"/>
                <a:tab algn="l" pos="107060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840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7040"/>
                <a:tab algn="l" pos="4486320"/>
                <a:tab algn="l" pos="49356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7320"/>
                <a:tab algn="l" pos="8526600"/>
                <a:tab algn="l" pos="8975880"/>
                <a:tab algn="l" pos="9367920"/>
                <a:tab algn="l" pos="9813960"/>
                <a:tab algn="l" pos="10260000"/>
                <a:tab algn="l" pos="107060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840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7040"/>
                <a:tab algn="l" pos="4486320"/>
                <a:tab algn="l" pos="49356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7320"/>
                <a:tab algn="l" pos="8526600"/>
                <a:tab algn="l" pos="8975880"/>
                <a:tab algn="l" pos="9367920"/>
                <a:tab algn="l" pos="9813960"/>
                <a:tab algn="l" pos="10260000"/>
                <a:tab algn="l" pos="107060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840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7040"/>
                <a:tab algn="l" pos="4486320"/>
                <a:tab algn="l" pos="49356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7320"/>
                <a:tab algn="l" pos="8526600"/>
                <a:tab algn="l" pos="8975880"/>
                <a:tab algn="l" pos="9367920"/>
                <a:tab algn="l" pos="9813960"/>
                <a:tab algn="l" pos="10260000"/>
                <a:tab algn="l" pos="107060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840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7040"/>
                <a:tab algn="l" pos="4486320"/>
                <a:tab algn="l" pos="49356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7320"/>
                <a:tab algn="l" pos="8526600"/>
                <a:tab algn="l" pos="8975880"/>
                <a:tab algn="l" pos="9367920"/>
                <a:tab algn="l" pos="9813960"/>
                <a:tab algn="l" pos="10260000"/>
                <a:tab algn="l" pos="107060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840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7040"/>
                <a:tab algn="l" pos="4486320"/>
                <a:tab algn="l" pos="49356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7320"/>
                <a:tab algn="l" pos="8526600"/>
                <a:tab algn="l" pos="8975880"/>
                <a:tab algn="l" pos="9367920"/>
                <a:tab algn="l" pos="9813960"/>
                <a:tab algn="l" pos="10260000"/>
                <a:tab algn="l" pos="107060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840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7040"/>
                <a:tab algn="l" pos="4486320"/>
                <a:tab algn="l" pos="49356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7320"/>
                <a:tab algn="l" pos="8526600"/>
                <a:tab algn="l" pos="8975880"/>
                <a:tab algn="l" pos="9367920"/>
                <a:tab algn="l" pos="9813960"/>
                <a:tab algn="l" pos="10260000"/>
                <a:tab algn="l" pos="107060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840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7040"/>
                <a:tab algn="l" pos="4486320"/>
                <a:tab algn="l" pos="49356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7320"/>
                <a:tab algn="l" pos="8526600"/>
                <a:tab algn="l" pos="8975880"/>
                <a:tab algn="l" pos="9367920"/>
                <a:tab algn="l" pos="9813960"/>
                <a:tab algn="l" pos="10260000"/>
                <a:tab algn="l" pos="107060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гненны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840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7040"/>
                <a:tab algn="l" pos="4486320"/>
                <a:tab algn="l" pos="49356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7320"/>
                <a:tab algn="l" pos="8526600"/>
                <a:tab algn="l" pos="8975880"/>
                <a:tab algn="l" pos="9367920"/>
                <a:tab algn="l" pos="9813960"/>
                <a:tab algn="l" pos="10260000"/>
                <a:tab algn="l" pos="107060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840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7040"/>
                <a:tab algn="l" pos="4486320"/>
                <a:tab algn="l" pos="49356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7320"/>
                <a:tab algn="l" pos="8526600"/>
                <a:tab algn="l" pos="8975880"/>
                <a:tab algn="l" pos="9367920"/>
                <a:tab algn="l" pos="9813960"/>
                <a:tab algn="l" pos="10260000"/>
                <a:tab algn="l" pos="107060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Text Box 3"/>
          <p:cNvSpPr/>
          <p:nvPr/>
        </p:nvSpPr>
        <p:spPr>
          <a:xfrm>
            <a:off x="5478480" y="1768320"/>
            <a:ext cx="4457520" cy="49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511200" indent="-50976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511200"/>
                <a:tab algn="l" pos="615960"/>
                <a:tab algn="l" pos="1065240"/>
                <a:tab algn="l" pos="1514520"/>
                <a:tab algn="l" pos="1963800"/>
                <a:tab algn="l" pos="2413080"/>
                <a:tab algn="l" pos="2862360"/>
                <a:tab algn="l" pos="3311640"/>
                <a:tab algn="l" pos="3760920"/>
                <a:tab algn="l" pos="4208400"/>
                <a:tab algn="l" pos="4657680"/>
                <a:tab algn="l" pos="5105520"/>
                <a:tab algn="l" pos="5554800"/>
                <a:tab algn="l" pos="6004080"/>
                <a:tab algn="l" pos="6453360"/>
                <a:tab algn="l" pos="6902280"/>
                <a:tab algn="l" pos="7351560"/>
                <a:tab algn="l" pos="7799400"/>
                <a:tab algn="l" pos="8248680"/>
                <a:tab algn="l" pos="8697960"/>
                <a:tab algn="l" pos="9147240"/>
                <a:tab algn="l" pos="9367920"/>
                <a:tab algn="l" pos="9813960"/>
                <a:tab algn="l" pos="10260000"/>
                <a:tab algn="l" pos="107060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Прямоугольник 4"/>
          <p:cNvSpPr/>
          <p:nvPr/>
        </p:nvSpPr>
        <p:spPr>
          <a:xfrm>
            <a:off x="825480" y="1065240"/>
            <a:ext cx="8682120" cy="11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5" name="Picture 4" descr="огонь6"/>
          <p:cNvPicPr/>
          <p:nvPr/>
        </p:nvPicPr>
        <p:blipFill>
          <a:blip r:embed="rId1"/>
          <a:stretch/>
        </p:blipFill>
        <p:spPr>
          <a:xfrm>
            <a:off x="620640" y="1268280"/>
            <a:ext cx="8207280" cy="4400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Text Box 2"/>
          <p:cNvSpPr/>
          <p:nvPr/>
        </p:nvSpPr>
        <p:spPr>
          <a:xfrm>
            <a:off x="539640" y="708120"/>
            <a:ext cx="9072720" cy="642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шневы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7" name="Picture 4" descr="виш"/>
          <p:cNvPicPr/>
          <p:nvPr/>
        </p:nvPicPr>
        <p:blipFill>
          <a:blip r:embed="rId1"/>
          <a:stretch/>
        </p:blipFill>
        <p:spPr>
          <a:xfrm>
            <a:off x="684360" y="404640"/>
            <a:ext cx="7056360" cy="4667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Text Box 2"/>
          <p:cNvSpPr/>
          <p:nvPr/>
        </p:nvSpPr>
        <p:spPr>
          <a:xfrm>
            <a:off x="790560" y="636480"/>
            <a:ext cx="8821800" cy="623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39840" indent="-33840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7040"/>
                <a:tab algn="l" pos="4486320"/>
                <a:tab algn="l" pos="49356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7320"/>
                <a:tab algn="l" pos="8526600"/>
                <a:tab algn="l" pos="8975880"/>
                <a:tab algn="l" pos="9367920"/>
                <a:tab algn="l" pos="9813960"/>
                <a:tab algn="l" pos="10260000"/>
                <a:tab algn="l" pos="107060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Text Box 3"/>
          <p:cNvSpPr/>
          <p:nvPr/>
        </p:nvSpPr>
        <p:spPr>
          <a:xfrm>
            <a:off x="611280" y="422280"/>
            <a:ext cx="9253440" cy="633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444600"/>
                <a:tab algn="l" pos="89532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7040"/>
                <a:tab algn="l" pos="4486320"/>
                <a:tab algn="l" pos="49356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7320"/>
                <a:tab algn="l" pos="8526600"/>
                <a:tab algn="l" pos="8975880"/>
                <a:tab algn="l" pos="9367920"/>
                <a:tab algn="l" pos="9813960"/>
                <a:tab algn="l" pos="10260000"/>
                <a:tab algn="l" pos="107060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444600"/>
                <a:tab algn="l" pos="89532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7040"/>
                <a:tab algn="l" pos="4486320"/>
                <a:tab algn="l" pos="49356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7320"/>
                <a:tab algn="l" pos="8526600"/>
                <a:tab algn="l" pos="8975880"/>
                <a:tab algn="l" pos="9367920"/>
                <a:tab algn="l" pos="9813960"/>
                <a:tab algn="l" pos="10260000"/>
                <a:tab algn="l" pos="107060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444600"/>
                <a:tab algn="l" pos="89532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7040"/>
                <a:tab algn="l" pos="4486320"/>
                <a:tab algn="l" pos="49356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7320"/>
                <a:tab algn="l" pos="8526600"/>
                <a:tab algn="l" pos="8975880"/>
                <a:tab algn="l" pos="9367920"/>
                <a:tab algn="l" pos="9813960"/>
                <a:tab algn="l" pos="10260000"/>
                <a:tab algn="l" pos="107060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444600"/>
                <a:tab algn="l" pos="89532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7040"/>
                <a:tab algn="l" pos="4486320"/>
                <a:tab algn="l" pos="49356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7320"/>
                <a:tab algn="l" pos="8526600"/>
                <a:tab algn="l" pos="8975880"/>
                <a:tab algn="l" pos="9367920"/>
                <a:tab algn="l" pos="9813960"/>
                <a:tab algn="l" pos="10260000"/>
                <a:tab algn="l" pos="107060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444600"/>
                <a:tab algn="l" pos="89532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7040"/>
                <a:tab algn="l" pos="4486320"/>
                <a:tab algn="l" pos="49356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7320"/>
                <a:tab algn="l" pos="8526600"/>
                <a:tab algn="l" pos="8975880"/>
                <a:tab algn="l" pos="9367920"/>
                <a:tab algn="l" pos="9813960"/>
                <a:tab algn="l" pos="10260000"/>
                <a:tab algn="l" pos="107060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444600"/>
                <a:tab algn="l" pos="89532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7040"/>
                <a:tab algn="l" pos="4486320"/>
                <a:tab algn="l" pos="49356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7320"/>
                <a:tab algn="l" pos="8526600"/>
                <a:tab algn="l" pos="8975880"/>
                <a:tab algn="l" pos="9367920"/>
                <a:tab algn="l" pos="9813960"/>
                <a:tab algn="l" pos="10260000"/>
                <a:tab algn="l" pos="107060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444600"/>
                <a:tab algn="l" pos="89532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7040"/>
                <a:tab algn="l" pos="4486320"/>
                <a:tab algn="l" pos="49356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7320"/>
                <a:tab algn="l" pos="8526600"/>
                <a:tab algn="l" pos="8975880"/>
                <a:tab algn="l" pos="9367920"/>
                <a:tab algn="l" pos="9813960"/>
                <a:tab algn="l" pos="10260000"/>
                <a:tab algn="l" pos="107060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444600"/>
                <a:tab algn="l" pos="89532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7040"/>
                <a:tab algn="l" pos="4486320"/>
                <a:tab algn="l" pos="49356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7320"/>
                <a:tab algn="l" pos="8526600"/>
                <a:tab algn="l" pos="8975880"/>
                <a:tab algn="l" pos="9367920"/>
                <a:tab algn="l" pos="9813960"/>
                <a:tab algn="l" pos="10260000"/>
                <a:tab algn="l" pos="107060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444600"/>
                <a:tab algn="l" pos="89532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7040"/>
                <a:tab algn="l" pos="4486320"/>
                <a:tab algn="l" pos="49356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7320"/>
                <a:tab algn="l" pos="8526600"/>
                <a:tab algn="l" pos="8975880"/>
                <a:tab algn="l" pos="9367920"/>
                <a:tab algn="l" pos="9813960"/>
                <a:tab algn="l" pos="10260000"/>
                <a:tab algn="l" pos="107060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444600"/>
                <a:tab algn="l" pos="89532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7040"/>
                <a:tab algn="l" pos="4486320"/>
                <a:tab algn="l" pos="49356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7320"/>
                <a:tab algn="l" pos="8526600"/>
                <a:tab algn="l" pos="8975880"/>
                <a:tab algn="l" pos="9367920"/>
                <a:tab algn="l" pos="9813960"/>
                <a:tab algn="l" pos="10260000"/>
                <a:tab algn="l" pos="107060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444600"/>
                <a:tab algn="l" pos="89532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7040"/>
                <a:tab algn="l" pos="4486320"/>
                <a:tab algn="l" pos="49356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7320"/>
                <a:tab algn="l" pos="8526600"/>
                <a:tab algn="l" pos="8975880"/>
                <a:tab algn="l" pos="9367920"/>
                <a:tab algn="l" pos="9813960"/>
                <a:tab algn="l" pos="10260000"/>
                <a:tab algn="l" pos="107060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444600"/>
                <a:tab algn="l" pos="89532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7040"/>
                <a:tab algn="l" pos="4486320"/>
                <a:tab algn="l" pos="49356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7320"/>
                <a:tab algn="l" pos="8526600"/>
                <a:tab algn="l" pos="8975880"/>
                <a:tab algn="l" pos="9367920"/>
                <a:tab algn="l" pos="9813960"/>
                <a:tab algn="l" pos="10260000"/>
                <a:tab algn="l" pos="107060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444600"/>
                <a:tab algn="l" pos="89532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7040"/>
                <a:tab algn="l" pos="4486320"/>
                <a:tab algn="l" pos="49356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7320"/>
                <a:tab algn="l" pos="8526600"/>
                <a:tab algn="l" pos="8975880"/>
                <a:tab algn="l" pos="9367920"/>
                <a:tab algn="l" pos="9813960"/>
                <a:tab algn="l" pos="10260000"/>
                <a:tab algn="l" pos="1070604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         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малиновы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Прямоугольник 6"/>
          <p:cNvSpPr/>
          <p:nvPr/>
        </p:nvSpPr>
        <p:spPr>
          <a:xfrm>
            <a:off x="754200" y="779400"/>
            <a:ext cx="84294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just">
              <a:lnSpc>
                <a:spcPct val="93000"/>
              </a:lnSpc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1" name="Picture 7" descr="мал2"/>
          <p:cNvPicPr/>
          <p:nvPr/>
        </p:nvPicPr>
        <p:blipFill>
          <a:blip r:embed="rId1"/>
          <a:stretch/>
        </p:blipFill>
        <p:spPr>
          <a:xfrm>
            <a:off x="755640" y="404640"/>
            <a:ext cx="7620120" cy="475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 txBox="1"/>
          <p:nvPr/>
        </p:nvSpPr>
        <p:spPr>
          <a:xfrm>
            <a:off x="539640" y="993600"/>
            <a:ext cx="8786880" cy="614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401760" indent="-281160">
              <a:lnSpc>
                <a:spcPct val="80000"/>
              </a:lnSpc>
              <a:spcBef>
                <a:spcPts val="437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Lucida Sans Unicode"/>
            </a:endParaRPr>
          </a:p>
          <a:p>
            <a:pPr marL="401760" indent="-281160">
              <a:lnSpc>
                <a:spcPct val="80000"/>
              </a:lnSpc>
              <a:spcBef>
                <a:spcPts val="437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Lucida Sans Unicode"/>
            </a:endParaRPr>
          </a:p>
          <a:p>
            <a:pPr marL="401760" indent="-281160">
              <a:lnSpc>
                <a:spcPct val="8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401760" indent="-281160">
              <a:spcBef>
                <a:spcPts val="437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Lucida Sans Unicode"/>
              </a:rPr>
              <a:t>Синонимы</a:t>
            </a:r>
            <a:r>
              <a:rPr b="0" i="1" lang="ru-RU" sz="2000" spc="-1" strike="noStrike">
                <a:solidFill>
                  <a:srgbClr val="000000"/>
                </a:solidFill>
                <a:latin typeface="Lucida Sans Unicode"/>
              </a:rPr>
              <a:t> </a:t>
            </a: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(греч. synonymos – одноименный) – это разные слова, выражающие одно и то же понятие, имеющие одинаковые или близкие лексические значения. Например, </a:t>
            </a:r>
            <a:r>
              <a:rPr b="1" i="1" lang="ru-RU" sz="2000" spc="-1" strike="noStrike">
                <a:solidFill>
                  <a:srgbClr val="000000"/>
                </a:solidFill>
                <a:latin typeface="Lucida Sans Unicode"/>
              </a:rPr>
              <a:t>вежливый, деликатный, корректный; сиять, блестеть, сверкать</a:t>
            </a: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 и т.д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401760" indent="-281160">
              <a:spcBef>
                <a:spcPts val="437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На базе общего лексического значения синонимы объединяются в ряды. Слова, объединенные синонимическими отношениями, называются</a:t>
            </a:r>
            <a:r>
              <a:rPr b="1" lang="ru-RU" sz="2000" spc="-1" strike="noStrike">
                <a:solidFill>
                  <a:srgbClr val="000000"/>
                </a:solidFill>
                <a:latin typeface="Lucida Sans Unicode"/>
              </a:rPr>
              <a:t>синонимическим рядом</a:t>
            </a: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. Каждому синонимическому ряду присуще общее значение, в котором концентрируются оттенки единого смысла, заключенного в отдельных значениях всех членов данного ряда. Общее значение синонимического ряда обычно выражается одним из его членов, который является для данного ряда стержневым словом и называется </a:t>
            </a:r>
            <a:r>
              <a:rPr b="1" lang="ru-RU" sz="2000" spc="-1" strike="noStrike">
                <a:solidFill>
                  <a:srgbClr val="000000"/>
                </a:solidFill>
                <a:latin typeface="Lucida Sans Unicode"/>
              </a:rPr>
              <a:t>доминантой </a:t>
            </a: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(от лат. dominans – господствующий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401760" indent="-281160">
              <a:lnSpc>
                <a:spcPct val="80000"/>
              </a:lnSpc>
              <a:spcBef>
                <a:spcPts val="437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401760" indent="-281160">
              <a:lnSpc>
                <a:spcPct val="8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401760" indent="-281160">
              <a:lnSpc>
                <a:spcPct val="8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3" name="Прямоугольник 2"/>
          <p:cNvSpPr/>
          <p:nvPr/>
        </p:nvSpPr>
        <p:spPr>
          <a:xfrm>
            <a:off x="968400" y="565200"/>
            <a:ext cx="81104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Text Box 1"/>
          <p:cNvSpPr/>
          <p:nvPr/>
        </p:nvSpPr>
        <p:spPr>
          <a:xfrm>
            <a:off x="468360" y="779400"/>
            <a:ext cx="9067680" cy="56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7040"/>
                <a:tab algn="l" pos="4486320"/>
                <a:tab algn="l" pos="49356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7320"/>
                <a:tab algn="l" pos="8526600"/>
                <a:tab algn="l" pos="8975880"/>
                <a:tab algn="l" pos="9367920"/>
                <a:tab algn="l" pos="9813960"/>
                <a:tab algn="l" pos="10260000"/>
                <a:tab algn="l" pos="107060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Есть и слова с неблагоприятным значением. Самое, пожалуй, известное – число четыре. Его китайцы стараются по возможности избегать. Дело в том, что «четыре»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四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sì звучит почти как «смерть»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死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sǐ (о символике чисел смотрите подробнее здесь). Один мой знакомый, который в свое время занимался поставками наших самолетов в Поднебесную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Text Box 2"/>
          <p:cNvSpPr/>
          <p:nvPr/>
        </p:nvSpPr>
        <p:spPr>
          <a:xfrm>
            <a:off x="936720" y="565200"/>
            <a:ext cx="8966160" cy="61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39840" indent="-33840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7040"/>
                <a:tab algn="l" pos="4486320"/>
                <a:tab algn="l" pos="49356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7320"/>
                <a:tab algn="l" pos="8526600"/>
                <a:tab algn="l" pos="8975880"/>
                <a:tab algn="l" pos="9367920"/>
                <a:tab algn="l" pos="9813960"/>
                <a:tab algn="l" pos="10260000"/>
                <a:tab algn="l" pos="107060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840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7040"/>
                <a:tab algn="l" pos="4486320"/>
                <a:tab algn="l" pos="49356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7320"/>
                <a:tab algn="l" pos="8526600"/>
                <a:tab algn="l" pos="8975880"/>
                <a:tab algn="l" pos="9367920"/>
                <a:tab algn="l" pos="9813960"/>
                <a:tab algn="l" pos="10260000"/>
                <a:tab algn="l" pos="107060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840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7040"/>
                <a:tab algn="l" pos="4486320"/>
                <a:tab algn="l" pos="49356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7320"/>
                <a:tab algn="l" pos="8526600"/>
                <a:tab algn="l" pos="8975880"/>
                <a:tab algn="l" pos="9367920"/>
                <a:tab algn="l" pos="9813960"/>
                <a:tab algn="l" pos="10260000"/>
                <a:tab algn="l" pos="107060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840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7040"/>
                <a:tab algn="l" pos="4486320"/>
                <a:tab algn="l" pos="49356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7320"/>
                <a:tab algn="l" pos="8526600"/>
                <a:tab algn="l" pos="8975880"/>
                <a:tab algn="l" pos="9367920"/>
                <a:tab algn="l" pos="9813960"/>
                <a:tab algn="l" pos="10260000"/>
                <a:tab algn="l" pos="107060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840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7040"/>
                <a:tab algn="l" pos="4486320"/>
                <a:tab algn="l" pos="49356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7320"/>
                <a:tab algn="l" pos="8526600"/>
                <a:tab algn="l" pos="8975880"/>
                <a:tab algn="l" pos="9367920"/>
                <a:tab algn="l" pos="9813960"/>
                <a:tab algn="l" pos="10260000"/>
                <a:tab algn="l" pos="107060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840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7040"/>
                <a:tab algn="l" pos="4486320"/>
                <a:tab algn="l" pos="49356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7320"/>
                <a:tab algn="l" pos="8526600"/>
                <a:tab algn="l" pos="8975880"/>
                <a:tab algn="l" pos="9367920"/>
                <a:tab algn="l" pos="9813960"/>
                <a:tab algn="l" pos="10260000"/>
                <a:tab algn="l" pos="107060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840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7040"/>
                <a:tab algn="l" pos="4486320"/>
                <a:tab algn="l" pos="49356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7320"/>
                <a:tab algn="l" pos="8526600"/>
                <a:tab algn="l" pos="8975880"/>
                <a:tab algn="l" pos="9367920"/>
                <a:tab algn="l" pos="9813960"/>
                <a:tab algn="l" pos="10260000"/>
                <a:tab algn="l" pos="107060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840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7040"/>
                <a:tab algn="l" pos="4486320"/>
                <a:tab algn="l" pos="49356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7320"/>
                <a:tab algn="l" pos="8526600"/>
                <a:tab algn="l" pos="8975880"/>
                <a:tab algn="l" pos="9367920"/>
                <a:tab algn="l" pos="9813960"/>
                <a:tab algn="l" pos="10260000"/>
                <a:tab algn="l" pos="107060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840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7040"/>
                <a:tab algn="l" pos="4486320"/>
                <a:tab algn="l" pos="49356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7320"/>
                <a:tab algn="l" pos="8526600"/>
                <a:tab algn="l" pos="8975880"/>
                <a:tab algn="l" pos="9367920"/>
                <a:tab algn="l" pos="9813960"/>
                <a:tab algn="l" pos="10260000"/>
                <a:tab algn="l" pos="107060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840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7040"/>
                <a:tab algn="l" pos="4486320"/>
                <a:tab algn="l" pos="49356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7320"/>
                <a:tab algn="l" pos="8526600"/>
                <a:tab algn="l" pos="8975880"/>
                <a:tab algn="l" pos="9367920"/>
                <a:tab algn="l" pos="9813960"/>
                <a:tab algn="l" pos="10260000"/>
                <a:tab algn="l" pos="107060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840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7040"/>
                <a:tab algn="l" pos="4486320"/>
                <a:tab algn="l" pos="49356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7320"/>
                <a:tab algn="l" pos="8526600"/>
                <a:tab algn="l" pos="8975880"/>
                <a:tab algn="l" pos="9367920"/>
                <a:tab algn="l" pos="9813960"/>
                <a:tab algn="l" pos="10260000"/>
                <a:tab algn="l" pos="107060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Text Box 3"/>
          <p:cNvSpPr/>
          <p:nvPr/>
        </p:nvSpPr>
        <p:spPr>
          <a:xfrm>
            <a:off x="9570960" y="3494160"/>
            <a:ext cx="46080" cy="32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Прямоугольник 4"/>
          <p:cNvSpPr/>
          <p:nvPr/>
        </p:nvSpPr>
        <p:spPr>
          <a:xfrm>
            <a:off x="396720" y="708120"/>
            <a:ext cx="9001440" cy="623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роли доминанты синонимического ряда выступает наиболее употребительное и стилистически нейтральное слово. Например, синонимический ряд 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неприятный, мерзкий, отталкивающий, отвратительный, гадкий, скверный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меет общее значение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обладающий отрицательными свойствами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".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то общее значение выражается словом 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неприятны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которое и служит доминантой. Как правило, стержневое слово синонимического ряда выступает в своем прямом (номинативном) значении и может заменять любое слово ряда, но не наоборот, так как любое слово ряда богаче доминанты: к основному значению присоединяются различные оттенки смысла, экспрессии, стилистической принадлежности и т.д. Например, синонимы 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жадный, скупой, корыстолюбивы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имеют общее значение, заключенное в слове 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жадны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но каждое из слов ряда имеет свой смысловой оттенок: – желающий захватить себе побольше; 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купо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– мало или вовсе ничего не дающий; 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корыстолюбивы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– любящий выгоду, корысть и деньг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составе данного ряда 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жадны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объединяются слова только одной части речи. Например, 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гореть, пылать, бушевать, полыхать, пламенеть, тлеть; красный, алый, багряный, багровый; жара, зно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и т.д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 txBox="1"/>
          <p:nvPr/>
        </p:nvSpPr>
        <p:spPr>
          <a:xfrm>
            <a:off x="936720" y="493560"/>
            <a:ext cx="8632800" cy="6500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401760" indent="-281160">
              <a:spcBef>
                <a:spcPts val="437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Lucida Sans Unicode"/>
              </a:rPr>
              <a:t>Семантические, </a:t>
            </a: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или</a:t>
            </a:r>
            <a:r>
              <a:rPr b="1" lang="ru-RU" sz="2000" spc="-1" strike="noStrike">
                <a:solidFill>
                  <a:srgbClr val="000000"/>
                </a:solidFill>
                <a:latin typeface="Lucida Sans Unicode"/>
              </a:rPr>
              <a:t> идеографические</a:t>
            </a: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 (от лат. idea – понятие, grapho – пишу), - это синонимы, различающиеся оттенками значения: </a:t>
            </a:r>
            <a:r>
              <a:rPr b="1" i="1" lang="ru-RU" sz="2000" spc="-1" strike="noStrike">
                <a:solidFill>
                  <a:srgbClr val="000000"/>
                </a:solidFill>
                <a:latin typeface="Lucida Sans Unicode"/>
              </a:rPr>
              <a:t>безветрие, тишь, затишье; метель, буран, вьюга, пурга; медленный, небыстрый, неторопливый</a:t>
            </a: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 и т.д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401760" indent="-281160">
              <a:spcBef>
                <a:spcPts val="437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Lucida Sans Unicode"/>
              </a:rPr>
              <a:t>Градационные </a:t>
            </a: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(от лат. gradatio – постепенное усилие) – это синонимы, обозначающие разные степени качества: </a:t>
            </a:r>
            <a:r>
              <a:rPr b="1" i="1" lang="ru-RU" sz="2000" spc="-1" strike="noStrike">
                <a:solidFill>
                  <a:srgbClr val="000000"/>
                </a:solidFill>
                <a:latin typeface="Lucida Sans Unicode"/>
              </a:rPr>
              <a:t>большой – огромный – грандиозный; верх – вершина – венец – апогея – зенит; беспокойство – волнение – тревога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Lucida Sans Unicode"/>
              </a:rPr>
              <a:t> </a:t>
            </a: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и др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401760" indent="-281160">
              <a:spcBef>
                <a:spcPts val="437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Lucida Sans Unicode"/>
              </a:rPr>
              <a:t>Эмоционально–экспрессивные, </a:t>
            </a: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или</a:t>
            </a:r>
            <a:r>
              <a:rPr b="1" lang="ru-RU" sz="2000" spc="-1" strike="noStrike">
                <a:solidFill>
                  <a:srgbClr val="000000"/>
                </a:solidFill>
                <a:latin typeface="Lucida Sans Unicode"/>
              </a:rPr>
              <a:t> стилистические</a:t>
            </a: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, – это синонимы, обозначая одно и то же явление действительности, имеют разную сферу употребления или различную стилистическую окраску, например: </a:t>
            </a:r>
            <a:r>
              <a:rPr b="1" i="1" lang="ru-RU" sz="2000" spc="-1" strike="noStrike">
                <a:solidFill>
                  <a:srgbClr val="000000"/>
                </a:solidFill>
                <a:latin typeface="Lucida Sans Unicode"/>
              </a:rPr>
              <a:t>губы</a:t>
            </a: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 (нейтр.) –</a:t>
            </a:r>
            <a:r>
              <a:rPr b="1" i="1" lang="ru-RU" sz="2000" spc="-1" strike="noStrike">
                <a:solidFill>
                  <a:srgbClr val="000000"/>
                </a:solidFill>
                <a:latin typeface="Lucida Sans Unicode"/>
              </a:rPr>
              <a:t>уста </a:t>
            </a: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(поэтич., устар.); </a:t>
            </a:r>
            <a:r>
              <a:rPr b="1" i="1" lang="ru-RU" sz="2000" spc="-1" strike="noStrike">
                <a:solidFill>
                  <a:srgbClr val="000000"/>
                </a:solidFill>
                <a:latin typeface="Lucida Sans Unicode"/>
              </a:rPr>
              <a:t>умереть </a:t>
            </a: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(нейтр.) – </a:t>
            </a:r>
            <a:r>
              <a:rPr b="1" i="1" lang="ru-RU" sz="2000" spc="-1" strike="noStrike">
                <a:solidFill>
                  <a:srgbClr val="000000"/>
                </a:solidFill>
                <a:latin typeface="Lucida Sans Unicode"/>
              </a:rPr>
              <a:t>скончаться </a:t>
            </a: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(кн., высок.) – </a:t>
            </a:r>
            <a:r>
              <a:rPr b="1" i="1" lang="ru-RU" sz="2000" spc="-1" strike="noStrike">
                <a:solidFill>
                  <a:srgbClr val="000000"/>
                </a:solidFill>
                <a:latin typeface="Lucida Sans Unicode"/>
              </a:rPr>
              <a:t>окочуриться</a:t>
            </a: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(разг., прост.); </a:t>
            </a:r>
            <a:r>
              <a:rPr b="1" i="1" lang="ru-RU" sz="2000" spc="-1" strike="noStrike">
                <a:solidFill>
                  <a:srgbClr val="000000"/>
                </a:solidFill>
                <a:latin typeface="Lucida Sans Unicode"/>
              </a:rPr>
              <a:t>есть </a:t>
            </a: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(нейтр.) – </a:t>
            </a:r>
            <a:r>
              <a:rPr b="1" i="1" lang="ru-RU" sz="2000" spc="-1" strike="noStrike">
                <a:solidFill>
                  <a:srgbClr val="000000"/>
                </a:solidFill>
                <a:latin typeface="Lucida Sans Unicode"/>
              </a:rPr>
              <a:t>кушать</a:t>
            </a: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 (разг.) – </a:t>
            </a:r>
            <a:r>
              <a:rPr b="1" i="1" lang="ru-RU" sz="2000" spc="-1" strike="noStrike">
                <a:solidFill>
                  <a:srgbClr val="000000"/>
                </a:solidFill>
                <a:latin typeface="Lucida Sans Unicode"/>
              </a:rPr>
              <a:t>вкушать</a:t>
            </a: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 (кн., устар.) – </a:t>
            </a:r>
            <a:r>
              <a:rPr b="1" i="1" lang="ru-RU" sz="2000" spc="-1" strike="noStrike">
                <a:solidFill>
                  <a:srgbClr val="000000"/>
                </a:solidFill>
                <a:latin typeface="Lucida Sans Unicode"/>
              </a:rPr>
              <a:t>жрать</a:t>
            </a: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 (груб., простореч.) и т.д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401760" indent="-281160" algn="just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401760" indent="-281160" algn="just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401760" indent="-281160" algn="just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401760" indent="-281160" algn="just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401760" indent="-281160" algn="just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401760" indent="-281160" algn="just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401760" indent="-281160" algn="just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401760" indent="-281160" algn="just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401760" indent="-281160" algn="just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401760" indent="-281160" algn="just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Text Box 1"/>
          <p:cNvSpPr/>
          <p:nvPr/>
        </p:nvSpPr>
        <p:spPr>
          <a:xfrm>
            <a:off x="503280" y="301680"/>
            <a:ext cx="906768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7040"/>
                <a:tab algn="l" pos="4486320"/>
                <a:tab algn="l" pos="49356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7320"/>
                <a:tab algn="l" pos="8526600"/>
                <a:tab algn="l" pos="8975880"/>
                <a:tab algn="l" pos="9367920"/>
                <a:tab algn="l" pos="9813960"/>
                <a:tab algn="l" pos="10260000"/>
                <a:tab algn="l" pos="1070604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Text Box 15"/>
          <p:cNvSpPr/>
          <p:nvPr/>
        </p:nvSpPr>
        <p:spPr>
          <a:xfrm>
            <a:off x="5113440" y="1768320"/>
            <a:ext cx="4457520" cy="49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Прямоугольник 5"/>
          <p:cNvSpPr/>
          <p:nvPr/>
        </p:nvSpPr>
        <p:spPr>
          <a:xfrm>
            <a:off x="754200" y="636480"/>
            <a:ext cx="8501040" cy="725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бсолютные,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ли 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ублет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(франц. doublet из double – двойной), - это синонимы, имеющие одинаковые лексические значения и не отличающиеся друг от друга ни экспрессивной окрашенностью, ни стилистической закрепленностью; это абсолютно равнозначные слова. Как правило, они однозначны и возникают в языке случайно: 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языкознание – языковедение – лингвистика; довод – аргумент; гостиница – отель, возмещать – компенсироват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и т.д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роме 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щеязыковых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постоянных, сложившихся), или 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зуальных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синонимов, представленных в словарях, например: 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ечальный, невеселый, нерадостный, грустный, скорбный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существуют также 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нтекстуальные,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кказиональные,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инонимы – слова, которые сближаются по значению только в данном контексте и обусловлены особенностями языка и стиля автора. Так, прилагательные 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важны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и 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ерьезный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 являются синонимами. Однако у А.П.Чехова эти прилагательные становятся контекстуальными синонимами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Text Box 1"/>
          <p:cNvSpPr/>
          <p:nvPr/>
        </p:nvSpPr>
        <p:spPr>
          <a:xfrm>
            <a:off x="504720" y="1994040"/>
            <a:ext cx="9072720" cy="30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Старику хотелось 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важных, серьезных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 мыслей, хотелось ему не просто думать, а размышлять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ще пример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Сколько раз пытался я 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ускори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Время, что несло меня вперед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одхлестнуть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, вспугнуть его, 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ришпорить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Чтобы слышать, как оно идет.   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    (С.Маршак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инонимы тесно связаны с явлением многозначности. Каждое значение многозначного слова имеет свой синонимический ряд: 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тихий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 голос – глухой, слабый, едва слышный; 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тихая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 езда – медленная, небыстрая, черепашьим шагом, еле-еле;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тихий 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человек – скромный, смирный, кроткий; 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тихий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 сон – безмятежный, спокойны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инонимы наделены определенными функциями в речи. Они делают речь красочнее, разнообразнее, помогают избегать повторения одних и тех же слов, позволяют образно выразить мысль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r>
              <a:rPr b="1" i="1" lang="ru-RU" sz="5400" spc="-1" strike="noStrike">
                <a:solidFill>
                  <a:srgbClr val="c00000"/>
                </a:solidFill>
                <a:latin typeface="Times New Roman"/>
              </a:rPr>
              <a:t>: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Text Box 2"/>
          <p:cNvSpPr/>
          <p:nvPr/>
        </p:nvSpPr>
        <p:spPr>
          <a:xfrm>
            <a:off x="504720" y="1692360"/>
            <a:ext cx="4453200" cy="7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Text Box 6"/>
          <p:cNvSpPr/>
          <p:nvPr/>
        </p:nvSpPr>
        <p:spPr>
          <a:xfrm>
            <a:off x="5897520" y="4637160"/>
            <a:ext cx="4456080" cy="18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101520"/>
                <a:tab algn="l" pos="550800"/>
                <a:tab algn="l" pos="1000080"/>
                <a:tab algn="l" pos="1449360"/>
                <a:tab algn="l" pos="1898640"/>
                <a:tab algn="l" pos="2347920"/>
                <a:tab algn="l" pos="2797200"/>
                <a:tab algn="l" pos="3246480"/>
                <a:tab algn="l" pos="3695760"/>
                <a:tab algn="l" pos="4143240"/>
                <a:tab algn="l" pos="4592520"/>
                <a:tab algn="l" pos="5041800"/>
                <a:tab algn="l" pos="5489640"/>
                <a:tab algn="l" pos="5938920"/>
                <a:tab algn="l" pos="6388200"/>
                <a:tab algn="l" pos="6837480"/>
                <a:tab algn="l" pos="7286760"/>
                <a:tab algn="l" pos="7734240"/>
                <a:tab algn="l" pos="8183520"/>
                <a:tab algn="l" pos="8632800"/>
                <a:tab algn="l" pos="8921880"/>
                <a:tab algn="l" pos="9367920"/>
                <a:tab algn="l" pos="9813960"/>
                <a:tab algn="l" pos="10260000"/>
                <a:tab algn="l" pos="107060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101520"/>
                <a:tab algn="l" pos="550800"/>
                <a:tab algn="l" pos="1000080"/>
                <a:tab algn="l" pos="1449360"/>
                <a:tab algn="l" pos="1898640"/>
                <a:tab algn="l" pos="2347920"/>
                <a:tab algn="l" pos="2797200"/>
                <a:tab algn="l" pos="3246480"/>
                <a:tab algn="l" pos="3695760"/>
                <a:tab algn="l" pos="4143240"/>
                <a:tab algn="l" pos="4592520"/>
                <a:tab algn="l" pos="5041800"/>
                <a:tab algn="l" pos="5489640"/>
                <a:tab algn="l" pos="5938920"/>
                <a:tab algn="l" pos="6388200"/>
                <a:tab algn="l" pos="6837480"/>
                <a:tab algn="l" pos="7286760"/>
                <a:tab algn="l" pos="7734240"/>
                <a:tab algn="l" pos="8183520"/>
                <a:tab algn="l" pos="8632800"/>
                <a:tab algn="l" pos="8921880"/>
                <a:tab algn="l" pos="9367920"/>
                <a:tab algn="l" pos="9813960"/>
                <a:tab algn="l" pos="10260000"/>
                <a:tab algn="l" pos="107060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101520"/>
                <a:tab algn="l" pos="550800"/>
                <a:tab algn="l" pos="1000080"/>
                <a:tab algn="l" pos="1449360"/>
                <a:tab algn="l" pos="1898640"/>
                <a:tab algn="l" pos="2347920"/>
                <a:tab algn="l" pos="2797200"/>
                <a:tab algn="l" pos="3246480"/>
                <a:tab algn="l" pos="3695760"/>
                <a:tab algn="l" pos="4143240"/>
                <a:tab algn="l" pos="4592520"/>
                <a:tab algn="l" pos="5041800"/>
                <a:tab algn="l" pos="5489640"/>
                <a:tab algn="l" pos="5938920"/>
                <a:tab algn="l" pos="6388200"/>
                <a:tab algn="l" pos="6837480"/>
                <a:tab algn="l" pos="7286760"/>
                <a:tab algn="l" pos="7734240"/>
                <a:tab algn="l" pos="8183520"/>
                <a:tab algn="l" pos="8632800"/>
                <a:tab algn="l" pos="8921880"/>
                <a:tab algn="l" pos="9367920"/>
                <a:tab algn="l" pos="9813960"/>
                <a:tab algn="l" pos="10260000"/>
                <a:tab algn="l" pos="107060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101520"/>
                <a:tab algn="l" pos="550800"/>
                <a:tab algn="l" pos="1000080"/>
                <a:tab algn="l" pos="1449360"/>
                <a:tab algn="l" pos="1898640"/>
                <a:tab algn="l" pos="2347920"/>
                <a:tab algn="l" pos="2797200"/>
                <a:tab algn="l" pos="3246480"/>
                <a:tab algn="l" pos="3695760"/>
                <a:tab algn="l" pos="4143240"/>
                <a:tab algn="l" pos="4592520"/>
                <a:tab algn="l" pos="5041800"/>
                <a:tab algn="l" pos="5489640"/>
                <a:tab algn="l" pos="5938920"/>
                <a:tab algn="l" pos="6388200"/>
                <a:tab algn="l" pos="6837480"/>
                <a:tab algn="l" pos="7286760"/>
                <a:tab algn="l" pos="7734240"/>
                <a:tab algn="l" pos="8183520"/>
                <a:tab algn="l" pos="8632800"/>
                <a:tab algn="l" pos="8921880"/>
                <a:tab algn="l" pos="9367920"/>
                <a:tab algn="l" pos="9813960"/>
                <a:tab algn="l" pos="10260000"/>
                <a:tab algn="l" pos="107060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101520"/>
                <a:tab algn="l" pos="550800"/>
                <a:tab algn="l" pos="1000080"/>
                <a:tab algn="l" pos="1449360"/>
                <a:tab algn="l" pos="1898640"/>
                <a:tab algn="l" pos="2347920"/>
                <a:tab algn="l" pos="2797200"/>
                <a:tab algn="l" pos="3246480"/>
                <a:tab algn="l" pos="3695760"/>
                <a:tab algn="l" pos="4143240"/>
                <a:tab algn="l" pos="4592520"/>
                <a:tab algn="l" pos="5041800"/>
                <a:tab algn="l" pos="5489640"/>
                <a:tab algn="l" pos="5938920"/>
                <a:tab algn="l" pos="6388200"/>
                <a:tab algn="l" pos="6837480"/>
                <a:tab algn="l" pos="7286760"/>
                <a:tab algn="l" pos="7734240"/>
                <a:tab algn="l" pos="8183520"/>
                <a:tab algn="l" pos="8632800"/>
                <a:tab algn="l" pos="8921880"/>
                <a:tab algn="l" pos="9367920"/>
                <a:tab algn="l" pos="9813960"/>
                <a:tab algn="l" pos="10260000"/>
                <a:tab algn="l" pos="107060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101520"/>
                <a:tab algn="l" pos="550800"/>
                <a:tab algn="l" pos="1000080"/>
                <a:tab algn="l" pos="1449360"/>
                <a:tab algn="l" pos="1898640"/>
                <a:tab algn="l" pos="2347920"/>
                <a:tab algn="l" pos="2797200"/>
                <a:tab algn="l" pos="3246480"/>
                <a:tab algn="l" pos="3695760"/>
                <a:tab algn="l" pos="4143240"/>
                <a:tab algn="l" pos="4592520"/>
                <a:tab algn="l" pos="5041800"/>
                <a:tab algn="l" pos="5489640"/>
                <a:tab algn="l" pos="5938920"/>
                <a:tab algn="l" pos="6388200"/>
                <a:tab algn="l" pos="6837480"/>
                <a:tab algn="l" pos="7286760"/>
                <a:tab algn="l" pos="7734240"/>
                <a:tab algn="l" pos="8183520"/>
                <a:tab algn="l" pos="8632800"/>
                <a:tab algn="l" pos="8921880"/>
                <a:tab algn="l" pos="9367920"/>
                <a:tab algn="l" pos="9813960"/>
                <a:tab algn="l" pos="10260000"/>
                <a:tab algn="l" pos="107060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Text Box 7"/>
          <p:cNvSpPr/>
          <p:nvPr/>
        </p:nvSpPr>
        <p:spPr>
          <a:xfrm>
            <a:off x="539640" y="1547640"/>
            <a:ext cx="9541080" cy="494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512640" indent="-51264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7040"/>
                <a:tab algn="l" pos="4486320"/>
                <a:tab algn="l" pos="49356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7320"/>
                <a:tab algn="l" pos="8526600"/>
                <a:tab algn="l" pos="8975880"/>
                <a:tab algn="l" pos="9367920"/>
                <a:tab algn="l" pos="9813960"/>
                <a:tab algn="l" pos="10260000"/>
                <a:tab algn="l" pos="107060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1"/>
          <p:cNvSpPr/>
          <p:nvPr/>
        </p:nvSpPr>
        <p:spPr>
          <a:xfrm>
            <a:off x="0" y="810360"/>
            <a:ext cx="10080720" cy="579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просы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      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такое синонимы, синонимический рад и доминанта синонимического ряда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      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какие типы делятся синонимы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      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чем заключается стилистическая функция синонимов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айди синоним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тот тест выявляет ваше чувство слова. В каждом ряду шесть слов: два из них более тесно связаны между собой, чем остальные, означают практически одно и то же. Найди эти два слова. Подчеркни их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мер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гулять, бегать, ехать, летать, сидеть, прогуливатьс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твет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гулять и прогуливаться - синоним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йди синоним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скоре, почти, едва, частично, часто, отдельно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рекаться, забывать, ненавидеть, оставлять, владеть, презирать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есчеловечный, жестокий, мужественный, осторожный, жалостливый, добродетельны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ольной, необычный, странный, усталый, напыщенный, забавны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уховный, отвратительный, благообразный, стройный, ужасный, безвкусны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призный, посредственный, отталкивающий, нелепый, абсурдный, значительны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щий, смешанный, много, главный, сплошной, полны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кровительствующий, наблюдающий, приводящий, сопровождающий, аккомпанирующий, вступающи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 txBox="1"/>
          <p:nvPr/>
        </p:nvSpPr>
        <p:spPr>
          <a:xfrm>
            <a:off x="503280" y="279360"/>
            <a:ext cx="9074160" cy="6199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401760" indent="-281160">
              <a:spcBef>
                <a:spcPts val="437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401760" indent="-281160">
              <a:spcBef>
                <a:spcPts val="437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401760" indent="-281160">
              <a:spcBef>
                <a:spcPts val="437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вступающий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401760" indent="-281160">
              <a:spcBef>
                <a:spcPts val="437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Сражаться, осуществлять, сопротивляться, существовать, воздействовать, применять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401760" indent="-281160">
              <a:spcBef>
                <a:spcPts val="437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Препона, допущение, мотив, препятствие, скорбь, эффект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401760" indent="-281160">
              <a:spcBef>
                <a:spcPts val="437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Дельный, дерзкий, абсурдный, уместный, нетерпеливый, навязчивый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401760" indent="-281160">
              <a:spcBef>
                <a:spcPts val="437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Полдень, село, сумерки, день, степь, потемки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401760" indent="-281160">
              <a:spcBef>
                <a:spcPts val="437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Ссориться, ассистировать, демонстрировать, скандалить, разрушать, отдавать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401760" indent="-281160">
              <a:spcBef>
                <a:spcPts val="437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Пересекающийся, непристойный, непостоянный, меняющийся, значимый, аргументированный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401760" indent="-281160">
              <a:spcBef>
                <a:spcPts val="437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Расщепить, трещина, менеджер, устоять, сомнительный, разрушить</a:t>
            </a:r>
            <a:r>
              <a:rPr b="0" lang="ru-RU" sz="48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Text Box 1"/>
          <p:cNvSpPr/>
          <p:nvPr/>
        </p:nvSpPr>
        <p:spPr>
          <a:xfrm>
            <a:off x="325440" y="1065240"/>
            <a:ext cx="9529920" cy="46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Тема: Синоним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Цели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Знать: енками значений,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Тема: Синоним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Цели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Знать: определение синонимов; о различении синонимов оттенками значений, эмоциональной окраской и стилевой неоднородностью; о роли синонимов в речи; о синонимических рядах; выборе из них слов в соответствии со стилем высказывания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Уметь: подбирать синонимы к данному слову; использовать синонимы в речи в соответствии с их стилистическими особенностями; употреблять синонимы в речи с целью её обогащен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й неоднородностью; о роли синонимов в речи; о синонимических рядах; выборе из них слов в соответствии со стилем высказывания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Уметь: подбирать синонимы к данному слову; использовать синонимы в речи в соответствии с их стилистическими особенностями; употреблять синонимы в речи с целью её обогащен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Text Box 1"/>
          <p:cNvSpPr/>
          <p:nvPr/>
        </p:nvSpPr>
        <p:spPr>
          <a:xfrm>
            <a:off x="468360" y="1636560"/>
            <a:ext cx="9286920" cy="50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Синоним 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                       Син – «одно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Синонимика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                  оним – «имя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Text Box 2"/>
          <p:cNvSpPr/>
          <p:nvPr/>
        </p:nvSpPr>
        <p:spPr>
          <a:xfrm>
            <a:off x="3254400" y="993600"/>
            <a:ext cx="4425840" cy="49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Text Box 1"/>
          <p:cNvSpPr/>
          <p:nvPr/>
        </p:nvSpPr>
        <p:spPr>
          <a:xfrm>
            <a:off x="539640" y="565200"/>
            <a:ext cx="9144000" cy="650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7040"/>
                <a:tab algn="l" pos="4486320"/>
                <a:tab algn="l" pos="49356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7320"/>
                <a:tab algn="l" pos="8526600"/>
                <a:tab algn="l" pos="8975880"/>
                <a:tab algn="l" pos="9367920"/>
                <a:tab algn="l" pos="9813960"/>
                <a:tab algn="l" pos="10260000"/>
                <a:tab algn="l" pos="107060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есение согласных : </a:t>
            </a:r>
            <a:r>
              <a:rPr b="0" lang="ru-RU" sz="2000" spc="-1" strike="noStrike">
                <a:solidFill>
                  <a:srgbClr val="c00000"/>
                </a:solidFill>
                <a:latin typeface="Times New Roman"/>
              </a:rPr>
              <a:t>костный –косны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7040"/>
                <a:tab algn="l" pos="4486320"/>
                <a:tab algn="l" pos="49356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7320"/>
                <a:tab algn="l" pos="8526600"/>
                <a:tab algn="l" pos="8975880"/>
                <a:tab algn="l" pos="9367920"/>
                <a:tab algn="l" pos="9813960"/>
                <a:tab algn="l" pos="10260000"/>
                <a:tab algn="l" pos="107060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7040"/>
                <a:tab algn="l" pos="4486320"/>
                <a:tab algn="l" pos="49356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7320"/>
                <a:tab algn="l" pos="8526600"/>
                <a:tab algn="l" pos="8975880"/>
                <a:tab algn="l" pos="9367920"/>
                <a:tab algn="l" pos="9813960"/>
                <a:tab algn="l" pos="10260000"/>
                <a:tab algn="l" pos="107060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7040"/>
                <a:tab algn="l" pos="4486320"/>
                <a:tab algn="l" pos="49356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7320"/>
                <a:tab algn="l" pos="8526600"/>
                <a:tab algn="l" pos="8975880"/>
                <a:tab algn="l" pos="9367920"/>
                <a:tab algn="l" pos="9813960"/>
                <a:tab algn="l" pos="10260000"/>
                <a:tab algn="l" pos="107060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7040"/>
                <a:tab algn="l" pos="4486320"/>
                <a:tab algn="l" pos="49356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7320"/>
                <a:tab algn="l" pos="8526600"/>
                <a:tab algn="l" pos="8975880"/>
                <a:tab algn="l" pos="9367920"/>
                <a:tab algn="l" pos="9813960"/>
                <a:tab algn="l" pos="10260000"/>
                <a:tab algn="l" pos="107060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7040"/>
                <a:tab algn="l" pos="4486320"/>
                <a:tab algn="l" pos="49356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7320"/>
                <a:tab algn="l" pos="8526600"/>
                <a:tab algn="l" pos="8975880"/>
                <a:tab algn="l" pos="9367920"/>
                <a:tab algn="l" pos="9813960"/>
                <a:tab algn="l" pos="10260000"/>
                <a:tab algn="l" pos="107060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7040"/>
                <a:tab algn="l" pos="4486320"/>
                <a:tab algn="l" pos="49356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7320"/>
                <a:tab algn="l" pos="8526600"/>
                <a:tab algn="l" pos="8975880"/>
                <a:tab algn="l" pos="9367920"/>
                <a:tab algn="l" pos="9813960"/>
                <a:tab algn="l" pos="10260000"/>
                <a:tab algn="l" pos="107060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7040"/>
                <a:tab algn="l" pos="4486320"/>
                <a:tab algn="l" pos="49356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7320"/>
                <a:tab algn="l" pos="8526600"/>
                <a:tab algn="l" pos="8975880"/>
                <a:tab algn="l" pos="9367920"/>
                <a:tab algn="l" pos="9813960"/>
                <a:tab algn="l" pos="10260000"/>
                <a:tab algn="l" pos="107060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7040"/>
                <a:tab algn="l" pos="4486320"/>
                <a:tab algn="l" pos="49356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7320"/>
                <a:tab algn="l" pos="8526600"/>
                <a:tab algn="l" pos="8975880"/>
                <a:tab algn="l" pos="9367920"/>
                <a:tab algn="l" pos="9813960"/>
                <a:tab algn="l" pos="10260000"/>
                <a:tab algn="l" pos="107060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Text Box 2"/>
          <p:cNvSpPr/>
          <p:nvPr/>
        </p:nvSpPr>
        <p:spPr>
          <a:xfrm>
            <a:off x="646200" y="1959120"/>
            <a:ext cx="4425840" cy="49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39840" indent="-33840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7040"/>
                <a:tab algn="l" pos="4486320"/>
                <a:tab algn="l" pos="49356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7320"/>
                <a:tab algn="l" pos="8526600"/>
                <a:tab algn="l" pos="8975880"/>
                <a:tab algn="l" pos="9367920"/>
                <a:tab algn="l" pos="9813960"/>
                <a:tab algn="l" pos="10260000"/>
                <a:tab algn="l" pos="107060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Text Box 3"/>
          <p:cNvSpPr/>
          <p:nvPr/>
        </p:nvSpPr>
        <p:spPr>
          <a:xfrm>
            <a:off x="6183360" y="1565280"/>
            <a:ext cx="4425840" cy="49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39840" indent="-33840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7040"/>
                <a:tab algn="l" pos="4486320"/>
                <a:tab algn="l" pos="49356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7320"/>
                <a:tab algn="l" pos="8526600"/>
                <a:tab algn="l" pos="8975880"/>
                <a:tab algn="l" pos="9367920"/>
                <a:tab algn="l" pos="9813960"/>
                <a:tab algn="l" pos="10260000"/>
                <a:tab algn="l" pos="107060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Прямоугольник 6"/>
          <p:cNvSpPr/>
          <p:nvPr/>
        </p:nvSpPr>
        <p:spPr>
          <a:xfrm>
            <a:off x="4516920" y="3605040"/>
            <a:ext cx="104652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Красны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9" name="Picture 4" descr="мак3"/>
          <p:cNvPicPr/>
          <p:nvPr/>
        </p:nvPicPr>
        <p:blipFill>
          <a:blip r:embed="rId1"/>
          <a:stretch/>
        </p:blipFill>
        <p:spPr>
          <a:xfrm>
            <a:off x="968400" y="636480"/>
            <a:ext cx="6978600" cy="4680000"/>
          </a:xfrm>
          <a:prstGeom prst="rect">
            <a:avLst/>
          </a:prstGeom>
          <a:ln w="0">
            <a:noFill/>
          </a:ln>
        </p:spPr>
      </p:pic>
      <p:sp>
        <p:nvSpPr>
          <p:cNvPr id="380" name="Прямоугольник 9"/>
          <p:cNvSpPr/>
          <p:nvPr/>
        </p:nvSpPr>
        <p:spPr>
          <a:xfrm>
            <a:off x="2968560" y="5703840"/>
            <a:ext cx="421488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Красны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Text Box 1"/>
          <p:cNvSpPr/>
          <p:nvPr/>
        </p:nvSpPr>
        <p:spPr>
          <a:xfrm>
            <a:off x="504720" y="4280040"/>
            <a:ext cx="907272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7040"/>
                <a:tab algn="l" pos="4486320"/>
                <a:tab algn="l" pos="49356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7320"/>
                <a:tab algn="l" pos="8526600"/>
                <a:tab algn="l" pos="8975880"/>
                <a:tab algn="l" pos="9367920"/>
                <a:tab algn="l" pos="9813960"/>
                <a:tab algn="l" pos="10260000"/>
                <a:tab algn="l" pos="1070604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7040"/>
                <a:tab algn="l" pos="4486320"/>
                <a:tab algn="l" pos="49356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7320"/>
                <a:tab algn="l" pos="8526600"/>
                <a:tab algn="l" pos="8975880"/>
                <a:tab algn="l" pos="9367920"/>
                <a:tab algn="l" pos="9813960"/>
                <a:tab algn="l" pos="10260000"/>
                <a:tab algn="l" pos="107060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а не как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ли что иное)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7040"/>
                <a:tab algn="l" pos="4486320"/>
                <a:tab algn="l" pos="49356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7320"/>
                <a:tab algn="l" pos="8526600"/>
                <a:tab algn="l" pos="8975880"/>
                <a:tab algn="l" pos="9367920"/>
                <a:tab algn="l" pos="9813960"/>
                <a:tab algn="l" pos="10260000"/>
                <a:tab algn="l" pos="107060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7040"/>
                <a:tab algn="l" pos="4486320"/>
                <a:tab algn="l" pos="49356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7320"/>
                <a:tab algn="l" pos="8526600"/>
                <a:tab algn="l" pos="8975880"/>
                <a:tab algn="l" pos="9367920"/>
                <a:tab algn="l" pos="9813960"/>
                <a:tab algn="l" pos="10260000"/>
                <a:tab algn="l" pos="107060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7040"/>
                <a:tab algn="l" pos="4486320"/>
                <a:tab algn="l" pos="49356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7320"/>
                <a:tab algn="l" pos="8526600"/>
                <a:tab algn="l" pos="8975880"/>
                <a:tab algn="l" pos="9367920"/>
                <a:tab algn="l" pos="9813960"/>
                <a:tab algn="l" pos="10260000"/>
                <a:tab algn="l" pos="107060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Text Box 2"/>
          <p:cNvSpPr/>
          <p:nvPr/>
        </p:nvSpPr>
        <p:spPr>
          <a:xfrm>
            <a:off x="504720" y="1692360"/>
            <a:ext cx="4453200" cy="7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Text Box 3"/>
          <p:cNvSpPr/>
          <p:nvPr/>
        </p:nvSpPr>
        <p:spPr>
          <a:xfrm>
            <a:off x="611280" y="4959360"/>
            <a:ext cx="4452840" cy="17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39840" indent="-33840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7040"/>
                <a:tab algn="l" pos="4486320"/>
                <a:tab algn="l" pos="49356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7320"/>
                <a:tab algn="l" pos="8526600"/>
                <a:tab algn="l" pos="8975880"/>
                <a:tab algn="l" pos="9367920"/>
                <a:tab algn="l" pos="9813960"/>
                <a:tab algn="l" pos="10260000"/>
                <a:tab algn="l" pos="107060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Багровы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Text Box 4"/>
          <p:cNvSpPr/>
          <p:nvPr/>
        </p:nvSpPr>
        <p:spPr>
          <a:xfrm>
            <a:off x="5121360" y="1692360"/>
            <a:ext cx="4456080" cy="7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5" name="Picture 6" descr="вечер2"/>
          <p:cNvPicPr/>
          <p:nvPr/>
        </p:nvPicPr>
        <p:blipFill>
          <a:blip r:embed="rId1"/>
          <a:stretch/>
        </p:blipFill>
        <p:spPr>
          <a:xfrm>
            <a:off x="468360" y="549360"/>
            <a:ext cx="8136000" cy="44100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396720" y="493560"/>
            <a:ext cx="9133200" cy="7066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401760" indent="-281160" algn="ctr"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)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    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401760" indent="-281160" algn="ctr"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401760" indent="-281160" algn="ctr"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401760" indent="-281160" algn="ctr"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401760" indent="-281160" algn="ctr"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401760" indent="-281160" algn="ctr"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401760" indent="-281160" algn="ctr"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401760" indent="-281160" algn="ctr"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401760" indent="-281160" algn="ctr"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  </a:t>
            </a: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Возможно, одна из причин появления омофонов то, что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401760" indent="-281160"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401760" indent="-281160"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401760" indent="-281160"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401760" indent="-281160"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401760" indent="-281160"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401760" indent="-281160"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гряный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7" name="Picture 6" descr="вечер2"/>
          <p:cNvPicPr/>
          <p:nvPr/>
        </p:nvPicPr>
        <p:blipFill>
          <a:blip r:embed="rId1"/>
          <a:stretch/>
        </p:blipFill>
        <p:spPr>
          <a:xfrm>
            <a:off x="468360" y="549360"/>
            <a:ext cx="8136000" cy="44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Text Box 1"/>
          <p:cNvSpPr/>
          <p:nvPr/>
        </p:nvSpPr>
        <p:spPr>
          <a:xfrm>
            <a:off x="504720" y="301680"/>
            <a:ext cx="3316320" cy="12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Text Box 5"/>
          <p:cNvSpPr/>
          <p:nvPr/>
        </p:nvSpPr>
        <p:spPr>
          <a:xfrm>
            <a:off x="968400" y="357120"/>
            <a:ext cx="8715240" cy="7280280"/>
          </a:xfrm>
          <a:prstGeom prst="rect">
            <a:avLst/>
          </a:prstGeom>
          <a:solidFill>
            <a:srgbClr val="ffffff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101520"/>
                <a:tab algn="l" pos="550800"/>
                <a:tab algn="l" pos="1000080"/>
                <a:tab algn="l" pos="1449360"/>
                <a:tab algn="l" pos="1898640"/>
                <a:tab algn="l" pos="2347920"/>
                <a:tab algn="l" pos="2797200"/>
                <a:tab algn="l" pos="3246480"/>
                <a:tab algn="l" pos="3695760"/>
                <a:tab algn="l" pos="4143240"/>
                <a:tab algn="l" pos="4592520"/>
                <a:tab algn="l" pos="5041800"/>
                <a:tab algn="l" pos="5489640"/>
                <a:tab algn="l" pos="5938920"/>
                <a:tab algn="l" pos="6388200"/>
                <a:tab algn="l" pos="6837480"/>
                <a:tab algn="l" pos="7286760"/>
                <a:tab algn="l" pos="7734240"/>
                <a:tab algn="l" pos="8183520"/>
                <a:tab algn="l" pos="8632800"/>
                <a:tab algn="l" pos="8921880"/>
                <a:tab algn="l" pos="9367920"/>
                <a:tab algn="l" pos="9813960"/>
                <a:tab algn="l" pos="10260000"/>
                <a:tab algn="l" pos="107060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101520"/>
                <a:tab algn="l" pos="550800"/>
                <a:tab algn="l" pos="1000080"/>
                <a:tab algn="l" pos="1449360"/>
                <a:tab algn="l" pos="1898640"/>
                <a:tab algn="l" pos="2347920"/>
                <a:tab algn="l" pos="2797200"/>
                <a:tab algn="l" pos="3246480"/>
                <a:tab algn="l" pos="3695760"/>
                <a:tab algn="l" pos="4143240"/>
                <a:tab algn="l" pos="4592520"/>
                <a:tab algn="l" pos="5041800"/>
                <a:tab algn="l" pos="5489640"/>
                <a:tab algn="l" pos="5938920"/>
                <a:tab algn="l" pos="6388200"/>
                <a:tab algn="l" pos="6837480"/>
                <a:tab algn="l" pos="7286760"/>
                <a:tab algn="l" pos="7734240"/>
                <a:tab algn="l" pos="8183520"/>
                <a:tab algn="l" pos="8632800"/>
                <a:tab algn="l" pos="8921880"/>
                <a:tab algn="l" pos="9367920"/>
                <a:tab algn="l" pos="9813960"/>
                <a:tab algn="l" pos="10260000"/>
                <a:tab algn="l" pos="107060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101520"/>
                <a:tab algn="l" pos="550800"/>
                <a:tab algn="l" pos="1000080"/>
                <a:tab algn="l" pos="1449360"/>
                <a:tab algn="l" pos="1898640"/>
                <a:tab algn="l" pos="2347920"/>
                <a:tab algn="l" pos="2797200"/>
                <a:tab algn="l" pos="3246480"/>
                <a:tab algn="l" pos="3695760"/>
                <a:tab algn="l" pos="4143240"/>
                <a:tab algn="l" pos="4592520"/>
                <a:tab algn="l" pos="5041800"/>
                <a:tab algn="l" pos="5489640"/>
                <a:tab algn="l" pos="5938920"/>
                <a:tab algn="l" pos="6388200"/>
                <a:tab algn="l" pos="6837480"/>
                <a:tab algn="l" pos="7286760"/>
                <a:tab algn="l" pos="7734240"/>
                <a:tab algn="l" pos="8183520"/>
                <a:tab algn="l" pos="8632800"/>
                <a:tab algn="l" pos="8921880"/>
                <a:tab algn="l" pos="9367920"/>
                <a:tab algn="l" pos="9813960"/>
                <a:tab algn="l" pos="10260000"/>
                <a:tab algn="l" pos="1070604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</a:t>
            </a:r>
            <a:r>
              <a:rPr b="0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101520"/>
                <a:tab algn="l" pos="550800"/>
                <a:tab algn="l" pos="1000080"/>
                <a:tab algn="l" pos="1449360"/>
                <a:tab algn="l" pos="1898640"/>
                <a:tab algn="l" pos="2347920"/>
                <a:tab algn="l" pos="2797200"/>
                <a:tab algn="l" pos="3246480"/>
                <a:tab algn="l" pos="3695760"/>
                <a:tab algn="l" pos="4143240"/>
                <a:tab algn="l" pos="4592520"/>
                <a:tab algn="l" pos="5041800"/>
                <a:tab algn="l" pos="5489640"/>
                <a:tab algn="l" pos="5938920"/>
                <a:tab algn="l" pos="6388200"/>
                <a:tab algn="l" pos="6837480"/>
                <a:tab algn="l" pos="7286760"/>
                <a:tab algn="l" pos="7734240"/>
                <a:tab algn="l" pos="8183520"/>
                <a:tab algn="l" pos="8632800"/>
                <a:tab algn="l" pos="8921880"/>
                <a:tab algn="l" pos="9367920"/>
                <a:tab algn="l" pos="9813960"/>
                <a:tab algn="l" pos="10260000"/>
                <a:tab algn="l" pos="107060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101520"/>
                <a:tab algn="l" pos="550800"/>
                <a:tab algn="l" pos="1000080"/>
                <a:tab algn="l" pos="1449360"/>
                <a:tab algn="l" pos="1898640"/>
                <a:tab algn="l" pos="2347920"/>
                <a:tab algn="l" pos="2797200"/>
                <a:tab algn="l" pos="3246480"/>
                <a:tab algn="l" pos="3695760"/>
                <a:tab algn="l" pos="4143240"/>
                <a:tab algn="l" pos="4592520"/>
                <a:tab algn="l" pos="5041800"/>
                <a:tab algn="l" pos="5489640"/>
                <a:tab algn="l" pos="5938920"/>
                <a:tab algn="l" pos="6388200"/>
                <a:tab algn="l" pos="6837480"/>
                <a:tab algn="l" pos="7286760"/>
                <a:tab algn="l" pos="7734240"/>
                <a:tab algn="l" pos="8183520"/>
                <a:tab algn="l" pos="8632800"/>
                <a:tab algn="l" pos="8921880"/>
                <a:tab algn="l" pos="9367920"/>
                <a:tab algn="l" pos="9813960"/>
                <a:tab algn="l" pos="10260000"/>
                <a:tab algn="l" pos="107060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101520"/>
                <a:tab algn="l" pos="550800"/>
                <a:tab algn="l" pos="1000080"/>
                <a:tab algn="l" pos="1449360"/>
                <a:tab algn="l" pos="1898640"/>
                <a:tab algn="l" pos="2347920"/>
                <a:tab algn="l" pos="2797200"/>
                <a:tab algn="l" pos="3246480"/>
                <a:tab algn="l" pos="3695760"/>
                <a:tab algn="l" pos="4143240"/>
                <a:tab algn="l" pos="4592520"/>
                <a:tab algn="l" pos="5041800"/>
                <a:tab algn="l" pos="5489640"/>
                <a:tab algn="l" pos="5938920"/>
                <a:tab algn="l" pos="6388200"/>
                <a:tab algn="l" pos="6837480"/>
                <a:tab algn="l" pos="7286760"/>
                <a:tab algn="l" pos="7734240"/>
                <a:tab algn="l" pos="8183520"/>
                <a:tab algn="l" pos="8632800"/>
                <a:tab algn="l" pos="8921880"/>
                <a:tab algn="l" pos="9367920"/>
                <a:tab algn="l" pos="9813960"/>
                <a:tab algn="l" pos="10260000"/>
                <a:tab algn="l" pos="107060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101520"/>
                <a:tab algn="l" pos="550800"/>
                <a:tab algn="l" pos="1000080"/>
                <a:tab algn="l" pos="1449360"/>
                <a:tab algn="l" pos="1898640"/>
                <a:tab algn="l" pos="2347920"/>
                <a:tab algn="l" pos="2797200"/>
                <a:tab algn="l" pos="3246480"/>
                <a:tab algn="l" pos="3695760"/>
                <a:tab algn="l" pos="4143240"/>
                <a:tab algn="l" pos="4592520"/>
                <a:tab algn="l" pos="5041800"/>
                <a:tab algn="l" pos="5489640"/>
                <a:tab algn="l" pos="5938920"/>
                <a:tab algn="l" pos="6388200"/>
                <a:tab algn="l" pos="6837480"/>
                <a:tab algn="l" pos="7286760"/>
                <a:tab algn="l" pos="7734240"/>
                <a:tab algn="l" pos="8183520"/>
                <a:tab algn="l" pos="8632800"/>
                <a:tab algn="l" pos="8921880"/>
                <a:tab algn="l" pos="9367920"/>
                <a:tab algn="l" pos="9813960"/>
                <a:tab algn="l" pos="10260000"/>
                <a:tab algn="l" pos="107060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101520"/>
                <a:tab algn="l" pos="550800"/>
                <a:tab algn="l" pos="1000080"/>
                <a:tab algn="l" pos="1449360"/>
                <a:tab algn="l" pos="1898640"/>
                <a:tab algn="l" pos="2347920"/>
                <a:tab algn="l" pos="2797200"/>
                <a:tab algn="l" pos="3246480"/>
                <a:tab algn="l" pos="3695760"/>
                <a:tab algn="l" pos="4143240"/>
                <a:tab algn="l" pos="4592520"/>
                <a:tab algn="l" pos="5041800"/>
                <a:tab algn="l" pos="5489640"/>
                <a:tab algn="l" pos="5938920"/>
                <a:tab algn="l" pos="6388200"/>
                <a:tab algn="l" pos="6837480"/>
                <a:tab algn="l" pos="7286760"/>
                <a:tab algn="l" pos="7734240"/>
                <a:tab algn="l" pos="8183520"/>
                <a:tab algn="l" pos="8632800"/>
                <a:tab algn="l" pos="8921880"/>
                <a:tab algn="l" pos="9367920"/>
                <a:tab algn="l" pos="9813960"/>
                <a:tab algn="l" pos="10260000"/>
                <a:tab algn="l" pos="107060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101520"/>
                <a:tab algn="l" pos="550800"/>
                <a:tab algn="l" pos="1000080"/>
                <a:tab algn="l" pos="1449360"/>
                <a:tab algn="l" pos="1898640"/>
                <a:tab algn="l" pos="2347920"/>
                <a:tab algn="l" pos="2797200"/>
                <a:tab algn="l" pos="3246480"/>
                <a:tab algn="l" pos="3695760"/>
                <a:tab algn="l" pos="4143240"/>
                <a:tab algn="l" pos="4592520"/>
                <a:tab algn="l" pos="5041800"/>
                <a:tab algn="l" pos="5489640"/>
                <a:tab algn="l" pos="5938920"/>
                <a:tab algn="l" pos="6388200"/>
                <a:tab algn="l" pos="6837480"/>
                <a:tab algn="l" pos="7286760"/>
                <a:tab algn="l" pos="7734240"/>
                <a:tab algn="l" pos="8183520"/>
                <a:tab algn="l" pos="8632800"/>
                <a:tab algn="l" pos="8921880"/>
                <a:tab algn="l" pos="9367920"/>
                <a:tab algn="l" pos="9813960"/>
                <a:tab algn="l" pos="10260000"/>
                <a:tab algn="l" pos="107060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101520"/>
                <a:tab algn="l" pos="550800"/>
                <a:tab algn="l" pos="1000080"/>
                <a:tab algn="l" pos="1449360"/>
                <a:tab algn="l" pos="1898640"/>
                <a:tab algn="l" pos="2347920"/>
                <a:tab algn="l" pos="2797200"/>
                <a:tab algn="l" pos="3246480"/>
                <a:tab algn="l" pos="3695760"/>
                <a:tab algn="l" pos="4143240"/>
                <a:tab algn="l" pos="4592520"/>
                <a:tab algn="l" pos="5041800"/>
                <a:tab algn="l" pos="5489640"/>
                <a:tab algn="l" pos="5938920"/>
                <a:tab algn="l" pos="6388200"/>
                <a:tab algn="l" pos="6837480"/>
                <a:tab algn="l" pos="7286760"/>
                <a:tab algn="l" pos="7734240"/>
                <a:tab algn="l" pos="8183520"/>
                <a:tab algn="l" pos="8632800"/>
                <a:tab algn="l" pos="8921880"/>
                <a:tab algn="l" pos="9367920"/>
                <a:tab algn="l" pos="9813960"/>
                <a:tab algn="l" pos="10260000"/>
                <a:tab algn="l" pos="107060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101520"/>
                <a:tab algn="l" pos="550800"/>
                <a:tab algn="l" pos="1000080"/>
                <a:tab algn="l" pos="1449360"/>
                <a:tab algn="l" pos="1898640"/>
                <a:tab algn="l" pos="2347920"/>
                <a:tab algn="l" pos="2797200"/>
                <a:tab algn="l" pos="3246480"/>
                <a:tab algn="l" pos="3695760"/>
                <a:tab algn="l" pos="4143240"/>
                <a:tab algn="l" pos="4592520"/>
                <a:tab algn="l" pos="5041800"/>
                <a:tab algn="l" pos="5489640"/>
                <a:tab algn="l" pos="5938920"/>
                <a:tab algn="l" pos="6388200"/>
                <a:tab algn="l" pos="6837480"/>
                <a:tab algn="l" pos="7286760"/>
                <a:tab algn="l" pos="7734240"/>
                <a:tab algn="l" pos="8183520"/>
                <a:tab algn="l" pos="8632800"/>
                <a:tab algn="l" pos="8921880"/>
                <a:tab algn="l" pos="9367920"/>
                <a:tab algn="l" pos="9813960"/>
                <a:tab algn="l" pos="10260000"/>
                <a:tab algn="l" pos="107060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101520"/>
                <a:tab algn="l" pos="550800"/>
                <a:tab algn="l" pos="1000080"/>
                <a:tab algn="l" pos="1449360"/>
                <a:tab algn="l" pos="1898640"/>
                <a:tab algn="l" pos="2347920"/>
                <a:tab algn="l" pos="2797200"/>
                <a:tab algn="l" pos="3246480"/>
                <a:tab algn="l" pos="3695760"/>
                <a:tab algn="l" pos="4143240"/>
                <a:tab algn="l" pos="4592520"/>
                <a:tab algn="l" pos="5041800"/>
                <a:tab algn="l" pos="5489640"/>
                <a:tab algn="l" pos="5938920"/>
                <a:tab algn="l" pos="6388200"/>
                <a:tab algn="l" pos="6837480"/>
                <a:tab algn="l" pos="7286760"/>
                <a:tab algn="l" pos="7734240"/>
                <a:tab algn="l" pos="8183520"/>
                <a:tab algn="l" pos="8632800"/>
                <a:tab algn="l" pos="8921880"/>
                <a:tab algn="l" pos="9367920"/>
                <a:tab algn="l" pos="9813960"/>
                <a:tab algn="l" pos="10260000"/>
                <a:tab algn="l" pos="107060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101520"/>
                <a:tab algn="l" pos="550800"/>
                <a:tab algn="l" pos="1000080"/>
                <a:tab algn="l" pos="1449360"/>
                <a:tab algn="l" pos="1898640"/>
                <a:tab algn="l" pos="2347920"/>
                <a:tab algn="l" pos="2797200"/>
                <a:tab algn="l" pos="3246480"/>
                <a:tab algn="l" pos="3695760"/>
                <a:tab algn="l" pos="4143240"/>
                <a:tab algn="l" pos="4592520"/>
                <a:tab algn="l" pos="5041800"/>
                <a:tab algn="l" pos="5489640"/>
                <a:tab algn="l" pos="5938920"/>
                <a:tab algn="l" pos="6388200"/>
                <a:tab algn="l" pos="6837480"/>
                <a:tab algn="l" pos="7286760"/>
                <a:tab algn="l" pos="7734240"/>
                <a:tab algn="l" pos="8183520"/>
                <a:tab algn="l" pos="8632800"/>
                <a:tab algn="l" pos="8921880"/>
                <a:tab algn="l" pos="9367920"/>
                <a:tab algn="l" pos="9813960"/>
                <a:tab algn="l" pos="10260000"/>
                <a:tab algn="l" pos="107060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101520"/>
                <a:tab algn="l" pos="550800"/>
                <a:tab algn="l" pos="1000080"/>
                <a:tab algn="l" pos="1449360"/>
                <a:tab algn="l" pos="1898640"/>
                <a:tab algn="l" pos="2347920"/>
                <a:tab algn="l" pos="2797200"/>
                <a:tab algn="l" pos="3246480"/>
                <a:tab algn="l" pos="3695760"/>
                <a:tab algn="l" pos="4143240"/>
                <a:tab algn="l" pos="4592520"/>
                <a:tab algn="l" pos="5041800"/>
                <a:tab algn="l" pos="5489640"/>
                <a:tab algn="l" pos="5938920"/>
                <a:tab algn="l" pos="6388200"/>
                <a:tab algn="l" pos="6837480"/>
                <a:tab algn="l" pos="7286760"/>
                <a:tab algn="l" pos="7734240"/>
                <a:tab algn="l" pos="8183520"/>
                <a:tab algn="l" pos="8632800"/>
                <a:tab algn="l" pos="8921880"/>
                <a:tab algn="l" pos="9367920"/>
                <a:tab algn="l" pos="9813960"/>
                <a:tab algn="l" pos="10260000"/>
                <a:tab algn="l" pos="10706040"/>
              </a:tabLst>
            </a:pPr>
            <a:r>
              <a:rPr b="0" i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алы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Text Box 5"/>
          <p:cNvSpPr/>
          <p:nvPr/>
        </p:nvSpPr>
        <p:spPr>
          <a:xfrm>
            <a:off x="4968720" y="3494160"/>
            <a:ext cx="4786560" cy="33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101520"/>
                <a:tab algn="l" pos="550800"/>
                <a:tab algn="l" pos="1000080"/>
                <a:tab algn="l" pos="1449360"/>
                <a:tab algn="l" pos="1898640"/>
                <a:tab algn="l" pos="2347920"/>
                <a:tab algn="l" pos="2797200"/>
                <a:tab algn="l" pos="3246480"/>
                <a:tab algn="l" pos="3695760"/>
                <a:tab algn="l" pos="4143240"/>
                <a:tab algn="l" pos="4592520"/>
                <a:tab algn="l" pos="5041800"/>
                <a:tab algn="l" pos="5489640"/>
                <a:tab algn="l" pos="5938920"/>
                <a:tab algn="l" pos="6388200"/>
                <a:tab algn="l" pos="6837480"/>
                <a:tab algn="l" pos="7286760"/>
                <a:tab algn="l" pos="7734240"/>
                <a:tab algn="l" pos="8183520"/>
                <a:tab algn="l" pos="8632800"/>
                <a:tab algn="l" pos="8921880"/>
                <a:tab algn="l" pos="9367920"/>
                <a:tab algn="l" pos="9813960"/>
                <a:tab algn="l" pos="10260000"/>
                <a:tab algn="l" pos="107060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Text Box 5"/>
          <p:cNvSpPr/>
          <p:nvPr/>
        </p:nvSpPr>
        <p:spPr>
          <a:xfrm>
            <a:off x="3456000" y="3646440"/>
            <a:ext cx="4786200" cy="33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101520"/>
                <a:tab algn="l" pos="550800"/>
                <a:tab algn="l" pos="1000080"/>
                <a:tab algn="l" pos="1449360"/>
                <a:tab algn="l" pos="1898640"/>
                <a:tab algn="l" pos="2347920"/>
                <a:tab algn="l" pos="2797200"/>
                <a:tab algn="l" pos="3246480"/>
                <a:tab algn="l" pos="3695760"/>
                <a:tab algn="l" pos="4143240"/>
                <a:tab algn="l" pos="4592520"/>
                <a:tab algn="l" pos="5041800"/>
                <a:tab algn="l" pos="5489640"/>
                <a:tab algn="l" pos="5938920"/>
                <a:tab algn="l" pos="6388200"/>
                <a:tab algn="l" pos="6837480"/>
                <a:tab algn="l" pos="7286760"/>
                <a:tab algn="l" pos="7734240"/>
                <a:tab algn="l" pos="8183520"/>
                <a:tab algn="l" pos="8632800"/>
                <a:tab algn="l" pos="8921880"/>
                <a:tab algn="l" pos="9367920"/>
                <a:tab algn="l" pos="9813960"/>
                <a:tab algn="l" pos="10260000"/>
                <a:tab algn="l" pos="107060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2" name="Picture 4" descr="пур3"/>
          <p:cNvPicPr/>
          <p:nvPr/>
        </p:nvPicPr>
        <p:blipFill>
          <a:blip r:embed="rId1"/>
          <a:stretch/>
        </p:blipFill>
        <p:spPr>
          <a:xfrm>
            <a:off x="1325520" y="636480"/>
            <a:ext cx="6929640" cy="430524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Text Box 1"/>
          <p:cNvSpPr/>
          <p:nvPr/>
        </p:nvSpPr>
        <p:spPr>
          <a:xfrm>
            <a:off x="754200" y="136440"/>
            <a:ext cx="8712000" cy="49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Text Box 2"/>
          <p:cNvSpPr/>
          <p:nvPr/>
        </p:nvSpPr>
        <p:spPr>
          <a:xfrm>
            <a:off x="504720" y="1692360"/>
            <a:ext cx="4453200" cy="7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Text Box 4"/>
          <p:cNvSpPr/>
          <p:nvPr/>
        </p:nvSpPr>
        <p:spPr>
          <a:xfrm>
            <a:off x="5121360" y="1692360"/>
            <a:ext cx="4456080" cy="7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Text Box 5"/>
          <p:cNvSpPr/>
          <p:nvPr/>
        </p:nvSpPr>
        <p:spPr>
          <a:xfrm>
            <a:off x="2039760" y="779400"/>
            <a:ext cx="4456440" cy="464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ун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унцовы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Прямоугольник 6"/>
          <p:cNvSpPr/>
          <p:nvPr/>
        </p:nvSpPr>
        <p:spPr>
          <a:xfrm>
            <a:off x="396720" y="351000"/>
            <a:ext cx="716292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8" name="Picture 4" descr="пур2"/>
          <p:cNvPicPr/>
          <p:nvPr/>
        </p:nvPicPr>
        <p:blipFill>
          <a:blip r:embed="rId1"/>
          <a:stretch/>
        </p:blipFill>
        <p:spPr>
          <a:xfrm>
            <a:off x="725400" y="549360"/>
            <a:ext cx="7620120" cy="453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Text Box 1"/>
          <p:cNvSpPr/>
          <p:nvPr/>
        </p:nvSpPr>
        <p:spPr>
          <a:xfrm>
            <a:off x="503280" y="301680"/>
            <a:ext cx="9067680" cy="519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7040"/>
                <a:tab algn="l" pos="4486320"/>
                <a:tab algn="l" pos="49356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7320"/>
                <a:tab algn="l" pos="8526600"/>
                <a:tab algn="l" pos="8975880"/>
                <a:tab algn="l" pos="9367920"/>
                <a:tab algn="l" pos="9813960"/>
                <a:tab algn="l" pos="10260000"/>
                <a:tab algn="l" pos="107060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7040"/>
                <a:tab algn="l" pos="4486320"/>
                <a:tab algn="l" pos="49356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7320"/>
                <a:tab algn="l" pos="8526600"/>
                <a:tab algn="l" pos="8975880"/>
                <a:tab algn="l" pos="9367920"/>
                <a:tab algn="l" pos="9813960"/>
                <a:tab algn="l" pos="10260000"/>
                <a:tab algn="l" pos="107060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7040"/>
                <a:tab algn="l" pos="4486320"/>
                <a:tab algn="l" pos="49356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7320"/>
                <a:tab algn="l" pos="8526600"/>
                <a:tab algn="l" pos="8975880"/>
                <a:tab algn="l" pos="9367920"/>
                <a:tab algn="l" pos="9813960"/>
                <a:tab algn="l" pos="10260000"/>
                <a:tab algn="l" pos="107060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7040"/>
                <a:tab algn="l" pos="4486320"/>
                <a:tab algn="l" pos="49356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7320"/>
                <a:tab algn="l" pos="8526600"/>
                <a:tab algn="l" pos="8975880"/>
                <a:tab algn="l" pos="9367920"/>
                <a:tab algn="l" pos="9813960"/>
                <a:tab algn="l" pos="10260000"/>
                <a:tab algn="l" pos="107060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7040"/>
                <a:tab algn="l" pos="4486320"/>
                <a:tab algn="l" pos="49356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7320"/>
                <a:tab algn="l" pos="8526600"/>
                <a:tab algn="l" pos="8975880"/>
                <a:tab algn="l" pos="9367920"/>
                <a:tab algn="l" pos="9813960"/>
                <a:tab algn="l" pos="10260000"/>
                <a:tab algn="l" pos="107060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7040"/>
                <a:tab algn="l" pos="4486320"/>
                <a:tab algn="l" pos="49356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7320"/>
                <a:tab algn="l" pos="8526600"/>
                <a:tab algn="l" pos="8975880"/>
                <a:tab algn="l" pos="9367920"/>
                <a:tab algn="l" pos="9813960"/>
                <a:tab algn="l" pos="10260000"/>
                <a:tab algn="l" pos="107060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7040"/>
                <a:tab algn="l" pos="4486320"/>
                <a:tab algn="l" pos="49356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7320"/>
                <a:tab algn="l" pos="8526600"/>
                <a:tab algn="l" pos="8975880"/>
                <a:tab algn="l" pos="9367920"/>
                <a:tab algn="l" pos="9813960"/>
                <a:tab algn="l" pos="10260000"/>
                <a:tab algn="l" pos="107060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7040"/>
                <a:tab algn="l" pos="4486320"/>
                <a:tab algn="l" pos="49356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7320"/>
                <a:tab algn="l" pos="8526600"/>
                <a:tab algn="l" pos="8975880"/>
                <a:tab algn="l" pos="9367920"/>
                <a:tab algn="l" pos="9813960"/>
                <a:tab algn="l" pos="10260000"/>
                <a:tab algn="l" pos="1070604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</a:rPr>
              <a:t>рубиновы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Text Box 21"/>
          <p:cNvSpPr/>
          <p:nvPr/>
        </p:nvSpPr>
        <p:spPr>
          <a:xfrm>
            <a:off x="5113440" y="1768320"/>
            <a:ext cx="4457520" cy="49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1" name="Picture 4" descr="рубин3"/>
          <p:cNvPicPr/>
          <p:nvPr/>
        </p:nvPicPr>
        <p:blipFill>
          <a:blip r:embed="rId1"/>
          <a:stretch/>
        </p:blipFill>
        <p:spPr>
          <a:xfrm>
            <a:off x="1141560" y="861840"/>
            <a:ext cx="4319280" cy="26305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2T08:51:30Z</dcterms:created>
  <dc:creator>Сазонов</dc:creator>
  <dc:description/>
  <cp:keywords>мотивация</cp:keywords>
  <dc:language>en-US</dc:language>
  <cp:lastModifiedBy>Mamed</cp:lastModifiedBy>
  <dcterms:modified xsi:type="dcterms:W3CDTF">2014-03-31T16:05:20Z</dcterms:modified>
  <cp:revision>138</cp:revision>
  <dc:subject>Мотивация учащихся</dc:subject>
  <dc:title>Родительское собрание на тему «Мотивация учебной деятельности учащихся и создание условий для ее реализации»</dc:title>
</cp:coreProperties>
</file>