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7.jpeg" ContentType="image/jpeg"/>
  <Override PartName="/ppt/media/image6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77F2-8122-46D9-915A-A9CE08545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328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53CF-08E9-4965-8BEB-64C25CDFC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53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9B0C-D240-45BB-99FB-01DE40CDB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7156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63984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328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7156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63984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9C43-685E-499B-B66D-EC2DED34F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EDBD0-481E-4D80-9E07-C4938A765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5BD1A-31FF-44CE-BA12-25EDE671F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3C4FA-764A-4669-A2A7-067A08A82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42B1C-3635-471B-BD23-976B56E39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56D8F-24E4-4601-B067-19AB9BD1F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2F8EF-E3AB-4A7C-A64F-B9B2916A4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15549-B0D0-4946-B4B5-A8A35DAF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A24C-C0A6-4763-A786-43E975383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53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A684A-4414-4750-B526-EEDAF96B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FED24-31BA-4FEB-8BF4-C2880704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328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35A05-DCD9-4996-A128-C9617DFF4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53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CEB83-2B98-44F5-B9A4-4CD4AA2E3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7156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3984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328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7156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63984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18AB3-A207-497D-B1E2-DC8C171F5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8CFDA-3E03-4776-B630-716A4C2D4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30320-04DA-4300-8E47-C65722375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3E2F3-9743-4A97-87C7-0DDC8AB2E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FBB77-548A-41E2-870A-074DE8E91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C7143-2B7F-4B84-866E-48CE2A8C5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3EA5-65E8-4D01-8A11-91F6FDCAE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A197C-D7B7-4963-9153-C6E5458C8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954AE-C516-483B-9258-C955306E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3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0E2C3-0415-4167-B34E-81E03978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06838-5936-4C30-9828-ABD2F7B2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328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8B417-254E-4315-B903-E152FEB27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3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F2F48-9EEF-4E07-B8B2-4677E041A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7156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63984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0328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7156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63984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1A89B-89B3-4E85-8AA9-050B3E4B4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F3641-3F74-4402-B921-487CAEAA2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1C035-6A4A-4CF4-88F1-FCC2B44F3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636F4-E267-457C-9FDA-670DC4D5B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4AA9-177F-43D2-B977-5019CC29D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345D0-7892-4C4F-B5C3-66BC473AC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7F643-9305-4F6B-A7E5-779177BE7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05E4F-4F04-494D-B1D3-67CE19357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751BC-C4CF-4F91-A8C9-00CD69DF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153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37175-DA6E-4F7E-9E36-C5847786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7F8E7-F1F9-451F-8026-8B26DA76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0328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357FE-CCD1-4A38-B5D6-A447644E0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153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103B2-DC42-4D0A-A256-F3B7858DD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7156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63984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0328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7156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63984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785E6-ADEE-4BA2-A7B1-A82EECCED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8B201-2DB3-4E0E-B1D3-72A368E53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1473-9703-4D92-9843-A297FCDF7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67C57-DD47-44D3-B73C-6C8AEEBB4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C76BE-C457-4539-9B99-8C9CB5662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B6825-E602-4390-B7AB-E7B994E43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CC98D-C8D7-48BB-A140-3EA60C355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1E5BA-2ECD-4B46-BDF7-320B4CC1E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58ED2-5E8F-44F4-8A3E-30CE5356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153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FA5B1-9380-4B88-8A6A-57DACE25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5FA1C-B779-410E-BA03-58F32877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0328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F44E0-768B-4822-9611-7A3BB3862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5153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BAD22-5A90-472E-A8A2-3ACE4E19B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F96B-44D3-4C8A-9AC3-F8CC3BB0E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7156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63984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50328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7156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63984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7E7F8-78E0-4DC2-810E-2237995CF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E1914-F9BB-48DD-A31C-44CDEE880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8FD46-9791-471D-9172-853B462D6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DE2E6-1087-40F1-B057-68AAA1898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4B8627-B8A6-469A-9D36-BBD8B4C9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04585-80BA-46EB-B8C5-2F5241A6D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68F1D8-EC02-4E15-9925-0288E877E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C81A7-4BC2-446C-B3A0-1E338456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153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E4902-FC39-489A-990C-03A0B729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310DB-7BE2-484C-B032-BDB1B8A6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F28A-5002-4D59-AACF-3FDCE0E5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0328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B1A71-6E43-4AB8-ADAE-B1A6902E5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5153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741EF-7EC4-4F8C-ACBA-CBE7EC3DB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7156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63984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50328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7156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63984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B3435-39F5-4567-BDCD-190BEAD03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D34EAB-1237-4542-9491-11829FCE9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2AF40-9217-4EE8-9591-329B2680F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D754C-F21B-482B-A121-DAE2E7DE2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5BF30-4BF6-4E2D-9E15-EE350897D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4BC8F-700D-41E7-ABFB-BB35A75C4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05A9E-C9F9-479F-8F4A-B68258608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E1A24A-F636-41BB-862B-6E91729B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53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32BF-7F3D-48EE-81ED-EC66ED29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153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AF8E9-4030-4ED7-89A2-2BDDE7E0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FCD0B5-67A6-45DA-9002-F220CF51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0328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2D43F-B47D-4E74-9D05-847FBF137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5153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CD928-E9FE-4145-87D6-BD26DC24F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57156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984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50328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57156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63984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5F9EF-8CB1-4C2A-B237-9FEAB4A86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58B94C-AD88-44F3-B4B1-16708B9C1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342A06-010E-45CC-B337-595121531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70F16E-6321-46E5-95BA-776A90D2C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471329-FCFC-4877-920C-0479B6CAB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3C0383-8BA0-4397-A9CC-40373A537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FC18-38E0-4FD8-AFDD-5AB7349A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65FA36-136E-487C-AD85-E939E5D4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B0717-8D29-43AC-94A8-665806FF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153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D3DA75-BB06-431B-A3AD-2ED60A90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B2CC90-9C9C-4463-A2C3-441A46F0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0328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6E5584-3498-49AC-83E0-FFD0479A3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153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777FF0-891D-4E3A-A97B-189449836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57156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63984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0328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57156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63984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65CB7-AC07-4246-93D6-C392A9605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90560" y="5513400"/>
            <a:ext cx="4191120" cy="159084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8680" y="6377040"/>
            <a:ext cx="4191120" cy="923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6377040"/>
            <a:ext cx="3762360" cy="1206360"/>
            <a:chOff x="-12600" y="6377040"/>
            <a:chExt cx="3762360" cy="120636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6377040"/>
              <a:ext cx="3762360" cy="120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306360" y="7078680"/>
              <a:ext cx="18748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6040"/>
                  <a:tab algn="l" pos="892080"/>
                  <a:tab algn="l" pos="1338120"/>
                  <a:tab algn="l" pos="1784520"/>
                  <a:tab algn="l" pos="2230560"/>
                  <a:tab algn="l" pos="2676600"/>
                  <a:tab algn="l" pos="3122640"/>
                  <a:tab algn="l" pos="3568680"/>
                  <a:tab algn="l" pos="4014720"/>
                  <a:tab algn="l" pos="4460760"/>
                  <a:tab algn="l" pos="4906800"/>
                  <a:tab algn="l" pos="5353200"/>
                  <a:tab algn="l" pos="5799240"/>
                  <a:tab algn="l" pos="6245280"/>
                  <a:tab algn="l" pos="6691320"/>
                  <a:tab algn="l" pos="7137360"/>
                  <a:tab algn="l" pos="7583400"/>
                  <a:tab algn="l" pos="8029440"/>
                  <a:tab algn="l" pos="8475840"/>
                  <a:tab algn="l" pos="892188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6370560"/>
            <a:ext cx="3768840" cy="1219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281160"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84360" indent="-250920">
              <a:spcBef>
                <a:spcPts val="437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460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25892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5112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511280" indent="-250920">
              <a:spcBef>
                <a:spcPts val="437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511280" indent="-250920">
              <a:spcBef>
                <a:spcPts val="437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416720" y="7062840"/>
            <a:ext cx="211608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  <a:defRPr b="0" lang="ru-RU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828680" y="7062840"/>
            <a:ext cx="25909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9532800" y="7062840"/>
            <a:ext cx="4032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  <a:defRPr b="0" lang="ru-RU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fld id="{CA98392B-722B-4E1A-9690-A2FDE0CC745E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5141880"/>
            <a:ext cx="1008864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-50040" bIns="-5004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4680" y="5459400"/>
            <a:ext cx="10085400" cy="2108160"/>
            <a:chOff x="-4680" y="5459400"/>
            <a:chExt cx="10085400" cy="2108160"/>
          </a:xfrm>
        </p:grpSpPr>
        <p:sp>
          <p:nvSpPr>
            <p:cNvPr id="49" name="Полилиния 16"/>
            <p:cNvSpPr/>
            <p:nvPr/>
          </p:nvSpPr>
          <p:spPr>
            <a:xfrm>
              <a:off x="1865160" y="5459400"/>
              <a:ext cx="8207280" cy="5371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6040"/>
                  <a:tab algn="l" pos="892080"/>
                  <a:tab algn="l" pos="1338120"/>
                  <a:tab algn="l" pos="1784520"/>
                  <a:tab algn="l" pos="2230560"/>
                  <a:tab algn="l" pos="2676600"/>
                  <a:tab algn="l" pos="3122640"/>
                  <a:tab algn="l" pos="3568680"/>
                  <a:tab algn="l" pos="4014720"/>
                  <a:tab algn="l" pos="4460760"/>
                  <a:tab algn="l" pos="4906800"/>
                  <a:tab algn="l" pos="5353200"/>
                  <a:tab algn="l" pos="5799240"/>
                  <a:tab algn="l" pos="6245280"/>
                  <a:tab algn="l" pos="6691320"/>
                  <a:tab algn="l" pos="7137360"/>
                  <a:tab algn="l" pos="7583400"/>
                  <a:tab algn="l" pos="8029440"/>
                  <a:tab algn="l" pos="8475840"/>
                  <a:tab algn="l" pos="892188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772960"/>
              <a:ext cx="10027080" cy="868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6040"/>
                  <a:tab algn="l" pos="892080"/>
                  <a:tab algn="l" pos="1338120"/>
                  <a:tab algn="l" pos="1784520"/>
                  <a:tab algn="l" pos="2230560"/>
                  <a:tab algn="l" pos="2676600"/>
                  <a:tab algn="l" pos="3122640"/>
                  <a:tab algn="l" pos="3568680"/>
                  <a:tab algn="l" pos="4014720"/>
                  <a:tab algn="l" pos="4460760"/>
                  <a:tab algn="l" pos="4906800"/>
                  <a:tab algn="l" pos="5353200"/>
                  <a:tab algn="l" pos="5799240"/>
                  <a:tab algn="l" pos="6245280"/>
                  <a:tab algn="l" pos="6691320"/>
                  <a:tab algn="l" pos="7137360"/>
                  <a:tab algn="l" pos="7583400"/>
                  <a:tab algn="l" pos="8029440"/>
                  <a:tab algn="l" pos="8475840"/>
                  <a:tab algn="l" pos="892188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1080" y="5504400"/>
              <a:ext cx="10079640" cy="2063160"/>
              <a:chOff x="1080" y="5504400"/>
              <a:chExt cx="10079640" cy="20631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1080" y="5504400"/>
                <a:ext cx="10079640" cy="206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6480" y="55119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6040"/>
                    <a:tab algn="l" pos="892080"/>
                    <a:tab algn="l" pos="1338120"/>
                    <a:tab algn="l" pos="1784520"/>
                    <a:tab algn="l" pos="2230560"/>
                    <a:tab algn="l" pos="2676600"/>
                    <a:tab algn="l" pos="3122640"/>
                    <a:tab algn="l" pos="3568680"/>
                    <a:tab algn="l" pos="4014720"/>
                    <a:tab algn="l" pos="4460760"/>
                    <a:tab algn="l" pos="4906800"/>
                    <a:tab algn="l" pos="5353200"/>
                    <a:tab algn="l" pos="5799240"/>
                    <a:tab algn="l" pos="6245280"/>
                    <a:tab algn="l" pos="6691320"/>
                    <a:tab algn="l" pos="7137360"/>
                    <a:tab algn="l" pos="7583400"/>
                    <a:tab algn="l" pos="8029440"/>
                    <a:tab algn="l" pos="8475840"/>
                    <a:tab algn="l" pos="892188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4680" y="5498280"/>
              <a:ext cx="10085400" cy="89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281160"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84360" indent="-250920">
              <a:spcBef>
                <a:spcPts val="437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460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25892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5112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511280" indent="-250920">
              <a:spcBef>
                <a:spcPts val="437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511280" indent="-250920">
              <a:spcBef>
                <a:spcPts val="437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7416720" y="7062840"/>
            <a:ext cx="211608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828680" y="7062840"/>
            <a:ext cx="25909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9532800" y="7062840"/>
            <a:ext cx="4032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fld id="{BA38F624-5F91-42FF-952E-A285C51F7411}" type="slidenum">
              <a:rPr b="0" lang="ru-RU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90560" y="5513400"/>
            <a:ext cx="4191120" cy="159084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8680" y="6377040"/>
            <a:ext cx="4191120" cy="923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6377040"/>
            <a:ext cx="3762360" cy="1206360"/>
            <a:chOff x="-12600" y="6377040"/>
            <a:chExt cx="3762360" cy="120636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6377040"/>
              <a:ext cx="3762360" cy="120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306360" y="7078680"/>
              <a:ext cx="18748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6040"/>
                  <a:tab algn="l" pos="892080"/>
                  <a:tab algn="l" pos="1338120"/>
                  <a:tab algn="l" pos="1784520"/>
                  <a:tab algn="l" pos="2230560"/>
                  <a:tab algn="l" pos="2676600"/>
                  <a:tab algn="l" pos="3122640"/>
                  <a:tab algn="l" pos="3568680"/>
                  <a:tab algn="l" pos="4014720"/>
                  <a:tab algn="l" pos="4460760"/>
                  <a:tab algn="l" pos="4906800"/>
                  <a:tab algn="l" pos="5353200"/>
                  <a:tab algn="l" pos="5799240"/>
                  <a:tab algn="l" pos="6245280"/>
                  <a:tab algn="l" pos="6691320"/>
                  <a:tab algn="l" pos="7137360"/>
                  <a:tab algn="l" pos="7583400"/>
                  <a:tab algn="l" pos="8029440"/>
                  <a:tab algn="l" pos="8475840"/>
                  <a:tab algn="l" pos="892188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6370560"/>
            <a:ext cx="3768840" cy="12193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4008600" y="3313080"/>
            <a:ext cx="201600" cy="252360"/>
          </a:xfrm>
          <a:custGeom>
            <a:avLst/>
            <a:gdLst>
              <a:gd name="textAreaLeft" fmla="*/ 0 w 201600"/>
              <a:gd name="textAreaRight" fmla="*/ 201960 w 20160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803760" y="3313080"/>
            <a:ext cx="201600" cy="252360"/>
          </a:xfrm>
          <a:custGeom>
            <a:avLst/>
            <a:gdLst>
              <a:gd name="textAreaLeft" fmla="*/ 0 w 201600"/>
              <a:gd name="textAreaRight" fmla="*/ 201960 w 20160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5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281160"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84360" indent="-250920">
              <a:spcBef>
                <a:spcPts val="437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9460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25892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5112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511280" indent="-250920">
              <a:spcBef>
                <a:spcPts val="437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511280" indent="-250920">
              <a:spcBef>
                <a:spcPts val="437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7416720" y="7062840"/>
            <a:ext cx="211608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828680" y="7062840"/>
            <a:ext cx="25909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9532800" y="7062840"/>
            <a:ext cx="4032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fld id="{9D8E8214-E48E-4394-89A4-402D41869E55}" type="slidenum">
              <a:rPr b="0" lang="ru-RU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90560" y="5513400"/>
            <a:ext cx="4191120" cy="159084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8680" y="6377040"/>
            <a:ext cx="4191120" cy="923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6377040"/>
            <a:ext cx="3762360" cy="1206360"/>
            <a:chOff x="-12600" y="6377040"/>
            <a:chExt cx="3762360" cy="120636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6377040"/>
              <a:ext cx="3762360" cy="120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306360" y="7078680"/>
              <a:ext cx="18748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6040"/>
                  <a:tab algn="l" pos="892080"/>
                  <a:tab algn="l" pos="1338120"/>
                  <a:tab algn="l" pos="1784520"/>
                  <a:tab algn="l" pos="2230560"/>
                  <a:tab algn="l" pos="2676600"/>
                  <a:tab algn="l" pos="3122640"/>
                  <a:tab algn="l" pos="3568680"/>
                  <a:tab algn="l" pos="4014720"/>
                  <a:tab algn="l" pos="4460760"/>
                  <a:tab algn="l" pos="4906800"/>
                  <a:tab algn="l" pos="5353200"/>
                  <a:tab algn="l" pos="5799240"/>
                  <a:tab algn="l" pos="6245280"/>
                  <a:tab algn="l" pos="6691320"/>
                  <a:tab algn="l" pos="7137360"/>
                  <a:tab algn="l" pos="7583400"/>
                  <a:tab algn="l" pos="8029440"/>
                  <a:tab algn="l" pos="8475840"/>
                  <a:tab algn="l" pos="892188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6370560"/>
            <a:ext cx="3768840" cy="1219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5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281160"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84360" indent="-250920">
              <a:spcBef>
                <a:spcPts val="437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9460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25892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5112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511280" indent="-250920">
              <a:spcBef>
                <a:spcPts val="437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511280" indent="-250920">
              <a:spcBef>
                <a:spcPts val="437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7416720" y="7062840"/>
            <a:ext cx="211608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828680" y="7062840"/>
            <a:ext cx="25909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9532800" y="7062840"/>
            <a:ext cx="4032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fld id="{3CF25630-7F45-4D43-AAB8-568C8A769FB5}" type="slidenum">
              <a:rPr b="0" lang="ru-RU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281160"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84360" indent="-250920">
              <a:spcBef>
                <a:spcPts val="437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460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25892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5112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511280" indent="-250920">
              <a:spcBef>
                <a:spcPts val="437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511280" indent="-250920">
              <a:spcBef>
                <a:spcPts val="437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7416720" y="7062840"/>
            <a:ext cx="211608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  <a:defRPr b="0" lang="ru-RU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828680" y="7062840"/>
            <a:ext cx="25909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9532800" y="7062840"/>
            <a:ext cx="4032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  <a:defRPr b="0" lang="ru-RU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fld id="{3E1E7B45-261A-428E-B203-008FDD806002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90560" y="5513400"/>
            <a:ext cx="4191120" cy="159084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8680" y="6377040"/>
            <a:ext cx="4191120" cy="923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6377040"/>
            <a:ext cx="3762360" cy="1206360"/>
            <a:chOff x="-12600" y="6377040"/>
            <a:chExt cx="3762360" cy="120636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6377040"/>
              <a:ext cx="3762360" cy="120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306360" y="7078680"/>
              <a:ext cx="18748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6040"/>
                  <a:tab algn="l" pos="892080"/>
                  <a:tab algn="l" pos="1338120"/>
                  <a:tab algn="l" pos="1784520"/>
                  <a:tab algn="l" pos="2230560"/>
                  <a:tab algn="l" pos="2676600"/>
                  <a:tab algn="l" pos="3122640"/>
                  <a:tab algn="l" pos="3568680"/>
                  <a:tab algn="l" pos="4014720"/>
                  <a:tab algn="l" pos="4460760"/>
                  <a:tab algn="l" pos="4906800"/>
                  <a:tab algn="l" pos="5353200"/>
                  <a:tab algn="l" pos="5799240"/>
                  <a:tab algn="l" pos="6245280"/>
                  <a:tab algn="l" pos="6691320"/>
                  <a:tab algn="l" pos="7137360"/>
                  <a:tab algn="l" pos="7583400"/>
                  <a:tab algn="l" pos="8029440"/>
                  <a:tab algn="l" pos="8475840"/>
                  <a:tab algn="l" pos="892188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6370560"/>
            <a:ext cx="3768840" cy="1219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5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281160"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84360" indent="-250920">
              <a:spcBef>
                <a:spcPts val="437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9460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25892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5112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511280" indent="-250920">
              <a:spcBef>
                <a:spcPts val="437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511280" indent="-250920">
              <a:spcBef>
                <a:spcPts val="437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7416720" y="7062840"/>
            <a:ext cx="211608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828680" y="7062840"/>
            <a:ext cx="25909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9532800" y="7062840"/>
            <a:ext cx="4032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fld id="{877F3056-DB01-4B81-AA94-CC40A08289D3}" type="slidenum">
              <a:rPr b="0" lang="ru-RU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281160"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84360" indent="-250920">
              <a:spcBef>
                <a:spcPts val="437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460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25892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5112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511280" indent="-250920">
              <a:spcBef>
                <a:spcPts val="437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511280" indent="-250920">
              <a:spcBef>
                <a:spcPts val="437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7416720" y="7062840"/>
            <a:ext cx="211608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  <a:defRPr b="0" lang="ru-RU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828680" y="7062840"/>
            <a:ext cx="25909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9532800" y="7062840"/>
            <a:ext cx="4032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  <a:defRPr b="0" lang="ru-RU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fld id="{C1DA4ED8-DEBD-4659-952D-FE627A7EC09B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90560" y="5513400"/>
            <a:ext cx="4191120" cy="159084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8680" y="6377040"/>
            <a:ext cx="4191120" cy="923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6377040"/>
            <a:ext cx="3762360" cy="1206360"/>
            <a:chOff x="-12600" y="6377040"/>
            <a:chExt cx="3762360" cy="120636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6377040"/>
              <a:ext cx="3762360" cy="120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306360" y="7078680"/>
              <a:ext cx="18748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6040"/>
                  <a:tab algn="l" pos="892080"/>
                  <a:tab algn="l" pos="1338120"/>
                  <a:tab algn="l" pos="1784520"/>
                  <a:tab algn="l" pos="2230560"/>
                  <a:tab algn="l" pos="2676600"/>
                  <a:tab algn="l" pos="3122640"/>
                  <a:tab algn="l" pos="3568680"/>
                  <a:tab algn="l" pos="4014720"/>
                  <a:tab algn="l" pos="4460760"/>
                  <a:tab algn="l" pos="4906800"/>
                  <a:tab algn="l" pos="5353200"/>
                  <a:tab algn="l" pos="5799240"/>
                  <a:tab algn="l" pos="6245280"/>
                  <a:tab algn="l" pos="6691320"/>
                  <a:tab algn="l" pos="7137360"/>
                  <a:tab algn="l" pos="7583400"/>
                  <a:tab algn="l" pos="8029440"/>
                  <a:tab algn="l" pos="8475840"/>
                  <a:tab algn="l" pos="892188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6370560"/>
            <a:ext cx="3768840" cy="12193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9551880" y="5499000"/>
            <a:ext cx="201600" cy="252360"/>
          </a:xfrm>
          <a:custGeom>
            <a:avLst/>
            <a:gdLst>
              <a:gd name="textAreaLeft" fmla="*/ 0 w 201600"/>
              <a:gd name="textAreaRight" fmla="*/ 201960 w 20160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9345600" y="5499000"/>
            <a:ext cx="201600" cy="252360"/>
          </a:xfrm>
          <a:custGeom>
            <a:avLst/>
            <a:gdLst>
              <a:gd name="textAreaLeft" fmla="*/ 0 w 201600"/>
              <a:gd name="textAreaRight" fmla="*/ 201960 w 20160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5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281160"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84360" indent="-250920">
              <a:spcBef>
                <a:spcPts val="437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9460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25892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5112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511280" indent="-250920">
              <a:spcBef>
                <a:spcPts val="437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511280" indent="-250920">
              <a:spcBef>
                <a:spcPts val="437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7416720" y="7062840"/>
            <a:ext cx="211608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828680" y="7062840"/>
            <a:ext cx="25909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9532800" y="7062840"/>
            <a:ext cx="4032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fld id="{1E5AC237-46C6-4B3F-8C5A-B30747073A72}" type="slidenum">
              <a:rPr b="0" lang="ru-RU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img_url=http://www.uatourist.com/upload/iblock/81d/GB.jpg&amp;iorient=&amp;icolor=&amp;p=3&amp;site=&amp;text=&#1076;&#1086;&#1089;&#1090;&#1086;&#1087;&#1088;&#1080;&#1084;&#1077;&#1095;&#1072;&#1090;&#1077;&#1083;&#1100;&#1085;&#1086;&#1089;&#1090;&#1080;%20&#1072;&#1085;&#1075;&#1083;&#1080;&#1080;&amp;wp=&amp;pos=113&amp;isize=&amp;type=&amp;recent=&amp;rpt=simage&amp;itype=&amp;nojs=1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yandex.ru/yandsearch?img_url=http://spain.destinations.ru/uploaded/photo/sights4a563cbed7996.jpg&amp;iorient=&amp;icolor=&amp;site=&amp;text=&#1076;&#1086;&#1089;&#1090;&#1086;&#1087;&#1088;&#1080;&#1084;&#1077;&#1095;&#1072;&#1090;&#1077;&#1083;&#1100;&#1085;&#1086;&#1089;&#1090;&#1080;%20&#1080;&#1089;&#1087;&#1072;&#1085;&#1080;&#1080;&amp;wp=&amp;pos=6&amp;isize=&amp;type=&amp;recent=&amp;rpt=simage&amp;itype=&amp;nojs=1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images.yandex.ru/yandsearch?source=wiz&amp;img_url=http://img0.liveinternet.ru/images/attach/c/0/31/163/31163628_foto_zamka_Himeidzhi_himeidji_YAponiya.jpg&amp;p=6&amp;text=&#1092;&#1086;&#1090;&#1086;%20&#1103;&#1087;&#1086;&#1085;&#1080;&#1080;&amp;noreask=1&amp;pos=196&amp;lr=10747&amp;rpt=simage&amp;nojs=1" TargetMode="External"/><Relationship Id="rId6" Type="http://schemas.openxmlformats.org/officeDocument/2006/relationships/image" Target="../media/image9.jpeg"/><Relationship Id="rId7" Type="http://schemas.openxmlformats.org/officeDocument/2006/relationships/hyperlink" Target="http://images.yandex.ru/yandsearch?img_url=http://i5.focus.ua/m/371x240/39698.jpg&amp;iorient=&amp;icolor=&amp;p=4&amp;site=&amp;text=&#1092;&#1086;&#1090;&#1086;%20&#1082;&#1088;&#1077;&#1084;&#1083;&#1103;&amp;wp=&amp;pos=135&amp;isize=&amp;type=&amp;recent=&amp;rpt=simage&amp;itype=&amp;nojs=1" TargetMode="External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img_url=http://spain.destinations.ru/uploaded/photo/sights4a563cbed7996.jpg&amp;iorient=&amp;icolor=&amp;site=&amp;text=&#1076;&#1086;&#1089;&#1090;&#1086;&#1087;&#1088;&#1080;&#1084;&#1077;&#1095;&#1072;&#1090;&#1077;&#1083;&#1100;&#1085;&#1086;&#1089;&#1090;&#1080;%20&#1080;&#1089;&#1087;&#1072;&#1085;&#1080;&#1080;&amp;wp=&amp;pos=6&amp;isize=&amp;type=&amp;recent=&amp;rpt=simage&amp;itype=&amp;nojs=1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img_url=http://iufost.org.br/sites/iufost.org.br/files/flags/China-Flag-64.png&amp;iorient=&amp;icolor=&amp;p=1&amp;site=&amp;text=&#1092;&#1083;&#1072;&#1075;%20&#1082;&#1080;&#1090;&#1072;&#1103;&amp;wp=&amp;pos=45&amp;isize=&amp;type=&amp;recent=&amp;rpt=simage&amp;itype=&amp;nojs=1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img_url=http%3A%2F%2Fmapsof.net%2Fuploads%2Fstatic-maps%2Frussia_flag_map.png&amp;p=15&amp;text=&#1092;&#1083;&#1072;&#1075;%20&#1088;&#1086;&#1089;&#1089;&#1080;&#1080;&amp;noreask=1&amp;pos=477&amp;lr=10747&amp;rpt=simage&amp;nojs=1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yomaker.narod.ru/" TargetMode="External"/><Relationship Id="rId2" Type="http://schemas.openxmlformats.org/officeDocument/2006/relationships/hyperlink" Target="http://yomaker.narod.ru/" TargetMode="External"/><Relationship Id="rId3" Type="http://schemas.openxmlformats.org/officeDocument/2006/relationships/hyperlink" Target="http://images.yandex.ru/yandsearch?img_url=http%3A%2F%2Fanimo2.ucoz.ru%2F_ph%2F36%2F1%2F802285320.jpg&amp;iorient=&amp;icolor=&amp;site=&amp;text=&#1092;&#1083;&#1072;&#1075;%20&#1088;&#1086;&#1089;&#1089;&#1080;&#1080;%20&#1072;&#1085;&#1080;&#1084;&#1072;&#1094;&#1080;&#1103;&amp;wp=&amp;pos=11&amp;isize=&amp;type=&amp;recent=&amp;rpt=simage&amp;itype=&amp;nojs=1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yomaker.narod.ru/" TargetMode="External"/><Relationship Id="rId2" Type="http://schemas.openxmlformats.org/officeDocument/2006/relationships/hyperlink" Target="http://yomaker.narod.ru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img_url=http://culturemaking.typepad.com/main/images/2007/04/29/bpalacejack700px_2.jpg&amp;iorient=&amp;nojs=1&amp;icolor=&amp;p=6&amp;site=&amp;text=&#1092;&#1083;&#1072;&#1075;%20&#1074;&#1077;&#1083;&#1080;&#1082;&#1086;&#1073;&#1088;&#1080;&#1090;&#1072;&#1085;&#1080;&#1080;&amp;wp=&amp;pos=185&amp;recent=&amp;type=&amp;isize=&amp;rpt=simage&amp;itype=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img_url=http://img-fotki.yandex.ru/get/26/tikhonov-elena.0/0_13268_5488a1f2_S&amp;iorient=&amp;icolor=&amp;site=&amp;text=&#1076;&#1086;&#1089;&#1090;&#1086;&#1087;&#1088;&#1080;&#1084;&#1077;&#1095;&#1072;&#1090;&#1077;&#1083;&#1100;&#1085;&#1086;&#1089;&#1090;&#1080;%20&#1080;&#1089;&#1087;&#1072;&#1085;&#1080;&#1080;&amp;wp=&amp;pos=16&amp;isize=&amp;type=&amp;recent=&amp;rpt=simage&amp;itype=&amp;nojs=1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1"/>
          <p:cNvSpPr/>
          <p:nvPr/>
        </p:nvSpPr>
        <p:spPr>
          <a:xfrm>
            <a:off x="968400" y="636480"/>
            <a:ext cx="8501040" cy="24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2"/>
          <p:cNvSpPr/>
          <p:nvPr/>
        </p:nvSpPr>
        <p:spPr>
          <a:xfrm>
            <a:off x="468360" y="493560"/>
            <a:ext cx="9070920" cy="74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87280" indent="-284040" algn="ctr">
              <a:lnSpc>
                <a:spcPct val="95000"/>
              </a:lnSpc>
              <a:spcBef>
                <a:spcPts val="675"/>
              </a:spcBef>
              <a:tabLst>
                <a:tab algn="l" pos="0"/>
                <a:tab algn="l" pos="287280"/>
                <a:tab algn="l" pos="392040"/>
                <a:tab algn="l" pos="841320"/>
                <a:tab algn="l" pos="1290600"/>
                <a:tab algn="l" pos="1739880"/>
                <a:tab algn="l" pos="2189160"/>
                <a:tab algn="l" pos="2638440"/>
                <a:tab algn="l" pos="3087720"/>
                <a:tab algn="l" pos="3537000"/>
                <a:tab algn="l" pos="3984480"/>
                <a:tab algn="l" pos="4433760"/>
                <a:tab algn="l" pos="4883040"/>
                <a:tab algn="l" pos="5330880"/>
                <a:tab algn="l" pos="5780160"/>
                <a:tab algn="l" pos="6229440"/>
                <a:tab algn="l" pos="6678720"/>
                <a:tab algn="l" pos="7128000"/>
                <a:tab algn="l" pos="7577280"/>
                <a:tab algn="l" pos="8024760"/>
                <a:tab algn="l" pos="8474040"/>
                <a:tab algn="l" pos="892332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87280" indent="-284040" algn="ctr">
              <a:lnSpc>
                <a:spcPct val="95000"/>
              </a:lnSpc>
              <a:spcBef>
                <a:spcPts val="675"/>
              </a:spcBef>
              <a:tabLst>
                <a:tab algn="l" pos="0"/>
                <a:tab algn="l" pos="287280"/>
                <a:tab algn="l" pos="392040"/>
                <a:tab algn="l" pos="841320"/>
                <a:tab algn="l" pos="1290600"/>
                <a:tab algn="l" pos="1739880"/>
                <a:tab algn="l" pos="2189160"/>
                <a:tab algn="l" pos="2638440"/>
                <a:tab algn="l" pos="3087720"/>
                <a:tab algn="l" pos="3537000"/>
                <a:tab algn="l" pos="3984480"/>
                <a:tab algn="l" pos="4433760"/>
                <a:tab algn="l" pos="4883040"/>
                <a:tab algn="l" pos="5330880"/>
                <a:tab algn="l" pos="5780160"/>
                <a:tab algn="l" pos="6229440"/>
                <a:tab algn="l" pos="6678720"/>
                <a:tab algn="l" pos="7128000"/>
                <a:tab algn="l" pos="7577280"/>
                <a:tab algn="l" pos="8024760"/>
                <a:tab algn="l" pos="8474040"/>
                <a:tab algn="l" pos="892332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87280" indent="-284040" algn="ctr">
              <a:lnSpc>
                <a:spcPct val="95000"/>
              </a:lnSpc>
              <a:spcBef>
                <a:spcPts val="675"/>
              </a:spcBef>
              <a:tabLst>
                <a:tab algn="l" pos="0"/>
                <a:tab algn="l" pos="287280"/>
                <a:tab algn="l" pos="392040"/>
                <a:tab algn="l" pos="841320"/>
                <a:tab algn="l" pos="1290600"/>
                <a:tab algn="l" pos="1739880"/>
                <a:tab algn="l" pos="2189160"/>
                <a:tab algn="l" pos="2638440"/>
                <a:tab algn="l" pos="3087720"/>
                <a:tab algn="l" pos="3537000"/>
                <a:tab algn="l" pos="3984480"/>
                <a:tab algn="l" pos="4433760"/>
                <a:tab algn="l" pos="4883040"/>
                <a:tab algn="l" pos="5330880"/>
                <a:tab algn="l" pos="5780160"/>
                <a:tab algn="l" pos="6229440"/>
                <a:tab algn="l" pos="6678720"/>
                <a:tab algn="l" pos="7128000"/>
                <a:tab algn="l" pos="7577280"/>
                <a:tab algn="l" pos="8024760"/>
                <a:tab algn="l" pos="8474040"/>
                <a:tab algn="l" pos="892332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87280" indent="-284040" algn="ctr">
              <a:lnSpc>
                <a:spcPct val="95000"/>
              </a:lnSpc>
              <a:spcBef>
                <a:spcPts val="675"/>
              </a:spcBef>
              <a:tabLst>
                <a:tab algn="l" pos="0"/>
                <a:tab algn="l" pos="287280"/>
                <a:tab algn="l" pos="392040"/>
                <a:tab algn="l" pos="841320"/>
                <a:tab algn="l" pos="1290600"/>
                <a:tab algn="l" pos="1739880"/>
                <a:tab algn="l" pos="2189160"/>
                <a:tab algn="l" pos="2638440"/>
                <a:tab algn="l" pos="3087720"/>
                <a:tab algn="l" pos="3537000"/>
                <a:tab algn="l" pos="3984480"/>
                <a:tab algn="l" pos="4433760"/>
                <a:tab algn="l" pos="4883040"/>
                <a:tab algn="l" pos="5330880"/>
                <a:tab algn="l" pos="5780160"/>
                <a:tab algn="l" pos="6229440"/>
                <a:tab algn="l" pos="6678720"/>
                <a:tab algn="l" pos="7128000"/>
                <a:tab algn="l" pos="7577280"/>
                <a:tab algn="l" pos="8024760"/>
                <a:tab algn="l" pos="8474040"/>
                <a:tab algn="l" pos="892332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7280" indent="-284040" algn="ctr">
              <a:lnSpc>
                <a:spcPct val="95000"/>
              </a:lnSpc>
              <a:spcBef>
                <a:spcPts val="675"/>
              </a:spcBef>
              <a:tabLst>
                <a:tab algn="l" pos="0"/>
                <a:tab algn="l" pos="287280"/>
                <a:tab algn="l" pos="392040"/>
                <a:tab algn="l" pos="841320"/>
                <a:tab algn="l" pos="1290600"/>
                <a:tab algn="l" pos="1739880"/>
                <a:tab algn="l" pos="2189160"/>
                <a:tab algn="l" pos="2638440"/>
                <a:tab algn="l" pos="3087720"/>
                <a:tab algn="l" pos="3537000"/>
                <a:tab algn="l" pos="3984480"/>
                <a:tab algn="l" pos="4433760"/>
                <a:tab algn="l" pos="4883040"/>
                <a:tab algn="l" pos="5330880"/>
                <a:tab algn="l" pos="5780160"/>
                <a:tab algn="l" pos="6229440"/>
                <a:tab algn="l" pos="6678720"/>
                <a:tab algn="l" pos="7128000"/>
                <a:tab algn="l" pos="7577280"/>
                <a:tab algn="l" pos="8024760"/>
                <a:tab algn="l" pos="8474040"/>
                <a:tab algn="l" pos="892332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7280" indent="-284040" algn="ctr">
              <a:lnSpc>
                <a:spcPct val="95000"/>
              </a:lnSpc>
              <a:spcBef>
                <a:spcPts val="675"/>
              </a:spcBef>
              <a:tabLst>
                <a:tab algn="l" pos="0"/>
                <a:tab algn="l" pos="287280"/>
                <a:tab algn="l" pos="392040"/>
                <a:tab algn="l" pos="841320"/>
                <a:tab algn="l" pos="1290600"/>
                <a:tab algn="l" pos="1739880"/>
                <a:tab algn="l" pos="2189160"/>
                <a:tab algn="l" pos="2638440"/>
                <a:tab algn="l" pos="3087720"/>
                <a:tab algn="l" pos="3537000"/>
                <a:tab algn="l" pos="3984480"/>
                <a:tab algn="l" pos="4433760"/>
                <a:tab algn="l" pos="4883040"/>
                <a:tab algn="l" pos="5330880"/>
                <a:tab algn="l" pos="5780160"/>
                <a:tab algn="l" pos="6229440"/>
                <a:tab algn="l" pos="6678720"/>
                <a:tab algn="l" pos="7128000"/>
                <a:tab algn="l" pos="7577280"/>
                <a:tab algn="l" pos="8024760"/>
                <a:tab algn="l" pos="8474040"/>
                <a:tab algn="l" pos="892332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О некоторых омофонах  в русском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7280" indent="-284040" algn="ctr">
              <a:lnSpc>
                <a:spcPct val="95000"/>
              </a:lnSpc>
              <a:spcBef>
                <a:spcPts val="675"/>
              </a:spcBef>
              <a:tabLst>
                <a:tab algn="l" pos="0"/>
                <a:tab algn="l" pos="287280"/>
                <a:tab algn="l" pos="392040"/>
                <a:tab algn="l" pos="841320"/>
                <a:tab algn="l" pos="1290600"/>
                <a:tab algn="l" pos="1739880"/>
                <a:tab algn="l" pos="2189160"/>
                <a:tab algn="l" pos="2638440"/>
                <a:tab algn="l" pos="3087720"/>
                <a:tab algn="l" pos="3537000"/>
                <a:tab algn="l" pos="3984480"/>
                <a:tab algn="l" pos="4433760"/>
                <a:tab algn="l" pos="4883040"/>
                <a:tab algn="l" pos="5330880"/>
                <a:tab algn="l" pos="5780160"/>
                <a:tab algn="l" pos="6229440"/>
                <a:tab algn="l" pos="6678720"/>
                <a:tab algn="l" pos="7128000"/>
                <a:tab algn="l" pos="7577280"/>
                <a:tab algn="l" pos="8024760"/>
                <a:tab algn="l" pos="8474040"/>
                <a:tab algn="l" pos="892332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английском, испанском, японском 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7280" indent="-284040" algn="ctr">
              <a:lnSpc>
                <a:spcPct val="95000"/>
              </a:lnSpc>
              <a:spcBef>
                <a:spcPts val="675"/>
              </a:spcBef>
              <a:tabLst>
                <a:tab algn="l" pos="0"/>
                <a:tab algn="l" pos="287280"/>
                <a:tab algn="l" pos="392040"/>
                <a:tab algn="l" pos="841320"/>
                <a:tab algn="l" pos="1290600"/>
                <a:tab algn="l" pos="1739880"/>
                <a:tab algn="l" pos="2189160"/>
                <a:tab algn="l" pos="2638440"/>
                <a:tab algn="l" pos="3087720"/>
                <a:tab algn="l" pos="3537000"/>
                <a:tab algn="l" pos="3984480"/>
                <a:tab algn="l" pos="4433760"/>
                <a:tab algn="l" pos="4883040"/>
                <a:tab algn="l" pos="5330880"/>
                <a:tab algn="l" pos="5780160"/>
                <a:tab algn="l" pos="6229440"/>
                <a:tab algn="l" pos="6678720"/>
                <a:tab algn="l" pos="7128000"/>
                <a:tab algn="l" pos="7577280"/>
                <a:tab algn="l" pos="8024760"/>
                <a:tab algn="l" pos="8474040"/>
                <a:tab algn="l" pos="892332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китайском язык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7280" indent="-28404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87280"/>
                <a:tab algn="l" pos="392040"/>
                <a:tab algn="l" pos="841320"/>
                <a:tab algn="l" pos="1290600"/>
                <a:tab algn="l" pos="1739880"/>
                <a:tab algn="l" pos="2189160"/>
                <a:tab algn="l" pos="2638440"/>
                <a:tab algn="l" pos="3087720"/>
                <a:tab algn="l" pos="3537000"/>
                <a:tab algn="l" pos="3984480"/>
                <a:tab algn="l" pos="4433760"/>
                <a:tab algn="l" pos="4883040"/>
                <a:tab algn="l" pos="5330880"/>
                <a:tab algn="l" pos="5780160"/>
                <a:tab algn="l" pos="6229440"/>
                <a:tab algn="l" pos="6678720"/>
                <a:tab algn="l" pos="7128000"/>
                <a:tab algn="l" pos="7577280"/>
                <a:tab algn="l" pos="8024760"/>
                <a:tab algn="l" pos="8474040"/>
                <a:tab algn="l" pos="892332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7280" indent="-28404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87280"/>
                <a:tab algn="l" pos="392040"/>
                <a:tab algn="l" pos="841320"/>
                <a:tab algn="l" pos="1290600"/>
                <a:tab algn="l" pos="1739880"/>
                <a:tab algn="l" pos="2189160"/>
                <a:tab algn="l" pos="2638440"/>
                <a:tab algn="l" pos="3087720"/>
                <a:tab algn="l" pos="3537000"/>
                <a:tab algn="l" pos="3984480"/>
                <a:tab algn="l" pos="4433760"/>
                <a:tab algn="l" pos="4883040"/>
                <a:tab algn="l" pos="5330880"/>
                <a:tab algn="l" pos="5780160"/>
                <a:tab algn="l" pos="6229440"/>
                <a:tab algn="l" pos="6678720"/>
                <a:tab algn="l" pos="7128000"/>
                <a:tab algn="l" pos="7577280"/>
                <a:tab algn="l" pos="8024760"/>
                <a:tab algn="l" pos="8474040"/>
                <a:tab algn="l" pos="892332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7280" indent="-28404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87280"/>
                <a:tab algn="l" pos="392040"/>
                <a:tab algn="l" pos="841320"/>
                <a:tab algn="l" pos="1290600"/>
                <a:tab algn="l" pos="1739880"/>
                <a:tab algn="l" pos="2189160"/>
                <a:tab algn="l" pos="2638440"/>
                <a:tab algn="l" pos="3087720"/>
                <a:tab algn="l" pos="3537000"/>
                <a:tab algn="l" pos="3984480"/>
                <a:tab algn="l" pos="4433760"/>
                <a:tab algn="l" pos="4883040"/>
                <a:tab algn="l" pos="5330880"/>
                <a:tab algn="l" pos="5780160"/>
                <a:tab algn="l" pos="6229440"/>
                <a:tab algn="l" pos="6678720"/>
                <a:tab algn="l" pos="7128000"/>
                <a:tab algn="l" pos="7577280"/>
                <a:tab algn="l" pos="8024760"/>
                <a:tab algn="l" pos="8474040"/>
                <a:tab algn="l" pos="892332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7280" indent="-28404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87280"/>
                <a:tab algn="l" pos="392040"/>
                <a:tab algn="l" pos="841320"/>
                <a:tab algn="l" pos="1290600"/>
                <a:tab algn="l" pos="1739880"/>
                <a:tab algn="l" pos="2189160"/>
                <a:tab algn="l" pos="2638440"/>
                <a:tab algn="l" pos="3087720"/>
                <a:tab algn="l" pos="3537000"/>
                <a:tab algn="l" pos="3984480"/>
                <a:tab algn="l" pos="4433760"/>
                <a:tab algn="l" pos="4883040"/>
                <a:tab algn="l" pos="5330880"/>
                <a:tab algn="l" pos="5780160"/>
                <a:tab algn="l" pos="6229440"/>
                <a:tab algn="l" pos="6678720"/>
                <a:tab algn="l" pos="7128000"/>
                <a:tab algn="l" pos="7577280"/>
                <a:tab algn="l" pos="8024760"/>
                <a:tab algn="l" pos="8474040"/>
                <a:tab algn="l" pos="892332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2" name="Рисунок 5" descr="http://im3-tub-ru.yandex.net/i?id=104747849-17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4637160"/>
            <a:ext cx="2857680" cy="1996920"/>
          </a:xfrm>
          <a:prstGeom prst="rect">
            <a:avLst/>
          </a:prstGeom>
          <a:ln w="0">
            <a:noFill/>
          </a:ln>
        </p:spPr>
      </p:pic>
      <p:pic>
        <p:nvPicPr>
          <p:cNvPr id="373" name="Рисунок 6" descr="http://im5-tub-ru.yandex.net/i?id=15958357-60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97600" y="4923000"/>
            <a:ext cx="2714760" cy="1714320"/>
          </a:xfrm>
          <a:prstGeom prst="rect">
            <a:avLst/>
          </a:prstGeom>
          <a:ln w="0">
            <a:noFill/>
          </a:ln>
        </p:spPr>
      </p:pic>
      <p:pic>
        <p:nvPicPr>
          <p:cNvPr id="374" name="Рисунок 7" descr="http://im3-tub-ru.yandex.net/i?id=297427611-66-72&amp;n=2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6720" y="351000"/>
            <a:ext cx="2714760" cy="2143080"/>
          </a:xfrm>
          <a:prstGeom prst="rect">
            <a:avLst/>
          </a:prstGeom>
          <a:ln w="0">
            <a:noFill/>
          </a:ln>
        </p:spPr>
      </p:pic>
      <p:pic>
        <p:nvPicPr>
          <p:cNvPr id="375" name="Рисунок 8" descr="http://im6-tub-ru.yandex.net/i?id=449299698-42-72&amp;n=2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754680" y="493560"/>
            <a:ext cx="2857680" cy="192888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2"/>
          <p:cNvSpPr/>
          <p:nvPr/>
        </p:nvSpPr>
        <p:spPr>
          <a:xfrm>
            <a:off x="868320" y="851040"/>
            <a:ext cx="8601120" cy="59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9840" indent="-3384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3"/>
          <p:cNvSpPr/>
          <p:nvPr/>
        </p:nvSpPr>
        <p:spPr>
          <a:xfrm>
            <a:off x="5478480" y="1768320"/>
            <a:ext cx="445752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11200" indent="-50976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511200"/>
                <a:tab algn="l" pos="615960"/>
                <a:tab algn="l" pos="1065240"/>
                <a:tab algn="l" pos="1514520"/>
                <a:tab algn="l" pos="1963800"/>
                <a:tab algn="l" pos="2413080"/>
                <a:tab algn="l" pos="2862360"/>
                <a:tab algn="l" pos="3311640"/>
                <a:tab algn="l" pos="3760920"/>
                <a:tab algn="l" pos="4208400"/>
                <a:tab algn="l" pos="4657680"/>
                <a:tab algn="l" pos="5105520"/>
                <a:tab algn="l" pos="5554800"/>
                <a:tab algn="l" pos="6004080"/>
                <a:tab algn="l" pos="6453360"/>
                <a:tab algn="l" pos="6902280"/>
                <a:tab algn="l" pos="7351560"/>
                <a:tab algn="l" pos="7799400"/>
                <a:tab algn="l" pos="8248680"/>
                <a:tab algn="l" pos="8697960"/>
                <a:tab algn="l" pos="914724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Прямоугольник 4"/>
          <p:cNvSpPr/>
          <p:nvPr/>
        </p:nvSpPr>
        <p:spPr>
          <a:xfrm>
            <a:off x="825480" y="1065240"/>
            <a:ext cx="8682120" cy="11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5"/>
          <p:cNvSpPr/>
          <p:nvPr/>
        </p:nvSpPr>
        <p:spPr>
          <a:xfrm>
            <a:off x="611280" y="229320"/>
            <a:ext cx="8643960" cy="70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от большинство общих омонимов и омофонов испанского языка. Данные определения не являются единственными возможными. Отметьте: звездочка перед парой слова указывает, что слова кажутся одинаковыми в некой ситуации, но отличны друг от друга в другом месте.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Times New Roman"/>
              <a:buChar char="•"/>
              <a:tabLst>
                <a:tab algn="l" pos="45720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первая буква алфавита),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в),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a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форма от глагола haber - иметь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Times New Roman"/>
              <a:buChar char="•"/>
              <a:tabLst>
                <a:tab algn="l" pos="45720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ma</a:t>
            </a: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mo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хозяин, владелец), </a:t>
            </a: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ma</a:t>
            </a: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mo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форма от глагола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mar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 любить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Times New Roman"/>
              <a:buChar char="•"/>
              <a:tabLst>
                <a:tab algn="l" pos="45720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*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rrollo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форма от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rrollar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 скатывать, свёртывать (в трубку )),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rroyo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ручей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Times New Roman"/>
              <a:buChar char="•"/>
              <a:tabLst>
                <a:tab algn="l" pos="45720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*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sar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жарить, пожаривать),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zar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случай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Times New Roman"/>
              <a:buChar char="•"/>
              <a:tabLst>
                <a:tab algn="l" pos="45720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* </a:t>
            </a: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sia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Азия), </a:t>
            </a: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acia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к, по направлению к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Times New Roman"/>
              <a:buChar char="•"/>
              <a:tabLst>
                <a:tab algn="l" pos="45720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sta (пика, копьё), </a:t>
            </a: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asta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до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Times New Roman"/>
              <a:buChar char="•"/>
              <a:tabLst>
                <a:tab algn="l" pos="45720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arón (барон), </a:t>
            </a: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varón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лицо мужского пола; мужчина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Times New Roman"/>
              <a:buChar char="•"/>
              <a:tabLst>
                <a:tab algn="l" pos="45720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aile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танец),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aile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вор, жулик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Times New Roman"/>
              <a:buChar char="•"/>
              <a:tabLst>
                <a:tab algn="l" pos="45720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asta (достаточно), </a:t>
            </a: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asta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грубая), </a:t>
            </a: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vasta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стежок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Times New Roman"/>
              <a:buChar char="•"/>
              <a:tabLst>
                <a:tab algn="l" pos="45720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asto (грубый), </a:t>
            </a: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vasto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широкий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Times New Roman"/>
              <a:buChar char="•"/>
              <a:tabLst>
                <a:tab algn="l" pos="45720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azar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рынок, базар),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vasar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встроенная полка (для посуды)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Times New Roman"/>
              <a:buChar char="•"/>
              <a:tabLst>
                <a:tab algn="l" pos="45720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e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буква «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»),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ve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буква «</a:t>
            </a:r>
            <a:r>
              <a:rPr b="0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v</a:t>
            </a:r>
            <a:r>
              <a:rPr b="0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»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Times New Roman"/>
              <a:buChar char="•"/>
              <a:tabLst>
                <a:tab algn="l" pos="45720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ello (красивый), </a:t>
            </a: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vello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волосы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Times New Roman"/>
              <a:buChar char="•"/>
              <a:tabLst>
                <a:tab algn="l" pos="45720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ienes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имущество),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vienes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форма от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venir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 приходить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Times New Roman"/>
              <a:buChar char="•"/>
              <a:tabLst>
                <a:tab algn="l" pos="45720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is (бис!), </a:t>
            </a: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vis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комизм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Times New Roman"/>
              <a:buChar char="•"/>
              <a:tabLst>
                <a:tab algn="l" pos="45720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es-ES_tradnl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alle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улица), </a:t>
            </a:r>
            <a:r>
              <a:rPr b="1" i="1" lang="es-ES_tradnl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alle 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форма от </a:t>
            </a:r>
            <a:r>
              <a:rPr b="0" lang="es-ES_tradnl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allar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 молчать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Times New Roman"/>
              <a:buChar char="•"/>
              <a:tabLst>
                <a:tab algn="l" pos="45720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* </a:t>
            </a: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all</a:t>
            </a: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ó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форма от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allar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 молчать), </a:t>
            </a: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ay</a:t>
            </a: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ó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форма от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aer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 падать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Times New Roman"/>
              <a:buChar char="•"/>
              <a:tabLst>
                <a:tab algn="l" pos="45720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*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asa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дом),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aza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форма от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azar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 охотиться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2"/>
          <p:cNvSpPr/>
          <p:nvPr/>
        </p:nvSpPr>
        <p:spPr>
          <a:xfrm>
            <a:off x="539640" y="708120"/>
            <a:ext cx="9072720" cy="64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cazo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кастрюля),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cazo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форма от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cazar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, охотиться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*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ce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буква «</a:t>
            </a:r>
            <a:r>
              <a:rPr b="0" i="1" lang="en-US" sz="2000" spc="-1" strike="noStrike">
                <a:solidFill>
                  <a:srgbClr val="c00000"/>
                </a:solidFill>
                <a:latin typeface="Arial"/>
              </a:rPr>
              <a:t>c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»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se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местоимение), </a:t>
            </a:r>
            <a:r>
              <a:rPr b="1" i="1" lang="en-US" sz="2000" spc="-1" strike="noStrike">
                <a:solidFill>
                  <a:srgbClr val="c00000"/>
                </a:solidFill>
                <a:latin typeface="Arial"/>
              </a:rPr>
              <a:t>s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é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форма от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saber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, знать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*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cebo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корм),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sebo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сало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*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cegar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слепнуть),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segar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срезать, косить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*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cepa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вино),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sepa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форма от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saber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, знать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* </a:t>
            </a:r>
            <a:r>
              <a:rPr b="1" i="1" lang="en-US" sz="2000" spc="-1" strike="noStrike">
                <a:solidFill>
                  <a:srgbClr val="c00000"/>
                </a:solidFill>
                <a:latin typeface="Arial"/>
              </a:rPr>
              <a:t>cerrar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закрывать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), </a:t>
            </a:r>
            <a:r>
              <a:rPr b="1" i="1" lang="en-US" sz="2000" spc="-1" strike="noStrike">
                <a:solidFill>
                  <a:srgbClr val="c00000"/>
                </a:solidFill>
                <a:latin typeface="Arial"/>
              </a:rPr>
              <a:t>serrar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пилить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* </a:t>
            </a:r>
            <a:r>
              <a:rPr b="1" i="1" lang="en-US" sz="2000" spc="-1" strike="noStrike">
                <a:solidFill>
                  <a:srgbClr val="c00000"/>
                </a:solidFill>
                <a:latin typeface="Arial"/>
              </a:rPr>
              <a:t>cesi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ó</a:t>
            </a:r>
            <a:r>
              <a:rPr b="1" i="1" lang="en-US" sz="2000" spc="-1" strike="noStrike">
                <a:solidFill>
                  <a:srgbClr val="c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передача, уступка), </a:t>
            </a:r>
            <a:r>
              <a:rPr b="1" i="1" lang="en-US" sz="2000" spc="-1" strike="noStrike">
                <a:solidFill>
                  <a:srgbClr val="c00000"/>
                </a:solidFill>
                <a:latin typeface="Arial"/>
              </a:rPr>
              <a:t>sesi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ó</a:t>
            </a:r>
            <a:r>
              <a:rPr b="1" i="1" lang="en-US" sz="2000" spc="-1" strike="noStrike">
                <a:solidFill>
                  <a:srgbClr val="c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собрание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*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cesto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корзина),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sexto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шестой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* </a:t>
            </a:r>
            <a:r>
              <a:rPr b="1" i="1" lang="en-US" sz="2000" spc="-1" strike="noStrike">
                <a:solidFill>
                  <a:srgbClr val="c00000"/>
                </a:solidFill>
                <a:latin typeface="Arial"/>
              </a:rPr>
              <a:t>cien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сто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), </a:t>
            </a:r>
            <a:r>
              <a:rPr b="1" i="1" lang="en-US" sz="2000" spc="-1" strike="noStrike">
                <a:solidFill>
                  <a:srgbClr val="c00000"/>
                </a:solidFill>
                <a:latin typeface="Arial"/>
              </a:rPr>
              <a:t>sien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висок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*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ciento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100),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siento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форма от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sentir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, чувствовать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*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cima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вершина),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sima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пропасть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*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cocer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готовить есть),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coser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шить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copa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бокал),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copa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форма от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copar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, выигрывать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de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откуда),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de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буква «</a:t>
            </a:r>
            <a:r>
              <a:rPr b="0" i="1" lang="en-US" sz="2000" spc="-1" strike="noStrike">
                <a:solidFill>
                  <a:srgbClr val="c00000"/>
                </a:solidFill>
                <a:latin typeface="Arial"/>
              </a:rPr>
              <a:t>d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»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), </a:t>
            </a:r>
            <a:r>
              <a:rPr b="1" i="1" lang="en-US" sz="2000" spc="-1" strike="noStrike">
                <a:solidFill>
                  <a:srgbClr val="c00000"/>
                </a:solidFill>
                <a:latin typeface="Arial"/>
              </a:rPr>
              <a:t>d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é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форма от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dar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, давать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el (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артикль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), </a:t>
            </a:r>
            <a:r>
              <a:rPr b="1" i="1" lang="en-US" sz="2000" spc="-1" strike="noStrike">
                <a:solidFill>
                  <a:srgbClr val="c00000"/>
                </a:solidFill>
                <a:latin typeface="Arial"/>
              </a:rPr>
              <a:t>él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он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errar (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ошибаться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), </a:t>
            </a:r>
            <a:r>
              <a:rPr b="1" i="1" lang="en-US" sz="2000" spc="-1" strike="noStrike">
                <a:solidFill>
                  <a:srgbClr val="c00000"/>
                </a:solidFill>
                <a:latin typeface="Arial"/>
              </a:rPr>
              <a:t>herrar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подковывать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ese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это),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ese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название буквы s испанского алфавита),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é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se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этот, тот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es-ES_tradnl" sz="2000" spc="-1" strike="noStrike">
                <a:solidFill>
                  <a:srgbClr val="c00000"/>
                </a:solidFill>
                <a:latin typeface="Arial"/>
              </a:rPr>
              <a:t>flamenco (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танец</a:t>
            </a:r>
            <a:r>
              <a:rPr b="0" lang="es-ES_tradnl" sz="2000" spc="-1" strike="noStrike">
                <a:solidFill>
                  <a:srgbClr val="c00000"/>
                </a:solidFill>
                <a:latin typeface="Arial"/>
              </a:rPr>
              <a:t>), </a:t>
            </a:r>
            <a:r>
              <a:rPr b="1" i="1" lang="es-ES_tradnl" sz="2000" spc="-1" strike="noStrike">
                <a:solidFill>
                  <a:srgbClr val="c00000"/>
                </a:solidFill>
                <a:latin typeface="Arial"/>
              </a:rPr>
              <a:t>flamenco</a:t>
            </a:r>
            <a:r>
              <a:rPr b="0" lang="es-ES_tradnl" sz="2000" spc="-1" strike="noStrike">
                <a:solidFill>
                  <a:srgbClr val="c00000"/>
                </a:solidFill>
                <a:latin typeface="Arial"/>
              </a:rPr>
              <a:t> (фламинго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fui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fuiste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fue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etc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. (форма от глагола </a:t>
            </a:r>
            <a:r>
              <a:rPr b="0" i="1" lang="en-US" sz="2000" spc="-1" strike="noStrike">
                <a:solidFill>
                  <a:srgbClr val="c00000"/>
                </a:solidFill>
                <a:latin typeface="Arial"/>
              </a:rPr>
              <a:t>ser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, быть), </a:t>
            </a:r>
            <a:r>
              <a:rPr b="1" i="1" lang="en-US" sz="2000" spc="-1" strike="noStrike">
                <a:solidFill>
                  <a:srgbClr val="c00000"/>
                </a:solidFill>
                <a:latin typeface="Arial"/>
              </a:rPr>
              <a:t>fui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c00000"/>
                </a:solidFill>
                <a:latin typeface="Arial"/>
              </a:rPr>
              <a:t>fuiste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c00000"/>
                </a:solidFill>
                <a:latin typeface="Arial"/>
              </a:rPr>
              <a:t>fue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c00000"/>
                </a:solidFill>
                <a:latin typeface="Arial"/>
              </a:rPr>
              <a:t>etc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форма от глагола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ir,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идти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br>
              <a:rPr sz="2400"/>
            </a:br>
            <a:br>
              <a:rPr sz="24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9" name="Рисунок 2" descr="http://im5-tub-ru.yandex.net/i?id=15958357-60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83440" y="2136600"/>
            <a:ext cx="2000160" cy="23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2"/>
          <p:cNvSpPr/>
          <p:nvPr/>
        </p:nvSpPr>
        <p:spPr>
          <a:xfrm>
            <a:off x="790560" y="636480"/>
            <a:ext cx="8821800" cy="62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9840" indent="-3384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611280" y="422280"/>
            <a:ext cx="925344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444600"/>
                <a:tab algn="l" pos="89532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Прямоугольник 6"/>
          <p:cNvSpPr/>
          <p:nvPr/>
        </p:nvSpPr>
        <p:spPr>
          <a:xfrm>
            <a:off x="754200" y="779400"/>
            <a:ext cx="84294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Rectangle 5"/>
          <p:cNvSpPr/>
          <p:nvPr/>
        </p:nvSpPr>
        <p:spPr>
          <a:xfrm>
            <a:off x="754200" y="522720"/>
            <a:ext cx="8143560" cy="64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es-ES_tradnl" sz="2000" spc="-1" strike="noStrike">
                <a:solidFill>
                  <a:srgbClr val="c00000"/>
                </a:solidFill>
                <a:latin typeface="Arial"/>
              </a:rPr>
              <a:t>flamenco (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танец</a:t>
            </a:r>
            <a:r>
              <a:rPr b="0" lang="es-ES_tradnl" sz="2000" spc="-1" strike="noStrike">
                <a:solidFill>
                  <a:srgbClr val="c00000"/>
                </a:solidFill>
                <a:latin typeface="Arial"/>
              </a:rPr>
              <a:t>), </a:t>
            </a:r>
            <a:r>
              <a:rPr b="1" i="1" lang="es-ES_tradnl" sz="2000" spc="-1" strike="noStrike">
                <a:solidFill>
                  <a:srgbClr val="c00000"/>
                </a:solidFill>
                <a:latin typeface="Arial"/>
              </a:rPr>
              <a:t>flamenco</a:t>
            </a:r>
            <a:r>
              <a:rPr b="0" lang="es-ES_tradnl" sz="2000" spc="-1" strike="noStrike">
                <a:solidFill>
                  <a:srgbClr val="c00000"/>
                </a:solidFill>
                <a:latin typeface="Arial"/>
              </a:rPr>
              <a:t> (фламинго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fui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fuiste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fue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etc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. (форма от глагола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i="1" lang="en-US" sz="2000" spc="-1" strike="noStrike">
                <a:solidFill>
                  <a:srgbClr val="c00000"/>
                </a:solidFill>
                <a:latin typeface="Arial"/>
              </a:rPr>
              <a:t>ser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, быть), </a:t>
            </a:r>
            <a:r>
              <a:rPr b="1" i="1" lang="en-US" sz="2000" spc="-1" strike="noStrike">
                <a:solidFill>
                  <a:srgbClr val="c00000"/>
                </a:solidFill>
                <a:latin typeface="Arial"/>
              </a:rPr>
              <a:t>fui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c00000"/>
                </a:solidFill>
                <a:latin typeface="Arial"/>
              </a:rPr>
              <a:t>fuiste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c00000"/>
                </a:solidFill>
                <a:latin typeface="Arial"/>
              </a:rPr>
              <a:t>fue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c00000"/>
                </a:solidFill>
                <a:latin typeface="Arial"/>
              </a:rPr>
              <a:t>etc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форма от глагола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ir,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идти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grabar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записывать звук),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gravar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облагать (налогом, пошлиной)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*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halla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форма от глагола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hallar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, искать),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haya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форма от глагола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haber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, иметь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*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has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форма от глагола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haber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, иметь),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haz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форма от глагола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hacer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, делать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hierba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или 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yerba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трава),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hierva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форма от глагола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hervir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, кипятить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hierro (железо),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yerro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ошибка, погрешность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hojear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перелистывать, листать, бегло просматривать),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ojear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взглянуть, посмотреть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sv-SE" sz="2000" spc="-1" strike="noStrike">
                <a:solidFill>
                  <a:srgbClr val="c00000"/>
                </a:solidFill>
                <a:latin typeface="Arial"/>
              </a:rPr>
              <a:t>honda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глубокая), </a:t>
            </a:r>
            <a:r>
              <a:rPr b="0" lang="sv-SE" sz="2000" spc="-1" strike="noStrike">
                <a:solidFill>
                  <a:srgbClr val="c00000"/>
                </a:solidFill>
                <a:latin typeface="Arial"/>
              </a:rPr>
              <a:t>honda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рогатка), </a:t>
            </a:r>
            <a:r>
              <a:rPr b="0" lang="sv-SE" sz="2000" spc="-1" strike="noStrike">
                <a:solidFill>
                  <a:srgbClr val="c00000"/>
                </a:solidFill>
                <a:latin typeface="Arial"/>
              </a:rPr>
              <a:t>onda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волна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hola (привет),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ola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большая волна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hora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час),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ora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форма от глагола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orar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, произносить речь, выступать с речью),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ora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сейчас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*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hoya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низина),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olla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олья (горячее блюдо из мяса с овощами)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*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hozar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рыть, копать),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osar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осмеливаться, отваживаться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huno (гунн),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uno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один)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539640" y="993600"/>
            <a:ext cx="8786880" cy="614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281160">
              <a:lnSpc>
                <a:spcPct val="80000"/>
              </a:lnSpc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>
              <a:lnSpc>
                <a:spcPct val="80000"/>
              </a:lnSpc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Вся китайская культура пронизана идеей омофонии (</a:t>
            </a:r>
            <a:r>
              <a:rPr b="0" lang="ja-JP" sz="2000" spc="-1" strike="noStrike">
                <a:solidFill>
                  <a:srgbClr val="6d1014"/>
                </a:solidFill>
                <a:latin typeface="Times New Roman"/>
                <a:ea typeface="MS PGothic"/>
              </a:rPr>
              <a:t>谐音 </a:t>
            </a:r>
            <a:r>
              <a:rPr b="0" lang="en-GB" sz="2000" spc="-1" strike="noStrike">
                <a:solidFill>
                  <a:srgbClr val="6d1014"/>
                </a:solidFill>
                <a:latin typeface="Times New Roman"/>
                <a:ea typeface="MS PGothic"/>
              </a:rPr>
              <a:t>xiéyīn). </a:t>
            </a:r>
            <a:r>
              <a:rPr b="0" lang="ru-RU" sz="2000" spc="-1" strike="noStrike">
                <a:solidFill>
                  <a:srgbClr val="6d1014"/>
                </a:solidFill>
                <a:latin typeface="Times New Roman"/>
                <a:ea typeface="MS PGothic"/>
              </a:rPr>
              <a:t>С ней связаны многочисленные обычаи и обряды, которым жители Поднебесной стараются до сих пор следовать.</a:t>
            </a:r>
            <a:br>
              <a:rPr sz="1600"/>
            </a:br>
            <a:r>
              <a:rPr b="0" lang="ru-RU" sz="2000" spc="-1" strike="noStrike">
                <a:solidFill>
                  <a:srgbClr val="6d1014"/>
                </a:solidFill>
                <a:latin typeface="Times New Roman"/>
                <a:ea typeface="MS PGothic"/>
              </a:rPr>
              <a:t>Счастье перевернулось!</a:t>
            </a:r>
            <a:br>
              <a:rPr sz="2000"/>
            </a:br>
            <a:r>
              <a:rPr b="0" lang="ru-RU" sz="2000" spc="-1" strike="noStrike">
                <a:solidFill>
                  <a:srgbClr val="6d1014"/>
                </a:solidFill>
                <a:latin typeface="Times New Roman"/>
                <a:ea typeface="MS PGothic"/>
              </a:rPr>
              <a:t>Так, в Праздник весны – китайский Новый год, принято на дверь вешать перевернутый иероглиф «счастье» </a:t>
            </a:r>
            <a:r>
              <a:rPr b="0" lang="ja-JP" sz="2000" spc="-1" strike="noStrike">
                <a:solidFill>
                  <a:srgbClr val="6d1014"/>
                </a:solidFill>
                <a:latin typeface="Times New Roman"/>
                <a:ea typeface="MS PGothic"/>
              </a:rPr>
              <a:t>福 </a:t>
            </a:r>
            <a:r>
              <a:rPr b="0" lang="en-GB" sz="2000" spc="-1" strike="noStrike">
                <a:solidFill>
                  <a:srgbClr val="6d1014"/>
                </a:solidFill>
                <a:latin typeface="Times New Roman"/>
                <a:ea typeface="MS PGothic"/>
              </a:rPr>
              <a:t>fú: </a:t>
            </a:r>
            <a:r>
              <a:rPr b="0" lang="ru-RU" sz="2000" spc="-1" strike="noStrike">
                <a:solidFill>
                  <a:srgbClr val="6d1014"/>
                </a:solidFill>
                <a:latin typeface="Times New Roman"/>
                <a:ea typeface="MS PGothic"/>
              </a:rPr>
              <a:t>по-китайски «счастье перевернулось» </a:t>
            </a:r>
            <a:r>
              <a:rPr b="0" lang="ja-JP" sz="2000" spc="-1" strike="noStrike">
                <a:solidFill>
                  <a:srgbClr val="6d1014"/>
                </a:solidFill>
                <a:latin typeface="Times New Roman"/>
                <a:ea typeface="MS PGothic"/>
              </a:rPr>
              <a:t>福倒 </a:t>
            </a:r>
            <a:r>
              <a:rPr b="0" lang="en-GB" sz="2000" spc="-1" strike="noStrike">
                <a:solidFill>
                  <a:srgbClr val="6d1014"/>
                </a:solidFill>
                <a:latin typeface="Times New Roman"/>
                <a:ea typeface="MS PGothic"/>
              </a:rPr>
              <a:t>fú dào </a:t>
            </a:r>
            <a:r>
              <a:rPr b="0" lang="ru-RU" sz="2000" spc="-1" strike="noStrike">
                <a:solidFill>
                  <a:srgbClr val="6d1014"/>
                </a:solidFill>
                <a:latin typeface="Times New Roman"/>
                <a:ea typeface="MS PGothic"/>
              </a:rPr>
              <a:t>звучит так же, как «счастье приходит» </a:t>
            </a:r>
            <a:r>
              <a:rPr b="0" lang="ja-JP" sz="2000" spc="-1" strike="noStrike">
                <a:solidFill>
                  <a:srgbClr val="6d1014"/>
                </a:solidFill>
                <a:latin typeface="Times New Roman"/>
                <a:ea typeface="MS PGothic"/>
              </a:rPr>
              <a:t>福到 </a:t>
            </a:r>
            <a:r>
              <a:rPr b="0" lang="en-GB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fú dào. </a:t>
            </a:r>
            <a:r>
              <a:rPr b="0" lang="ru-RU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На новогоднем столе должна быть рыба </a:t>
            </a:r>
            <a:r>
              <a:rPr b="0" lang="ja-JP" sz="2000" spc="-1" strike="noStrike">
                <a:solidFill>
                  <a:srgbClr val="6d1014"/>
                </a:solidFill>
                <a:latin typeface="Times New Roman"/>
                <a:ea typeface="MS PGothic"/>
              </a:rPr>
              <a:t>鱼 </a:t>
            </a:r>
            <a:r>
              <a:rPr b="0" lang="en-GB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yú, </a:t>
            </a:r>
            <a:r>
              <a:rPr b="0" lang="ru-RU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которая символизирует собой достаток, излишки </a:t>
            </a:r>
            <a:r>
              <a:rPr b="0" lang="ja-JP" sz="2000" spc="-1" strike="noStrike">
                <a:solidFill>
                  <a:srgbClr val="6d1014"/>
                </a:solidFill>
                <a:latin typeface="Times New Roman"/>
                <a:ea typeface="MS PGothic"/>
              </a:rPr>
              <a:t>余 </a:t>
            </a:r>
            <a:r>
              <a:rPr b="0" lang="en-GB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yú, </a:t>
            </a:r>
            <a:r>
              <a:rPr b="0" lang="ru-RU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курица </a:t>
            </a:r>
            <a:r>
              <a:rPr b="0" lang="ja-JP" sz="2000" spc="-1" strike="noStrike">
                <a:solidFill>
                  <a:srgbClr val="6d1014"/>
                </a:solidFill>
                <a:latin typeface="Times New Roman"/>
                <a:ea typeface="MS PGothic"/>
              </a:rPr>
              <a:t>鸡 </a:t>
            </a:r>
            <a:r>
              <a:rPr b="0" lang="en-GB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jī, </a:t>
            </a:r>
            <a:r>
              <a:rPr b="0" lang="ru-RU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что значит удача </a:t>
            </a:r>
            <a:r>
              <a:rPr b="0" lang="ja-JP" sz="2000" spc="-1" strike="noStrike">
                <a:solidFill>
                  <a:srgbClr val="6d1014"/>
                </a:solidFill>
                <a:latin typeface="Times New Roman"/>
                <a:ea typeface="MS PGothic"/>
              </a:rPr>
              <a:t>吉 </a:t>
            </a:r>
            <a:r>
              <a:rPr b="0" lang="en-GB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jí, </a:t>
            </a:r>
            <a:r>
              <a:rPr b="0" lang="ru-RU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торт из клейкого риса </a:t>
            </a:r>
            <a:r>
              <a:rPr b="0" lang="ja-JP" sz="2000" spc="-1" strike="noStrike">
                <a:solidFill>
                  <a:srgbClr val="6d1014"/>
                </a:solidFill>
                <a:latin typeface="Times New Roman"/>
                <a:ea typeface="MS PGothic"/>
              </a:rPr>
              <a:t>黏糕 </a:t>
            </a:r>
            <a:r>
              <a:rPr b="0" lang="en-GB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nián gāo – </a:t>
            </a:r>
            <a:r>
              <a:rPr b="0" lang="ru-RU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следующий год будет выше, лучше предыдущего </a:t>
            </a:r>
            <a:r>
              <a:rPr b="0" lang="ja-JP" sz="2000" spc="-1" strike="noStrike">
                <a:solidFill>
                  <a:srgbClr val="6d1014"/>
                </a:solidFill>
                <a:latin typeface="Times New Roman"/>
                <a:ea typeface="MS PGothic"/>
              </a:rPr>
              <a:t>年高 </a:t>
            </a:r>
            <a:r>
              <a:rPr b="0" lang="en-GB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nián gāo. </a:t>
            </a:r>
            <a:r>
              <a:rPr b="0" lang="ru-RU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В прежние времена пекинцы дарили друг другу «счастливую коробку», в которой лежали сушеная хурма, личжи, лунган, каштаны и финики. Слово «хурма» </a:t>
            </a:r>
            <a:r>
              <a:rPr b="0" lang="ja-JP" sz="2000" spc="-1" strike="noStrike">
                <a:solidFill>
                  <a:srgbClr val="6d1014"/>
                </a:solidFill>
                <a:latin typeface="Times New Roman"/>
                <a:ea typeface="MS PGothic"/>
              </a:rPr>
              <a:t>柿 </a:t>
            </a:r>
            <a:r>
              <a:rPr b="0" lang="en-GB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shì </a:t>
            </a:r>
            <a:r>
              <a:rPr b="0" lang="ru-RU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звучит так же, как «дела» </a:t>
            </a:r>
            <a:r>
              <a:rPr b="0" lang="ja-JP" sz="2000" spc="-1" strike="noStrike">
                <a:solidFill>
                  <a:srgbClr val="6d1014"/>
                </a:solidFill>
                <a:latin typeface="Times New Roman"/>
                <a:ea typeface="MS PGothic"/>
              </a:rPr>
              <a:t>事 </a:t>
            </a:r>
            <a:r>
              <a:rPr b="0" lang="en-GB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shì, </a:t>
            </a:r>
            <a:r>
              <a:rPr b="0" lang="ru-RU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ли(чжи) </a:t>
            </a:r>
            <a:r>
              <a:rPr b="0" lang="ja-JP" sz="2000" spc="-1" strike="noStrike">
                <a:solidFill>
                  <a:srgbClr val="6d1014"/>
                </a:solidFill>
                <a:latin typeface="Times New Roman"/>
                <a:ea typeface="MS PGothic"/>
              </a:rPr>
              <a:t>荔 </a:t>
            </a:r>
            <a:r>
              <a:rPr b="0" lang="en-GB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lì – </a:t>
            </a:r>
            <a:r>
              <a:rPr b="0" lang="ru-RU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как «выгода» </a:t>
            </a:r>
            <a:r>
              <a:rPr b="0" lang="ja-JP" sz="2000" spc="-1" strike="noStrike">
                <a:solidFill>
                  <a:srgbClr val="6d1014"/>
                </a:solidFill>
                <a:latin typeface="Times New Roman"/>
                <a:ea typeface="MS PGothic"/>
              </a:rPr>
              <a:t>利 </a:t>
            </a:r>
            <a:r>
              <a:rPr b="0" lang="en-GB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lì, </a:t>
            </a:r>
            <a:r>
              <a:rPr b="0" lang="ru-RU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лунган </a:t>
            </a:r>
            <a:r>
              <a:rPr b="0" lang="ja-JP" sz="2000" spc="-1" strike="noStrike">
                <a:solidFill>
                  <a:srgbClr val="6d1014"/>
                </a:solidFill>
                <a:latin typeface="Times New Roman"/>
                <a:ea typeface="MS PGothic"/>
              </a:rPr>
              <a:t>桂圆 </a:t>
            </a:r>
            <a:r>
              <a:rPr b="0" lang="en-GB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guìyuán – </a:t>
            </a:r>
            <a:r>
              <a:rPr b="0" lang="ru-RU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как «дорогой» </a:t>
            </a:r>
            <a:r>
              <a:rPr b="0" lang="ja-JP" sz="2000" spc="-1" strike="noStrike">
                <a:solidFill>
                  <a:srgbClr val="6d1014"/>
                </a:solidFill>
                <a:latin typeface="Times New Roman"/>
                <a:ea typeface="MS PGothic"/>
              </a:rPr>
              <a:t>贵 </a:t>
            </a:r>
            <a:r>
              <a:rPr b="0" lang="en-GB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guì </a:t>
            </a:r>
            <a:r>
              <a:rPr b="0" lang="ru-RU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и «полный» </a:t>
            </a:r>
            <a:r>
              <a:rPr b="0" lang="ja-JP" sz="2000" spc="-1" strike="noStrike">
                <a:solidFill>
                  <a:srgbClr val="6d1014"/>
                </a:solidFill>
                <a:latin typeface="Times New Roman"/>
                <a:ea typeface="MS PGothic"/>
              </a:rPr>
              <a:t>圆 </a:t>
            </a:r>
            <a:r>
              <a:rPr b="0" lang="en-GB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yuán, «</a:t>
            </a:r>
            <a:r>
              <a:rPr b="0" lang="ru-RU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каштан» </a:t>
            </a:r>
            <a:r>
              <a:rPr b="0" lang="ja-JP" sz="2000" spc="-1" strike="noStrike">
                <a:solidFill>
                  <a:srgbClr val="6d1014"/>
                </a:solidFill>
                <a:latin typeface="Times New Roman"/>
                <a:ea typeface="MS PGothic"/>
              </a:rPr>
              <a:t>栗子 </a:t>
            </a:r>
            <a:r>
              <a:rPr b="0" lang="en-GB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lìzǐ – «</a:t>
            </a:r>
            <a:r>
              <a:rPr b="0" lang="ru-RU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воспитать ребенка» </a:t>
            </a:r>
            <a:r>
              <a:rPr b="0" lang="ja-JP" sz="2000" spc="-1" strike="noStrike">
                <a:solidFill>
                  <a:srgbClr val="6d1014"/>
                </a:solidFill>
                <a:latin typeface="Times New Roman"/>
                <a:ea typeface="MS PGothic"/>
              </a:rPr>
              <a:t>立子 </a:t>
            </a:r>
            <a:r>
              <a:rPr b="0" lang="en-GB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lì zǐ, «</a:t>
            </a:r>
            <a:r>
              <a:rPr b="0" lang="ru-RU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финик» </a:t>
            </a:r>
            <a:r>
              <a:rPr b="0" lang="ja-JP" sz="2000" spc="-1" strike="noStrike">
                <a:solidFill>
                  <a:srgbClr val="6d1014"/>
                </a:solidFill>
                <a:latin typeface="Times New Roman"/>
                <a:ea typeface="MS PGothic"/>
              </a:rPr>
              <a:t>枣 </a:t>
            </a:r>
            <a:r>
              <a:rPr b="0" lang="en-GB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zǎo – «</a:t>
            </a:r>
            <a:r>
              <a:rPr b="0" lang="ru-RU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рано» </a:t>
            </a:r>
            <a:r>
              <a:rPr b="0" lang="ja-JP" sz="2000" spc="-1" strike="noStrike">
                <a:solidFill>
                  <a:srgbClr val="6d1014"/>
                </a:solidFill>
                <a:latin typeface="Times New Roman"/>
                <a:ea typeface="MS PGothic"/>
              </a:rPr>
              <a:t>早 </a:t>
            </a:r>
            <a:r>
              <a:rPr b="0" lang="en-GB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zǎo. </a:t>
            </a:r>
            <a:r>
              <a:rPr b="0" lang="ru-RU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Все вместе означает «благополучное завершение всех дел» </a:t>
            </a:r>
            <a:r>
              <a:rPr b="0" lang="ja-JP" sz="2000" spc="-1" strike="noStrike">
                <a:solidFill>
                  <a:srgbClr val="6d1014"/>
                </a:solidFill>
                <a:latin typeface="Times New Roman"/>
                <a:ea typeface="MS PGothic"/>
              </a:rPr>
              <a:t>万事如意 </a:t>
            </a:r>
            <a:r>
              <a:rPr b="0" lang="en-GB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wàn shì rú yì, «</a:t>
            </a:r>
            <a:r>
              <a:rPr b="0" lang="ru-RU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большая удача и выгода» </a:t>
            </a:r>
            <a:r>
              <a:rPr b="0" lang="ja-JP" sz="2000" spc="-1" strike="noStrike">
                <a:solidFill>
                  <a:srgbClr val="6d1014"/>
                </a:solidFill>
                <a:latin typeface="Times New Roman"/>
                <a:ea typeface="MS PGothic"/>
              </a:rPr>
              <a:t>大吉大利 </a:t>
            </a:r>
            <a:r>
              <a:rPr b="0" lang="en-GB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dà jí dà lì, «</a:t>
            </a:r>
            <a:r>
              <a:rPr b="0" lang="ru-RU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воссоединение семьи» </a:t>
            </a:r>
            <a:r>
              <a:rPr b="0" lang="ja-JP" sz="2000" spc="-1" strike="noStrike">
                <a:solidFill>
                  <a:srgbClr val="6d1014"/>
                </a:solidFill>
                <a:latin typeface="Times New Roman"/>
                <a:ea typeface="MS PGothic"/>
              </a:rPr>
              <a:t>团团圆圆 </a:t>
            </a:r>
            <a:r>
              <a:rPr b="0" lang="en-GB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tuántuán yuányuán, </a:t>
            </a:r>
            <a:r>
              <a:rPr b="0" lang="ru-RU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пораньше воспитать ребенка </a:t>
            </a:r>
            <a:r>
              <a:rPr b="0" lang="ja-JP" sz="2000" spc="-1" strike="noStrike">
                <a:solidFill>
                  <a:srgbClr val="6d1014"/>
                </a:solidFill>
                <a:latin typeface="Times New Roman"/>
                <a:ea typeface="MS PGothic"/>
              </a:rPr>
              <a:t>早立子 </a:t>
            </a:r>
            <a:r>
              <a:rPr b="0" lang="en-GB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zǎo lì zǐ.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>
              <a:lnSpc>
                <a:spcPct val="80000"/>
              </a:lnSpc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>
              <a:lnSpc>
                <a:spcPct val="80000"/>
              </a:lnSpc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>
              <a:lnSpc>
                <a:spcPct val="80000"/>
              </a:lnSpc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Прямоугольник 2"/>
          <p:cNvSpPr/>
          <p:nvPr/>
        </p:nvSpPr>
        <p:spPr>
          <a:xfrm>
            <a:off x="968400" y="565200"/>
            <a:ext cx="8110440" cy="14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мофоны китайского и японско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зыков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Рисунок 3" descr="http://im5-tub-ru.yandex.net/i?id=135815640-23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40600" y="279360"/>
            <a:ext cx="1428840" cy="1071720"/>
          </a:xfrm>
          <a:prstGeom prst="rect">
            <a:avLst/>
          </a:prstGeom>
          <a:ln w="0">
            <a:noFill/>
          </a:ln>
        </p:spPr>
      </p:pic>
      <p:pic>
        <p:nvPicPr>
          <p:cNvPr id="417" name="Рисунок 4" descr="http://im2-tub-ru.yandex.net/i?id=665319034-06-72&amp;n=21"/>
          <p:cNvPicPr/>
          <p:nvPr/>
        </p:nvPicPr>
        <p:blipFill>
          <a:blip r:embed="rId3"/>
          <a:stretch/>
        </p:blipFill>
        <p:spPr>
          <a:xfrm>
            <a:off x="0" y="0"/>
            <a:ext cx="225432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1"/>
          <p:cNvSpPr/>
          <p:nvPr/>
        </p:nvSpPr>
        <p:spPr>
          <a:xfrm>
            <a:off x="468360" y="779400"/>
            <a:ext cx="9067680" cy="56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ть и слова с неблагоприятным значением. Самое, пожалуй, известное – число четыре. Его китайцы стараются по возможности избегать. Дело в том, что «четыре»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四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sì звучит почти как «смерть»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死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sǐ (о символике чисел смотрите подробнее здесь). Один мой знакомый, который в свое время занимался поставками наших самолетов в Поднебесную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 Box 2"/>
          <p:cNvSpPr/>
          <p:nvPr/>
        </p:nvSpPr>
        <p:spPr>
          <a:xfrm>
            <a:off x="936720" y="565200"/>
            <a:ext cx="896616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9840" indent="-3384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84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84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84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84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84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84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84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84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84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84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3"/>
          <p:cNvSpPr/>
          <p:nvPr/>
        </p:nvSpPr>
        <p:spPr>
          <a:xfrm>
            <a:off x="9570960" y="3494160"/>
            <a:ext cx="46080" cy="32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Прямоугольник 4"/>
          <p:cNvSpPr/>
          <p:nvPr/>
        </p:nvSpPr>
        <p:spPr>
          <a:xfrm>
            <a:off x="396720" y="708120"/>
            <a:ext cx="9001440" cy="51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1800" spc="-1" strike="noStrike">
                <a:solidFill>
                  <a:srgbClr val="6d1014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6d1014"/>
                </a:solidFill>
                <a:latin typeface="Arial"/>
              </a:rPr>
              <a:t>На Тайване во время поклонения предкам в праздник Весны, на ветви кипариса </a:t>
            </a:r>
            <a:r>
              <a:rPr b="0" lang="ja-JP" sz="1800" spc="-1" strike="noStrike">
                <a:solidFill>
                  <a:srgbClr val="6d1014"/>
                </a:solidFill>
                <a:latin typeface="Arial"/>
              </a:rPr>
              <a:t>栢枝 </a:t>
            </a:r>
            <a:r>
              <a:rPr b="0" lang="en-GB" sz="1800" spc="-1" strike="noStrike">
                <a:solidFill>
                  <a:srgbClr val="6d1014"/>
                </a:solidFill>
                <a:latin typeface="Arial"/>
              </a:rPr>
              <a:t>bǎi zhī </a:t>
            </a:r>
            <a:r>
              <a:rPr b="0" lang="ru-RU" sz="1800" spc="-1" strike="noStrike">
                <a:solidFill>
                  <a:srgbClr val="6d1014"/>
                </a:solidFill>
                <a:latin typeface="Arial"/>
              </a:rPr>
              <a:t>вешают мандарины </a:t>
            </a:r>
            <a:r>
              <a:rPr b="0" lang="ja-JP" sz="1800" spc="-1" strike="noStrike">
                <a:solidFill>
                  <a:srgbClr val="6d1014"/>
                </a:solidFill>
                <a:latin typeface="Arial"/>
              </a:rPr>
              <a:t>桔子 </a:t>
            </a:r>
            <a:r>
              <a:rPr b="0" lang="en-GB" sz="1800" spc="-1" strike="noStrike">
                <a:solidFill>
                  <a:srgbClr val="6d1014"/>
                </a:solidFill>
                <a:latin typeface="Arial"/>
              </a:rPr>
              <a:t>júzi </a:t>
            </a:r>
            <a:r>
              <a:rPr b="0" lang="ru-RU" sz="1800" spc="-1" strike="noStrike">
                <a:solidFill>
                  <a:srgbClr val="6d1014"/>
                </a:solidFill>
                <a:latin typeface="Arial"/>
              </a:rPr>
              <a:t>и хурму </a:t>
            </a:r>
            <a:r>
              <a:rPr b="0" lang="ja-JP" sz="1800" spc="-1" strike="noStrike">
                <a:solidFill>
                  <a:srgbClr val="6d1014"/>
                </a:solidFill>
                <a:latin typeface="Arial"/>
              </a:rPr>
              <a:t>柿子 </a:t>
            </a:r>
            <a:r>
              <a:rPr b="0" lang="en-GB" sz="1800" spc="-1" strike="noStrike">
                <a:solidFill>
                  <a:srgbClr val="6d1014"/>
                </a:solidFill>
                <a:latin typeface="Arial"/>
              </a:rPr>
              <a:t>shìzi, </a:t>
            </a:r>
            <a:r>
              <a:rPr b="0" lang="ru-RU" sz="1800" spc="-1" strike="noStrike">
                <a:solidFill>
                  <a:srgbClr val="6d1014"/>
                </a:solidFill>
                <a:latin typeface="Arial"/>
              </a:rPr>
              <a:t>это означает удачу во всех делах </a:t>
            </a:r>
            <a:r>
              <a:rPr b="0" lang="ja-JP" sz="1800" spc="-1" strike="noStrike">
                <a:solidFill>
                  <a:srgbClr val="6d1014"/>
                </a:solidFill>
                <a:latin typeface="Arial"/>
              </a:rPr>
              <a:t>百事大吉 </a:t>
            </a:r>
            <a:r>
              <a:rPr b="0" lang="en-GB" sz="1800" spc="-1" strike="noStrike">
                <a:solidFill>
                  <a:srgbClr val="6d1014"/>
                </a:solidFill>
                <a:latin typeface="Arial"/>
              </a:rPr>
              <a:t>bǎi shì dà jí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6d1014"/>
                </a:solidFill>
                <a:latin typeface="Arial"/>
              </a:rPr>
              <a:t>Во время свадебной церемонии также часто обыгрывается омофония. Например, невесте предлагается съесть сырой </a:t>
            </a:r>
            <a:r>
              <a:rPr b="0" lang="ja-JP" sz="1800" spc="-1" strike="noStrike">
                <a:solidFill>
                  <a:srgbClr val="6d1014"/>
                </a:solidFill>
                <a:latin typeface="Arial"/>
              </a:rPr>
              <a:t>生 </a:t>
            </a:r>
            <a:r>
              <a:rPr b="0" lang="en-GB" sz="1800" spc="-1" strike="noStrike">
                <a:solidFill>
                  <a:srgbClr val="6d1014"/>
                </a:solidFill>
                <a:latin typeface="Arial"/>
              </a:rPr>
              <a:t>shēng </a:t>
            </a:r>
            <a:r>
              <a:rPr b="0" lang="ru-RU" sz="1800" spc="-1" strike="noStrike">
                <a:solidFill>
                  <a:srgbClr val="6d1014"/>
                </a:solidFill>
                <a:latin typeface="Arial"/>
              </a:rPr>
              <a:t>пельмень и воскликнуть «шэн», показывая, тем самым, что она может и хочет рожать детей. Еще она должна съесть яблоко </a:t>
            </a:r>
            <a:r>
              <a:rPr b="0" lang="ja-JP" sz="1800" spc="-1" strike="noStrike">
                <a:solidFill>
                  <a:srgbClr val="6d1014"/>
                </a:solidFill>
                <a:latin typeface="Arial"/>
              </a:rPr>
              <a:t>苹果 </a:t>
            </a:r>
            <a:r>
              <a:rPr b="0" lang="en-GB" sz="1800" spc="-1" strike="noStrike">
                <a:solidFill>
                  <a:srgbClr val="6d1014"/>
                </a:solidFill>
                <a:latin typeface="Arial"/>
              </a:rPr>
              <a:t>píngguǒ </a:t>
            </a:r>
            <a:r>
              <a:rPr b="0" lang="ru-RU" sz="1800" spc="-1" strike="noStrike">
                <a:solidFill>
                  <a:srgbClr val="6d1014"/>
                </a:solidFill>
                <a:latin typeface="Arial"/>
              </a:rPr>
              <a:t>и перешагнуть через седло </a:t>
            </a:r>
            <a:r>
              <a:rPr b="0" lang="ja-JP" sz="1800" spc="-1" strike="noStrike">
                <a:solidFill>
                  <a:srgbClr val="6d1014"/>
                </a:solidFill>
                <a:latin typeface="Arial"/>
              </a:rPr>
              <a:t>鞍 </a:t>
            </a:r>
            <a:r>
              <a:rPr b="0" lang="en-GB" sz="1800" spc="-1" strike="noStrike">
                <a:solidFill>
                  <a:srgbClr val="6d1014"/>
                </a:solidFill>
                <a:latin typeface="Arial"/>
              </a:rPr>
              <a:t>ān – </a:t>
            </a:r>
            <a:r>
              <a:rPr b="0" lang="ru-RU" sz="1800" spc="-1" strike="noStrike">
                <a:solidFill>
                  <a:srgbClr val="6d1014"/>
                </a:solidFill>
                <a:latin typeface="Arial"/>
              </a:rPr>
              <a:t>это звучит как </a:t>
            </a:r>
            <a:r>
              <a:rPr b="0" lang="ja-JP" sz="1800" spc="-1" strike="noStrike">
                <a:solidFill>
                  <a:srgbClr val="6d1014"/>
                </a:solidFill>
                <a:latin typeface="Arial"/>
              </a:rPr>
              <a:t>平平安安 </a:t>
            </a:r>
            <a:r>
              <a:rPr b="0" lang="en-GB" sz="1800" spc="-1" strike="noStrike">
                <a:solidFill>
                  <a:srgbClr val="6d1014"/>
                </a:solidFill>
                <a:latin typeface="Arial"/>
              </a:rPr>
              <a:t>píngpíng ān’ān – «</a:t>
            </a:r>
            <a:r>
              <a:rPr b="0" lang="ru-RU" sz="1800" spc="-1" strike="noStrike">
                <a:solidFill>
                  <a:srgbClr val="6d1014"/>
                </a:solidFill>
                <a:latin typeface="Arial"/>
              </a:rPr>
              <a:t>мир и спокойствие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1800" spc="-1" strike="noStrike">
                <a:solidFill>
                  <a:srgbClr val="6d1014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6d1014"/>
                </a:solidFill>
                <a:latin typeface="Arial"/>
              </a:rPr>
              <a:t>Есть и слова с неблагоприятным значением. Самое, пожалуй, известное – число четыре. Его китайцы стараются по возможности избегать. Дело в том, что «четыре» </a:t>
            </a:r>
            <a:r>
              <a:rPr b="0" lang="ru-RU" sz="1800" spc="-1" strike="noStrike">
                <a:solidFill>
                  <a:srgbClr val="6d1014"/>
                </a:solidFill>
                <a:latin typeface="Arial"/>
              </a:rPr>
              <a:t>四 </a:t>
            </a:r>
            <a:r>
              <a:rPr b="0" lang="ru-RU" sz="1800" spc="-1" strike="noStrike">
                <a:solidFill>
                  <a:srgbClr val="6d1014"/>
                </a:solidFill>
                <a:latin typeface="Arial"/>
              </a:rPr>
              <a:t>sì звучит почти как «смерть» </a:t>
            </a:r>
            <a:r>
              <a:rPr b="0" lang="ru-RU" sz="1800" spc="-1" strike="noStrike">
                <a:solidFill>
                  <a:srgbClr val="6d1014"/>
                </a:solidFill>
                <a:latin typeface="Arial"/>
              </a:rPr>
              <a:t>死 </a:t>
            </a:r>
            <a:r>
              <a:rPr b="0" lang="ru-RU" sz="1800" spc="-1" strike="noStrike">
                <a:solidFill>
                  <a:srgbClr val="6d1014"/>
                </a:solidFill>
                <a:latin typeface="Arial"/>
              </a:rPr>
              <a:t>sǐ (о символике чисел смотрите подробнее здесь). Один мой знакомый, который в свое время занимался поставками наших самолетов в Поднебесную, рассказывал, что китайцы с недоверием отнеслись к Ту-154. Еще бы! По-китайски это звучит как </a:t>
            </a:r>
            <a:r>
              <a:rPr b="0" lang="ru-RU" sz="1800" spc="-1" strike="noStrike">
                <a:solidFill>
                  <a:srgbClr val="6d1014"/>
                </a:solidFill>
                <a:latin typeface="Arial"/>
              </a:rPr>
              <a:t>一五四 </a:t>
            </a:r>
            <a:r>
              <a:rPr b="0" lang="ru-RU" sz="1800" spc="-1" strike="noStrike">
                <a:solidFill>
                  <a:srgbClr val="6d1014"/>
                </a:solidFill>
                <a:latin typeface="Arial"/>
              </a:rPr>
              <a:t>yāo wǔ sì, почти как </a:t>
            </a:r>
            <a:r>
              <a:rPr b="0" lang="ru-RU" sz="1800" spc="-1" strike="noStrike">
                <a:solidFill>
                  <a:srgbClr val="6d1014"/>
                </a:solidFill>
                <a:latin typeface="Arial"/>
              </a:rPr>
              <a:t>要我死 </a:t>
            </a:r>
            <a:r>
              <a:rPr b="0" lang="ru-RU" sz="1800" spc="-1" strike="noStrike">
                <a:solidFill>
                  <a:srgbClr val="6d1014"/>
                </a:solidFill>
                <a:latin typeface="Arial"/>
              </a:rPr>
              <a:t>yào wǒ sǐ «должен я умереть». Я ни за что не полетела бы на таком самолете!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936720" y="493560"/>
            <a:ext cx="8632800" cy="6500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281160" algn="just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Никогда не следует дарить зонты или часы. «Зонт» </a:t>
            </a:r>
            <a:r>
              <a:rPr b="0" lang="ja-JP" sz="2000" spc="-1" strike="noStrike">
                <a:solidFill>
                  <a:srgbClr val="6d1014"/>
                </a:solidFill>
                <a:latin typeface="Times New Roman"/>
                <a:ea typeface="MS PGothic"/>
              </a:rPr>
              <a:t>伞 </a:t>
            </a:r>
            <a:r>
              <a:rPr b="0" lang="en-GB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sǎn </a:t>
            </a:r>
            <a:r>
              <a:rPr b="0" lang="ru-RU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звучит так же, как «разойтись» </a:t>
            </a:r>
            <a:r>
              <a:rPr b="0" lang="ja-JP" sz="2000" spc="-1" strike="noStrike">
                <a:solidFill>
                  <a:srgbClr val="6d1014"/>
                </a:solidFill>
                <a:latin typeface="Times New Roman"/>
                <a:ea typeface="MS PGothic"/>
              </a:rPr>
              <a:t>散 </a:t>
            </a:r>
            <a:r>
              <a:rPr b="0" lang="en-GB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sàn. «</a:t>
            </a:r>
            <a:r>
              <a:rPr b="0" lang="ru-RU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Подарить часы» </a:t>
            </a:r>
            <a:r>
              <a:rPr b="0" lang="ja-JP" sz="2000" spc="-1" strike="noStrike">
                <a:solidFill>
                  <a:srgbClr val="6d1014"/>
                </a:solidFill>
                <a:latin typeface="Times New Roman"/>
                <a:ea typeface="MS PGothic"/>
              </a:rPr>
              <a:t>送钟 </a:t>
            </a:r>
            <a:r>
              <a:rPr b="0" lang="en-GB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sòng zhōng </a:t>
            </a:r>
            <a:r>
              <a:rPr b="0" lang="ru-RU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означает «подарить конец» (т.е. смерть) </a:t>
            </a:r>
            <a:r>
              <a:rPr b="0" lang="ja-JP" sz="2000" spc="-1" strike="noStrike">
                <a:solidFill>
                  <a:srgbClr val="6d1014"/>
                </a:solidFill>
                <a:latin typeface="Times New Roman"/>
                <a:ea typeface="MS PGothic"/>
              </a:rPr>
              <a:t>送终 </a:t>
            </a:r>
            <a:r>
              <a:rPr b="0" lang="en-GB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sòng zhōng. </a:t>
            </a:r>
            <a:r>
              <a:rPr b="0" lang="ru-RU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Влюбленные не станут делить груши, ибо «делить груши» </a:t>
            </a:r>
            <a:r>
              <a:rPr b="0" lang="ja-JP" sz="2000" spc="-1" strike="noStrike">
                <a:solidFill>
                  <a:srgbClr val="6d1014"/>
                </a:solidFill>
                <a:latin typeface="Times New Roman"/>
                <a:ea typeface="MS PGothic"/>
              </a:rPr>
              <a:t>分梨 </a:t>
            </a:r>
            <a:r>
              <a:rPr b="0" lang="en-GB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fēn lí </a:t>
            </a:r>
            <a:r>
              <a:rPr b="0" lang="ru-RU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означает «разойтись» </a:t>
            </a:r>
            <a:r>
              <a:rPr b="0" lang="ja-JP" sz="2000" spc="-1" strike="noStrike">
                <a:solidFill>
                  <a:srgbClr val="6d1014"/>
                </a:solidFill>
                <a:latin typeface="Times New Roman"/>
                <a:ea typeface="MS PGothic"/>
              </a:rPr>
              <a:t>分离 </a:t>
            </a:r>
            <a:r>
              <a:rPr b="0" lang="en-GB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fēnlí!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       Существует также множество анекдотов, построенных на том, что люди беседуют об абсолютно разных вещах, уверенные, что точно поняли собеседника. И только в конце понимают, что каждый имел ввиду свое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Знаменитый философ-конфуцианец эпохи Хань (206 г. до н.э. – 220 г. н.э.) Дун Чжуншу (около 179 – 104 гг. до н.э.) в своем сочинении «Чунь-цю фань лу» («Обильные росы [летописи] Чунь-цю») по поводу омофонии писал: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Совершенные мудрецы древности, [прислушиваясь] к громким звукам [в природе] (сяо), постигали с их помощью Небо и Землю и называли [эти звуки названиями или] званиями (хао). [Они прислушивались] к пению [птиц и крикам животных], нарекали их [по этому признаку] и называли это именами. В имени (мин) выражаются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, [</a:t>
            </a:r>
            <a:r>
              <a:rPr b="0" lang="ru-RU" sz="2000" spc="-1" strike="noStrike">
                <a:solidFill>
                  <a:srgbClr val="6d1014"/>
                </a:solidFill>
                <a:latin typeface="Lucida Sans Unicode"/>
              </a:rPr>
              <a:t>таким образом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1"/>
          <p:cNvSpPr/>
          <p:nvPr/>
        </p:nvSpPr>
        <p:spPr>
          <a:xfrm>
            <a:off x="503280" y="301680"/>
            <a:ext cx="906768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 Box 15"/>
          <p:cNvSpPr/>
          <p:nvPr/>
        </p:nvSpPr>
        <p:spPr>
          <a:xfrm>
            <a:off x="5113440" y="1768320"/>
            <a:ext cx="445752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Прямоугольник 5"/>
          <p:cNvSpPr/>
          <p:nvPr/>
        </p:nvSpPr>
        <p:spPr>
          <a:xfrm>
            <a:off x="754200" y="636480"/>
            <a:ext cx="8501040" cy="57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пение (мин) и наименование (мин). В звании (хао) выражается, [таким образом], громкий звук (сяо) и постижение (сяо). Итак, громкие звуки (сяо), с помощью которых постигаются Небо и Земля, это [названия или] звания (хао). Пение [и крики животных] (мин), с помощью которых давались названия, это – имена (мин). Имена и звания хотя и разнятся по звучанию, но основа у них единая. Имена и звания – [это способ] проникнуть в мысли Неба. Небо не говорит, оно заставляет людей выражать его мысли. Небо не действует, оно заставляет действовать людей, находящихся [в его власти]. Таким образом, имена являются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ru-RU" sz="1800" spc="-1" strike="noStrike">
                <a:solidFill>
                  <a:srgbClr val="6d1014"/>
                </a:solidFill>
                <a:latin typeface="Arial"/>
              </a:rPr>
              <a:t>тем способом, которым] совершенные мудрецы выражали мысли Неба. [А следовательно], их нельзя не [подвергнуть] глубокому рассмотрению. (глава «Глубокое исследование имен и званий»).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1800" spc="-1" strike="noStrike">
                <a:solidFill>
                  <a:srgbClr val="6d1014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6d1014"/>
                </a:solidFill>
                <a:latin typeface="Arial"/>
              </a:rPr>
              <a:t>Омофоны также встречаются и в японском язык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花実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かじ</a:t>
            </a:r>
            <a:r>
              <a:rPr b="0" lang="ja-JP" sz="1800" spc="-1" strike="noStrike">
                <a:solidFill>
                  <a:srgbClr val="6d1014"/>
                </a:solidFill>
                <a:latin typeface="Arial"/>
              </a:rPr>
              <a:t>つ </a:t>
            </a:r>
            <a:r>
              <a:rPr b="0" lang="en-US" sz="1800" spc="-1" strike="noStrike">
                <a:solidFill>
                  <a:srgbClr val="6d1014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6d1014"/>
                </a:solidFill>
                <a:latin typeface="Arial"/>
              </a:rPr>
              <a:t>кадзицу)]: название и подлинная сущность; внешний вид и реальное содержание;</a:t>
            </a:r>
            <a:br>
              <a:rPr sz="1800"/>
            </a:br>
            <a:r>
              <a:rPr b="0" lang="ja-JP" sz="1800" spc="-1" strike="noStrike">
                <a:solidFill>
                  <a:srgbClr val="6d1014"/>
                </a:solidFill>
                <a:latin typeface="Arial"/>
              </a:rPr>
              <a:t>華実 </a:t>
            </a:r>
            <a:r>
              <a:rPr b="0" lang="en-US" sz="1800" spc="-1" strike="noStrike">
                <a:solidFill>
                  <a:srgbClr val="6d1014"/>
                </a:solidFill>
                <a:latin typeface="Arial"/>
              </a:rPr>
              <a:t>[</a:t>
            </a:r>
            <a:r>
              <a:rPr b="0" lang="ja-JP" sz="1800" spc="-1" strike="noStrike">
                <a:solidFill>
                  <a:srgbClr val="6d1014"/>
                </a:solidFill>
                <a:latin typeface="Arial"/>
              </a:rPr>
              <a:t>かじつ </a:t>
            </a:r>
            <a:r>
              <a:rPr b="0" lang="en-US" sz="1800" spc="-1" strike="noStrike">
                <a:solidFill>
                  <a:srgbClr val="6d1014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6d1014"/>
                </a:solidFill>
                <a:latin typeface="Arial"/>
              </a:rPr>
              <a:t>кадзицу)]: внешний вид и реальное содержани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6" name="Рисунок 7" descr="http://im5-tub-ru.yandex.net/i?id=303488530-27-72&amp;n=21"/>
          <p:cNvPicPr/>
          <p:nvPr/>
        </p:nvPicPr>
        <p:blipFill>
          <a:blip r:embed="rId1"/>
          <a:stretch/>
        </p:blipFill>
        <p:spPr>
          <a:xfrm>
            <a:off x="7540560" y="5065560"/>
            <a:ext cx="1960560" cy="142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1"/>
          <p:cNvSpPr/>
          <p:nvPr/>
        </p:nvSpPr>
        <p:spPr>
          <a:xfrm>
            <a:off x="504720" y="179280"/>
            <a:ext cx="907272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Times New Roman"/>
              </a:rPr>
              <a:t>Выводы 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Таким образом, омофоны в родном языке — это чаще всего</a:t>
            </a:r>
            <a:r>
              <a:rPr b="1" lang="ru-RU" sz="54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неразличение </a:t>
            </a:r>
            <a:r>
              <a:rPr b="1" i="1" lang="ru-RU" sz="2000" spc="-1" strike="noStrike">
                <a:solidFill>
                  <a:srgbClr val="0d0d0d"/>
                </a:solidFill>
                <a:latin typeface="Arial"/>
              </a:rPr>
              <a:t>значений</a:t>
            </a: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 (не понятно, что  у с л ы ш а н о), 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в иностранном — неразличение </a:t>
            </a:r>
            <a:r>
              <a:rPr b="1" i="1" lang="ru-RU" sz="2000" spc="-1" strike="noStrike">
                <a:solidFill>
                  <a:srgbClr val="0d0d0d"/>
                </a:solidFill>
                <a:latin typeface="Arial"/>
              </a:rPr>
              <a:t>звучания</a:t>
            </a: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 (не понятно, как  с к а з а н о)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 Box 2"/>
          <p:cNvSpPr/>
          <p:nvPr/>
        </p:nvSpPr>
        <p:spPr>
          <a:xfrm>
            <a:off x="504720" y="1692360"/>
            <a:ext cx="44532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 Box 6"/>
          <p:cNvSpPr/>
          <p:nvPr/>
        </p:nvSpPr>
        <p:spPr>
          <a:xfrm>
            <a:off x="5897520" y="4637160"/>
            <a:ext cx="445608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101520"/>
                <a:tab algn="l" pos="550800"/>
                <a:tab algn="l" pos="1000080"/>
                <a:tab algn="l" pos="1449360"/>
                <a:tab algn="l" pos="1898640"/>
                <a:tab algn="l" pos="2347920"/>
                <a:tab algn="l" pos="2797200"/>
                <a:tab algn="l" pos="3246480"/>
                <a:tab algn="l" pos="3695760"/>
                <a:tab algn="l" pos="4143240"/>
                <a:tab algn="l" pos="4592520"/>
                <a:tab algn="l" pos="5041800"/>
                <a:tab algn="l" pos="5489640"/>
                <a:tab algn="l" pos="5938920"/>
                <a:tab algn="l" pos="6388200"/>
                <a:tab algn="l" pos="6837480"/>
                <a:tab algn="l" pos="7286760"/>
                <a:tab algn="l" pos="7734240"/>
                <a:tab algn="l" pos="8183520"/>
                <a:tab algn="l" pos="8632800"/>
                <a:tab algn="l" pos="8921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101520"/>
                <a:tab algn="l" pos="550800"/>
                <a:tab algn="l" pos="1000080"/>
                <a:tab algn="l" pos="1449360"/>
                <a:tab algn="l" pos="1898640"/>
                <a:tab algn="l" pos="2347920"/>
                <a:tab algn="l" pos="2797200"/>
                <a:tab algn="l" pos="3246480"/>
                <a:tab algn="l" pos="3695760"/>
                <a:tab algn="l" pos="4143240"/>
                <a:tab algn="l" pos="4592520"/>
                <a:tab algn="l" pos="5041800"/>
                <a:tab algn="l" pos="5489640"/>
                <a:tab algn="l" pos="5938920"/>
                <a:tab algn="l" pos="6388200"/>
                <a:tab algn="l" pos="6837480"/>
                <a:tab algn="l" pos="7286760"/>
                <a:tab algn="l" pos="7734240"/>
                <a:tab algn="l" pos="8183520"/>
                <a:tab algn="l" pos="8632800"/>
                <a:tab algn="l" pos="8921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101520"/>
                <a:tab algn="l" pos="550800"/>
                <a:tab algn="l" pos="1000080"/>
                <a:tab algn="l" pos="1449360"/>
                <a:tab algn="l" pos="1898640"/>
                <a:tab algn="l" pos="2347920"/>
                <a:tab algn="l" pos="2797200"/>
                <a:tab algn="l" pos="3246480"/>
                <a:tab algn="l" pos="3695760"/>
                <a:tab algn="l" pos="4143240"/>
                <a:tab algn="l" pos="4592520"/>
                <a:tab algn="l" pos="5041800"/>
                <a:tab algn="l" pos="5489640"/>
                <a:tab algn="l" pos="5938920"/>
                <a:tab algn="l" pos="6388200"/>
                <a:tab algn="l" pos="6837480"/>
                <a:tab algn="l" pos="7286760"/>
                <a:tab algn="l" pos="7734240"/>
                <a:tab algn="l" pos="8183520"/>
                <a:tab algn="l" pos="8632800"/>
                <a:tab algn="l" pos="8921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101520"/>
                <a:tab algn="l" pos="550800"/>
                <a:tab algn="l" pos="1000080"/>
                <a:tab algn="l" pos="1449360"/>
                <a:tab algn="l" pos="1898640"/>
                <a:tab algn="l" pos="2347920"/>
                <a:tab algn="l" pos="2797200"/>
                <a:tab algn="l" pos="3246480"/>
                <a:tab algn="l" pos="3695760"/>
                <a:tab algn="l" pos="4143240"/>
                <a:tab algn="l" pos="4592520"/>
                <a:tab algn="l" pos="5041800"/>
                <a:tab algn="l" pos="5489640"/>
                <a:tab algn="l" pos="5938920"/>
                <a:tab algn="l" pos="6388200"/>
                <a:tab algn="l" pos="6837480"/>
                <a:tab algn="l" pos="7286760"/>
                <a:tab algn="l" pos="7734240"/>
                <a:tab algn="l" pos="8183520"/>
                <a:tab algn="l" pos="8632800"/>
                <a:tab algn="l" pos="8921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101520"/>
                <a:tab algn="l" pos="550800"/>
                <a:tab algn="l" pos="1000080"/>
                <a:tab algn="l" pos="1449360"/>
                <a:tab algn="l" pos="1898640"/>
                <a:tab algn="l" pos="2347920"/>
                <a:tab algn="l" pos="2797200"/>
                <a:tab algn="l" pos="3246480"/>
                <a:tab algn="l" pos="3695760"/>
                <a:tab algn="l" pos="4143240"/>
                <a:tab algn="l" pos="4592520"/>
                <a:tab algn="l" pos="5041800"/>
                <a:tab algn="l" pos="5489640"/>
                <a:tab algn="l" pos="5938920"/>
                <a:tab algn="l" pos="6388200"/>
                <a:tab algn="l" pos="6837480"/>
                <a:tab algn="l" pos="7286760"/>
                <a:tab algn="l" pos="7734240"/>
                <a:tab algn="l" pos="8183520"/>
                <a:tab algn="l" pos="8632800"/>
                <a:tab algn="l" pos="8921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101520"/>
                <a:tab algn="l" pos="550800"/>
                <a:tab algn="l" pos="1000080"/>
                <a:tab algn="l" pos="1449360"/>
                <a:tab algn="l" pos="1898640"/>
                <a:tab algn="l" pos="2347920"/>
                <a:tab algn="l" pos="2797200"/>
                <a:tab algn="l" pos="3246480"/>
                <a:tab algn="l" pos="3695760"/>
                <a:tab algn="l" pos="4143240"/>
                <a:tab algn="l" pos="4592520"/>
                <a:tab algn="l" pos="5041800"/>
                <a:tab algn="l" pos="5489640"/>
                <a:tab algn="l" pos="5938920"/>
                <a:tab algn="l" pos="6388200"/>
                <a:tab algn="l" pos="6837480"/>
                <a:tab algn="l" pos="7286760"/>
                <a:tab algn="l" pos="7734240"/>
                <a:tab algn="l" pos="8183520"/>
                <a:tab algn="l" pos="8632800"/>
                <a:tab algn="l" pos="8921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7"/>
          <p:cNvSpPr/>
          <p:nvPr/>
        </p:nvSpPr>
        <p:spPr>
          <a:xfrm>
            <a:off x="539640" y="1547640"/>
            <a:ext cx="9541080" cy="49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12640" indent="-51264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281160"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66ff"/>
                </a:solidFill>
                <a:latin typeface="Calibri"/>
              </a:rPr>
              <a:t>БЛАГОДАРЮ ВСЕХ </a:t>
            </a:r>
            <a:br>
              <a:rPr sz="4600"/>
            </a:br>
            <a:r>
              <a:rPr b="0" lang="ru-RU" sz="4600" spc="-1" strike="noStrike">
                <a:solidFill>
                  <a:srgbClr val="0066ff"/>
                </a:solidFill>
                <a:latin typeface="Calibri"/>
              </a:rPr>
              <a:t>ЗА ВНИМАНИЕ  !!!</a:t>
            </a:r>
            <a:endParaRPr b="0" lang="en-US" sz="4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1"/>
          <p:cNvSpPr/>
          <p:nvPr/>
        </p:nvSpPr>
        <p:spPr>
          <a:xfrm>
            <a:off x="325440" y="1065240"/>
            <a:ext cx="9529920" cy="46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к известно , омонимия может по праву  считаться универсальным языковым явлением, поскольку она присуща практически всем языкам, в том числе русскому, английскому, испанскому.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онимия связана не только с интралингвистическими , но и экстралингвистическими факторами.  «На фоне многозначности омонимия – отношение слов с  совпадающим написанием   (произношением) несвязанными значениями – предстает как категория негативная. В отличие от значений многозначных слов отношения омонимов являются нерегулярными, изолированными, непропорциональными и непредсказуемыми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онимия  как лексическая категория это семантическое отношение не связанных по значению слов, совпадающих по своему написанию (звучанию) и различающихся в тексте благодаря их разным взаимоисключающим позициям»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омненно, разные пути возникновении омонимов обусловливают различие их типов.  Кроме того, совершенно различными оказываются также процессы, приводящие к совпадению внешних форм слов. Далее, от совпадения отдельных форм разных  слов следует отличать и случаи, когда  слово в целом является омонимом лишь одной формы или части форм своего корреспонден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ext Box 1" descr=""/>
          <p:cNvPicPr/>
          <p:nvPr/>
        </p:nvPicPr>
        <p:blipFill>
          <a:blip r:embed="rId1"/>
          <a:stretch/>
        </p:blipFill>
        <p:spPr>
          <a:xfrm>
            <a:off x="401760" y="291960"/>
            <a:ext cx="9644040" cy="642636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2"/>
          <p:cNvSpPr/>
          <p:nvPr/>
        </p:nvSpPr>
        <p:spPr>
          <a:xfrm>
            <a:off x="3254400" y="993600"/>
            <a:ext cx="4425840" cy="49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3"/>
          <p:cNvSpPr/>
          <p:nvPr/>
        </p:nvSpPr>
        <p:spPr>
          <a:xfrm>
            <a:off x="50328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1"/>
          <p:cNvSpPr/>
          <p:nvPr/>
        </p:nvSpPr>
        <p:spPr>
          <a:xfrm>
            <a:off x="539640" y="565200"/>
            <a:ext cx="9144000" cy="65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возникновении таких произносительных омонимов можно видеть результаты воздействия  на лексическую систему закономерностей фонологического уровн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самом деле, живые позиционные чередования звуков, действующие в русском языке, английском и испанском, приводят к совпадению слов в отдельных формах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) оглушение звонких согласных в  конце слова.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молод - молот, луг –лук, труд – трут, гриб – грипп, рог – рок , порог – пор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пруд – прут, плод – плот, код – кот, стог – сток, мог – мок и т.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) неразличение гласных о и а, е и и в безударном положени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сторожил – старожил , барон – борон, волы – валы, леса – лиса, прибывать  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пребыва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) непроизнесение согласных : 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костный –кос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 Box 2"/>
          <p:cNvSpPr/>
          <p:nvPr/>
        </p:nvSpPr>
        <p:spPr>
          <a:xfrm>
            <a:off x="646200" y="1959120"/>
            <a:ext cx="4425840" cy="49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9840" indent="-3384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3"/>
          <p:cNvSpPr/>
          <p:nvPr/>
        </p:nvSpPr>
        <p:spPr>
          <a:xfrm>
            <a:off x="6183360" y="1565280"/>
            <a:ext cx="442584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9840" indent="-3384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3" name="Picture 6" descr="http://im7-tub-ru.yandex.net/i?id=137130768-69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54640" y="5065560"/>
            <a:ext cx="3181320" cy="187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1"/>
          <p:cNvSpPr/>
          <p:nvPr/>
        </p:nvSpPr>
        <p:spPr>
          <a:xfrm>
            <a:off x="504720" y="4280040"/>
            <a:ext cx="90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едует отметить, что омонимы в том числе и омофоны, омоформы используются мастерами слова как особое стилистическое средство.  На них нередко строятся речевые каламбуры, например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русском языке : шуточное стихотворение поэта Дм. Минаева «В Финляндии»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бласть рифм – моя стихия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И легко пишу стихи 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Без раздумья, без отсрочк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Я бегу с строке от строчк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Даже к финским скалам бурым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бращаясь с каламбур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0" lang="ru-RU" sz="2000" spc="-1" strike="noStrike">
                <a:solidFill>
                  <a:srgbClr val="6d1014"/>
                </a:solidFill>
                <a:latin typeface="Arial"/>
              </a:rPr>
              <a:t>    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ингвистика утверждает, что носитель языка, что называется, «омофонами не страдает», то есть всегда отличит, например,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И дело даже не в том, что слова могут быть вплетены в однозначный контекст, а в самом восприятии родной речи (то есть, если говорящий на родном языке говорит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дразумевая именно кота, то как бы плохо он не произн</a:t>
            </a:r>
            <a:r>
              <a:rPr b="0" lang="ru-RU" sz="2000" spc="-1" strike="noStrike" u="sng">
                <a:solidFill>
                  <a:srgbClr val="ff8119"/>
                </a:solidFill>
                <a:uFillTx/>
                <a:latin typeface="Times New Roman"/>
                <a:ea typeface="Times New Roman"/>
                <a:hlinkClick r:id="rId1"/>
              </a:rPr>
              <a:t>ё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, слушающий родной язык в большинстве случаев пойм</a:t>
            </a:r>
            <a:r>
              <a:rPr b="0" lang="ru-RU" sz="2000" spc="-1" strike="noStrike" u="sng">
                <a:solidFill>
                  <a:srgbClr val="ff8119"/>
                </a:solidFill>
                <a:uFillTx/>
                <a:latin typeface="Times New Roman"/>
                <a:ea typeface="Times New Roman"/>
                <a:hlinkClick r:id="rId2"/>
              </a:rPr>
              <a:t>ё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 это именно как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не как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что иное)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2"/>
          <p:cNvSpPr/>
          <p:nvPr/>
        </p:nvSpPr>
        <p:spPr>
          <a:xfrm>
            <a:off x="504720" y="1692360"/>
            <a:ext cx="44532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 Box 3"/>
          <p:cNvSpPr/>
          <p:nvPr/>
        </p:nvSpPr>
        <p:spPr>
          <a:xfrm>
            <a:off x="611280" y="2351160"/>
            <a:ext cx="4452840" cy="43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9840" indent="-3384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 Box 4"/>
          <p:cNvSpPr/>
          <p:nvPr/>
        </p:nvSpPr>
        <p:spPr>
          <a:xfrm>
            <a:off x="5121360" y="1692360"/>
            <a:ext cx="445608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 Box 5"/>
          <p:cNvSpPr/>
          <p:nvPr/>
        </p:nvSpPr>
        <p:spPr>
          <a:xfrm>
            <a:off x="5121360" y="2397240"/>
            <a:ext cx="4456080" cy="43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9840" indent="-3384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9" name="Picture 8" descr="http://im0-tub-ru.yandex.net/i?id=279123873-30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1280" y="2136600"/>
            <a:ext cx="2241360" cy="18799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396720" y="493560"/>
            <a:ext cx="9133200" cy="7066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281160"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стати, контекст тоже может стать причиной омофонов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Это, подтверждается и изданием специальной литературы: словарей омофонов и пособий, рассматривающих «трудные случаи» об иностранном языке выходит намного больше, чем о родном. Такие работы в родном языке, в основном, имеют ценность лишь для тех слов-омофонов, которые редко употребляются и не так широко известны, а потому при их трактовке могут быть ошибки (например, архаизмы или арго).</a:t>
            </a: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Следует особо отметить, что поэты и теоретики литературы зачастую искусственно «объявляет» омофонами многие пары слов с целью «размяться» в языке, найти разные оттенки, поиграть словами, соригинальничать. Никакого отношения к реальным омофонам такие «упражнения», на наш взгляд, не имеют. А тем более, они не имеют никакой теоретической ценности. Большую помощь в объяснении причин появления омофонов оказывают профессиональные лингвисты, которые производят звуковой анализ слов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      Основной способ снять неопредел</a:t>
            </a:r>
            <a:r>
              <a:rPr b="0" lang="ru-RU" sz="19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ё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нность с омофонов — это связать их с этимологией, происхождением слов. (Как вариант — вставить в контекст).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      Возможно, одна из причин появления омофонов то, что человек усваивает слова сначала со звуковой стороны, а уж после — по значению и написанию.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В иностранном языке вс</a:t>
            </a:r>
            <a:r>
              <a:rPr b="0" lang="ru-RU" sz="19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ё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наоборот, поэтому проблема начинается уже не со значениями, а со звучаниями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   </a:t>
            </a:r>
            <a:r>
              <a:rPr b="1" lang="ru-RU" sz="1900" spc="-1" strike="noStrike">
                <a:solidFill>
                  <a:srgbClr val="000000"/>
                </a:solidFill>
                <a:latin typeface="Lucida Sans Unicode"/>
              </a:rPr>
              <a:t>  </a:t>
            </a:r>
            <a:br>
              <a:rPr sz="1900"/>
            </a:b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1"/>
          <p:cNvSpPr/>
          <p:nvPr/>
        </p:nvSpPr>
        <p:spPr>
          <a:xfrm>
            <a:off x="504720" y="301680"/>
            <a:ext cx="33163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5"/>
          <p:cNvSpPr/>
          <p:nvPr/>
        </p:nvSpPr>
        <p:spPr>
          <a:xfrm>
            <a:off x="968400" y="279360"/>
            <a:ext cx="8715240" cy="72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101520"/>
                <a:tab algn="l" pos="550800"/>
                <a:tab algn="l" pos="1000080"/>
                <a:tab algn="l" pos="1449360"/>
                <a:tab algn="l" pos="1898640"/>
                <a:tab algn="l" pos="2347920"/>
                <a:tab algn="l" pos="2797200"/>
                <a:tab algn="l" pos="3246480"/>
                <a:tab algn="l" pos="3695760"/>
                <a:tab algn="l" pos="4143240"/>
                <a:tab algn="l" pos="4592520"/>
                <a:tab algn="l" pos="5041800"/>
                <a:tab algn="l" pos="5489640"/>
                <a:tab algn="l" pos="5938920"/>
                <a:tab algn="l" pos="6388200"/>
                <a:tab algn="l" pos="6837480"/>
                <a:tab algn="l" pos="7286760"/>
                <a:tab algn="l" pos="7734240"/>
                <a:tab algn="l" pos="8183520"/>
                <a:tab algn="l" pos="8632800"/>
                <a:tab algn="l" pos="8921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101520"/>
                <a:tab algn="l" pos="550800"/>
                <a:tab algn="l" pos="1000080"/>
                <a:tab algn="l" pos="1449360"/>
                <a:tab algn="l" pos="1898640"/>
                <a:tab algn="l" pos="2347920"/>
                <a:tab algn="l" pos="2797200"/>
                <a:tab algn="l" pos="3246480"/>
                <a:tab algn="l" pos="3695760"/>
                <a:tab algn="l" pos="4143240"/>
                <a:tab algn="l" pos="4592520"/>
                <a:tab algn="l" pos="5041800"/>
                <a:tab algn="l" pos="5489640"/>
                <a:tab algn="l" pos="5938920"/>
                <a:tab algn="l" pos="6388200"/>
                <a:tab algn="l" pos="6837480"/>
                <a:tab algn="l" pos="7286760"/>
                <a:tab algn="l" pos="7734240"/>
                <a:tab algn="l" pos="8183520"/>
                <a:tab algn="l" pos="8632800"/>
                <a:tab algn="l" pos="892188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мофоны английского язы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101520"/>
                <a:tab algn="l" pos="550800"/>
                <a:tab algn="l" pos="1000080"/>
                <a:tab algn="l" pos="1449360"/>
                <a:tab algn="l" pos="1898640"/>
                <a:tab algn="l" pos="2347920"/>
                <a:tab algn="l" pos="2797200"/>
                <a:tab algn="l" pos="3246480"/>
                <a:tab algn="l" pos="3695760"/>
                <a:tab algn="l" pos="4143240"/>
                <a:tab algn="l" pos="4592520"/>
                <a:tab algn="l" pos="5041800"/>
                <a:tab algn="l" pos="5489640"/>
                <a:tab algn="l" pos="5938920"/>
                <a:tab algn="l" pos="6388200"/>
                <a:tab algn="l" pos="6837480"/>
                <a:tab algn="l" pos="7286760"/>
                <a:tab algn="l" pos="7734240"/>
                <a:tab algn="l" pos="8183520"/>
                <a:tab algn="l" pos="8632800"/>
                <a:tab algn="l" pos="892188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офоны в английском же язык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вляются нормой и встречаются довольно часто, чем нередко ставят в тупик изучающих этот прекрасный язы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101520"/>
                <a:tab algn="l" pos="550800"/>
                <a:tab algn="l" pos="1000080"/>
                <a:tab algn="l" pos="1449360"/>
                <a:tab algn="l" pos="1898640"/>
                <a:tab algn="l" pos="2347920"/>
                <a:tab algn="l" pos="2797200"/>
                <a:tab algn="l" pos="3246480"/>
                <a:tab algn="l" pos="3695760"/>
                <a:tab algn="l" pos="4143240"/>
                <a:tab algn="l" pos="4592520"/>
                <a:tab algn="l" pos="5041800"/>
                <a:tab algn="l" pos="5489640"/>
                <a:tab algn="l" pos="5938920"/>
                <a:tab algn="l" pos="6388200"/>
                <a:tab algn="l" pos="6837480"/>
                <a:tab algn="l" pos="7286760"/>
                <a:tab algn="l" pos="7734240"/>
                <a:tab algn="l" pos="8183520"/>
                <a:tab algn="l" pos="8632800"/>
                <a:tab algn="l" pos="892188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того, чтобы привест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 омофонов в английском язык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иведем цитату Барта Симсона  из сериала 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impsons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101520"/>
                <a:tab algn="l" pos="550800"/>
                <a:tab algn="l" pos="1000080"/>
                <a:tab algn="l" pos="1449360"/>
                <a:tab algn="l" pos="1898640"/>
                <a:tab algn="l" pos="2347920"/>
                <a:tab algn="l" pos="2797200"/>
                <a:tab algn="l" pos="3246480"/>
                <a:tab algn="l" pos="3695760"/>
                <a:tab algn="l" pos="4143240"/>
                <a:tab algn="l" pos="4592520"/>
                <a:tab algn="l" pos="5041800"/>
                <a:tab algn="l" pos="5489640"/>
                <a:tab algn="l" pos="5938920"/>
                <a:tab algn="l" pos="6388200"/>
                <a:tab algn="l" pos="6837480"/>
                <a:tab algn="l" pos="7286760"/>
                <a:tab algn="l" pos="7734240"/>
                <a:tab algn="l" pos="8183520"/>
                <a:tab algn="l" pos="8632800"/>
                <a:tab algn="l" pos="892188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will not 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e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for 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e cre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101520"/>
                <a:tab algn="l" pos="550800"/>
                <a:tab algn="l" pos="1000080"/>
                <a:tab algn="l" pos="1449360"/>
                <a:tab algn="l" pos="1898640"/>
                <a:tab algn="l" pos="2347920"/>
                <a:tab algn="l" pos="2797200"/>
                <a:tab algn="l" pos="3246480"/>
                <a:tab algn="l" pos="3695760"/>
                <a:tab algn="l" pos="4143240"/>
                <a:tab algn="l" pos="4592520"/>
                <a:tab algn="l" pos="5041800"/>
                <a:tab algn="l" pos="5489640"/>
                <a:tab algn="l" pos="5938920"/>
                <a:tab algn="l" pos="6388200"/>
                <a:tab algn="l" pos="6837480"/>
                <a:tab algn="l" pos="7286760"/>
                <a:tab algn="l" pos="7734240"/>
                <a:tab algn="l" pos="8183520"/>
                <a:tab algn="l" pos="8632800"/>
                <a:tab algn="l" pos="892188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ерь, вы видите, что основная сложность для изучающих английский язык заключается в том, чтобы на слух правильно определить, какое слово используется в том или ином предложении. Интересно, что носителям языка, омофоны не причиняют такого дискомфорта. 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же все-таки  определить како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мофон использовался. Проще всего, если это возможно, посмотреть на написание слова. Если это невозможно, попробуйте проверить возможные фонетически структуры слов в словаре. Также,         изучающим английский язык, для этой цели, будет полезн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блица самых распространенных омофонов английского языка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учив которую, определить слово, будет гораздо легч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101520"/>
                <a:tab algn="l" pos="550800"/>
                <a:tab algn="l" pos="1000080"/>
                <a:tab algn="l" pos="1449360"/>
                <a:tab algn="l" pos="1898640"/>
                <a:tab algn="l" pos="2347920"/>
                <a:tab algn="l" pos="2797200"/>
                <a:tab algn="l" pos="3246480"/>
                <a:tab algn="l" pos="3695760"/>
                <a:tab algn="l" pos="4143240"/>
                <a:tab algn="l" pos="4592520"/>
                <a:tab algn="l" pos="5041800"/>
                <a:tab algn="l" pos="5489640"/>
                <a:tab algn="l" pos="5938920"/>
                <a:tab algn="l" pos="6388200"/>
                <a:tab algn="l" pos="6837480"/>
                <a:tab algn="l" pos="7286760"/>
                <a:tab algn="l" pos="7734240"/>
                <a:tab algn="l" pos="8183520"/>
                <a:tab algn="l" pos="8632800"/>
                <a:tab algn="l" pos="8921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101520"/>
                <a:tab algn="l" pos="550800"/>
                <a:tab algn="l" pos="1000080"/>
                <a:tab algn="l" pos="1449360"/>
                <a:tab algn="l" pos="1898640"/>
                <a:tab algn="l" pos="2347920"/>
                <a:tab algn="l" pos="2797200"/>
                <a:tab algn="l" pos="3246480"/>
                <a:tab algn="l" pos="3695760"/>
                <a:tab algn="l" pos="4143240"/>
                <a:tab algn="l" pos="4592520"/>
                <a:tab algn="l" pos="5041800"/>
                <a:tab algn="l" pos="5489640"/>
                <a:tab algn="l" pos="5938920"/>
                <a:tab algn="l" pos="6388200"/>
                <a:tab algn="l" pos="6837480"/>
                <a:tab algn="l" pos="7286760"/>
                <a:tab algn="l" pos="7734240"/>
                <a:tab algn="l" pos="8183520"/>
                <a:tab algn="l" pos="8632800"/>
                <a:tab algn="l" pos="892188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 Box 5"/>
          <p:cNvSpPr/>
          <p:nvPr/>
        </p:nvSpPr>
        <p:spPr>
          <a:xfrm>
            <a:off x="4968720" y="3494160"/>
            <a:ext cx="4786560" cy="33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101520"/>
                <a:tab algn="l" pos="550800"/>
                <a:tab algn="l" pos="1000080"/>
                <a:tab algn="l" pos="1449360"/>
                <a:tab algn="l" pos="1898640"/>
                <a:tab algn="l" pos="2347920"/>
                <a:tab algn="l" pos="2797200"/>
                <a:tab algn="l" pos="3246480"/>
                <a:tab algn="l" pos="3695760"/>
                <a:tab algn="l" pos="4143240"/>
                <a:tab algn="l" pos="4592520"/>
                <a:tab algn="l" pos="5041800"/>
                <a:tab algn="l" pos="5489640"/>
                <a:tab algn="l" pos="5938920"/>
                <a:tab algn="l" pos="6388200"/>
                <a:tab algn="l" pos="6837480"/>
                <a:tab algn="l" pos="7286760"/>
                <a:tab algn="l" pos="7734240"/>
                <a:tab algn="l" pos="8183520"/>
                <a:tab algn="l" pos="8632800"/>
                <a:tab algn="l" pos="8921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Рисунок 4" descr="http://im8-tub-ru.yandex.net/i?id=490551537-45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25680" y="5351400"/>
            <a:ext cx="3286080" cy="192888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5"/>
          <p:cNvSpPr/>
          <p:nvPr/>
        </p:nvSpPr>
        <p:spPr>
          <a:xfrm>
            <a:off x="5121360" y="3646440"/>
            <a:ext cx="4786200" cy="33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101520"/>
                <a:tab algn="l" pos="550800"/>
                <a:tab algn="l" pos="1000080"/>
                <a:tab algn="l" pos="1449360"/>
                <a:tab algn="l" pos="1898640"/>
                <a:tab algn="l" pos="2347920"/>
                <a:tab algn="l" pos="2797200"/>
                <a:tab algn="l" pos="3246480"/>
                <a:tab algn="l" pos="3695760"/>
                <a:tab algn="l" pos="4143240"/>
                <a:tab algn="l" pos="4592520"/>
                <a:tab algn="l" pos="5041800"/>
                <a:tab algn="l" pos="5489640"/>
                <a:tab algn="l" pos="5938920"/>
                <a:tab algn="l" pos="6388200"/>
                <a:tab algn="l" pos="6837480"/>
                <a:tab algn="l" pos="7286760"/>
                <a:tab algn="l" pos="7734240"/>
                <a:tab algn="l" pos="8183520"/>
                <a:tab algn="l" pos="8632800"/>
                <a:tab algn="l" pos="8921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1"/>
          <p:cNvSpPr/>
          <p:nvPr/>
        </p:nvSpPr>
        <p:spPr>
          <a:xfrm>
            <a:off x="754200" y="136440"/>
            <a:ext cx="87120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ode, owed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                             naval, navel_                                        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oh, owe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                                 nay, neight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one, won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                                nigh, nye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acked, pact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                          none, nun                             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ail, pale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                                od, odd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ain, pane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                              ode, owed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haw, hoar, whore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                  oh, ow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hay, hey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                                 one, won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heal, heel, he’ll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                      packed,  pact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hear, here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                              packs, pax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heard, herd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                            stationary, stationery 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ome, sum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                            steal, steel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on, sun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                                 stile, style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ort, sought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                           story, storey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pa, spar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                           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taid, stayed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tair, stare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                         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take, steak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lk, stork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2"/>
          <p:cNvSpPr/>
          <p:nvPr/>
        </p:nvSpPr>
        <p:spPr>
          <a:xfrm>
            <a:off x="504720" y="1692360"/>
            <a:ext cx="44532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5121360" y="1692360"/>
            <a:ext cx="445608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 Box 5"/>
          <p:cNvSpPr/>
          <p:nvPr/>
        </p:nvSpPr>
        <p:spPr>
          <a:xfrm>
            <a:off x="2039760" y="779400"/>
            <a:ext cx="445644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Прямоугольник 6"/>
          <p:cNvSpPr/>
          <p:nvPr/>
        </p:nvSpPr>
        <p:spPr>
          <a:xfrm>
            <a:off x="396720" y="351000"/>
            <a:ext cx="71629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1"/>
          <p:cNvSpPr/>
          <p:nvPr/>
        </p:nvSpPr>
        <p:spPr>
          <a:xfrm>
            <a:off x="503280" y="301680"/>
            <a:ext cx="9067680" cy="51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Омофоны испанского язы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Так как слова испанского языка фонетически разнообразны по написанию, чем в английском языке, то в испанском существует гораздо меньше омофонов - слов, которые по звучанию схожи, но по написанию. различаются. Но испанские омофоны и омонимы действительно существуют, и полезно их изучи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Некоторые испанские омофоны пишутся одинаково, за исключением того, что одно из слов содержит акцент, чтобы отличить это слово от другого. Например, </a:t>
            </a:r>
            <a:r>
              <a:rPr b="0" lang="en-US" sz="2000" spc="-1" strike="noStrike">
                <a:solidFill>
                  <a:srgbClr val="0d0d0d"/>
                </a:solidFill>
                <a:latin typeface="Arial"/>
              </a:rPr>
              <a:t>el</a:t>
            </a: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 определенный артикль, который обычно означает и местоимение él,, написано одинаково за исключением акцента. Есть также одинаково произносимые слова из-за непроизносимого 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21"/>
          <p:cNvSpPr/>
          <p:nvPr/>
        </p:nvSpPr>
        <p:spPr>
          <a:xfrm>
            <a:off x="5113440" y="1768320"/>
            <a:ext cx="445752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3" name="Рисунок 3" descr="http://im0-tub-ru.yandex.net/i?id=156965812-37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39680" y="779400"/>
            <a:ext cx="1903680" cy="1425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2T08:51:30Z</dcterms:created>
  <dc:creator>Сазонов</dc:creator>
  <dc:description/>
  <cp:keywords>мотивация</cp:keywords>
  <dc:language>en-US</dc:language>
  <cp:lastModifiedBy>Mamed</cp:lastModifiedBy>
  <dcterms:modified xsi:type="dcterms:W3CDTF">2013-02-13T04:14:46Z</dcterms:modified>
  <cp:revision>129</cp:revision>
  <dc:subject>Мотивация учащихся</dc:subject>
  <dc:title>Родительское собрание на тему «Мотивация учебной деятельности учащихся и создание условий для ее реализации»</dc:title>
</cp:coreProperties>
</file>