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1F1-9E07-43EA-AA18-BB244CA5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CE7-D249-46F9-839B-39D7635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A52-7A9C-412C-9136-5B54595B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3B3-EBE6-43C2-8F19-F16505F8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9682-54D8-41F9-B89F-0FE7090A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B5DD-AE42-4DEA-91E0-89D65433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C1A6-F6B4-4B8C-91D7-F16DF3A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92DA-309C-45DE-A178-0E5B91CD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E03E-2BF8-4FC6-95DB-E6F97F0A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808E-01F0-4754-B78B-D4AE5EB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4C2-A3D3-46E1-B185-296A3B0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087-24A6-4B4F-9A47-949CA21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819-DD7B-4F6A-AC58-DB6E14B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F176-6BC0-4D37-AE6D-EB7F784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1C3E-0DBF-4E77-B770-0A6108F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C19-3890-40F3-AC2E-C3CEDFEC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4D7D-DBA1-4CAC-ADFC-EE81A37E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4358-FA75-420F-ABF9-28A3865D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A98C-E5D6-49DC-AD97-91A8E1F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FAA8-0EE2-4AAA-9D65-60690232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EE1C-B383-49EF-9A12-1445AA9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27B3-6D9C-4ECD-8106-7C4410D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647-1067-4C9D-B97D-CF27E61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6769-841E-4064-A911-3600748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4CD9E-5377-4D9F-BACF-9CC2C06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780D-142F-4B93-8BDA-1CDBDDB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8421-C2FC-422D-A2A0-9A79BD0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0659-50B4-40B4-A875-EBE06DB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DC76-6C2E-4025-B71A-502BBC4E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8DEB-F76D-4090-AFB9-9910FDC7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4881-7C2C-47B1-884F-29B1F404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9178-966E-4A00-B753-82D303E7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C91A-E876-43EF-8E6A-EB462374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E43-8085-4B16-A109-68DB3E58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6704-C9CC-4A64-BEBA-86D6B6AB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9E7B-120B-4F7D-AA67-2463D10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8168-A8B6-4B85-B15A-93B82FF5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A5ED8-EC00-4F51-9A74-37481A0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AEB2-3A86-4A53-9B2F-97C103F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5C83-F979-48D5-A664-855E1F5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054F-BEBE-4FF5-8ADE-EF0F65AF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4E98-FE38-4AFF-88AE-94945072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0E6D-CEE7-4A54-A41F-CFF8FF2E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8464-8221-49C1-A263-C9711B45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23E-CBAA-4EDE-A381-DFB8E270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D3B7-1112-492F-88EB-418F8E5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8A098-5AAC-4549-961D-E7633FF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717B-E019-45B5-91E8-3E524F2B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753E-8879-4069-94DC-94210368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2967-5847-41D2-A215-34D1722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C9E6D-F173-47DD-86F0-29DC7FB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DB87-9CB4-44AD-862F-6FEEEBA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9AA0-1ADC-4F16-B798-EE99027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03D5-51E4-4268-9C1F-B407A426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A0B9-CF8C-45D4-91B6-53B29710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7F3-FB2E-40AD-9CCD-32A91E6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AFF4-B57E-4E1A-BD30-57B671C7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F6FF-6D29-4730-AB7E-BF21418C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51FC-17D1-4744-A909-8AF2AEB6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F3D01-0068-4897-BC22-316955B7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A8E8-83BD-468F-B36A-C8F7DE8F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67E0-4444-4C06-B32B-E035BD8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2A701-8152-4438-8C5D-1C46B80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767A7-542D-472F-BCB8-EFDA5BA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43B86-10CA-4DAF-B3F5-F8373165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23379-C512-4BF9-BE15-1E0FE863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62F-BA68-4186-9910-A2D66FC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C2E3-CE7A-46E3-8604-CEEA426D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0451-83C4-4AAB-B2A0-17C5CE53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8762-0E37-49A4-AC9C-24408FDD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7B80D-3ADF-4E0B-A021-93EC49D9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F368-1966-4639-9A9E-9B27890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8A7E4-D00D-49D6-BE3C-5073FFB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05CE-9D16-49FF-BF7C-0CD6116B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A9727-6B8F-4D7D-8D1A-BA1243AE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5D15-A750-4924-A4C3-02C71ADB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5C066-5990-4F29-A14B-8584398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17E-C100-4892-A910-B1D9FA1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054D-66DF-426F-BEE7-C4BEA1A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92BB-97DF-4C03-B998-2D2F93DA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1FBC-4A3F-478C-AD4F-1B43BC7C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CD32-485D-448D-BC3A-62438D04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B7E43-C980-474A-90E5-71889BF9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0E479-14EF-4B0F-BAFB-A44BBF67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A57B0-4A10-44D5-AF53-39E6FB4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44B2-65B6-4A66-BB1B-70EC55A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D39C2-2B09-4935-AD44-0CD2EA29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6FD8-2F52-44AE-B581-7FD3D1B7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15E-EDDE-43C3-99AA-54202103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DC04-AF96-488B-A531-EC4DCACB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E3EDD-FE93-4B38-B1F3-65DB7D8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80C6-8455-4C36-A367-09EE4CD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C317-0394-4B6C-9B34-E4763BB3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2B7E3-96DE-4565-9BE2-A7F77059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5A89A-EC0A-4E99-A4D2-133112A5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7544B-3390-4942-9E46-9232C2C6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0620E5BD-AC59-4988-9449-8107F1707DB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49" name="Полилиния 16"/>
            <p:cNvSpPr/>
            <p:nvPr/>
          </p:nvSpPr>
          <p:spPr>
            <a:xfrm>
              <a:off x="1865160" y="5459400"/>
              <a:ext cx="8207280" cy="5371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772960"/>
              <a:ext cx="10027080" cy="86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1080" y="5504400"/>
              <a:ext cx="10079640" cy="2063160"/>
              <a:chOff x="1080" y="5504400"/>
              <a:chExt cx="10079640" cy="20631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04400"/>
                <a:ext cx="10079640" cy="20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6040"/>
                    <a:tab algn="l" pos="892080"/>
                    <a:tab algn="l" pos="1338120"/>
                    <a:tab algn="l" pos="1784520"/>
                    <a:tab algn="l" pos="2230560"/>
                    <a:tab algn="l" pos="2676600"/>
                    <a:tab algn="l" pos="3122640"/>
                    <a:tab algn="l" pos="3568680"/>
                    <a:tab algn="l" pos="4014720"/>
                    <a:tab algn="l" pos="4460760"/>
                    <a:tab algn="l" pos="4906800"/>
                    <a:tab algn="l" pos="5353200"/>
                    <a:tab algn="l" pos="5799240"/>
                    <a:tab algn="l" pos="6245280"/>
                    <a:tab algn="l" pos="6691320"/>
                    <a:tab algn="l" pos="7137360"/>
                    <a:tab algn="l" pos="7583400"/>
                    <a:tab algn="l" pos="8029440"/>
                    <a:tab algn="l" pos="8475840"/>
                    <a:tab algn="l" pos="8921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5498280"/>
              <a:ext cx="10085400" cy="89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FA108C02-601E-472B-990B-15001BA87588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A4F1FEDA-F2B9-4C35-BE53-C4BE0A6D678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AB13F5E5-B7D0-47CF-8056-8C6C5FE4E80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496EB556-AE88-4816-8E8B-30621998F21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E844D5FC-218C-4AA8-BF80-6B43A921483A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F894368C-E8AA-4B98-9BF9-A2326756092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6040"/>
                  <a:tab algn="l" pos="892080"/>
                  <a:tab algn="l" pos="1338120"/>
                  <a:tab algn="l" pos="1784520"/>
                  <a:tab algn="l" pos="2230560"/>
                  <a:tab algn="l" pos="2676600"/>
                  <a:tab algn="l" pos="3122640"/>
                  <a:tab algn="l" pos="3568680"/>
                  <a:tab algn="l" pos="4014720"/>
                  <a:tab algn="l" pos="4460760"/>
                  <a:tab algn="l" pos="4906800"/>
                  <a:tab algn="l" pos="5353200"/>
                  <a:tab algn="l" pos="5799240"/>
                  <a:tab algn="l" pos="6245280"/>
                  <a:tab algn="l" pos="6691320"/>
                  <a:tab algn="l" pos="7137360"/>
                  <a:tab algn="l" pos="7583400"/>
                  <a:tab algn="l" pos="8029440"/>
                  <a:tab algn="l" pos="8475840"/>
                  <a:tab algn="l" pos="8921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4D9CFD56-06E7-42EA-9C95-211D772408B3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www.uatourist.com/upload/iblock/81d/GB.jpg&amp;iorient=&amp;icolor=&amp;p=3&amp;site=&amp;text=&#1076;&#1086;&#1089;&#1090;&#1086;&#1087;&#1088;&#1080;&#1084;&#1077;&#1095;&#1072;&#1090;&#1077;&#1083;&#1100;&#1085;&#1086;&#1089;&#1090;&#1080;%20&#1072;&#1085;&#1075;&#1083;&#1080;&#1080;&amp;wp=&amp;pos=113&amp;isize=&amp;type=&amp;recent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img_url=http://spain.destinations.ru/uploaded/photo/sights4a563cbed7996.jpg&amp;iorient=&amp;icolor=&amp;site=&amp;text=&#1076;&#1086;&#1089;&#1090;&#1086;&#1087;&#1088;&#1080;&#1084;&#1077;&#1095;&#1072;&#1090;&#1077;&#1083;&#1100;&#1085;&#1086;&#1089;&#1090;&#1080;%20&#1080;&#1089;&#1087;&#1072;&#1085;&#1080;&#1080;&amp;wp=&amp;pos=6&amp;isize=&amp;type=&amp;recent=&amp;rpt=simage&amp;itype=&amp;noj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source=wiz&amp;img_url=http://img0.liveinternet.ru/images/attach/c/0/31/163/31163628_foto_zamka_Himeidzhi_himeidji_YAponiya.jpg&amp;p=6&amp;text=&#1092;&#1086;&#1090;&#1086;%20&#1103;&#1087;&#1086;&#1085;&#1080;&#1080;&amp;noreask=1&amp;pos=196&amp;lr=10747&amp;rpt=simage&amp;noj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yandsearch?img_url=http://i5.focus.ua/m/371x240/39698.jpg&amp;iorient=&amp;icolor=&amp;p=4&amp;site=&amp;text=&#1092;&#1086;&#1090;&#1086;%20&#1082;&#1088;&#1077;&#1084;&#1083;&#1103;&amp;wp=&amp;pos=135&amp;isize=&amp;type=&amp;recent=&amp;rpt=simage&amp;itype=&amp;nojs=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spain.destinations.ru/uploaded/photo/sights4a563cbed7996.jpg&amp;iorient=&amp;icolor=&amp;site=&amp;text=&#1076;&#1086;&#1089;&#1090;&#1086;&#1087;&#1088;&#1080;&#1084;&#1077;&#1095;&#1072;&#1090;&#1077;&#1083;&#1100;&#1085;&#1086;&#1089;&#1090;&#1080;%20&#1080;&#1089;&#1087;&#1072;&#1085;&#1080;&#1080;&amp;wp=&amp;pos=6&amp;isize=&amp;type=&amp;recent=&amp;rpt=simage&amp;itype=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iufost.org.br/sites/iufost.org.br/files/flags/China-Flag-64.png&amp;iorient=&amp;icolor=&amp;p=1&amp;site=&amp;text=&#1092;&#1083;&#1072;&#1075;%20&#1082;&#1080;&#1090;&#1072;&#1103;&amp;wp=&amp;pos=45&amp;isize=&amp;type=&amp;recent=&amp;rpt=simage&amp;itype=&amp;nojs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%3A%2F%2Fmapsof.net%2Fuploads%2Fstatic-maps%2Frussia_flag_map.png&amp;p=15&amp;text=&#1092;&#1083;&#1072;&#1075;%20&#1088;&#1086;&#1089;&#1089;&#1080;&#1080;&amp;noreask=1&amp;pos=477&amp;lr=10747&amp;rpt=simage&amp;nojs=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maker.narod.ru/" TargetMode="External"/><Relationship Id="rId2" Type="http://schemas.openxmlformats.org/officeDocument/2006/relationships/hyperlink" Target="http://yomaker.narod.ru/" TargetMode="External"/><Relationship Id="rId3" Type="http://schemas.openxmlformats.org/officeDocument/2006/relationships/hyperlink" Target="http://images.yandex.ru/yandsearch?img_url=http%3A%2F%2Fanimo2.ucoz.ru%2F_ph%2F36%2F1%2F802285320.jpg&amp;iorient=&amp;icolor=&amp;site=&amp;text=&#1092;&#1083;&#1072;&#1075;%20&#1088;&#1086;&#1089;&#1089;&#1080;&#1080;%20&#1072;&#1085;&#1080;&#1084;&#1072;&#1094;&#1080;&#1103;&amp;wp=&amp;pos=11&amp;isize=&amp;type=&amp;recent=&amp;rpt=simage&amp;itype=&amp;nojs=1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omaker.narod.ru/" TargetMode="External"/><Relationship Id="rId2" Type="http://schemas.openxmlformats.org/officeDocument/2006/relationships/hyperlink" Target="http://yomaker.narod.r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culturemaking.typepad.com/main/images/2007/04/29/bpalacejack700px_2.jpg&amp;iorient=&amp;nojs=1&amp;icolor=&amp;p=6&amp;site=&amp;text=&#1092;&#1083;&#1072;&#1075;%20&#1074;&#1077;&#1083;&#1080;&#1082;&#1086;&#1073;&#1088;&#1080;&#1090;&#1072;&#1085;&#1080;&#1080;&amp;wp=&amp;pos=185&amp;recent=&amp;type=&amp;isize=&amp;rpt=simage&amp;itype=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img-fotki.yandex.ru/get/26/tikhonov-elena.0/0_13268_5488a1f2_S&amp;iorient=&amp;icolor=&amp;site=&amp;text=&#1076;&#1086;&#1089;&#1090;&#1086;&#1087;&#1088;&#1080;&#1084;&#1077;&#1095;&#1072;&#1090;&#1077;&#1083;&#1100;&#1085;&#1086;&#1089;&#1090;&#1080;%20&#1080;&#1089;&#1087;&#1072;&#1085;&#1080;&#1080;&amp;wp=&amp;pos=16&amp;isize=&amp;type=&amp;recent=&amp;rpt=simage&amp;itype=&amp;nojs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968400" y="636480"/>
            <a:ext cx="850104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68360" y="493560"/>
            <a:ext cx="907092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 некоторых омофонах  в русс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нглийском, испанском, японском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итайском язы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404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7280"/>
                <a:tab algn="l" pos="392040"/>
                <a:tab algn="l" pos="841320"/>
                <a:tab algn="l" pos="1290600"/>
                <a:tab algn="l" pos="1739880"/>
                <a:tab algn="l" pos="2189160"/>
                <a:tab algn="l" pos="2638440"/>
                <a:tab algn="l" pos="3087720"/>
                <a:tab algn="l" pos="3537000"/>
                <a:tab algn="l" pos="3984480"/>
                <a:tab algn="l" pos="4433760"/>
                <a:tab algn="l" pos="488304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4760"/>
                <a:tab algn="l" pos="8474040"/>
                <a:tab algn="l" pos="892332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Рисунок 5" descr="http://im3-tub-ru.yandex.net/i?id=104747849-1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637160"/>
            <a:ext cx="2857680" cy="19969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http://im5-tub-ru.yandex.net/i?id=15958357-6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97600" y="4923000"/>
            <a:ext cx="2714760" cy="17143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http://im3-tub-ru.yandex.net/i?id=297427611-6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720" y="35100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8" descr="http://im6-tub-ru.yandex.net/i?id=449299698-4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54680" y="493560"/>
            <a:ext cx="285768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868320" y="851040"/>
            <a:ext cx="860112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547848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509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11200"/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08400"/>
                <a:tab algn="l" pos="465768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799400"/>
                <a:tab algn="l" pos="8248680"/>
                <a:tab algn="l" pos="8697960"/>
                <a:tab algn="l" pos="914724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825480" y="1065240"/>
            <a:ext cx="86821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611280" y="229320"/>
            <a:ext cx="8643960" cy="70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т большинство общих омонимов и омофонов испанского языка. Данные определения не являются единственными возможными. Отметьте: звездочка перед парой слова указывает, что слова кажутся одинаковыми в некой ситуации, но отличны друг от друга в другом месте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первая буква алфавита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глагола haber - име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a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озяин, владелец)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a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люб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oll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oll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катывать, свёртывать (в трубку )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oy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руче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жарить, пожаривать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луча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i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Азия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ci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к, по направлению 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ta (пика, копьё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st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д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rón (барон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rón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лицо мужского пола; мужчи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il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танец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il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ор, жули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ta (достаточно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t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грубая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st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тежо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to (грубый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st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широки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z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рынок, базар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s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строенная полка (для посуды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буква «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буква «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llo (красивый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llo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волосы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enes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имущество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enes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ni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приход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s (бис!)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s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комиз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e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улица), </a:t>
            </a: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e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форма от </a:t>
            </a:r>
            <a:r>
              <a:rPr b="0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молч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l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молчать),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y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ó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e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пад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дом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z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zar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охотитьс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539640" y="708120"/>
            <a:ext cx="907272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az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кастрюля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az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az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охотитьс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уква «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местоимение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é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зн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ceb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корм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seb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ал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eg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лепну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g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резать, кос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e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ино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зн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erra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закрыват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erra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илит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es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ó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передача, уступка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es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ó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обрани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ces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корзина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sex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шесто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ie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т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sie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исок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ien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100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ient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nti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чувствов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cim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ершина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sim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пропа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c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готовить ес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s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ш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окал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p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cop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выигрыв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ткуда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уква «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é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дав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l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икл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él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rrar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шибаться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herra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дковывать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это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название буквы s испанского алфавита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этот, тот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flamenco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анец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flamenco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(фламинг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 (форма от глагола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быть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r,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дти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2" descr="http://im5-tub-ru.yandex.net/i?id=15958357-6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83440" y="2136600"/>
            <a:ext cx="200016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790560" y="636480"/>
            <a:ext cx="88218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422280"/>
            <a:ext cx="925344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4600"/>
                <a:tab algn="l" pos="89532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6"/>
          <p:cNvSpPr/>
          <p:nvPr/>
        </p:nvSpPr>
        <p:spPr>
          <a:xfrm>
            <a:off x="754200" y="779400"/>
            <a:ext cx="8429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754200" y="522720"/>
            <a:ext cx="8143560" cy="64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flamenco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анец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), </a:t>
            </a: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flamenco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(фламинго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 (форма от глагол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s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быть)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iste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fue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etc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r,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дти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grab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записывать звук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grav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благать (налогом, пошлиной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ll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ll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иска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y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име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s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b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име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z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ace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дела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ierb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или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yerb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трава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ierv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ervi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кипяти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hierro (железо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yerr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шибка, погреш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je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перелистывать, листать, бегло просматрива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je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зглянуть, посмотре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sv-SE" sz="2000" spc="-1" strike="noStrike">
                <a:solidFill>
                  <a:srgbClr val="c00000"/>
                </a:solidFill>
                <a:latin typeface="Arial"/>
              </a:rPr>
              <a:t>hond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глубокая), </a:t>
            </a:r>
            <a:r>
              <a:rPr b="0" lang="sv-SE" sz="2000" spc="-1" strike="noStrike">
                <a:solidFill>
                  <a:srgbClr val="c00000"/>
                </a:solidFill>
                <a:latin typeface="Arial"/>
              </a:rPr>
              <a:t>hond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рогатка), </a:t>
            </a:r>
            <a:r>
              <a:rPr b="0" lang="sv-SE" sz="2000" spc="-1" strike="noStrike">
                <a:solidFill>
                  <a:srgbClr val="c00000"/>
                </a:solidFill>
                <a:latin typeface="Arial"/>
              </a:rPr>
              <a:t>ond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вол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hola (привет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ol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большая волн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r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час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r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форма от глаго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r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произносить речь, выступать с речью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r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сейчас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y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низина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lla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лья (горячее блюдо из мяса с овощами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z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рыть, копать),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sar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смеливаться, отваживатьс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huno (гунн),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uno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(один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39640" y="9936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ся китайская культура пронизана идеей омофонии (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谐音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xiéyīn)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С ней связаны многочисленные обычаи и обряды, которым жители Поднебесной стараются до сих пор следовать.</a:t>
            </a:r>
            <a:br>
              <a:rPr sz="16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Счастье перевернулось!</a:t>
            </a:r>
            <a:br>
              <a:rPr sz="20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Так, в Праздник весны – китайский Новый год, принято на дверь вешать перевернутый иероглиф «счастье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福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fú: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по-китайски «счастье перевернулось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福倒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fú dào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звучит так же, как «счастье приходит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福到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fú dào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На новогоднем столе должна быть рыб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鱼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yú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оторая символизирует собой достаток, излишки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余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yú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уриц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鸡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jī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то значит удач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吉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jí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торт из клейкого рис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黏糕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nián gāo –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ледующий год будет выше, лучше предыдущего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年高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nián gāo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 прежние времена пекинцы дарили друг другу «счастливую коробку», в которой лежали сушеная хурма, личжи, лунган, каштаны и финики. Слово «хурм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柿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hì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вучит так же, как «дел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事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hì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ли(чжи)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荔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 –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ак «выгод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利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лунган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桂圆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guìyuán –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ак «дорогой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贵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guì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и «полный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圆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yuán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аштан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栗子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zǐ –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спитать ребенк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立子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lì zǐ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финик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枣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zǎo –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рано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早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zǎo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се вместе означает «благополучное завершение всех дел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万事如意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wàn shì rú yì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большая удача и выгода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大吉大利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dà jí dà lì,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ссоединение семьи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团团圆圆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tuántuán yuányuán,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пораньше воспитать ребенка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早立子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zǎo lì zǐ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8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Прямоугольник 2"/>
          <p:cNvSpPr/>
          <p:nvPr/>
        </p:nvSpPr>
        <p:spPr>
          <a:xfrm>
            <a:off x="968400" y="565200"/>
            <a:ext cx="81104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фоны китайского и япон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к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3" descr="http://im5-tub-ru.yandex.net/i?id=135815640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40600" y="27936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4" descr="http://im2-tub-ru.yandex.net/i?id=665319034-06-72&amp;n=21"/>
          <p:cNvPicPr/>
          <p:nvPr/>
        </p:nvPicPr>
        <p:blipFill>
          <a:blip r:embed="rId3"/>
          <a:stretch/>
        </p:blipFill>
        <p:spPr>
          <a:xfrm>
            <a:off x="0" y="0"/>
            <a:ext cx="2254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468360" y="779400"/>
            <a:ext cx="906768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и слова с неблагоприятным значением. Самое, пожалуй, известное – число четыре. Его китайцы стараются по возможности избегать. Дело в том, что «четыре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四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ì звучит почти как «смерть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ǐ (о символике чисел смотрите подробнее здесь). Один мой знакомый, который в свое время занимался поставками наших самолетов в Поднебесну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936720" y="565200"/>
            <a:ext cx="89661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9570960" y="3494160"/>
            <a:ext cx="4608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396720" y="708120"/>
            <a:ext cx="900144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На Тайване во время поклонения предкам в праздник Весны, на ветви кипариса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栢枝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bǎi zhī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вешают мандарины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桔子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júzi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и хурму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柿子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shìzi,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это означает удачу во всех делах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百事大吉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bǎi shì dà jí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Во время свадебной церемонии также часто обыгрывается омофония. Например, невесте предлагается съесть сырой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生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shēng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пельмень и воскликнуть «шэн», показывая, тем самым, что она может и хочет рожать детей. Еще она должна съесть яблоко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苹果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píngguǒ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и перешагнуть через седло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鞍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ān –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это звучит как 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平平安安 </a:t>
            </a:r>
            <a:r>
              <a:rPr b="0" lang="en-GB" sz="1800" spc="-1" strike="noStrike">
                <a:solidFill>
                  <a:srgbClr val="6d1014"/>
                </a:solidFill>
                <a:latin typeface="Arial"/>
              </a:rPr>
              <a:t>píngpíng ān’ān – «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мир и спокойстви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Есть и слова с неблагоприятным значением. Самое, пожалуй, известное – число четыре. Его китайцы стараются по возможности избегать. Дело в том, что «четыре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四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sì звучит почти как «смерть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sǐ (о символике чисел смотрите подробнее здесь). Один мой знакомый, который в свое время занимался поставками наших самолетов в Поднебесную, рассказывал, что китайцы с недоверием отнеслись к Ту-154. Еще бы! По-китайски это звучит как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一五四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yāo wǔ sì, почти как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要我死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yào wǒ sǐ «должен я умереть». Я ни за что не полетела бы на таком самолете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936720" y="493560"/>
            <a:ext cx="8632800" cy="6500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just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Никогда не следует дарить зонты или часы. «Зонт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伞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ǎn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вучит так же, как «разойтись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散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àn. «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Подарить часы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送钟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òng zhōng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означает «подарить конец» (т.е. смерть)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送终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sòng zhōng.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любленные не станут делить груши, ибо «делить груши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分梨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fēn lí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означает «разойтись» </a:t>
            </a:r>
            <a:r>
              <a:rPr b="0" lang="ja-JP" sz="2000" spc="-1" strike="noStrike">
                <a:solidFill>
                  <a:srgbClr val="6d1014"/>
                </a:solidFill>
                <a:latin typeface="Times New Roman"/>
                <a:ea typeface="MS PGothic"/>
              </a:rPr>
              <a:t>分离 </a:t>
            </a:r>
            <a:r>
              <a:rPr b="0" lang="en-GB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fēnlí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Существует также множество анекдотов, построенных на том, что люди беседуют об абсолютно разных вещах, уверенные, что точно поняли собеседника. И только в конце понимают, что каждый имел ввиду сво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наменитый философ-конфуцианец эпохи Хань (206 г. до н.э. – 220 г. н.э.) Дун Чжуншу (около 179 – 104 гг. до н.э.) в своем сочинении «Чунь-цю фань лу» («Обильные росы [летописи] Чунь-цю») по поводу омофонии писал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овершенные мудрецы древности, [прислушиваясь] к громким звукам [в природе] (сяо), постигали с их помощью Небо и Землю и называли [эти звуки названиями или] званиями (хао). [Они прислушивались] к пению [птиц и крикам животных], нарекали их [по этому признаку] и называли это именами. В имени (мин) выражаютс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, [</a:t>
            </a:r>
            <a:r>
              <a:rPr b="0" lang="ru-RU" sz="2000" spc="-1" strike="noStrike">
                <a:solidFill>
                  <a:srgbClr val="6d1014"/>
                </a:solidFill>
                <a:latin typeface="Lucida Sans Unicode"/>
              </a:rPr>
              <a:t>таким образ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503280" y="301680"/>
            <a:ext cx="9067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754200" y="636480"/>
            <a:ext cx="85010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пение (мин) и наименование (мин). В звании (хао) выражается, [таким образом], громкий звук (сяо) и постижение (сяо). Итак, громкие звуки (сяо), с помощью которых постигаются Небо и Земля, это [названия или] звания (хао). Пение [и крики животных] (мин), с помощью которых давались названия, это – имена (мин). Имена и звания хотя и разнятся по звучанию, но основа у них единая. Имена и звания – [это способ] проникнуть в мысли Неба. Небо не говорит, оно заставляет людей выражать его мысли. Небо не действует, оно заставляет действовать людей, находящихся [в его власти]. Таким образом, имена являютс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тем способом, которым] совершенные мудрецы выражали мысли Неба. [А следовательно], их нельзя не [подвергнуть] глубокому рассмотрению. (глава «Глубокое исследование имен и званий»)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Омофоны также встречаются и в японском язы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花実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かじ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つ </a:t>
            </a:r>
            <a:r>
              <a:rPr b="0" lang="en-US" sz="1800" spc="-1" strike="noStrike">
                <a:solidFill>
                  <a:srgbClr val="6d1014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кадзицу)]: название и подлинная сущность; внешний вид и реальное содержание;</a:t>
            </a:r>
            <a:br>
              <a:rPr sz="1800"/>
            </a:b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華実 </a:t>
            </a:r>
            <a:r>
              <a:rPr b="0" lang="en-US" sz="1800" spc="-1" strike="noStrike">
                <a:solidFill>
                  <a:srgbClr val="6d1014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6d1014"/>
                </a:solidFill>
                <a:latin typeface="Arial"/>
              </a:rPr>
              <a:t>かじつ </a:t>
            </a:r>
            <a:r>
              <a:rPr b="0" lang="en-US" sz="1800" spc="-1" strike="noStrike">
                <a:solidFill>
                  <a:srgbClr val="6d1014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d1014"/>
                </a:solidFill>
                <a:latin typeface="Arial"/>
              </a:rPr>
              <a:t>кадзицу)]: внешний вид и реальное содерж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Рисунок 7" descr="http://im5-tub-ru.yandex.net/i?id=303488530-27-72&amp;n=21"/>
          <p:cNvPicPr/>
          <p:nvPr/>
        </p:nvPicPr>
        <p:blipFill>
          <a:blip r:embed="rId1"/>
          <a:stretch/>
        </p:blipFill>
        <p:spPr>
          <a:xfrm>
            <a:off x="7540560" y="5065560"/>
            <a:ext cx="196056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504720" y="179280"/>
            <a:ext cx="907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Выводы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Таким образом, омофоны в родном языке — это чаще всего</a:t>
            </a: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неразличение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значений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(не понятно, что  у с л ы ш а н о),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в иностранном — неразличение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звучания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(не понятно, как  с к а з а н о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5897520" y="4637160"/>
            <a:ext cx="445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539640" y="1547640"/>
            <a:ext cx="95410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ff"/>
                </a:solidFill>
                <a:latin typeface="Calibri"/>
              </a:rPr>
              <a:t>БЛАГОДАРЮ ВСЕХ </a:t>
            </a:r>
            <a:br>
              <a:rPr sz="4600"/>
            </a:br>
            <a:r>
              <a:rPr b="0" lang="ru-RU" sz="4600" spc="-1" strike="noStrike">
                <a:solidFill>
                  <a:srgbClr val="0066ff"/>
                </a:solidFill>
                <a:latin typeface="Calibri"/>
              </a:rPr>
              <a:t>ЗА ВНИМАНИЕ  !!!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25440" y="1065240"/>
            <a:ext cx="9529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известно , омонимия может по праву  считаться универсальным языковым явлением, поскольку она присуща практически всем языкам, в том числе русскому, английскому, испанскому.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ия связана не только с интралингвистическими , но и экстралингвистическими факторами.  «На фоне многозначности омонимия – отношение слов с  совпадающим написанием   (произношением) несвязанными значениями – предстает как категория негативная. В отличие от значений многозначных слов отношения омонимов являются нерегулярными, изолированными, непропорциональными и непредсказуемым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ия  как лексическая категория это семантическое отношение не связанных по значению слов, совпадающих по своему написанию (звучанию) и различающихся в тексте благодаря их разным взаимоисключающим позициям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мненно, разные пути возникновении омонимов обусловливают различие их типов.  Кроме того, совершенно различными оказываются также процессы, приводящие к совпадению внешних форм слов. Далее, от совпадения отдельных форм разных  слов следует отличать и случаи, когда  слово в целом является омонимом лишь одной формы или части форм своего корреспонд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 Box 1" descr=""/>
          <p:cNvPicPr/>
          <p:nvPr/>
        </p:nvPicPr>
        <p:blipFill>
          <a:blip r:embed="rId1"/>
          <a:stretch/>
        </p:blipFill>
        <p:spPr>
          <a:xfrm>
            <a:off x="401760" y="291960"/>
            <a:ext cx="9644040" cy="64263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"/>
          <p:cNvSpPr/>
          <p:nvPr/>
        </p:nvSpPr>
        <p:spPr>
          <a:xfrm>
            <a:off x="3254400" y="99360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0328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539640" y="565200"/>
            <a:ext cx="91440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зникновении таких произносительных омонимов можно видеть результаты воздействия  на лексическую систему закономерностей фонологического уров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деле, живые позиционные чередования звуков, действующие в русском языке, английском и испанском, приводят к совпадению слов в отдельных форм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оглушение звонких согласных в  конце слова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молод - молот, луг –лук, труд – трут, гриб – грипп, рог – рок , порог – по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руд – прут, плод – плот, код – кот, стог – сток, мог – мок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неразличение гласных о и а, е и и в безударном положен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торожил – старожил , барон – борон, волы – валы, леса – лиса, прибывать 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реб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непроизнесение согласных :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костный –кос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646200" y="1959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183360" y="156528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6" descr="http://im7-tub-ru.yandex.net/i?id=137130768-6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54640" y="5065560"/>
            <a:ext cx="3181320" cy="18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504720" y="4280040"/>
            <a:ext cx="90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ует отметить, что омонимы в том числе и омофоны, омоформы используются мастерами слова как особое стилистическое средство.  На них нередко строятся речевые каламбуры, на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усском языке : шуточное стихотворение поэта Дм. Минаева «В Финляндии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асть рифм – моя стих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легко пишу стихи 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раздумья, без отср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Я бегу с строке от стр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аже к финским скалам буры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ращаясь с каламбу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6d1014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ингвистика утверждает, что носитель языка, что называется, «омофонами не страдает», то есть всегда отличит, например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 дело даже не в том, что слова могут быть вплетены в однозначный контекст, а в самом восприятии родной речи (то есть, если говорящий на родном языке говори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разумевая именно кота, то как бы плохо он не произн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слушающий родной язык в большинстве случаев пойм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это именно к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ка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что иное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11280" y="2351160"/>
            <a:ext cx="445284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5121360" y="2397240"/>
            <a:ext cx="44560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8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8" descr="http://im0-tub-ru.yandex.net/i?id=279123873-3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136600"/>
            <a:ext cx="2241360" cy="187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720" y="493560"/>
            <a:ext cx="9133200" cy="706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тати, контекст тоже может стать причиной омофонов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Это, подтверждается и изданием специальной литературы: словарей омофонов и пособий, рассматривающих «трудные случаи» об иностранном языке выходит намного больше, чем о родном. Такие работы в родном языке, в основном, имеют ценность лишь для тех слов-омофонов, которые редко употребляются и не так широко известны, а потому при их трактовке могут быть ошибки (например, архаизмы или арго)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ует особо отметить, что поэты и теоретики литературы зачастую искусственно «объявляет» омофонами многие пары слов с целью «размяться» в языке, найти разные оттенки, поиграть словами, соригинальничать. Никакого отношения к реальным омофонам такие «упражнения», на наш взгляд, не имеют. А тем более, они не имеют никакой теоретической ценности. Большую помощь в объяснении причин появления омофонов оказывают профессиональные лингвисты, которые производят звуковой анализ слов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     Основной способ снять неопредел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ё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нность с омофонов — это связать их с этимологией, происхождением слов. (Как вариант — вставить в контекст)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     Возможно, одна из причин появления омофонов то, что человек усваивает слова сначала со звуковой стороны, а уж после — по значению и написанию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 иностранном языке вс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ё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наоборот, поэтому проблема начинается уже не со значениями, а со звучаниям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  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504720" y="301680"/>
            <a:ext cx="3316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968400" y="279360"/>
            <a:ext cx="8715240" cy="72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мофоны англий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фоны в английском же язы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нормой и встречаются довольно часто, чем нередко ставят в тупик изучающих этот прекрасный яз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приве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омофонов в англий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едем цитату Барта Симсона  из сериала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sons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ill not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or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c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, вы видите, что основная сложность для изучающих английский язык заключается в том, чтобы на слух правильно определить, какое слово используется в том или ином предложении. Интересно, что носителям языка, омофоны не причиняют такого дискомфорта.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все-таки  определить как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мофон использовался. Проще всего, если это возможно, посмотреть на написание слова. Если это невозможно, попробуйте проверить возможные фонетически структуры слов в словаре. Также,         изучающим английский язык, для этой цели, будет полез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 самых распространенных омофонов английского язы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в которую, определить слово, будет гораздо легч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968720" y="3494160"/>
            <a:ext cx="47865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Рисунок 4" descr="http://im8-tub-ru.yandex.net/i?id=490551537-4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25680" y="5351400"/>
            <a:ext cx="3286080" cy="19288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5121360" y="3646440"/>
            <a:ext cx="478620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01520"/>
                <a:tab algn="l" pos="550800"/>
                <a:tab algn="l" pos="1000080"/>
                <a:tab algn="l" pos="1449360"/>
                <a:tab algn="l" pos="1898640"/>
                <a:tab algn="l" pos="2347920"/>
                <a:tab algn="l" pos="2797200"/>
                <a:tab algn="l" pos="3246480"/>
                <a:tab algn="l" pos="3695760"/>
                <a:tab algn="l" pos="4143240"/>
                <a:tab algn="l" pos="4592520"/>
                <a:tab algn="l" pos="504180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4240"/>
                <a:tab algn="l" pos="8183520"/>
                <a:tab algn="l" pos="863280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754200" y="136440"/>
            <a:ext cx="8712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de, owed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naval, navel_    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h, ow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nay, neight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ne, won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nigh, ny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cked, pact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none, nun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il, pal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od, odd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in, pan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ode, owed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w, hoar, whor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oh, 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y, hey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one, wo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al, heel, he’ll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packed,  pact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ar, her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packs, pax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ard, herd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stationary, stationery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me, sum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steal, steel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n, sun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stile, styl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rt, sought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story, storey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pa, spar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id, stayed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ir, star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ke, steak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lk, stork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039760" y="779400"/>
            <a:ext cx="4456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6"/>
          <p:cNvSpPr/>
          <p:nvPr/>
        </p:nvSpPr>
        <p:spPr>
          <a:xfrm>
            <a:off x="396720" y="351000"/>
            <a:ext cx="716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503280" y="301680"/>
            <a:ext cx="9067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мофоны испан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Так как слова испанского языка фонетически разнообразны по написанию, чем в английском языке, то в испанском существует гораздо меньше омофонов - слов, которые по звучанию схожи, но по написанию. различаются. Но испанские омофоны и омонимы действительно существуют, и полезно их изуч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Некоторые испанские омофоны пишутся одинаково, за исключением того, что одно из слов содержит акцент, чтобы отличить это слово от другого. Например, 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el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определенный артикль, который обычно означает и местоимение él,, написано одинаково за исключением акцента. Есть также одинаково произносимые слова из-за непроизносимого 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7320"/>
                <a:tab algn="l" pos="8526600"/>
                <a:tab algn="l" pos="8975880"/>
                <a:tab algn="l" pos="9367920"/>
                <a:tab algn="l" pos="9813960"/>
                <a:tab algn="l" pos="10260000"/>
                <a:tab algn="l" pos="10706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5113440" y="1768320"/>
            <a:ext cx="4457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Рисунок 3" descr="http://im0-tub-ru.yandex.net/i?id=156965812-3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39680" y="779400"/>
            <a:ext cx="1903680" cy="142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1:30Z</dcterms:created>
  <dc:creator>Сазонов</dc:creator>
  <dc:description/>
  <cp:keywords>мотивация</cp:keywords>
  <dc:language>en-US</dc:language>
  <cp:lastModifiedBy>Mamed</cp:lastModifiedBy>
  <dcterms:modified xsi:type="dcterms:W3CDTF">2013-02-13T04:14:46Z</dcterms:modified>
  <cp:revision>129</cp:revision>
  <dc:subject>Мотивация учащихся</dc:subject>
  <dc:title>Родительское собрание на тему «Мотивация учебной деятельности учащихся и создание условий для ее реализации»</dc:title>
</cp:coreProperties>
</file>