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9DE-A021-4783-A0DA-A67099CC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1EA-ACED-4C0E-B362-D5EC5459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BDF-BBAA-459E-9111-9BCFB339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5B1-FCC6-4B13-8A3A-ADFFDB55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184-99B5-49D0-86CB-4765AE2E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EE1-EC97-4D8E-8255-D22EA7D7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F42E-EDB2-4256-8B9F-371065E0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49E-2A7F-4A9F-9650-9DA6AF0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87A-FA32-4ED9-B389-817A4A46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14A7-128E-4701-9080-73721F0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364-44F8-4C5F-A08C-CF618BB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ECA-F0DA-4027-BD4A-5FEFC36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BE8-6981-46DC-A747-0924344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8177-7302-4EF8-82E0-0747D7BD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ED84-EFF0-4596-ACB7-F5F6E41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F4C7-F8FA-4A42-A310-351DE667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B062-12F9-438D-8D4A-C7DE1489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642-7511-4511-AD4F-C6D55BB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600-E31F-4DC5-8FB4-3916675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38C-DC94-40D4-BE4D-BC65490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E5E-0CAF-4866-83A2-6EEEDB1D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74B-25F8-4363-850A-B9CC7D7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CAE-706F-4FAE-BE0D-F6483FD0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4AE-5ABF-410E-B986-F5E6921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518-003A-4023-A482-8B64EF24E2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FC5-D869-4746-91B6-6D03DF66A3E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N:\весна\0_8da7_48cf205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Blackoak Std"/>
              </a:rPr>
              <a:t>Алексей Николаевич </a:t>
            </a:r>
            <a:r>
              <a:rPr b="1" i="1" lang="ru-RU" sz="9600" spc="-1" strike="noStrike">
                <a:solidFill>
                  <a:srgbClr val="ff0000"/>
                </a:solidFill>
                <a:latin typeface="Blackoak Std"/>
              </a:rPr>
              <a:t>Плещеев</a:t>
            </a:r>
            <a:br>
              <a:rPr sz="7200"/>
            </a:br>
            <a:endParaRPr b="0" lang="en-US" sz="9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48006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Showcard Gothic"/>
              </a:rPr>
              <a:t>Годы жизни</a:t>
            </a:r>
            <a:br>
              <a:rPr sz="3600"/>
            </a:br>
            <a:r>
              <a:rPr b="1" i="1" lang="ru-RU" sz="4000" spc="-1" strike="noStrike">
                <a:solidFill>
                  <a:srgbClr val="ff3300"/>
                </a:solidFill>
                <a:latin typeface="Showcard Gothic"/>
              </a:rPr>
              <a:t>(</a:t>
            </a:r>
            <a:r>
              <a:rPr b="1" i="1" lang="ru-RU" sz="4400" spc="-1" strike="noStrike">
                <a:solidFill>
                  <a:srgbClr val="ff3300"/>
                </a:solidFill>
                <a:latin typeface="Showcard Gothic"/>
              </a:rPr>
              <a:t>1825-1893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67760" y="1905120"/>
            <a:ext cx="31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Алексей Николаевич Плещеев  родился в семье небогатого провинциального чиновника, представителя старинного дворянского рода, в г. Костром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        </a:t>
            </a:r>
            <a:r>
              <a:rPr b="1" i="1" lang="ru-RU" sz="3200" spc="-1" strike="noStrike">
                <a:solidFill>
                  <a:srgbClr val="990033"/>
                </a:solidFill>
                <a:latin typeface="Showcard Gothic"/>
              </a:rPr>
              <a:t>Детство Алёши Плещеева прошло  в Нижнем Новгороде. Его воспитанием занималась мать, Елена Александровна, давшая сыну хорошее домашнее образов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8" descr="Картинка 4 из 467"/>
          <p:cNvPicPr/>
          <p:nvPr/>
        </p:nvPicPr>
        <p:blipFill>
          <a:blip r:embed="rId1"/>
          <a:stretch/>
        </p:blipFill>
        <p:spPr>
          <a:xfrm>
            <a:off x="5943600" y="1676520"/>
            <a:ext cx="2867040" cy="391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Алексей Николаевич Плещеев с 1839 года  учился в школе гвардейских прапорщиков и кавалерийских юнкер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Showcard Gothic"/>
              </a:rPr>
              <a:t>Военная карьера Плещеева не привлекала, и в 1842г. он покинул училище, а осенью 1843г. Поступил в Петербургский  университет, на  восточное отделение  историко – филологического университ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Картинка 1 из 467"/>
          <p:cNvPicPr/>
          <p:nvPr/>
        </p:nvPicPr>
        <p:blipFill>
          <a:blip r:embed="rId1"/>
          <a:stretch/>
        </p:blipFill>
        <p:spPr>
          <a:xfrm>
            <a:off x="4952880" y="762120"/>
            <a:ext cx="3886200" cy="47242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5715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Blackoak Std"/>
              </a:rPr>
              <a:t>В 1846 году первый же сборник стихов сделал Плещеева знаменитым в революционной молодёжной среде. Он был в 1849 году арестован и некоторое время спустя отправлен в ссылку, где провёл на военной службе почти десять лет. По возвращении из ссылки Плещеев продолжил литературную деятельность; пройдя через годы бедности и лишений, он стал авторитетным литератором, критиком, издателем, а в конце жизни и меценатом.</a:t>
            </a:r>
            <a:r>
              <a:rPr b="1" i="1" lang="ru-RU" sz="2400" spc="-1" strike="noStrike">
                <a:solidFill>
                  <a:srgbClr val="ffffff"/>
                </a:solidFill>
                <a:latin typeface="Blackoak St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Картинка 2 из 467"/>
          <p:cNvPicPr/>
          <p:nvPr/>
        </p:nvPicPr>
        <p:blipFill>
          <a:blip r:embed="rId1"/>
          <a:stretch/>
        </p:blipFill>
        <p:spPr>
          <a:xfrm>
            <a:off x="5943600" y="1295280"/>
            <a:ext cx="3009960" cy="4762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К н и г 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12" descr="Картинка 9 из 467"/>
          <p:cNvPicPr/>
          <p:nvPr/>
        </p:nvPicPr>
        <p:blipFill>
          <a:blip r:embed="rId1"/>
          <a:stretch/>
        </p:blipFill>
        <p:spPr>
          <a:xfrm>
            <a:off x="3581280" y="1066680"/>
            <a:ext cx="1702080" cy="2362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07" name="Picture 14" descr="Картинка 12 из 467"/>
          <p:cNvPicPr/>
          <p:nvPr/>
        </p:nvPicPr>
        <p:blipFill>
          <a:blip r:embed="rId2"/>
          <a:stretch/>
        </p:blipFill>
        <p:spPr>
          <a:xfrm>
            <a:off x="990720" y="380880"/>
            <a:ext cx="1852560" cy="2971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Картинка 28 из 467"/>
          <p:cNvPicPr/>
          <p:nvPr/>
        </p:nvPicPr>
        <p:blipFill>
          <a:blip r:embed="rId3"/>
          <a:stretch/>
        </p:blipFill>
        <p:spPr>
          <a:xfrm>
            <a:off x="5943600" y="304920"/>
            <a:ext cx="1857240" cy="2971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omic"/>
              </a:rPr>
              <a:t>Многие произведения поэта (особенно — стихи для детей) стали хрестоматийными, считаются классикой. На стихи Плещеева известнейшими русскими композиторами написаны более ста романсов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160" y="228600"/>
            <a:ext cx="552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comic"/>
              </a:rPr>
              <a:t>Четырнадцать песен из цикла «Шестнадцать песен для детей» созданы на стихи сборника Плещеева «Подснежник». Чайковский тщательно выбирал из плещеевского сборника стихи с ярко выраженной гуманистической и этической направленностью, создав песенную сюиту. В доме-музее П.И. Чайковского в Клину в библиотеке композитора сохранился сборник стихотворений Плещеева с надписью автора: </a:t>
            </a:r>
            <a:r>
              <a:rPr b="1" i="1" lang="ru-RU" sz="2200" spc="-1" strike="noStrike">
                <a:solidFill>
                  <a:srgbClr val="ff3300"/>
                </a:solidFill>
                <a:latin typeface="comic"/>
              </a:rPr>
              <a:t>«Петру Ильичу Чайковскому в знак расположения и благодарности за его прекрасную музыку на мои плохие слова. А.Н. Плещеев. 1881 февраля 18-го С. Петербург». На полях книги, где первоначально было отмечено больше двенадцати стихотворений, есть нотные наброски к двенадцат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1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8" descr="chaikov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16pesen1"/>
          <p:cNvPicPr/>
          <p:nvPr/>
        </p:nvPicPr>
        <p:blipFill>
          <a:blip r:embed="rId2"/>
          <a:stretch/>
        </p:blipFill>
        <p:spPr>
          <a:xfrm>
            <a:off x="5943600" y="3352680"/>
            <a:ext cx="204804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1fa7a"/>
                </a:solidFill>
                <a:latin typeface="comic"/>
              </a:rPr>
              <a:t>СПАСИБО ЗА ВНИМАНИЕ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8-04-03T14:43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