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45C-D177-4FF4-B212-1613E3D8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E57-84D4-49D1-945D-F62C96FD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F09-FAB1-4887-A74C-C31B9676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DF4-D079-43DA-BDE6-A491B2DB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0EFB-955D-4EAB-9CF6-67816A04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7D14-D29D-4B97-8C4F-83197631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112C-614A-44D8-992C-F0A7B1E4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030A-35F3-4E47-9EE6-F7A6AB6C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D0B2-EF3F-4A2A-BE05-18B7E296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96A6-7AD2-4601-A967-5D7E6D6F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0A33-CBAC-4E59-B05E-4C99B6C4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5B5-D3BE-4F49-921D-C7DE5385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CDBD-A539-4C00-B5AA-DB4CB033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0192-4E5A-4A66-BA53-59696CC3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E668-5CCD-4E92-B5FE-E365D4B5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9A32-4AC4-4AEE-B44B-54B147ED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AF0A-58A1-48FA-A9E1-EE570BC4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36B-6BB3-42E9-9F4D-7108BA4E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253-A480-44C8-9FC3-C85CD318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3FC-932A-41D6-92BA-F7752CAF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0A6-5AFC-4217-B21B-D90E0779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B0E-FE32-4447-8A70-184EA0FC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4DE-DA29-40ED-BF54-40DA1A5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4C4-A0D2-4B18-A6BD-6550DE5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CF7E-6832-4BAE-8C1F-8EAFA40CE9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1436-F150-476A-8DD1-CCA2CAC225B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N:\весна\0_8da7_48cf205c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i="1" lang="ru-RU" sz="7200" spc="-1" strike="noStrike">
                <a:solidFill>
                  <a:srgbClr val="ff0000"/>
                </a:solidFill>
                <a:latin typeface="Blackoak Std"/>
              </a:rPr>
              <a:t>Алексей Николаевич </a:t>
            </a:r>
            <a:r>
              <a:rPr b="1" i="1" lang="ru-RU" sz="9600" spc="-1" strike="noStrike">
                <a:solidFill>
                  <a:srgbClr val="ff0000"/>
                </a:solidFill>
                <a:latin typeface="Blackoak Std"/>
              </a:rPr>
              <a:t>Плещеев</a:t>
            </a:r>
            <a:br>
              <a:rPr sz="7200"/>
            </a:br>
            <a:endParaRPr b="0" lang="en-US" sz="9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0880" y="480060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Showcard Gothic"/>
              </a:rPr>
              <a:t>Годы жизни</a:t>
            </a:r>
            <a:br>
              <a:rPr sz="3600"/>
            </a:br>
            <a:r>
              <a:rPr b="1" i="1" lang="ru-RU" sz="4000" spc="-1" strike="noStrike">
                <a:solidFill>
                  <a:srgbClr val="ff3300"/>
                </a:solidFill>
                <a:latin typeface="Showcard Gothic"/>
              </a:rPr>
              <a:t>(</a:t>
            </a:r>
            <a:r>
              <a:rPr b="1" i="1" lang="ru-RU" sz="4400" spc="-1" strike="noStrike">
                <a:solidFill>
                  <a:srgbClr val="ff3300"/>
                </a:solidFill>
                <a:latin typeface="Showcard Gothic"/>
              </a:rPr>
              <a:t>1825-1893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167760" y="1905120"/>
            <a:ext cx="31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6019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990033"/>
                </a:solidFill>
                <a:latin typeface="Showcard Gothic"/>
              </a:rPr>
              <a:t>Алексей Николаевич Плещеев  родился в семье небогатого провинциального чиновника, представителя старинного дворянского рода, в г. Костром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Showcard Gothic"/>
              </a:rPr>
              <a:t>        </a:t>
            </a:r>
            <a:r>
              <a:rPr b="1" i="1" lang="ru-RU" sz="3200" spc="-1" strike="noStrike">
                <a:solidFill>
                  <a:srgbClr val="990033"/>
                </a:solidFill>
                <a:latin typeface="Showcard Gothic"/>
              </a:rPr>
              <a:t>Детство Алёши Плещеева прошло  в Нижнем Новгороде. Его воспитанием занималась мать, Елена Александровна, давшая сыну хорошее домашнее образова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8" descr="Картинка 4 из 467"/>
          <p:cNvPicPr/>
          <p:nvPr/>
        </p:nvPicPr>
        <p:blipFill>
          <a:blip r:embed="rId1"/>
          <a:stretch/>
        </p:blipFill>
        <p:spPr>
          <a:xfrm>
            <a:off x="5943600" y="1676520"/>
            <a:ext cx="2867040" cy="3916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724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Showcard Gothic"/>
              </a:rPr>
              <a:t>Алексей Николаевич Плещеев с 1839 года  учился в школе гвардейских прапорщиков и кавалерийских юнкер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Showcard Gothic"/>
              </a:rPr>
              <a:t>    </a:t>
            </a:r>
            <a:r>
              <a:rPr b="1" i="1" lang="ru-RU" sz="2800" spc="-1" strike="noStrike">
                <a:solidFill>
                  <a:srgbClr val="0000cc"/>
                </a:solidFill>
                <a:latin typeface="Showcard Gothic"/>
              </a:rPr>
              <a:t>Военная карьера Плещеева не привлекала, и в 1842г. он покинул училище, а осенью 1843г. Поступил в Петербургский  университет, на  восточное отделение  историко – филологического университе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4" descr="Картинка 1 из 467"/>
          <p:cNvPicPr/>
          <p:nvPr/>
        </p:nvPicPr>
        <p:blipFill>
          <a:blip r:embed="rId1"/>
          <a:stretch/>
        </p:blipFill>
        <p:spPr>
          <a:xfrm>
            <a:off x="4952880" y="762120"/>
            <a:ext cx="3886200" cy="472428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5715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Blackoak Std"/>
              </a:rPr>
              <a:t>В 1846 году первый же сборник стихов сделал Плещеева знаменитым в революционной молодёжной среде. Он был в 1849 году арестован и некоторое время спустя отправлен в ссылку, где провёл на военной службе почти десять лет. По возвращении из ссылки Плещеев продолжил литературную деятельность; пройдя через годы бедности и лишений, он стал авторитетным литератором, критиком, издателем, а в конце жизни и меценатом.</a:t>
            </a:r>
            <a:r>
              <a:rPr b="1" i="1" lang="ru-RU" sz="2400" spc="-1" strike="noStrike">
                <a:solidFill>
                  <a:srgbClr val="ffffff"/>
                </a:solidFill>
                <a:latin typeface="Blackoak Std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7" descr="Картинка 2 из 467"/>
          <p:cNvPicPr/>
          <p:nvPr/>
        </p:nvPicPr>
        <p:blipFill>
          <a:blip r:embed="rId1"/>
          <a:stretch/>
        </p:blipFill>
        <p:spPr>
          <a:xfrm>
            <a:off x="5943600" y="1295280"/>
            <a:ext cx="3009960" cy="4762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К н и г и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Picture 12" descr="Картинка 9 из 467"/>
          <p:cNvPicPr/>
          <p:nvPr/>
        </p:nvPicPr>
        <p:blipFill>
          <a:blip r:embed="rId1"/>
          <a:stretch/>
        </p:blipFill>
        <p:spPr>
          <a:xfrm>
            <a:off x="3581280" y="1066680"/>
            <a:ext cx="1702080" cy="23623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07" name="Picture 14" descr="Картинка 12 из 467"/>
          <p:cNvPicPr/>
          <p:nvPr/>
        </p:nvPicPr>
        <p:blipFill>
          <a:blip r:embed="rId2"/>
          <a:stretch/>
        </p:blipFill>
        <p:spPr>
          <a:xfrm>
            <a:off x="990720" y="380880"/>
            <a:ext cx="1852560" cy="2971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Картинка 28 из 467"/>
          <p:cNvPicPr/>
          <p:nvPr/>
        </p:nvPicPr>
        <p:blipFill>
          <a:blip r:embed="rId3"/>
          <a:stretch/>
        </p:blipFill>
        <p:spPr>
          <a:xfrm>
            <a:off x="5943600" y="304920"/>
            <a:ext cx="1857240" cy="2971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7239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omic"/>
              </a:rPr>
              <a:t>Многие произведения поэта (особенно — стихи для детей) стали хрестоматийными, считаются классикой. На стихи Плещеева известнейшими русскими композиторами написаны более ста романсов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63160" y="228600"/>
            <a:ext cx="5527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comic"/>
              </a:rPr>
              <a:t>Четырнадцать песен из цикла «Шестнадцать песен для детей» созданы на стихи сборника Плещеева «Подснежник». Чайковский тщательно выбирал из плещеевского сборника стихи с ярко выраженной гуманистической и этической направленностью, создав песенную сюиту. В доме-музее П.И. Чайковского в Клину в библиотеке композитора сохранился сборник стихотворений Плещеева с надписью автора: </a:t>
            </a:r>
            <a:r>
              <a:rPr b="1" i="1" lang="ru-RU" sz="2200" spc="-1" strike="noStrike">
                <a:solidFill>
                  <a:srgbClr val="ff3300"/>
                </a:solidFill>
                <a:latin typeface="comic"/>
              </a:rPr>
              <a:t>«Петру Ильичу Чайковскому в знак расположения и благодарности за его прекрасную музыку на мои плохие слова. А.Н. Плещеев. 1881 февраля 18-го С. Петербург». На полях книги, где первоначально было отмечено больше двенадцати стихотворений, есть нотные наброски к двенадцати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1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8" descr="chaikov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4572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16pesen1"/>
          <p:cNvPicPr/>
          <p:nvPr/>
        </p:nvPicPr>
        <p:blipFill>
          <a:blip r:embed="rId2"/>
          <a:stretch/>
        </p:blipFill>
        <p:spPr>
          <a:xfrm>
            <a:off x="5943600" y="3352680"/>
            <a:ext cx="2048040" cy="325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1fa7a"/>
                </a:solidFill>
                <a:latin typeface="comic"/>
              </a:rPr>
              <a:t>СПАСИБО ЗА ВНИМАНИЕ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</cp:lastModifiedBy>
  <dcterms:modified xsi:type="dcterms:W3CDTF">2018-04-03T14:43:3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