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716-105C-4B74-8149-DBA00BED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07E5-0345-42BA-BBF2-4AC9896C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63D-2BEC-45B9-A0D6-CD81C6D0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B05E-5660-46D8-921F-58D583A0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F07-C4B3-4E3A-8E2B-F648ABF9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ABC-9504-4756-811D-0E117CAC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EEBE-4D01-4D1A-9A56-20CF8A78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CF6-165A-4FF3-9C21-EB754DB7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975-37E5-4DF1-9020-F7CC01EB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CC1-0520-4B80-B0A1-33C374E2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A9D-4AED-4619-BCEF-FCB7B294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4589-2D4E-483F-A788-0AF9520A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015D-1D85-4AE0-AA3E-5BACCC86EB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" Target="slide20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зентация к уроку во 2 классе по учебнику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Rainbow English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8640" y="5072040"/>
            <a:ext cx="518652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оставила: Насилевская О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jug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thepaintedbird.co.uk/ekmps/shops/thepaintedbird/images/large-rainbow-stripey-jug-1723-p.jpg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mug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smpmagazine.com.au/wp-content/uploads/2015/03/smp_mug.jpg"/>
          <p:cNvPicPr/>
          <p:nvPr/>
        </p:nvPicPr>
        <p:blipFill>
          <a:blip r:embed="rId1"/>
          <a:stretch/>
        </p:blipFill>
        <p:spPr>
          <a:xfrm>
            <a:off x="2286000" y="17146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hill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s://upload.wikimedia.org/wikipedia/commons/3/3d/Caer_Caradoc_hill.jpg"/>
          <p:cNvPicPr/>
          <p:nvPr/>
        </p:nvPicPr>
        <p:blipFill>
          <a:blip r:embed="rId1"/>
          <a:stretch/>
        </p:blipFill>
        <p:spPr>
          <a:xfrm>
            <a:off x="1643040" y="1714680"/>
            <a:ext cx="6357960" cy="47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060"/>
                </a:solidFill>
                <a:latin typeface="Calibri"/>
              </a:rPr>
              <a:t>tre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lughertexture.com/images/textures/details/vegetation_26/trees_63/hackberry_tree_20131230_1040936985.png"/>
          <p:cNvPicPr/>
          <p:nvPr/>
        </p:nvPicPr>
        <p:blipFill>
          <a:blip r:embed="rId1"/>
          <a:stretch/>
        </p:blipFill>
        <p:spPr>
          <a:xfrm>
            <a:off x="2643120" y="1643040"/>
            <a:ext cx="4013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cliparts.co/cliparts/pio/5x4/pio5x464T.gif"/>
          <p:cNvPicPr/>
          <p:nvPr/>
        </p:nvPicPr>
        <p:blipFill>
          <a:blip r:embed="rId1"/>
          <a:stretch/>
        </p:blipFill>
        <p:spPr>
          <a:xfrm>
            <a:off x="1000080" y="1643040"/>
            <a:ext cx="7013520" cy="4629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9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wind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cliparts.co/cliparts/8iA/Ey4/8iAEy4byT.jpg"/>
          <p:cNvPicPr/>
          <p:nvPr/>
        </p:nvPicPr>
        <p:blipFill>
          <a:blip r:embed="rId1"/>
          <a:stretch/>
        </p:blipFill>
        <p:spPr>
          <a:xfrm>
            <a:off x="1928880" y="1643040"/>
            <a:ext cx="5572080" cy="48927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c00000"/>
                </a:solidFill>
                <a:latin typeface="Calibri"/>
              </a:rPr>
              <a:t>sun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9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milk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s://cdn.vectorstock.com/i/composite/82,48/cartoon-milk-bottle-vector-1138248.jpg"/>
          <p:cNvPicPr/>
          <p:nvPr/>
        </p:nvPicPr>
        <p:blipFill>
          <a:blip r:embed="rId1"/>
          <a:stretch/>
        </p:blipFill>
        <p:spPr>
          <a:xfrm>
            <a:off x="1928880" y="1285920"/>
            <a:ext cx="504828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900" spc="-1" strike="noStrike">
                <a:solidFill>
                  <a:srgbClr val="00b050"/>
                </a:solidFill>
                <a:latin typeface="Calibri"/>
              </a:rPr>
              <a:t>sweet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http://t2.gstatic.com/images?q=tbn:ANd9GcTZ3rpdTjgiwPLVPYff0qFf2WETypRnc0IIrZDy-ixXAIw0YfSa4g"/>
          <p:cNvPicPr/>
          <p:nvPr/>
        </p:nvPicPr>
        <p:blipFill>
          <a:blip r:embed="rId1"/>
          <a:stretch/>
        </p:blipFill>
        <p:spPr>
          <a:xfrm>
            <a:off x="1214280" y="2214720"/>
            <a:ext cx="666288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egg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ww.mwhealingarts.com/wp-content/uploads/2014/06/Brown-Egg.jpg"/>
          <p:cNvPicPr/>
          <p:nvPr/>
        </p:nvPicPr>
        <p:blipFill>
          <a:blip r:embed="rId1"/>
          <a:stretch/>
        </p:blipFill>
        <p:spPr>
          <a:xfrm>
            <a:off x="1714680" y="2071800"/>
            <a:ext cx="534024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2" descr=""/>
          <p:cNvPicPr/>
          <p:nvPr/>
        </p:nvPicPr>
        <p:blipFill>
          <a:blip r:embed="rId1"/>
          <a:stretch/>
        </p:blipFill>
        <p:spPr>
          <a:xfrm>
            <a:off x="-6480" y="3352680"/>
            <a:ext cx="2597400" cy="23162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"/>
          <p:cNvPicPr/>
          <p:nvPr/>
        </p:nvPicPr>
        <p:blipFill>
          <a:blip r:embed="rId2"/>
          <a:stretch/>
        </p:blipFill>
        <p:spPr>
          <a:xfrm>
            <a:off x="2206800" y="4657680"/>
            <a:ext cx="2474640" cy="22068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"/>
          <p:cNvPicPr/>
          <p:nvPr/>
        </p:nvPicPr>
        <p:blipFill>
          <a:blip r:embed="rId3"/>
          <a:stretch/>
        </p:blipFill>
        <p:spPr>
          <a:xfrm>
            <a:off x="4352760" y="3925800"/>
            <a:ext cx="2597400" cy="23162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"/>
          <p:cNvPicPr/>
          <p:nvPr/>
        </p:nvPicPr>
        <p:blipFill>
          <a:blip r:embed="rId4"/>
          <a:stretch/>
        </p:blipFill>
        <p:spPr>
          <a:xfrm>
            <a:off x="6632640" y="4614840"/>
            <a:ext cx="2517840" cy="224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214200" y="485784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2428920" y="600084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ан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7143840" y="614376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4786200" y="542916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с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0" descr=""/>
          <p:cNvPicPr/>
          <p:nvPr/>
        </p:nvPicPr>
        <p:blipFill>
          <a:blip r:embed="rId5"/>
          <a:stretch/>
        </p:blipFill>
        <p:spPr>
          <a:xfrm>
            <a:off x="2279520" y="2639880"/>
            <a:ext cx="2206800" cy="19684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1" descr=""/>
          <p:cNvPicPr/>
          <p:nvPr/>
        </p:nvPicPr>
        <p:blipFill>
          <a:blip r:embed="rId6"/>
          <a:stretch/>
        </p:blipFill>
        <p:spPr>
          <a:xfrm>
            <a:off x="6589800" y="2352600"/>
            <a:ext cx="2359080" cy="2103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3"/>
          <p:cNvSpPr/>
          <p:nvPr/>
        </p:nvSpPr>
        <p:spPr>
          <a:xfrm>
            <a:off x="6929280" y="3571920"/>
            <a:ext cx="221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азочные гер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2428920" y="378612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да и пит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857160" y="2643120"/>
            <a:ext cx="1428840" cy="714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g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6"/>
          <p:cNvSpPr/>
          <p:nvPr/>
        </p:nvSpPr>
        <p:spPr>
          <a:xfrm>
            <a:off x="3214800" y="1714680"/>
            <a:ext cx="1714320" cy="714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o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7"/>
          <p:cNvSpPr/>
          <p:nvPr/>
        </p:nvSpPr>
        <p:spPr>
          <a:xfrm>
            <a:off x="5000760" y="1571760"/>
            <a:ext cx="171432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6643800" y="1571760"/>
            <a:ext cx="1714320" cy="714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9">
            <a:hlinkClick r:id="rId7" action="ppaction://hlinksldjump"/>
          </p:cNvPr>
          <p:cNvSpPr/>
          <p:nvPr/>
        </p:nvSpPr>
        <p:spPr>
          <a:xfrm>
            <a:off x="4572000" y="2357280"/>
            <a:ext cx="1714680" cy="714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0"/>
          <p:cNvSpPr/>
          <p:nvPr/>
        </p:nvSpPr>
        <p:spPr>
          <a:xfrm>
            <a:off x="4143240" y="714240"/>
            <a:ext cx="17146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1"/>
          <p:cNvSpPr/>
          <p:nvPr/>
        </p:nvSpPr>
        <p:spPr>
          <a:xfrm>
            <a:off x="2286000" y="214200"/>
            <a:ext cx="1714680" cy="714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2"/>
          <p:cNvSpPr/>
          <p:nvPr/>
        </p:nvSpPr>
        <p:spPr>
          <a:xfrm>
            <a:off x="6929280" y="857160"/>
            <a:ext cx="17146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3"/>
          <p:cNvSpPr/>
          <p:nvPr/>
        </p:nvSpPr>
        <p:spPr>
          <a:xfrm>
            <a:off x="1500120" y="1857240"/>
            <a:ext cx="1714680" cy="714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4"/>
          <p:cNvSpPr/>
          <p:nvPr/>
        </p:nvSpPr>
        <p:spPr>
          <a:xfrm>
            <a:off x="4786200" y="3143160"/>
            <a:ext cx="1714680" cy="714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5"/>
          <p:cNvSpPr/>
          <p:nvPr/>
        </p:nvSpPr>
        <p:spPr>
          <a:xfrm>
            <a:off x="7429680" y="0"/>
            <a:ext cx="1714320" cy="714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6"/>
          <p:cNvSpPr/>
          <p:nvPr/>
        </p:nvSpPr>
        <p:spPr>
          <a:xfrm>
            <a:off x="2143080" y="928800"/>
            <a:ext cx="1714680" cy="714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7"/>
          <p:cNvSpPr/>
          <p:nvPr/>
        </p:nvSpPr>
        <p:spPr>
          <a:xfrm>
            <a:off x="5857920" y="0"/>
            <a:ext cx="1714320" cy="714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9"/>
          <p:cNvSpPr/>
          <p:nvPr/>
        </p:nvSpPr>
        <p:spPr>
          <a:xfrm>
            <a:off x="3929040" y="0"/>
            <a:ext cx="1714680" cy="714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w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0"/>
          <p:cNvSpPr/>
          <p:nvPr/>
        </p:nvSpPr>
        <p:spPr>
          <a:xfrm>
            <a:off x="285840" y="1785960"/>
            <a:ext cx="1714320" cy="714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1"/>
          <p:cNvSpPr/>
          <p:nvPr/>
        </p:nvSpPr>
        <p:spPr>
          <a:xfrm>
            <a:off x="214200" y="1000080"/>
            <a:ext cx="17146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3"/>
          <p:cNvSpPr/>
          <p:nvPr/>
        </p:nvSpPr>
        <p:spPr>
          <a:xfrm>
            <a:off x="214200" y="214200"/>
            <a:ext cx="1714680" cy="714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5578E-006 L -0.00313 0.55273 E">
                                      <p:cBhvr>
                                        <p:cTn id="12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15819E-007 L 0.01267 0.31314 E">
                                      <p:cBhvr>
                                        <p:cTn id="13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4736E-006 L -0.58091 0.59435 E">
                                      <p:cBhvr>
                                        <p:cTn id="14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75763E-007 L -0.69045 0.39685 E">
                                      <p:cBhvr>
                                        <p:cTn id="15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9584E-006 L -0.51094 0.14686 E">
                                      <p:cBhvr>
                                        <p:cTn id="17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83996E-006 L -0.20399 0.42923 E">
                                      <p:cBhvr>
                                        <p:cTn id="18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036E-007 L -0.49323 0.67923 E">
                                      <p:cBhvr>
                                        <p:cTn id="19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71785E-006 L 0.18646 0.08348 E">
                                      <p:cBhvr>
                                        <p:cTn id="20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4736E-006 L -0.1415 0.4475 E">
                                      <p:cBhvr>
                                        <p:cTn id="21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4736E-006 L -0.52431 0.47895 E">
                                      <p:cBhvr>
                                        <p:cTn id="230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4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46809E-006 L 0.25329 0.65032 E">
                                      <p:cBhvr>
                                        <p:cTn id="24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75763E-007 L -0.00677 0.45976 E">
                                      <p:cBhvr>
                                        <p:cTn id="254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8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88529E-006 L 0.39323 0.17669 E">
                                      <p:cBhvr>
                                        <p:cTn id="26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4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05365E-006 L 0.56511 0.50208 E">
                                      <p:cBhvr>
                                        <p:cTn id="27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2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45051E-006 L 0.51841 0.62696 E">
                                      <p:cBhvr>
                                        <p:cTn id="29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8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54209E-006 L 0.33108 0.65818 E">
                                      <p:cBhvr>
                                        <p:cTn id="30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6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0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58002E-006 L 0.74514 0.64801 E">
                                      <p:cBhvr>
                                        <p:cTn id="31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ʌ]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,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g,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n,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e]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t,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g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ɪ]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g,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ll,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ɒ]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g, l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rry, p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nd, f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714240" y="28584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t’s review the English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Calibri"/>
              </a:rPr>
              <a:t>sh</a:t>
            </a:r>
            <a:r>
              <a:rPr b="1" lang="en-US" sz="8600" spc="-1" strike="noStrike">
                <a:solidFill>
                  <a:srgbClr val="002060"/>
                </a:solidFill>
                <a:latin typeface="Calibri"/>
              </a:rPr>
              <a:t> - [ʃ]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f497d"/>
                </a:solidFill>
                <a:latin typeface="Calibri"/>
              </a:rPr>
              <a:t>sh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op, </a:t>
            </a:r>
            <a:r>
              <a:rPr b="1" lang="en-US" sz="8800" spc="-1" strike="noStrike">
                <a:solidFill>
                  <a:srgbClr val="1f497d"/>
                </a:solidFill>
                <a:latin typeface="Calibri"/>
              </a:rPr>
              <a:t>sh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ip, </a:t>
            </a:r>
            <a:r>
              <a:rPr b="1" lang="en-US" sz="8800" spc="-1" strike="noStrike">
                <a:solidFill>
                  <a:srgbClr val="1f497d"/>
                </a:solidFill>
                <a:latin typeface="Calibri"/>
              </a:rPr>
              <a:t>sh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elf, fi</a:t>
            </a:r>
            <a:r>
              <a:rPr b="1" lang="en-US" sz="8800" spc="-1" strike="noStrike">
                <a:solidFill>
                  <a:srgbClr val="1f497d"/>
                </a:solidFill>
                <a:latin typeface="Calibri"/>
              </a:rPr>
              <a:t>sh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, di</a:t>
            </a:r>
            <a:r>
              <a:rPr b="1" lang="en-US" sz="8800" spc="-1" strike="noStrike">
                <a:solidFill>
                  <a:srgbClr val="1f497d"/>
                </a:solidFill>
                <a:latin typeface="Calibri"/>
              </a:rPr>
              <a:t>sh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800" spc="-1" strike="noStrike">
                <a:solidFill>
                  <a:srgbClr val="1f497d"/>
                </a:solidFill>
                <a:latin typeface="Calibri"/>
              </a:rPr>
              <a:t>sh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ee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714240" y="28584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t’s learn a new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fish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http://t3.gstatic.com/images?q=tbn:ANd9GcQxmB4bPThWRFa0NATwwgFwq4dgZV9TRzf2EajWXZa8Pral03qo"/>
          <p:cNvPicPr/>
          <p:nvPr/>
        </p:nvPicPr>
        <p:blipFill>
          <a:blip r:embed="rId1"/>
          <a:stretch/>
        </p:blipFill>
        <p:spPr>
          <a:xfrm>
            <a:off x="2000160" y="2214720"/>
            <a:ext cx="5143680" cy="36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ship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ttp://larryjulian.com/wp-content/uploads/2015/08/Ship_HMS_Interceptor_arel2248_big.jpg"/>
          <p:cNvPicPr/>
          <p:nvPr/>
        </p:nvPicPr>
        <p:blipFill>
          <a:blip r:embed="rId1"/>
          <a:stretch/>
        </p:blipFill>
        <p:spPr>
          <a:xfrm>
            <a:off x="1000080" y="1643040"/>
            <a:ext cx="69660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dish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http://img3.foodservicewarehouse.com/Prd/1900SQ/BrowneFoodservice_564010W.jpg"/>
          <p:cNvPicPr/>
          <p:nvPr/>
        </p:nvPicPr>
        <p:blipFill>
          <a:blip r:embed="rId1"/>
          <a:stretch/>
        </p:blipFill>
        <p:spPr>
          <a:xfrm>
            <a:off x="2286000" y="1571760"/>
            <a:ext cx="4643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shelf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http://hi-be.com/wp-content/uploads/2015/06/Creative-Cozy-And-Simple-Decorative-Wall-Shelves-Ideas-With-Single-Tier-Shelving-Feat-Towel-Hook-As-Decorate-White-Room-Furnishing-Ideas.jpg"/>
          <p:cNvPicPr/>
          <p:nvPr/>
        </p:nvPicPr>
        <p:blipFill>
          <a:blip r:embed="rId1"/>
          <a:stretch/>
        </p:blipFill>
        <p:spPr>
          <a:xfrm>
            <a:off x="1000080" y="1514520"/>
            <a:ext cx="65721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sheep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http://t3.gstatic.com/images?q=tbn:ANd9GcTZQ77LIXqq1WqNo1axWZ-TyRrLCYM1OIU9GHrs93poRPkVGmx_Iw"/>
          <p:cNvPicPr/>
          <p:nvPr/>
        </p:nvPicPr>
        <p:blipFill>
          <a:blip r:embed="rId1"/>
          <a:stretch/>
        </p:blipFill>
        <p:spPr>
          <a:xfrm>
            <a:off x="1666800" y="1803240"/>
            <a:ext cx="54770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85840" y="928440"/>
            <a:ext cx="418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тебя зову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ятно познакомить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ты родо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ел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идим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071600" y="785880"/>
            <a:ext cx="50720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ll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is your nam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ice to meet yo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ere are you fr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ee yo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214200" y="21420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t’s review what we say when we meet some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785880"/>
            <a:ext cx="4186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!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your name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e to meet you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re you from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are you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you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071600" y="714240"/>
            <a:ext cx="507204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llo!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y name is …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ice to meet you too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’m from Russia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ine(great, bad, so-so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ye!(Goodbye!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357120" y="2142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ay the right phrases to complete the dialo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428760" y="6000840"/>
            <a:ext cx="62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ke up your own dialo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0" y="4287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узнал, открыл дл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                                                                      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себя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егодня на уроке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Я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научился, смог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могу похвалить себя 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                             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своих одноклассников за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Прямая со стрелкой 4"/>
          <p:cNvCxnSpPr/>
          <p:nvPr/>
        </p:nvCxnSpPr>
        <p:spPr>
          <a:xfrm flipV="1">
            <a:off x="3856680" y="1071000"/>
            <a:ext cx="857880" cy="12862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Прямая со стрелкой 5"/>
          <p:cNvCxnSpPr/>
          <p:nvPr/>
        </p:nvCxnSpPr>
        <p:spPr>
          <a:xfrm flipV="1">
            <a:off x="4000320" y="2785320"/>
            <a:ext cx="919800" cy="10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Прямая со стрелкой 8"/>
          <p:cNvCxnSpPr/>
          <p:nvPr/>
        </p:nvCxnSpPr>
        <p:spPr>
          <a:xfrm>
            <a:off x="3714840" y="3143160"/>
            <a:ext cx="714960" cy="8582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content.mycutegraphics.com/graphics/frog/cartoon-frog.png"/>
          <p:cNvPicPr/>
          <p:nvPr/>
        </p:nvPicPr>
        <p:blipFill>
          <a:blip r:embed="rId1"/>
          <a:stretch/>
        </p:blipFill>
        <p:spPr>
          <a:xfrm>
            <a:off x="2786040" y="1714680"/>
            <a:ext cx="4038480" cy="4762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rog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 rot="20295000">
            <a:off x="283320" y="1263600"/>
            <a:ext cx="30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ay in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dog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t3.gstatic.com/images?q=tbn:ANd9GcSzTECBLBtCKtvvDwzHaSc25VUtA-eEfneh-BCX7xECeZEaZzA4dQ"/>
          <p:cNvPicPr/>
          <p:nvPr/>
        </p:nvPicPr>
        <p:blipFill>
          <a:blip r:embed="rId1"/>
          <a:stretch/>
        </p:blipFill>
        <p:spPr>
          <a:xfrm>
            <a:off x="1357200" y="1785960"/>
            <a:ext cx="67168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pig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s://s-media-cache-ak0.pinimg.com/originals/fb/41/64/fb4164c7b487e1c506b36f32563cc917.jpg"/>
          <p:cNvPicPr/>
          <p:nvPr/>
        </p:nvPicPr>
        <p:blipFill>
          <a:blip r:embed="rId1"/>
          <a:stretch/>
        </p:blipFill>
        <p:spPr>
          <a:xfrm>
            <a:off x="1000080" y="1571760"/>
            <a:ext cx="692964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fox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2.bp.blogspot.com/-fK3T27K_qYs/UI3gA89r6EI/AAAAAAAAGs4/Paoir9nOsy8/s1600/red-fox2.jpg"/>
          <p:cNvPicPr/>
          <p:nvPr/>
        </p:nvPicPr>
        <p:blipFill>
          <a:blip r:embed="rId1"/>
          <a:stretch/>
        </p:blipFill>
        <p:spPr>
          <a:xfrm>
            <a:off x="857160" y="192888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kid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s://40.media.tumblr.com/1ffb5c05b61157e99e9f570269250b7a/tumblr_mr8ush4LFu1r7yxrco1_1280.jpg"/>
          <p:cNvPicPr/>
          <p:nvPr/>
        </p:nvPicPr>
        <p:blipFill>
          <a:blip r:embed="rId1"/>
          <a:stretch/>
        </p:blipFill>
        <p:spPr>
          <a:xfrm>
            <a:off x="1357200" y="1500120"/>
            <a:ext cx="6096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lorry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icons.iconarchive.com/icons/icons-land/transport/256/Lorry-icon.png"/>
          <p:cNvPicPr/>
          <p:nvPr/>
        </p:nvPicPr>
        <p:blipFill>
          <a:blip r:embed="rId1"/>
          <a:stretch/>
        </p:blipFill>
        <p:spPr>
          <a:xfrm>
            <a:off x="2000160" y="1643040"/>
            <a:ext cx="4857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>
                <a:solidFill>
                  <a:srgbClr val="00b050"/>
                </a:solidFill>
                <a:latin typeface="Calibri"/>
              </a:rPr>
              <a:t>bus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s://i.ytimg.com/vi/xbFrN1FL6tE/maxresdefault.jpg"/>
          <p:cNvPicPr/>
          <p:nvPr/>
        </p:nvPicPr>
        <p:blipFill>
          <a:blip r:embed="rId1"/>
          <a:stretch/>
        </p:blipFill>
        <p:spPr>
          <a:xfrm>
            <a:off x="1000080" y="2214720"/>
            <a:ext cx="69850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8:53:26Z</dcterms:created>
  <dc:creator>Ольга</dc:creator>
  <dc:description/>
  <dc:language>en-US</dc:language>
  <cp:lastModifiedBy>Ольга</cp:lastModifiedBy>
  <dcterms:modified xsi:type="dcterms:W3CDTF">2018-04-03T19:30:14Z</dcterms:modified>
  <cp:revision>3</cp:revision>
  <dc:subject/>
  <dc:title>Слайд 1</dc:title>
</cp:coreProperties>
</file>