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9.png" ContentType="image/png"/>
  <Override PartName="/ppt/media/image7.png" ContentType="image/png"/>
  <Override PartName="/ppt/media/image12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04DB-6D1B-4EE2-A7BD-446F93D7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7335-B108-4C7F-9375-8AE0163E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1FD6-548C-4128-A539-7248EE7B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F8B4-44B2-42B1-BA8F-76C69BCB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1BDC-842B-4A45-BC35-D7F7B517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E9AE-F62F-4344-B344-6BE0BF7B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3DC5-784E-4801-A55A-F2FCB0A5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4FB3-5E66-425E-B542-ED63A2E1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66FA-B3FC-4C43-8A03-C3144035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AA9-EA51-4F69-A27B-FFFA42E6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257F-8A7D-40D4-8D72-BF7326A1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F6D6-5061-4061-A4B8-E6A3DEEE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06B5-486C-44E0-8EFF-005A25438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модульный урок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Термометры расширения, манометрические термометр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4723920"/>
            <a:ext cx="655344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«Скажи мне – и я забуду. Покажи мне – и я запомн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Дай мне действовать самому – и я научусь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Конфу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около 551 -479 лет до н.э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ревнекитайский мыслител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Ответы к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УЭ5</a:t>
            </a:r>
            <a:br>
              <a:rPr sz="2400"/>
            </a:b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Критерии оценки: каждый правильный ответ на вопрос – 1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4969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ариант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Задание №1: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термометр технический угловой,  ртут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диапазон №9 (-0 до +400˚С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цена деления 5˚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ерхняя часть- 260 м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ижняя -201 м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ельзя, т.к. в системе его диапазон вы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-50˚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Задание №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у= 400 м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длина гильзы 200 м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гильза перпендикулярно оси труб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Задание №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Т.к. на выходе из топки могут бы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температуры 300˚С выше,  то возможно выбра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ртутный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термометр ТТУ диапазона №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(0-450˚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Чтобы узнать какая погода сейчас в Красноярске, зайди на сайт &quot;Городских новостей&quot; - Новости Красноярска - &quot;Городские новости&quot;."/>
          <p:cNvPicPr/>
          <p:nvPr/>
        </p:nvPicPr>
        <p:blipFill>
          <a:blip r:embed="rId1"/>
          <a:stretch/>
        </p:blipFill>
        <p:spPr>
          <a:xfrm>
            <a:off x="5364000" y="2344680"/>
            <a:ext cx="332280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Ответы к УЭ7</a:t>
            </a:r>
            <a:br>
              <a:rPr sz="2400"/>
            </a:br>
            <a:r>
              <a:rPr b="1" lang="en-US" sz="2000" spc="-1" strike="noStrike">
                <a:solidFill>
                  <a:srgbClr val="996633"/>
                </a:solidFill>
                <a:latin typeface="Arial"/>
                <a:ea typeface="Times New Roman"/>
              </a:rPr>
              <a:t>Критерии оценки: каждый правильный ответ на вопрос – 1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Чем манометрическая пружина похожа на обычную и чем отличается от неё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ще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: обе пружины  обладают упругостью, т.е. после приложения силы пружина растягивается, а после   снятия пружина сжим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личаются: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ычная пружина полностью из проволоки, а манометрическая-это пустотелая трубка овального с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G_14861" descr="Блог слесаря-ремонтника и механика по наладке оборудования &quot; Конструкционные элементы"/>
          <p:cNvPicPr/>
          <p:nvPr/>
        </p:nvPicPr>
        <p:blipFill>
          <a:blip r:embed="rId1"/>
          <a:stretch/>
        </p:blipFill>
        <p:spPr>
          <a:xfrm>
            <a:off x="1692360" y="1197000"/>
            <a:ext cx="1512720" cy="2016000"/>
          </a:xfrm>
          <a:prstGeom prst="rect">
            <a:avLst/>
          </a:prstGeom>
          <a:ln w="0">
            <a:noFill/>
          </a:ln>
        </p:spPr>
      </p:pic>
      <p:pic>
        <p:nvPicPr>
          <p:cNvPr id="78" name="5142e7a84ffdaa1ad8f45bca" descr="Проволока пружина ГС.01.500.011 цена, купить, оптом Строительные товары стоимость, описание, розница - Москва, СПб, Сочи Оптовые"/>
          <p:cNvPicPr/>
          <p:nvPr/>
        </p:nvPicPr>
        <p:blipFill>
          <a:blip r:embed="rId2"/>
          <a:srcRect l="13730" t="0" r="15856" b="0"/>
          <a:stretch/>
        </p:blipFill>
        <p:spPr>
          <a:xfrm>
            <a:off x="5508720" y="141300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Ответы к УЭ7</a:t>
            </a:r>
            <a:br>
              <a:rPr sz="2400"/>
            </a:br>
            <a:r>
              <a:rPr b="1" lang="en-US" sz="2000" spc="-1" strike="noStrike">
                <a:solidFill>
                  <a:srgbClr val="996633"/>
                </a:solidFill>
                <a:latin typeface="Arial"/>
                <a:ea typeface="Times New Roman"/>
              </a:rPr>
              <a:t>Критерии оценки: каждый правильный ответ на вопрос – 1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. Капилляр жидкостного манометрического термометра не желательно делать больше 10 метров, т.к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жидкость в длинном капилляре остывает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и давление внутри системы уменьшается, стрелка отклонится на меньшую велич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. Для увеличения точности манометрического термометра нужно вместо 1 витка сделать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есколько вит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image170" descr="Технологические измерения и приборы, страница 6"/>
          <p:cNvPicPr/>
          <p:nvPr/>
        </p:nvPicPr>
        <p:blipFill>
          <a:blip r:embed="rId1"/>
          <a:srcRect l="22376" t="4971" r="2864" b="0"/>
          <a:stretch/>
        </p:blipFill>
        <p:spPr>
          <a:xfrm>
            <a:off x="1547640" y="4653000"/>
            <a:ext cx="1784520" cy="2089080"/>
          </a:xfrm>
          <a:prstGeom prst="rect">
            <a:avLst/>
          </a:prstGeom>
          <a:ln w="0">
            <a:noFill/>
          </a:ln>
        </p:spPr>
      </p:pic>
      <p:pic>
        <p:nvPicPr>
          <p:cNvPr id="82" name="7d1fb57d211fd80114685fe2dbe34f9b" descr="БЕЛОРУССКИЙ ГОСУДРАСТВЕННЫЙ УНИВЕРСИТЕТ ИНФОРМАТИКИ И РАДИОЭ…"/>
          <p:cNvPicPr/>
          <p:nvPr/>
        </p:nvPicPr>
        <p:blipFill>
          <a:blip r:embed="rId2"/>
          <a:srcRect l="37443" t="23326" r="31083" b="24256"/>
          <a:stretch/>
        </p:blipFill>
        <p:spPr>
          <a:xfrm>
            <a:off x="4788000" y="4724280"/>
            <a:ext cx="366876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люч  к Тестовому заданию (УЭ 8)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терии оценки: каждый правильный ответ на вопрос – 1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507520" cy="5000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849780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99"/>
                </a:solidFill>
                <a:latin typeface="Arial"/>
              </a:rPr>
              <a:t>Спасибо  за  вашу самостоятельную работу на урок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2781000"/>
            <a:ext cx="8229600" cy="3344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Скачать песню андрей миронов"/>
          <p:cNvPicPr/>
          <p:nvPr/>
        </p:nvPicPr>
        <p:blipFill>
          <a:blip r:embed="rId2"/>
          <a:stretch/>
        </p:blipFill>
        <p:spPr>
          <a:xfrm>
            <a:off x="2627280" y="2781360"/>
            <a:ext cx="35528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Ответы к УЭ1</a:t>
            </a:r>
            <a:br>
              <a:rPr sz="2000"/>
            </a:b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Критерии оценки: каждый правильный ответ </a:t>
            </a:r>
            <a:br>
              <a:rPr sz="2000"/>
            </a:b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на вопрос – 1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1. Температура - это степень нагретости т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тепень нагретости зависит от скорости движения его молеку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ет эталона скорости молекулы (т.к. нельзя за молекулой погнаться с секундомером), поэтому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емпература измеряется косвенным путем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2. Температура вещества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змеряется при соприкосновении его с другим веществом, у которого меняются свойств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. А мы следим за изменением свойств второго вещества и определяем по шкале температуру перв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3.   Чувствительный элемент- Измерительный механизм-    Отсчетное устройство- Опе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4. Диапазон измерения, цена деления, класс точности, инерционность, чувстви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5.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Цена деления шкалы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- это  расстояние между ближайшими штрихами на шкале (выраженное, например,  в ˚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УЭ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монтаж  жидкостных  термометр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2627" r="4082" b="27865"/>
          <a:stretch/>
        </p:blipFill>
        <p:spPr>
          <a:xfrm>
            <a:off x="539640" y="1268280"/>
            <a:ext cx="4753080" cy="2702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0" t="0" r="52656" b="0"/>
          <a:stretch/>
        </p:blipFill>
        <p:spPr>
          <a:xfrm>
            <a:off x="2484360" y="4149720"/>
            <a:ext cx="1784520" cy="2187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0" t="0" r="0" b="18530"/>
          <a:stretch/>
        </p:blipFill>
        <p:spPr>
          <a:xfrm>
            <a:off x="5508720" y="2133720"/>
            <a:ext cx="2523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Ответы к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УЭ2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ритерии оценки: каждый правильный ответ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а вопрос – 1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5400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1. Гильза </a:t>
            </a: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защищает погружную</a:t>
            </a: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 часть термометра о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неблагоприятного воздействия сред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скорости поток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давления сре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i="1" lang="ru-RU" sz="2200" spc="-1" strike="noStrike">
                <a:solidFill>
                  <a:srgbClr val="000099"/>
                </a:solidFill>
                <a:latin typeface="Arial"/>
              </a:rPr>
              <a:t>Благодаря гильзе можно заменить прибор, не останавливая техпроцес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2. Гильза погружается в трубопровод до середины потока, т.к. </a:t>
            </a: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именно там реальная температура среды</a:t>
            </a: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, ближе к стенкам происходит охлажд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18530"/>
          <a:stretch/>
        </p:blipFill>
        <p:spPr>
          <a:xfrm>
            <a:off x="6516720" y="3573360"/>
            <a:ext cx="1955880" cy="2951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Гильзы ГЛТ : Термометры : Датчики температуры, термометры и термопреобразователи : КИПиА нижний новгород,газовое оборудование,пр"/>
          <p:cNvPicPr/>
          <p:nvPr/>
        </p:nvPicPr>
        <p:blipFill>
          <a:blip r:embed="rId2"/>
          <a:stretch/>
        </p:blipFill>
        <p:spPr>
          <a:xfrm>
            <a:off x="5724360" y="1628640"/>
            <a:ext cx="316872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Ответы к УЭ4</a:t>
            </a:r>
            <a:br>
              <a:rPr sz="2000"/>
            </a:b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Критерии оценки: каждый правильный ответ </a:t>
            </a:r>
            <a:br>
              <a:rPr sz="2000"/>
            </a:b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на вопрос – 1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4360" y="1484280"/>
          <a:ext cx="4319280" cy="27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4319280" cy="27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211640" y="3284640"/>
          <a:ext cx="4470480" cy="267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3284640"/>
                    <a:ext cx="447048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Ответы к УЭ4</a:t>
            </a:r>
            <a:br>
              <a:rPr sz="20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54900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Точность жидкостного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термометра зависит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- размера резервуара (должен быть больше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- диаметра капиллярной трубки (должен быть меньш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-точности крепления вложенной шкалы (лучше палочны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4.   Рутный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точнее жидкостного 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ак как ртуть не смачивает стекло и диаметр капилляра можно сделать меньше, а значит точность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5. Жидкостный термометр точнее механическо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.к. в 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жидкостном молекулы более подвижны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, чем в механическом (там- в основе твердое тело), поэтому они быстрее  и точнее реагируют на изменение темп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6. Для увеличения чувствительности биметаллического термометра нужно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удлинить измерительную пласт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ехнологически, для уменьшения габарита прибора её сворачивают в спираль или винт (см. прибор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7. Выбор термометра расшир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для измерения температуры воздуха за ок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                                                     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би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-  питательной воды котла - 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ртутный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-  температуры сжиженного природного газа - 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спиртовой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Схема биметаллического термометра"/>
          <p:cNvPicPr/>
          <p:nvPr/>
        </p:nvPicPr>
        <p:blipFill>
          <a:blip r:embed="rId1"/>
          <a:stretch/>
        </p:blipFill>
        <p:spPr>
          <a:xfrm>
            <a:off x="7093080" y="4797360"/>
            <a:ext cx="152388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Маркировка термометров расши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583236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Жидкостны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ермомет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ТП  6  2  260/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Т – термометр технический рту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Т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Ж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- термометр технический  спирт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 или У –прямой или угл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ТП - ?      ТТ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Ж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-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6- диапазон температур (табли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С – цена 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60/100 габаритные размеры в 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Биметаллически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термомет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Б1(0-200)-1,5-80-10-М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,5 - класс 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80мм - длина термобалл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0 мм – диаметр термобалл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20 – резьба штуц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Теплоизмерительные приборы от компании ПромТэк (Челябинск) Прайс-лист Теплоизмерительные приборы."/>
          <p:cNvPicPr/>
          <p:nvPr/>
        </p:nvPicPr>
        <p:blipFill>
          <a:blip r:embed="rId1"/>
          <a:srcRect l="65670" t="20238" r="0" b="14044"/>
          <a:stretch/>
        </p:blipFill>
        <p:spPr>
          <a:xfrm>
            <a:off x="6084720" y="907920"/>
            <a:ext cx="2614680" cy="3097440"/>
          </a:xfrm>
          <a:prstGeom prst="rect">
            <a:avLst/>
          </a:prstGeom>
          <a:ln w="0">
            <a:noFill/>
          </a:ln>
        </p:spPr>
      </p:pic>
      <p:pic>
        <p:nvPicPr>
          <p:cNvPr id="64" name="bt-m" descr="монтаж термометров биметаллических БТ, рекомендации - ЗАО Промприбор (биметаллический термометр БТ, монтаж, установка, термометр"/>
          <p:cNvPicPr/>
          <p:nvPr/>
        </p:nvPicPr>
        <p:blipFill>
          <a:blip r:embed="rId2"/>
          <a:srcRect l="12747" t="3255" r="13431" b="2474"/>
          <a:stretch/>
        </p:blipFill>
        <p:spPr>
          <a:xfrm>
            <a:off x="6372360" y="4149720"/>
            <a:ext cx="261756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Ответы к УЭ5</a:t>
            </a:r>
            <a:br>
              <a:rPr sz="2400"/>
            </a:br>
            <a:r>
              <a:rPr b="1" lang="en-US" sz="2000" spc="-1" strike="noStrike">
                <a:solidFill>
                  <a:srgbClr val="996633"/>
                </a:solidFill>
                <a:latin typeface="Arial"/>
                <a:ea typeface="Times New Roman"/>
              </a:rPr>
              <a:t>Критерии оценки: каждый правильный ответ на вопрос – 1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5976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. Из марки термометра  можно узн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-диапазон измер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-цену дел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-класс то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2. В марке указывают габаритные размеры приб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В жидкостных -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размеры верхней и нижней частей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-  для определения диаметра трубопровода (нижняя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ля определения свободного места сверху (верхняя) и подбора опра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В биметаллически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- длина погружения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термобаллона - для определения диаметра трубопро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- диаметр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термобаллона,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резьба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на термобаллоне - для изготовления бобыш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Теплоизмерительные приборы от компании ПромТэк (Челябинск) Прайс-лист Теплоизмерительные приборы."/>
          <p:cNvPicPr/>
          <p:nvPr/>
        </p:nvPicPr>
        <p:blipFill>
          <a:blip r:embed="rId1"/>
          <a:srcRect l="65670" t="20238" r="0" b="14044"/>
          <a:stretch/>
        </p:blipFill>
        <p:spPr>
          <a:xfrm>
            <a:off x="5867280" y="907920"/>
            <a:ext cx="2614680" cy="3097440"/>
          </a:xfrm>
          <a:prstGeom prst="rect">
            <a:avLst/>
          </a:prstGeom>
          <a:ln w="0">
            <a:noFill/>
          </a:ln>
        </p:spPr>
      </p:pic>
      <p:pic>
        <p:nvPicPr>
          <p:cNvPr id="68" name="bt-m" descr="монтаж термометров биметаллических БТ, рекомендации - ЗАО Промприбор (биметаллический термометр БТ, монтаж, установка, термометр"/>
          <p:cNvPicPr/>
          <p:nvPr/>
        </p:nvPicPr>
        <p:blipFill>
          <a:blip r:embed="rId2"/>
          <a:srcRect l="12747" t="3255" r="13431" b="2474"/>
          <a:stretch/>
        </p:blipFill>
        <p:spPr>
          <a:xfrm>
            <a:off x="6372360" y="4149720"/>
            <a:ext cx="261756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Ответы к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УЭ5</a:t>
            </a:r>
            <a:br>
              <a:rPr sz="2400"/>
            </a:b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Критерии оценки: каждый правильный ответ на вопрос – 1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2447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ариант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</a:rPr>
              <a:t>Задание №1: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термометр технический прямой, ртутны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иапазон №2 (-35 до +50˚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цена деления 1˚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ерхняя часть- 230 м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ижняя -163 м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ельзя, т.к. в системе отопления +95˚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</a:rPr>
              <a:t>Задание №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= 300 м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лина гильзы 160 м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гильза перпендикулярна оси труб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</a:rPr>
              <a:t>Задание №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Т.к. на входе в теплопункт могут быть температуры 130˚С или 150˚С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то возможно выбра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ртутный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термометр ТТП диапазона №5 (0-160˚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жидкостный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термометр ТТЖ диапазона №6 (0-200˚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2360" y="1125000"/>
            <a:ext cx="3960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ариант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</a:rPr>
              <a:t>Задание №1: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термометр технический прямой, жидкост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иапазон №4 (-35 до +50˚С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цена деления 0,5˚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ерхняя часть- 230 м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ижняя - 66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ожно, т.к. в системе ГВС +60˚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</a:rPr>
              <a:t>Задание №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= 125 м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лина гильзы 60 м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гильза с наклоном 45˚ к оси трубы, навстречу пото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</a:rPr>
              <a:t>Задание №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Т.к. в бассейне могут быть температуры 15˚С - 35˚С,  т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жидкостный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термометр в гильзе  ТТМКУ диапазона №2  (-35…+50˚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-биметаллический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термометр ТБ-1 диапазона  (0-60˚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6T19:50:23Z</dcterms:created>
  <dc:creator>Second</dc:creator>
  <dc:description/>
  <dc:language>en-US</dc:language>
  <cp:lastModifiedBy>Tat</cp:lastModifiedBy>
  <dcterms:modified xsi:type="dcterms:W3CDTF">2015-10-19T03:17:49Z</dcterms:modified>
  <cp:revision>25</cp:revision>
  <dc:subject/>
  <dc:title>Слайд 1</dc:title>
</cp:coreProperties>
</file>