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10.png" ContentType="image/png"/>
  <Override PartName="/ppt/media/image9.png" ContentType="image/png"/>
  <Override PartName="/ppt/media/image7.png" ContentType="image/png"/>
  <Override PartName="/ppt/media/image12.jpeg" ContentType="image/jpeg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6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D0E1A-EA21-40A6-8AB3-BB7EBCDF4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4E2C4-944F-4461-A40A-ABF9FF0BF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90CF6-9C4A-471A-8509-8E0BE5DDA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45938-8F3D-4CE3-91BD-DBD6DEFFF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891DA-AA48-4530-86DB-69BFC9FBB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55668-DFB6-4180-8730-508AADDB8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9C0E9-5F8C-41F1-8F02-DE9B096A2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87A8B-6C89-4570-A9FD-7762F852D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6230F-ADD0-4F9E-8350-D72C91407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9126D-9B8D-4989-8D02-6D363AB8E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68149-EB74-4965-AFF6-4D0C32D78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F1322-A328-41B5-B7E0-6C5385EB0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E2623-1F29-4922-96E1-52D10E0E85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80640"/>
            <a:ext cx="777240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99"/>
                </a:solidFill>
                <a:latin typeface="Arial"/>
              </a:rPr>
              <a:t>модульный урок</a:t>
            </a:r>
            <a:br>
              <a:rPr sz="3200"/>
            </a:br>
            <a:br>
              <a:rPr sz="3200"/>
            </a:br>
            <a:r>
              <a:rPr b="1" i="1" lang="en-US" sz="3200" spc="-1" strike="noStrike">
                <a:solidFill>
                  <a:srgbClr val="333399"/>
                </a:solidFill>
                <a:latin typeface="Arial"/>
              </a:rPr>
              <a:t>«</a:t>
            </a:r>
            <a:r>
              <a:rPr b="1" i="1" lang="en-US" sz="4000" spc="-1" strike="noStrike">
                <a:solidFill>
                  <a:srgbClr val="333399"/>
                </a:solidFill>
                <a:latin typeface="Arial"/>
              </a:rPr>
              <a:t>Термометры расширения, манометрические термометры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68360" y="4723920"/>
            <a:ext cx="655344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3300"/>
                </a:solidFill>
                <a:latin typeface="Arial"/>
              </a:rPr>
              <a:t>«Скажи мне – и я забуду. Покажи мне – и я запомню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3300"/>
                </a:solidFill>
                <a:latin typeface="Arial"/>
              </a:rPr>
              <a:t>Дай мне действовать самому – и я научусь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Конфуц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около 551 -479 лет до н.э.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древнекитайский мыслитель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Arial"/>
              </a:rPr>
              <a:t>Ответы к 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УЭ5</a:t>
            </a:r>
            <a:br>
              <a:rPr sz="2400"/>
            </a:br>
            <a:r>
              <a:rPr b="1" lang="en-US" sz="2000" spc="-1" strike="noStrike">
                <a:solidFill>
                  <a:srgbClr val="808080"/>
                </a:solidFill>
                <a:latin typeface="Arial"/>
                <a:ea typeface="Times New Roman"/>
              </a:rPr>
              <a:t>Критерии оценки: каждый правильный ответ на вопрос – 1 бал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78920" y="1341000"/>
            <a:ext cx="496908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Вариант 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99"/>
                </a:solidFill>
                <a:uFillTx/>
                <a:latin typeface="Arial"/>
              </a:rPr>
              <a:t>Задание №1:</a:t>
            </a: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термометр технический угловой,  ртутный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диапазон №9 (-0 до +400˚С)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цена деления 5˚С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верхняя часть- 260 мм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нижняя -201 мм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Нельзя, т.к. в системе его диапазон выш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-50˚С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99"/>
                </a:solidFill>
                <a:uFillTx/>
                <a:latin typeface="Arial"/>
              </a:rPr>
              <a:t>Задание №2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</a:t>
            </a: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у= 400 мм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длина гильзы 200 мм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гильза перпендикулярно оси труб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99"/>
                </a:solidFill>
                <a:uFillTx/>
                <a:latin typeface="Arial"/>
              </a:rPr>
              <a:t>Задание №3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Т.к. на выходе из топки могут бы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температуры 300˚С выше,  то возможно выбрать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-</a:t>
            </a:r>
            <a:r>
              <a:rPr b="0" i="1" lang="ru-RU" sz="1600" spc="-1" strike="noStrike">
                <a:solidFill>
                  <a:srgbClr val="000099"/>
                </a:solidFill>
                <a:latin typeface="Arial"/>
              </a:rPr>
              <a:t>ртутный</a:t>
            </a: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 термометр ТТУ диапазона №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(0-450˚С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Чтобы узнать какая погода сейчас в Красноярске, зайди на сайт &quot;Городских новостей&quot; - Новости Красноярска - &quot;Городские новости&quot;."/>
          <p:cNvPicPr/>
          <p:nvPr/>
        </p:nvPicPr>
        <p:blipFill>
          <a:blip r:embed="rId1"/>
          <a:stretch/>
        </p:blipFill>
        <p:spPr>
          <a:xfrm>
            <a:off x="5364000" y="2344680"/>
            <a:ext cx="3322800" cy="332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Ответы к УЭ7</a:t>
            </a:r>
            <a:br>
              <a:rPr sz="2400"/>
            </a:br>
            <a:r>
              <a:rPr b="1" lang="en-US" sz="2000" spc="-1" strike="noStrike">
                <a:solidFill>
                  <a:srgbClr val="996633"/>
                </a:solidFill>
                <a:latin typeface="Arial"/>
                <a:ea typeface="Times New Roman"/>
              </a:rPr>
              <a:t>Критерии оценки: каждый правильный ответ на вопрос – 1 бал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50560" y="3357360"/>
            <a:ext cx="8713800" cy="31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28120" indent="-528120">
              <a:spcBef>
                <a:spcPts val="601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Чем манометрическая пружина похожа на обычную и чем отличается от неё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Общее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: обе пружины  обладают упругостью, т.е. после приложения силы пружина растягивается, а после   снятия пружина сжимаетс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Отличаются: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обычная пружина полностью из проволоки, а манометрическая-это пустотелая трубка овального сеч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IMG_14861" descr="Блог слесаря-ремонтника и механика по наладке оборудования &quot; Конструкционные элементы"/>
          <p:cNvPicPr/>
          <p:nvPr/>
        </p:nvPicPr>
        <p:blipFill>
          <a:blip r:embed="rId1"/>
          <a:stretch/>
        </p:blipFill>
        <p:spPr>
          <a:xfrm>
            <a:off x="1692360" y="1197000"/>
            <a:ext cx="1512720" cy="2016000"/>
          </a:xfrm>
          <a:prstGeom prst="rect">
            <a:avLst/>
          </a:prstGeom>
          <a:ln w="0">
            <a:noFill/>
          </a:ln>
        </p:spPr>
      </p:pic>
      <p:pic>
        <p:nvPicPr>
          <p:cNvPr id="78" name="5142e7a84ffdaa1ad8f45bca" descr="Проволока пружина ГС.01.500.011 цена, купить, оптом Строительные товары стоимость, описание, розница - Москва, СПб, Сочи Оптовые"/>
          <p:cNvPicPr/>
          <p:nvPr/>
        </p:nvPicPr>
        <p:blipFill>
          <a:blip r:embed="rId2"/>
          <a:srcRect l="13730" t="0" r="15856" b="0"/>
          <a:stretch/>
        </p:blipFill>
        <p:spPr>
          <a:xfrm>
            <a:off x="5508720" y="1413000"/>
            <a:ext cx="187164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Ответы к УЭ7</a:t>
            </a:r>
            <a:br>
              <a:rPr sz="2400"/>
            </a:br>
            <a:r>
              <a:rPr b="1" lang="en-US" sz="2000" spc="-1" strike="noStrike">
                <a:solidFill>
                  <a:srgbClr val="996633"/>
                </a:solidFill>
                <a:latin typeface="Arial"/>
                <a:ea typeface="Times New Roman"/>
              </a:rPr>
              <a:t>Критерии оценки: каждый правильный ответ на вопрос – 1 бал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2. Капилляр жидкостного манометрического термометра не желательно делать больше 10 метров, т.к.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жидкость в длинном капилляре остывает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, и давление внутри системы уменьшается, стрелка отклонится на меньшую величин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3. Для увеличения точности манометрического термометра нужно вместо 1 витка сделать 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несколько вит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image170" descr="Технологические измерения и приборы, страница 6"/>
          <p:cNvPicPr/>
          <p:nvPr/>
        </p:nvPicPr>
        <p:blipFill>
          <a:blip r:embed="rId1"/>
          <a:srcRect l="22376" t="4971" r="2864" b="0"/>
          <a:stretch/>
        </p:blipFill>
        <p:spPr>
          <a:xfrm>
            <a:off x="1547640" y="4653000"/>
            <a:ext cx="1784520" cy="2089080"/>
          </a:xfrm>
          <a:prstGeom prst="rect">
            <a:avLst/>
          </a:prstGeom>
          <a:ln w="0">
            <a:noFill/>
          </a:ln>
        </p:spPr>
      </p:pic>
      <p:pic>
        <p:nvPicPr>
          <p:cNvPr id="82" name="7d1fb57d211fd80114685fe2dbe34f9b" descr="БЕЛОРУССКИЙ ГОСУДРАСТВЕННЫЙ УНИВЕРСИТЕТ ИНФОРМАТИКИ И РАДИОЭ…"/>
          <p:cNvPicPr/>
          <p:nvPr/>
        </p:nvPicPr>
        <p:blipFill>
          <a:blip r:embed="rId2"/>
          <a:srcRect l="37443" t="23326" r="31083" b="24256"/>
          <a:stretch/>
        </p:blipFill>
        <p:spPr>
          <a:xfrm>
            <a:off x="4788000" y="4724280"/>
            <a:ext cx="3668760" cy="12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Ключ  к Тестовому заданию (УЭ 8)</a:t>
            </a:r>
            <a:br>
              <a:rPr sz="24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ритерии оценки: каждый правильный ответ на вопрос – 1 бал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395280" y="1413000"/>
            <a:ext cx="8507520" cy="50004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395280" y="1557360"/>
            <a:ext cx="8497800" cy="479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6699"/>
                </a:solidFill>
                <a:latin typeface="Arial"/>
              </a:rPr>
              <a:t>Спасибо  за  вашу самостоятельную работу на уроке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457200" y="2781000"/>
            <a:ext cx="8229600" cy="33447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Скачать песню андрей миронов"/>
          <p:cNvPicPr/>
          <p:nvPr/>
        </p:nvPicPr>
        <p:blipFill>
          <a:blip r:embed="rId2"/>
          <a:stretch/>
        </p:blipFill>
        <p:spPr>
          <a:xfrm>
            <a:off x="2627280" y="2781360"/>
            <a:ext cx="3552840" cy="32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3300"/>
                </a:solidFill>
                <a:latin typeface="Arial"/>
              </a:rPr>
              <a:t>Ответы к УЭ1</a:t>
            </a:r>
            <a:br>
              <a:rPr sz="2000"/>
            </a:br>
            <a:r>
              <a:rPr b="1" lang="en-US" sz="2000" spc="-1" strike="noStrike">
                <a:solidFill>
                  <a:srgbClr val="996633"/>
                </a:solidFill>
                <a:latin typeface="Arial"/>
              </a:rPr>
              <a:t>Критерии оценки: каждый правильный ответ </a:t>
            </a:r>
            <a:br>
              <a:rPr sz="2000"/>
            </a:br>
            <a:r>
              <a:rPr b="1" lang="en-US" sz="2000" spc="-1" strike="noStrike">
                <a:solidFill>
                  <a:srgbClr val="996633"/>
                </a:solidFill>
                <a:latin typeface="Arial"/>
              </a:rPr>
              <a:t>на вопрос – 1 бал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78920" y="1268280"/>
            <a:ext cx="8713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1. Температура - это степень нагретости тел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Степень нагретости зависит от скорости движения его молеку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Нет эталона скорости молекулы (т.к. нельзя за молекулой погнаться с секундомером), поэтому 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температура измеряется косвенным путем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2. Температура вещества 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измеряется при соприкосновении его с другим веществом, у которого меняются свойства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. А мы следим за изменением свойств второго вещества и определяем по шкале температуру первог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3.   Чувствительный элемент- Измерительный механизм-    Отсчетное устройство- Операт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4. Диапазон измерения, цена деления, класс точности, инерционность, чувствительно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5. 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Цена деления шкалы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- это  расстояние между ближайшими штрихами на шкале (выраженное, например,  в ˚С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УЭ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монтаж  жидкостных  термометров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rcRect l="0" t="2627" r="4082" b="27865"/>
          <a:stretch/>
        </p:blipFill>
        <p:spPr>
          <a:xfrm>
            <a:off x="539640" y="1268280"/>
            <a:ext cx="4753080" cy="27021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rcRect l="0" t="0" r="52656" b="0"/>
          <a:stretch/>
        </p:blipFill>
        <p:spPr>
          <a:xfrm>
            <a:off x="2484360" y="4149720"/>
            <a:ext cx="1784520" cy="21877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rcRect l="0" t="0" r="0" b="18530"/>
          <a:stretch/>
        </p:blipFill>
        <p:spPr>
          <a:xfrm>
            <a:off x="5508720" y="2133720"/>
            <a:ext cx="252396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8080"/>
                </a:solidFill>
                <a:latin typeface="Arial"/>
              </a:rPr>
              <a:t>Ответы к </a:t>
            </a:r>
            <a:r>
              <a:rPr b="1" lang="en-US" sz="2200" spc="-1" strike="noStrike">
                <a:solidFill>
                  <a:srgbClr val="ff6600"/>
                </a:solidFill>
                <a:latin typeface="Arial"/>
              </a:rPr>
              <a:t>УЭ2</a:t>
            </a:r>
            <a:br>
              <a:rPr sz="2000"/>
            </a:b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Критерии оценки: каждый правильный ответ </a:t>
            </a:r>
            <a:br>
              <a:rPr sz="2000"/>
            </a:b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на вопрос – 1 бал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50920" y="1413000"/>
            <a:ext cx="540072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99"/>
                </a:solidFill>
                <a:latin typeface="Arial"/>
              </a:rPr>
              <a:t>1. Гильза </a:t>
            </a:r>
            <a:r>
              <a:rPr b="1" lang="ru-RU" sz="2200" spc="-1" strike="noStrike">
                <a:solidFill>
                  <a:srgbClr val="000099"/>
                </a:solidFill>
                <a:latin typeface="Arial"/>
              </a:rPr>
              <a:t>защищает погружную</a:t>
            </a:r>
            <a:r>
              <a:rPr b="0" lang="ru-RU" sz="2200" spc="-1" strike="noStrike">
                <a:solidFill>
                  <a:srgbClr val="000099"/>
                </a:solidFill>
                <a:latin typeface="Arial"/>
              </a:rPr>
              <a:t> часть термометра от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99"/>
                </a:solidFill>
                <a:latin typeface="Arial"/>
              </a:rPr>
              <a:t>неблагоприятного воздействия среды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99"/>
                </a:solidFill>
                <a:latin typeface="Arial"/>
              </a:rPr>
              <a:t>скорости потока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99"/>
                </a:solidFill>
                <a:latin typeface="Arial"/>
              </a:rPr>
              <a:t>давления среды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i="1" lang="ru-RU" sz="2200" spc="-1" strike="noStrike">
                <a:solidFill>
                  <a:srgbClr val="000099"/>
                </a:solidFill>
                <a:latin typeface="Arial"/>
              </a:rPr>
              <a:t>Благодаря гильзе можно заменить прибор, не останавливая техпроцесс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99"/>
                </a:solidFill>
                <a:latin typeface="Arial"/>
              </a:rPr>
              <a:t>2. Гильза погружается в трубопровод до середины потока, т.к. </a:t>
            </a:r>
            <a:r>
              <a:rPr b="1" lang="ru-RU" sz="2200" spc="-1" strike="noStrike">
                <a:solidFill>
                  <a:srgbClr val="000099"/>
                </a:solidFill>
                <a:latin typeface="Arial"/>
              </a:rPr>
              <a:t>именно там реальная температура среды</a:t>
            </a:r>
            <a:r>
              <a:rPr b="0" lang="ru-RU" sz="2200" spc="-1" strike="noStrike">
                <a:solidFill>
                  <a:srgbClr val="000099"/>
                </a:solidFill>
                <a:latin typeface="Arial"/>
              </a:rPr>
              <a:t>, ближе к стенкам происходит охлаждени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rcRect l="0" t="0" r="0" b="18530"/>
          <a:stretch/>
        </p:blipFill>
        <p:spPr>
          <a:xfrm>
            <a:off x="6516720" y="3573360"/>
            <a:ext cx="1955880" cy="29512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Гильзы ГЛТ : Термометры : Датчики температуры, термометры и термопреобразователи : КИПиА нижний новгород,газовое оборудование,пр"/>
          <p:cNvPicPr/>
          <p:nvPr/>
        </p:nvPicPr>
        <p:blipFill>
          <a:blip r:embed="rId2"/>
          <a:stretch/>
        </p:blipFill>
        <p:spPr>
          <a:xfrm>
            <a:off x="5724360" y="1628640"/>
            <a:ext cx="3168720" cy="18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6600"/>
                </a:solidFill>
                <a:latin typeface="Arial"/>
              </a:rPr>
              <a:t>Ответы к УЭ4</a:t>
            </a:r>
            <a:br>
              <a:rPr sz="2000"/>
            </a:b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Критерии оценки: каждый правильный ответ </a:t>
            </a:r>
            <a:br>
              <a:rPr sz="2000"/>
            </a:b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на вопрос – 1 бал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684360" y="1484280"/>
          <a:ext cx="4319280" cy="27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484280"/>
                    <a:ext cx="4319280" cy="27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" name=""/>
          <p:cNvGraphicFramePr/>
          <p:nvPr/>
        </p:nvGraphicFramePr>
        <p:xfrm>
          <a:off x="4211640" y="3284640"/>
          <a:ext cx="4470480" cy="2676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11640" y="3284640"/>
                    <a:ext cx="4470480" cy="267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6600"/>
                </a:solidFill>
                <a:latin typeface="Arial"/>
              </a:rPr>
              <a:t>Ответы к УЭ4</a:t>
            </a:r>
            <a:br>
              <a:rPr sz="2000"/>
            </a:b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8000" y="549000"/>
            <a:ext cx="885672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80000"/>
              </a:lnSpc>
              <a:spcBef>
                <a:spcPts val="45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3. </a:t>
            </a: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Точность жидкостного</a:t>
            </a: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 термометра зависит о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- размера резервуара (должен быть больше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- диаметра капиллярной трубки (должен быть меньш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-точности крепления вложенной шкалы (лучше палочный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4.   Рутный </a:t>
            </a: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точнее жидкостного </a:t>
            </a: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так как ртуть не смачивает стекло и диаметр капилляра можно сделать меньше, а значит точность больш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5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5. Жидкостный термометр точнее механического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т.к. в  </a:t>
            </a: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жидкостном молекулы более подвижны</a:t>
            </a: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, чем в механическом (там- в основе твердое тело), поэтому они быстрее  и точнее реагируют на изменение температур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5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6. Для увеличения чувствительности биметаллического термометра нужно </a:t>
            </a: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удлинить измерительную пластин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Технологически, для уменьшения габарита прибора её сворачивают в спираль или винт (см. приборы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5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7. Выбор термометра расширен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51"/>
              </a:spcBef>
              <a:buClr>
                <a:srgbClr val="66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для измерения температуры воздуха за окн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                                                        </a:t>
            </a:r>
            <a:r>
              <a:rPr b="0" i="1" lang="ru-RU" sz="1800" spc="-1" strike="noStrike">
                <a:solidFill>
                  <a:srgbClr val="663300"/>
                </a:solidFill>
                <a:latin typeface="Arial"/>
              </a:rPr>
              <a:t>биметалличе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-  питательной воды котла - </a:t>
            </a:r>
            <a:r>
              <a:rPr b="0" i="1" lang="ru-RU" sz="1800" spc="-1" strike="noStrike">
                <a:solidFill>
                  <a:srgbClr val="663300"/>
                </a:solidFill>
                <a:latin typeface="Arial"/>
              </a:rPr>
              <a:t>ртутный</a:t>
            </a: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-  температуры сжиженного природного газа - </a:t>
            </a:r>
            <a:r>
              <a:rPr b="0" i="1" lang="ru-RU" sz="1800" spc="-1" strike="noStrike">
                <a:solidFill>
                  <a:srgbClr val="663300"/>
                </a:solidFill>
                <a:latin typeface="Arial"/>
              </a:rPr>
              <a:t>спиртовой</a:t>
            </a: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Схема биметаллического термометра"/>
          <p:cNvPicPr/>
          <p:nvPr/>
        </p:nvPicPr>
        <p:blipFill>
          <a:blip r:embed="rId1"/>
          <a:stretch/>
        </p:blipFill>
        <p:spPr>
          <a:xfrm>
            <a:off x="7093080" y="4797360"/>
            <a:ext cx="1523880" cy="12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cc"/>
                </a:solidFill>
                <a:latin typeface="Arial"/>
              </a:rPr>
              <a:t>Маркировка термометров расшир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23640" y="764640"/>
            <a:ext cx="583236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333399"/>
                </a:solidFill>
                <a:uFillTx/>
                <a:latin typeface="Arial"/>
              </a:rPr>
              <a:t>Жидкостные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термометр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ТТП  6  2  260/1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ТТ – термометр технический ртут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ТТ</a:t>
            </a: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Ж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 - термометр технический  спиртов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П или У –прямой или углов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                                      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ТТП - ?      ТТ</a:t>
            </a: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Ж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У-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6- диапазон температур (таблиц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°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  <a:ea typeface="Arial"/>
              </a:rPr>
              <a:t>С – цена де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260/100 габаритные размеры в м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333399"/>
                </a:solidFill>
                <a:uFillTx/>
                <a:latin typeface="Arial"/>
              </a:rPr>
              <a:t>Биметаллические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термометр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ТБ1(0-200)-1,5-80-10-М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1,5 - класс точ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80мм - длина термобалло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10 мм – диаметр термобалло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М20 – резьба штуце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Теплоизмерительные приборы от компании ПромТэк (Челябинск) Прайс-лист Теплоизмерительные приборы."/>
          <p:cNvPicPr/>
          <p:nvPr/>
        </p:nvPicPr>
        <p:blipFill>
          <a:blip r:embed="rId1"/>
          <a:srcRect l="65670" t="20238" r="0" b="14044"/>
          <a:stretch/>
        </p:blipFill>
        <p:spPr>
          <a:xfrm>
            <a:off x="6084720" y="907920"/>
            <a:ext cx="2614680" cy="3097440"/>
          </a:xfrm>
          <a:prstGeom prst="rect">
            <a:avLst/>
          </a:prstGeom>
          <a:ln w="0">
            <a:noFill/>
          </a:ln>
        </p:spPr>
      </p:pic>
      <p:pic>
        <p:nvPicPr>
          <p:cNvPr id="64" name="bt-m" descr="монтаж термометров биметаллических БТ, рекомендации - ЗАО Промприбор (биметаллический термометр БТ, монтаж, установка, термометр"/>
          <p:cNvPicPr/>
          <p:nvPr/>
        </p:nvPicPr>
        <p:blipFill>
          <a:blip r:embed="rId2"/>
          <a:srcRect l="12747" t="3255" r="13431" b="2474"/>
          <a:stretch/>
        </p:blipFill>
        <p:spPr>
          <a:xfrm>
            <a:off x="6372360" y="4149720"/>
            <a:ext cx="2617560" cy="25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Ответы к УЭ5</a:t>
            </a:r>
            <a:br>
              <a:rPr sz="2400"/>
            </a:br>
            <a:r>
              <a:rPr b="1" lang="en-US" sz="2000" spc="-1" strike="noStrike">
                <a:solidFill>
                  <a:srgbClr val="996633"/>
                </a:solidFill>
                <a:latin typeface="Arial"/>
                <a:ea typeface="Times New Roman"/>
              </a:rPr>
              <a:t>Критерии оценки: каждый правильный ответ на вопрос – 1 бал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24000" y="1052640"/>
            <a:ext cx="597672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1. Из марки термометра  можно узнать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-диапазон измерени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-цену делени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-класс точ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2. В марке указывают габаритные размеры прибо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333399"/>
                </a:solidFill>
                <a:latin typeface="Arial"/>
              </a:rPr>
              <a:t>В жидкостных -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1800" spc="-1" strike="noStrike" u="sng">
                <a:solidFill>
                  <a:srgbClr val="333399"/>
                </a:solidFill>
                <a:uFillTx/>
                <a:latin typeface="Arial"/>
              </a:rPr>
              <a:t>размеры верхней и нижней частей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-  для определения диаметра трубопровода (нижняя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для определения свободного места сверху (верхняя) и подбора оправ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99"/>
                </a:solidFill>
                <a:latin typeface="Arial"/>
              </a:rPr>
              <a:t>В биметаллических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333399"/>
                </a:solidFill>
                <a:uFillTx/>
                <a:latin typeface="Arial"/>
              </a:rPr>
              <a:t>- длина погружения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 термобаллона - для определения диаметра трубопров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333399"/>
                </a:solidFill>
                <a:uFillTx/>
                <a:latin typeface="Arial"/>
              </a:rPr>
              <a:t>- диаметр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 термобаллона, </a:t>
            </a:r>
            <a:r>
              <a:rPr b="1" lang="ru-RU" sz="1800" spc="-1" strike="noStrike" u="sng">
                <a:solidFill>
                  <a:srgbClr val="333399"/>
                </a:solidFill>
                <a:uFillTx/>
                <a:latin typeface="Arial"/>
              </a:rPr>
              <a:t>резьба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 на термобаллоне - для изготовления бобыш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Теплоизмерительные приборы от компании ПромТэк (Челябинск) Прайс-лист Теплоизмерительные приборы."/>
          <p:cNvPicPr/>
          <p:nvPr/>
        </p:nvPicPr>
        <p:blipFill>
          <a:blip r:embed="rId1"/>
          <a:srcRect l="65670" t="20238" r="0" b="14044"/>
          <a:stretch/>
        </p:blipFill>
        <p:spPr>
          <a:xfrm>
            <a:off x="5867280" y="907920"/>
            <a:ext cx="2614680" cy="3097440"/>
          </a:xfrm>
          <a:prstGeom prst="rect">
            <a:avLst/>
          </a:prstGeom>
          <a:ln w="0">
            <a:noFill/>
          </a:ln>
        </p:spPr>
      </p:pic>
      <p:pic>
        <p:nvPicPr>
          <p:cNvPr id="68" name="bt-m" descr="монтаж термометров биметаллических БТ, рекомендации - ЗАО Промприбор (биметаллический термометр БТ, монтаж, установка, термометр"/>
          <p:cNvPicPr/>
          <p:nvPr/>
        </p:nvPicPr>
        <p:blipFill>
          <a:blip r:embed="rId2"/>
          <a:srcRect l="12747" t="3255" r="13431" b="2474"/>
          <a:stretch/>
        </p:blipFill>
        <p:spPr>
          <a:xfrm>
            <a:off x="6372360" y="4149720"/>
            <a:ext cx="2617560" cy="25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Arial"/>
              </a:rPr>
              <a:t>Ответы к 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УЭ5</a:t>
            </a:r>
            <a:br>
              <a:rPr sz="2400"/>
            </a:br>
            <a:r>
              <a:rPr b="1" lang="en-US" sz="2000" spc="-1" strike="noStrike">
                <a:solidFill>
                  <a:srgbClr val="808080"/>
                </a:solidFill>
                <a:latin typeface="Arial"/>
                <a:ea typeface="Times New Roman"/>
              </a:rPr>
              <a:t>Критерии оценки: каждый правильный ответ на вопрос – 1 бал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50560" y="1267920"/>
            <a:ext cx="424476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Вариант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333399"/>
                </a:solidFill>
                <a:uFillTx/>
                <a:latin typeface="Arial"/>
              </a:rPr>
              <a:t>Задание №1:</a:t>
            </a: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термометр технический прямой, ртутный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диапазон №2 (-35 до +50˚С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цена деления 1˚С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верхняя часть- 230 мм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нижняя -163 мм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Нельзя, т.к. в системе отопления +95˚С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333399"/>
                </a:solidFill>
                <a:uFillTx/>
                <a:latin typeface="Arial"/>
              </a:rPr>
              <a:t>Задание №2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D</a:t>
            </a: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у= 300 мм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длина гильзы 160 мм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гильза перпендикулярна оси труб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333399"/>
                </a:solidFill>
                <a:uFillTx/>
                <a:latin typeface="Arial"/>
              </a:rPr>
              <a:t>Задание №3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Т.к. на входе в теплопункт могут быть температуры 130˚С или 150˚С,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то возможно выбрать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-</a:t>
            </a:r>
            <a:r>
              <a:rPr b="0" i="1" lang="ru-RU" sz="1600" spc="-1" strike="noStrike">
                <a:solidFill>
                  <a:srgbClr val="333399"/>
                </a:solidFill>
                <a:latin typeface="Arial"/>
              </a:rPr>
              <a:t>ртутный </a:t>
            </a: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термометр ТТП диапазона №5 (0-160˚С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-</a:t>
            </a:r>
            <a:r>
              <a:rPr b="0" i="1" lang="ru-RU" sz="1600" spc="-1" strike="noStrike">
                <a:solidFill>
                  <a:srgbClr val="333399"/>
                </a:solidFill>
                <a:latin typeface="Arial"/>
              </a:rPr>
              <a:t>жидкостный </a:t>
            </a: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термометр ТТЖ диапазона №6 (0-200˚С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32360" y="1125000"/>
            <a:ext cx="396072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Вариант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333399"/>
                </a:solidFill>
                <a:uFillTx/>
                <a:latin typeface="Arial"/>
              </a:rPr>
              <a:t>Задание №1:</a:t>
            </a: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термометр технический прямой, жидкостный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диапазон №4 (-35 до +50˚С)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цена деления 0,5˚С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верхняя часть- 230 мм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нижняя - 66 м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Можно, т.к. в системе ГВС +60˚С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333399"/>
                </a:solidFill>
                <a:uFillTx/>
                <a:latin typeface="Arial"/>
              </a:rPr>
              <a:t>Задание №2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D</a:t>
            </a: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у= 125 мм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длина гильзы 60 мм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гильза с наклоном 45˚ к оси трубы, навстречу поток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333399"/>
                </a:solidFill>
                <a:uFillTx/>
                <a:latin typeface="Arial"/>
              </a:rPr>
              <a:t>Задание №3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Т.к. в бассейне могут быть температуры 15˚С - 35˚С,  т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-</a:t>
            </a:r>
            <a:r>
              <a:rPr b="0" i="1" lang="ru-RU" sz="1600" spc="-1" strike="noStrike">
                <a:solidFill>
                  <a:srgbClr val="333399"/>
                </a:solidFill>
                <a:latin typeface="Arial"/>
              </a:rPr>
              <a:t>жидкостный</a:t>
            </a: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 термометр в гильзе  ТТМКУ диапазона №2  (-35…+50˚С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333399"/>
                </a:solidFill>
                <a:latin typeface="Arial"/>
              </a:rPr>
              <a:t>-биметаллический </a:t>
            </a: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термометр ТБ-1 диапазона  (0-60˚С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06T19:50:23Z</dcterms:created>
  <dc:creator>Second</dc:creator>
  <dc:description/>
  <dc:language>en-US</dc:language>
  <cp:lastModifiedBy>Tat</cp:lastModifiedBy>
  <dcterms:modified xsi:type="dcterms:W3CDTF">2015-10-19T03:17:49Z</dcterms:modified>
  <cp:revision>25</cp:revision>
  <dc:subject/>
  <dc:title>Слайд 1</dc:title>
</cp:coreProperties>
</file>