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9874-AFDF-444B-95A8-921095470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DA1E-502C-49BB-AB82-BD170E4B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41F7-5CB3-420E-AD65-4DDD0133D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17D5-8CB8-4988-9EBB-CDB3D8D39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54A3-D9A9-4C8E-83A8-242FCE169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678E7-280B-4623-BD07-C6BB6636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A8C51-EE70-4930-A6DB-FEB04CE5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18A3-3C80-49BC-B0EB-5E618A3D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372E9-FB2E-427D-BAD1-6EF4DDDC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9209-0E73-42CF-A5A7-D775268F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7A5E-06C4-466F-B539-CB1E9591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4619-B0DF-4A43-B2AF-D50050D6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ECADF-F99B-4F29-8A91-70FEF9F0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41C5-3421-4D77-81D5-55F7D6F4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B76C-352D-4846-A8B4-3E13A629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B217-6690-4E66-94A1-851C870B7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BF83C-AA09-434A-9242-C7AAADD1D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4A53-AEF5-4EB3-9250-2C7B6ABC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0827-0597-4D55-9627-38FD4F58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5B3B-AA9D-49F3-B713-E3CBC0E8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6F38-1FEC-4DEC-9DAC-3B7380B8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4888-9DF4-4D2C-864B-39787A6F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B552-59C3-45BD-AF7D-57B8E6C6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15B9-10BF-4C0B-BE7F-2687F8A8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C4B7-0103-4D56-A9F2-9B832501CA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69CE-56AF-4B59-A334-AFA8491954A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8920" y="2130120"/>
            <a:ext cx="8496360" cy="201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Тема: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«Использование различных видов гимнастики как средства оздоровления детей»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мплекс пальчиковой гимнастики №1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льцы ловкими хотя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ыть у всех наших ребя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льцам мы сейчас поможем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пражне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редложи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1. «Барашки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льцы тянутся вперед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то из них сильней нажмет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потом они согнулис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барашки лбом столкнулис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2. «Венок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льцы, как венок, сплетем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ки вытянем потом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льцы выгнутся чуть-чут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х расслабить не забуд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barashki"/>
          <p:cNvPicPr/>
          <p:nvPr/>
        </p:nvPicPr>
        <p:blipFill>
          <a:blip r:embed="rId1"/>
          <a:stretch/>
        </p:blipFill>
        <p:spPr>
          <a:xfrm>
            <a:off x="5643720" y="2643120"/>
            <a:ext cx="2500200" cy="22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мплекс пальчиковой гимнастики №2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1. «Драконы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ва дракона прилетел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ять голов они имел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лько сели эти братц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азу начали бодаться.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2. «Друзья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льчик к пальчику приходи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руга он себе находи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дут пальчики дружить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гости часто приходить.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3. «Петушок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столу шел петушок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верху – красный гребешок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низу – коготки на лапках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порви, дружок, тетрадк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Рисунок1"/>
          <p:cNvPicPr/>
          <p:nvPr/>
        </p:nvPicPr>
        <p:blipFill>
          <a:blip r:embed="rId1"/>
          <a:stretch/>
        </p:blipFill>
        <p:spPr>
          <a:xfrm>
            <a:off x="5580000" y="2421000"/>
            <a:ext cx="259236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136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Физкультминутки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 применяются с целью предупреждения утомления из занятиях, связанных с длительным сидением в однообразной позе, требующих сосредоточенного внимания и поддержания умственной работоспособности детей на хорошем уровн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Физкультминутку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 можно проводить в форме общеразвивающих упражнений, подвижной игры, дидактической игры с движением, танцевального движения, выполнения движений под текст стихотворения, а также в виде любого двигательного действ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зад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424720" cy="53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Общеразвивающие упражнения для физминуток использую для разных групп мышц (3-4 упражнения), физминутку  заканчиваю прыжками, бегом на месте или ходьб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При использовании 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физкультминутки,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 сопровождающейся текстом стихотворения, беру стихи с четким ритмом, так как под них легче выполнять разнообразные движ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b7"/>
                </a:solidFill>
                <a:latin typeface="Arial Black"/>
              </a:rPr>
              <a:t>КОМПЛЕКС УПРАЖНЕНИЙ ГИМНАСТИКИ ДЛЯ ГЛАЗ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Быстро поморгать, закрыть глаза и посидеть спокойно, медленно считая до 5. Повторить 4–5 раз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Крепко зажмурить глаза (считать до 3), открыть глаза и посмотреть вдаль (считать до 5). Повторить 4–5 раз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ытянуть правую руку вперед. Следить глазами, не поворачивая головы, за медленными движениями указательного пальца вытянутой руки влево и вправо, вверх и вниз. Повторить 4–5 раз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смотреть на указательный палец вытянутой руки на счет 1–4, потом перевести взор вдаль на счет 1–6. Повторить 4–5 раз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среднем темпе проделать 3–4 круговых движения глазами в правую сторону, столько же в левую сторону. Расслабив глазные мышцы, посмотреть вдаль на счет 1–6. Повторить 1–2 раз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b7"/>
                </a:solidFill>
                <a:latin typeface="Arial Black"/>
              </a:rPr>
              <a:t>ФМ ДЛЯ СНЯТИЯ УТОМЛЕНИЯ С ПЛЕЧЕВОГО ПОЯСА И РУК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сходное положение – стоя или сидя, руки на поясе. 1–2. Правую руку вперед, левую вверх. 3–4. Переменить положение рук. Повторить 3–4 раза, затем расслабленно опустить вниз и потрясти кистями, голову наклонить вперед. Темп средн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сходное положение – стоя или сидя, кисти тыльной стороной на поясе. 1–2. Свести локти вперед, голову наклонить вперед. 3–4. Локти отвести назад, прогнуться. Повторить 6–8 раз, затем опустить руки вниз и потрясти расслабленно. Темп медленны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сходное положение – сидя. 1–2. Поднять руки через стороны вверх. 3–4. Сжать кисти рук в кулак. Разжать кисти рук. Повторить 6–8 раз, затем руки расслабленно опустить вниз и потрясти кистями. Темп средн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b7"/>
                </a:solidFill>
                <a:latin typeface="Arial Black"/>
              </a:rPr>
              <a:t>ФМ ДЛЯ УЛУЧШЕНИЯ МОЗГОВОГО КРОВООБРАЩЕНИЯ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сходное положение – сидя на стуле. 1–2. Плавно наклонить голову назад, наклонить голову вперед, не поднимая плеч. Повторить 4–6 раз. Темп медленны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сходное положение – сидя, руки на поясе. 1. Поворот головы вправо. 2. Исходное положение. 3. Поворот головы влево. 4. Исходное положение. Повторить 6–8 раз. Темп медленны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сходное положение – стоя или сидя, руки на поясе. 1–2. Взмахом левую руку занести через правое плечо, голову повернуть влев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сходное положение. 4–5. То же повторить правой рукой, поворачивая голову вправо. 6. Исходное положение. Повторить 4–6 раз. Темп медленны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b7"/>
                </a:solidFill>
                <a:latin typeface="Arial Black"/>
              </a:rPr>
              <a:t>ФМ ОБЩЕГО ВОЗДЕЙСТВИЯ ДЛЯ РАЗНЫХ ГРУПП МЫШЦ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сходное положение – стойка ноги врозь, руки за голову. 1. Резко повернуть таз вправо. 2. Резко повернуть таз влево. Во время поворотов плечевой пояс оставить неподвижным. Повторить 6–8 раз. Темп средн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сходное положение – стойка ноги врозь, руки за голову. 1–3. Сделать круговое движение тазом в одну сторону. 4–6. То же в другую сторону. 7–8. Опустить руки вниз и расслабленно потрясти кистями. Повторить 4–6 раз. Темп средн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сходное положение – стойка ноги врозь. 1–2. Сделать наклон вперед, правая рука скользит вдоль тела вниз, левая вдоль тела вверх. 3–4. Исходное положение. 5–8. То же в другую сторону. Повторить 6–8 раз. Темп средн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66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6" descr="kolobok"/>
          <p:cNvPicPr/>
          <p:nvPr/>
        </p:nvPicPr>
        <p:blipFill>
          <a:blip r:embed="rId1"/>
          <a:stretch/>
        </p:blipFill>
        <p:spPr>
          <a:xfrm>
            <a:off x="0" y="2924280"/>
            <a:ext cx="454644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9640" y="907560"/>
            <a:ext cx="795672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«Во всех случаях, когда можно обойтись без лекарств, надо это делать. Безлекарственное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выздоровление выгоднее для больного: в успешной борьбе с недугом крепнут, закаляются защитные силы организма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Arial"/>
              </a:rPr>
              <a:t>(Академик Б.Е.Вотчал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00000" y="475920"/>
            <a:ext cx="7128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Фундаментальные исследования А.М.Фонарева, показали,, что двигательная активность теснейшим образом связана с развитием речевой функции и функциональным состоянием мозга, с общей жизнедеятельностью ребенк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136160" y="692280"/>
            <a:ext cx="768348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Сотрудники института физиологии детей и подростков установили, что уровень развития речи детей находится</a:t>
            </a:r>
            <a:r>
              <a:rPr b="0" i="1" lang="ru-RU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в прямой зависимости от степени сформированности тонких движений пальцев рук. Развитие мелкой моторики руки имеет большое значение для общего физического и психического развития ребенка на протяжении всего школьного детств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4360" y="981000"/>
            <a:ext cx="80071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Активно участвуя в возникновении образов воображения, движущиеся</a:t>
            </a:r>
            <a:r>
              <a:rPr b="0" i="1" lang="ru-RU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руки способны в буквальном смысле слова приоткрыть дверь в завтрашний день ребенка и</a:t>
            </a:r>
            <a:r>
              <a:rPr b="0" i="1" lang="ru-RU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в этом поможет использование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альчиковой гимнастики</a:t>
            </a: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- комплекса упражнений  для развития и совершенствования «тонких» движений пальцев  рук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136520" y="1268280"/>
            <a:ext cx="732312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Доказано, что на ладони расположены биологические  точки воздействия на внутренние органы. Массируя и сжимая ладонь и пальчики, мы улучшаем их работу и восстанавливаем защитные функции организма. Такие манипуляции активизируют речевые навыки, влияют на письменность. Пальчиковые игры для детей не только положительно влияют на динамику развития, но и отлично повышают настро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136160" y="907560"/>
            <a:ext cx="76122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Ритмичные движения пальцами очень нравятся детям. С помощью пальцев можно разговаривать с людьми. Никогда не нужно принуждать детей к участию в игре. Игры пальцами очень заразительны, дети сами захотят играть в ни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»Пальчиковая гимнастика «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77058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 окне цветок колючи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(Показать прямоугольник перед собой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мотрит за околиц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(Сделать «бинокль»из ладошек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 его не троньте лучш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(Погрозить пальчиком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чень больно колется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stishok-podzaryadka"/>
          <p:cNvPicPr/>
          <p:nvPr/>
        </p:nvPicPr>
        <p:blipFill>
          <a:blip r:embed="rId1"/>
          <a:stretch/>
        </p:blipFill>
        <p:spPr>
          <a:xfrm>
            <a:off x="5619600" y="0"/>
            <a:ext cx="352440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0643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сна идё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орех взобрался Миш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имитация взбирания на дерево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 ветки даль ему вид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Ладошку приставить «козырьком» ко лб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отрит на холмы и крыши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рукой сделать волнообразное движение, а затем сложить руки над головой –«крыша»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 идёт ли к нам весн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Ходьба на мест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 деревней, за долин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посмотреть влево, посмотреть вправо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де прозрачен небосво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показать руками небо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лин увидев журавли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сомкнуть кончики пальцев вытянутых перед собой рук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ричал: «Весна идёт!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Вскинуть руки вверх- в сторон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4" descr="Рисунок8"/>
          <p:cNvPicPr/>
          <p:nvPr/>
        </p:nvPicPr>
        <p:blipFill>
          <a:blip r:embed="rId1"/>
          <a:stretch/>
        </p:blipFill>
        <p:spPr>
          <a:xfrm>
            <a:off x="6012000" y="333360"/>
            <a:ext cx="2736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06:55:29Z</dcterms:created>
  <dc:creator>207</dc:creator>
  <dc:description/>
  <dc:language>en-US</dc:language>
  <cp:lastModifiedBy>user</cp:lastModifiedBy>
  <dcterms:modified xsi:type="dcterms:W3CDTF">2018-04-03T05:17:34Z</dcterms:modified>
  <cp:revision>4</cp:revision>
  <dc:subject/>
  <dc:title>Тема: «Использование различных видов гимнастики как средства оздоровления детей».</dc:title>
</cp:coreProperties>
</file>