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20A-91EE-465F-99DD-ABF90652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E95-246F-4924-A869-23BC95F2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812-ECEE-410D-A3D5-5FFCB7EF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DC18-32A0-47F6-A02B-02BD568F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8A72-09A3-4B5B-9333-9C70D9D5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0CCE-C4DE-4106-A3F6-FFFA652F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A642-AD7E-4EA0-A9F6-9F8C6E6F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7632-395B-4B18-9964-2BB34D3F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3324-A681-498A-8A51-E75A5B11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C4B9-7E1C-4325-8DC7-EEF8C6EF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8879-44C1-43FD-B774-14C1F072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2854-8E93-46FE-BA17-91CA81FE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0B8B-546D-47D7-B35C-8B2CF269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5016-7AAE-45E2-85D9-60FC5FFF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4CB0-651C-4D13-9C11-E41D513C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E150-A3B4-45A0-B02B-A53D1B92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AA3B-4661-40FC-B297-9EA85A3B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FB8-F702-4C72-8A54-10D71773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8CBB-3E35-481F-87A6-A570EEB0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7B5-F445-491B-B6F4-C12AC27F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98D-E1E9-4E56-BEF2-E247F9AD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555-33F4-49F1-AC4D-B9C24051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80D-E297-4CCD-8993-678E9262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E2AA-7A90-481D-A3AA-BE36DF76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FFDC-60C3-47F4-B056-9DA891B9EC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68C2-2258-4A0A-9658-A2E1E00FED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8920" y="2130120"/>
            <a:ext cx="8496360" cy="20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Тема: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«Использование различных видов гимнастики как средства оздоровления детей»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мплекс пальчиковой гимнастики №1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ьцы ловкими хот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ть у всех наших ребя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ьцам мы сейчас поможе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едложи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. «Барашки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ьцы тянутся впере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то из них сильней нажме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потом они согнулис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барашки лбом столкнули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. «Венок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ьцы, как венок, сплете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и вытянем пот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ьцы выгнутся чуть-чу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х расслабить не забуд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barashki"/>
          <p:cNvPicPr/>
          <p:nvPr/>
        </p:nvPicPr>
        <p:blipFill>
          <a:blip r:embed="rId1"/>
          <a:stretch/>
        </p:blipFill>
        <p:spPr>
          <a:xfrm>
            <a:off x="5643720" y="2643120"/>
            <a:ext cx="250020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плекс пальчиковой гимнастики №2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. «Драконы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а дракона прилетел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ять голов они имел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лько сели эти братц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азу начали бодаться.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. «Друзья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ьчик к пальчику приходи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уга он себе находи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ут пальчики дружи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гости часто приходить.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3. «Петушок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столу шел петушо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ерху – красный гребешо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изу – коготки на лапка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порви, дружок, тетрад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Рисунок1"/>
          <p:cNvPicPr/>
          <p:nvPr/>
        </p:nvPicPr>
        <p:blipFill>
          <a:blip r:embed="rId1"/>
          <a:stretch/>
        </p:blipFill>
        <p:spPr>
          <a:xfrm>
            <a:off x="5580000" y="2421000"/>
            <a:ext cx="25923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136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Физкультминутки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применяются с целью предупреждения утомления из занятиях, связанных с длительным сидением в однообразной позе, требующих сосредоточенного внимания и поддержания умственной работоспособности детей на хорошем уров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Физкультминутку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можно проводить в форме общеразвивающих упражнений, подвижной игры, дидактической игры с движением, танцевального движения, выполнения движений под текст стихотворения, а также в виде любого двигательного действ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зад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3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бщеразвивающие упражнения для физминуток использую для разных групп мышц (3-4 упражнения), физминутку  заканчиваю прыжками, бегом на месте или ходьб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ри использовании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физкультминутки,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сопровождающейся текстом стихотворения, беру стихи с четким ритмом, так как под них легче выполнять разнообразные дви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b7"/>
                </a:solidFill>
                <a:latin typeface="Arial Black"/>
              </a:rPr>
              <a:t>КОМПЛЕКС УПРАЖНЕНИЙ ГИМНАСТИКИ ДЛЯ ГЛАЗ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Быстро поморгать, закрыть глаза и посидеть спокойно, медленно считая до 5. Повторить 4–5 ра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репко зажмурить глаза (считать до 3), открыть глаза и посмотреть вдаль (считать до 5). Повторить 4–5 ра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ытянуть правую руку вперед. Следить глазами, не поворачивая головы, за медленными движениями указательного пальца вытянутой руки влево и вправо, вверх и вниз. Повторить 4–5 ра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смотреть на указательный палец вытянутой руки на счет 1–4, потом перевести взор вдаль на счет 1–6. Повторить 4–5 ра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реднем темпе проделать 3–4 круговых движения глазами в правую сторону, столько же в левую сторону. Расслабив глазные мышцы, посмотреть вдаль на счет 1–6. Повторить 1–2 р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b7"/>
                </a:solidFill>
                <a:latin typeface="Arial Black"/>
              </a:rPr>
              <a:t>ФМ ДЛЯ СНЯТИЯ УТОМЛЕНИЯ С ПЛЕЧЕВОГО ПОЯСА И РУК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ходное положение – стоя или сидя, руки на поясе. 1–2. Правую руку вперед, левую вверх. 3–4. Переменить положение рук. Повторить 3–4 раза, затем расслабленно опустить вниз и потрясти кистями, голову наклонить вперед. Темп сред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ходное положение – стоя или сидя, кисти тыльной стороной на поясе. 1–2. Свести локти вперед, голову наклонить вперед. 3–4. Локти отвести назад, прогнуться. Повторить 6–8 раз, затем опустить руки вниз и потрясти расслабленно. Темп медленн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ходное положение – сидя. 1–2. Поднять руки через стороны вверх. 3–4. Сжать кисти рук в кулак. Разжать кисти рук. Повторить 6–8 раз, затем руки расслабленно опустить вниз и потрясти кистями. Темп сред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b7"/>
                </a:solidFill>
                <a:latin typeface="Arial Black"/>
              </a:rPr>
              <a:t>ФМ ДЛЯ УЛУЧШЕНИЯ МОЗГОВОГО КРОВООБРАЩЕНИЯ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ходное положение – сидя на стуле. 1–2. Плавно наклонить голову назад, наклонить голову вперед, не поднимая плеч. Повторить 4–6 раз. Темп медленн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ходное положение – сидя, руки на поясе. 1. Поворот головы вправо. 2. Исходное положение. 3. Поворот головы влево. 4. Исходное положение. Повторить 6–8 раз. Темп медленн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ходное положение – стоя или сидя, руки на поясе. 1–2. Взмахом левую руку занести через правое плечо, голову повернуть вле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ходное положение. 4–5. То же повторить правой рукой, поворачивая голову вправо. 6. Исходное положение. Повторить 4–6 раз. Темп медленн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b7"/>
                </a:solidFill>
                <a:latin typeface="Arial Black"/>
              </a:rPr>
              <a:t>ФМ ОБЩЕГО ВОЗДЕЙСТВИЯ ДЛЯ РАЗНЫХ ГРУПП МЫШЦ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ходное положение – стойка ноги врозь, руки за голову. 1. Резко повернуть таз вправо. 2. Резко повернуть таз влево. Во время поворотов плечевой пояс оставить неподвижным. Повторить 6–8 раз. Темп сред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ходное положение – стойка ноги врозь, руки за голову. 1–3. Сделать круговое движение тазом в одну сторону. 4–6. То же в другую сторону. 7–8. Опустить руки вниз и расслабленно потрясти кистями. Повторить 4–6 раз. Темп сред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ходное положение – стойка ноги врозь. 1–2. Сделать наклон вперед, правая рука скользит вдоль тела вниз, левая вдоль тела вверх. 3–4. Исходное положение. 5–8. То же в другую сторону. Повторить 6–8 раз. Темп сред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kolobok"/>
          <p:cNvPicPr/>
          <p:nvPr/>
        </p:nvPicPr>
        <p:blipFill>
          <a:blip r:embed="rId1"/>
          <a:stretch/>
        </p:blipFill>
        <p:spPr>
          <a:xfrm>
            <a:off x="0" y="2924280"/>
            <a:ext cx="4546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7956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«Во всех случаях, когда можно обойтись без лекарств, надо это делать. Безлекарственное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выздоровление выгоднее для больного: в успешной борьбе с недугом крепнут, закаляются защитные силы организм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(Академик Б.Е.Вотчал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00000" y="475920"/>
            <a:ext cx="7128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Фундаментальные исследования А.М.Фонарева, показали,, что двигательная активность теснейшим образом связана с развитием речевой функции и функциональным состоянием мозга, с общей жизнедеятельностью ребе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36160" y="692280"/>
            <a:ext cx="76834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отрудники института физиологии детей и подростков установили, что уровень развития речи детей находится</a:t>
            </a: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в прямой зависимости от степени сформированности тонких движений пальцев рук. Развитие мелкой моторики руки имеет большое значение для общего физического и психического развития ребенка на протяжении всего школьного детст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80071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Активно участвуя в возникновении образов воображения, движущиеся</a:t>
            </a:r>
            <a:r>
              <a:rPr b="0" i="1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руки способны в буквальном смысле слова приоткрыть дверь в завтрашний день ребенка и</a:t>
            </a:r>
            <a:r>
              <a:rPr b="0" i="1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в этом поможет использование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альчиковой гимнастики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- комплекса упражнений  для развития и совершенствования «тонких» движений пальцев  ру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36520" y="1268280"/>
            <a:ext cx="73231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оказано, что на ладони расположены биологические  точки воздействия на внутренние органы. Массируя и сжимая ладонь и пальчики, мы улучшаем их работу и восстанавливаем защитные функции организма. Такие манипуляции активизируют речевые навыки, влияют на письменность. Пальчиковые игры для детей не только положительно влияют на динамику развития, но и отлично повышают настро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36160" y="907560"/>
            <a:ext cx="76122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Ритмичные движения пальцами очень нравятся детям. С помощью пальцев можно разговаривать с людьми. Никогда не нужно принуждать детей к участию в игре. Игры пальцами очень заразительны, дети сами захотят играть в ни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»Пальчиковая гимнастика «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77058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окне цветок колюч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Показать прямоугольник перед собо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мотрит за околиц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Сделать «бинокль»из ладошек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 его не троньте лучш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Погрозить пальчико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чень больно колется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stishok-podzaryadka"/>
          <p:cNvPicPr/>
          <p:nvPr/>
        </p:nvPicPr>
        <p:blipFill>
          <a:blip r:embed="rId1"/>
          <a:stretch/>
        </p:blipFill>
        <p:spPr>
          <a:xfrm>
            <a:off x="5619600" y="0"/>
            <a:ext cx="35244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064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сна идё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орех взобрался Миш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имитация взбирания на дерев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ветки даль ему вид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Ладошку приставить «козырьком» ко лб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отрит на холмы и крыши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укой сделать волнообразное движение, а затем сложить руки над головой –«крыша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идёт ли к нам весн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Ходьба на мест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деревней, за доли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осмотреть влево, посмотреть вправ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де прозрачен небосв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оказать руками неб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ин увидев журавли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омкнуть кончики пальцев вытянутых перед собой ру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ричал: «Весна идёт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Вскинуть руки вверх- в сторон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Рисунок8"/>
          <p:cNvPicPr/>
          <p:nvPr/>
        </p:nvPicPr>
        <p:blipFill>
          <a:blip r:embed="rId1"/>
          <a:stretch/>
        </p:blipFill>
        <p:spPr>
          <a:xfrm>
            <a:off x="6012000" y="333360"/>
            <a:ext cx="2736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6:55:29Z</dcterms:created>
  <dc:creator>207</dc:creator>
  <dc:description/>
  <dc:language>en-US</dc:language>
  <cp:lastModifiedBy>user</cp:lastModifiedBy>
  <dcterms:modified xsi:type="dcterms:W3CDTF">2018-04-03T05:17:34Z</dcterms:modified>
  <cp:revision>4</cp:revision>
  <dc:subject/>
  <dc:title>Тема: «Использование различных видов гимнастики как средства оздоровления детей».</dc:title>
</cp:coreProperties>
</file>