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07A-7F61-40A2-8694-A8975C83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98C-4372-4E46-8628-E8256B30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134-7052-4DE7-A7C0-855FA754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912-3C61-46EA-A587-55D012F4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C01-B611-4A81-93AE-0D2A8B04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84D-EA2D-450E-BB90-EC13E880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915-F93F-40B4-BA08-B9528734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564-20F0-4984-9001-9AA0D04E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47A-D031-4ADB-A6E8-3638D93F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7B7-3F7E-42A0-AA2C-E6022AED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5F0-CCBA-4A71-B487-149E2B16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1B0-0C7F-4A2D-A05C-7644C8C3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97A1-EC18-4D57-B42E-3A63AEDB4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общение из опыта работы на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методическом объединении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воспитателей младших и средних груп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школьных отделени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БОУ Школа № 2083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565000"/>
            <a:ext cx="8496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Тема: «Воспитание у дошкольников младшего и среднего возраста интереса к познавательной деятельности как предпосылка успешного обучения в школ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дготовил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оспитатели младшей группы ДО «Росинк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агимова Н.Г., Мухамидова Л.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воспитатели средней группы ДО «Росинк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уксирова О.Г и Макаренко Л.В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ноября 2015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ТЕМАТИЧЕСКИЕ ИГРЫ - ВКЛАДЫ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P1240420.JPG"/>
          <p:cNvPicPr/>
          <p:nvPr/>
        </p:nvPicPr>
        <p:blipFill>
          <a:blip r:embed="rId2"/>
          <a:stretch/>
        </p:blipFill>
        <p:spPr>
          <a:xfrm>
            <a:off x="5562720" y="533520"/>
            <a:ext cx="3581280" cy="358920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3" descr="P1240414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152280" y="457200"/>
            <a:ext cx="3505320" cy="344664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3" descr="P1240417.JPG"/>
          <p:cNvPicPr/>
          <p:nvPr/>
        </p:nvPicPr>
        <p:blipFill>
          <a:blip r:embed="rId4"/>
          <a:stretch/>
        </p:blipFill>
        <p:spPr>
          <a:xfrm>
            <a:off x="2962440" y="3657600"/>
            <a:ext cx="2990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«Скрытые свойств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P1240424.JPG"/>
          <p:cNvPicPr/>
          <p:nvPr/>
        </p:nvPicPr>
        <p:blipFill>
          <a:blip r:embed="rId2">
            <a:lum contrast="6000"/>
          </a:blip>
          <a:srcRect l="0" t="0" r="8736" b="0"/>
          <a:stretch/>
        </p:blipFill>
        <p:spPr>
          <a:xfrm>
            <a:off x="914400" y="914400"/>
            <a:ext cx="7010280" cy="576108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3" descr="P1240424.JPG"/>
          <p:cNvPicPr/>
          <p:nvPr/>
        </p:nvPicPr>
        <p:blipFill>
          <a:blip r:embed="rId3">
            <a:lum contrast="6000"/>
          </a:blip>
          <a:srcRect l="30754" t="59526" r="53380" b="20643"/>
          <a:stretch/>
        </p:blipFill>
        <p:spPr>
          <a:xfrm>
            <a:off x="3276720" y="43434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P1240446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70000" y="1197000"/>
            <a:ext cx="4336920" cy="540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P1240445"/>
          <p:cNvPicPr/>
          <p:nvPr/>
        </p:nvPicPr>
        <p:blipFill>
          <a:blip r:embed="rId3"/>
          <a:stretch/>
        </p:blipFill>
        <p:spPr>
          <a:xfrm>
            <a:off x="4859280" y="11970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1752480" y="457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«Скрытые свойств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Наша мини-лаборатория</a:t>
            </a:r>
            <a:br>
              <a:rPr sz="2200"/>
            </a:br>
            <a:r>
              <a:rPr b="1" i="1" lang="en-US" sz="2200" spc="-1" strike="noStrike">
                <a:solidFill>
                  <a:srgbClr val="ff0000"/>
                </a:solidFill>
                <a:latin typeface="Calibri"/>
              </a:rPr>
              <a:t>Будущий ученый-исследова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7" descr="P1240442.JPG"/>
          <p:cNvPicPr/>
          <p:nvPr/>
        </p:nvPicPr>
        <p:blipFill>
          <a:blip r:embed="rId2"/>
          <a:stretch/>
        </p:blipFill>
        <p:spPr>
          <a:xfrm>
            <a:off x="395280" y="907920"/>
            <a:ext cx="4179960" cy="554544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11" descr="P1240444.JPG"/>
          <p:cNvPicPr/>
          <p:nvPr/>
        </p:nvPicPr>
        <p:blipFill>
          <a:blip r:embed="rId3"/>
          <a:stretch/>
        </p:blipFill>
        <p:spPr>
          <a:xfrm>
            <a:off x="4859280" y="907920"/>
            <a:ext cx="3886200" cy="55627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11" descr="P1240444.JPG"/>
          <p:cNvPicPr/>
          <p:nvPr/>
        </p:nvPicPr>
        <p:blipFill>
          <a:blip r:embed="rId4"/>
          <a:srcRect l="39222" t="48531" r="35294" b="35299"/>
          <a:stretch/>
        </p:blipFill>
        <p:spPr>
          <a:xfrm>
            <a:off x="5943600" y="3581280"/>
            <a:ext cx="990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3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ЛАЙД «УЛИТ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1173\Desktop\ГОТОВО\P1240405.JPG"/>
          <p:cNvPicPr/>
          <p:nvPr/>
        </p:nvPicPr>
        <p:blipFill>
          <a:blip r:embed="rId3"/>
          <a:stretch/>
        </p:blipFill>
        <p:spPr>
          <a:xfrm>
            <a:off x="304920" y="1219320"/>
            <a:ext cx="4190760" cy="487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P1240406"/>
          <p:cNvPicPr/>
          <p:nvPr/>
        </p:nvPicPr>
        <p:blipFill>
          <a:blip r:embed="rId4"/>
          <a:stretch/>
        </p:blipFill>
        <p:spPr>
          <a:xfrm>
            <a:off x="4572000" y="1219320"/>
            <a:ext cx="4343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ЛАЙД «КАРТЫ-ШИФР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На приеме у доктора Пилюльк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P1240436.JPG"/>
          <p:cNvPicPr/>
          <p:nvPr/>
        </p:nvPicPr>
        <p:blipFill>
          <a:blip r:embed="rId2"/>
          <a:stretch/>
        </p:blipFill>
        <p:spPr>
          <a:xfrm>
            <a:off x="0" y="1600200"/>
            <a:ext cx="441972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P1240437"/>
          <p:cNvPicPr/>
          <p:nvPr/>
        </p:nvPicPr>
        <p:blipFill>
          <a:blip r:embed="rId3"/>
          <a:stretch/>
        </p:blipFill>
        <p:spPr>
          <a:xfrm>
            <a:off x="4572000" y="1600200"/>
            <a:ext cx="4572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Calibri"/>
              </a:rPr>
              <a:t>Художник Тюбик. Костюм – итог самостоятельного творческого подбора Слав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P1240439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1760400"/>
            <a:ext cx="4267080" cy="412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P1240441"/>
          <p:cNvPicPr/>
          <p:nvPr/>
        </p:nvPicPr>
        <p:blipFill>
          <a:blip r:embed="rId3"/>
          <a:stretch/>
        </p:blipFill>
        <p:spPr>
          <a:xfrm>
            <a:off x="4648320" y="1760400"/>
            <a:ext cx="42670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На мягком дива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P1240408.JPG"/>
          <p:cNvPicPr/>
          <p:nvPr/>
        </p:nvPicPr>
        <p:blipFill>
          <a:blip r:embed="rId2"/>
          <a:stretch/>
        </p:blipFill>
        <p:spPr>
          <a:xfrm>
            <a:off x="228600" y="2166840"/>
            <a:ext cx="4267080" cy="363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1240409"/>
          <p:cNvPicPr/>
          <p:nvPr/>
        </p:nvPicPr>
        <p:blipFill>
          <a:blip r:embed="rId3"/>
          <a:stretch/>
        </p:blipFill>
        <p:spPr>
          <a:xfrm>
            <a:off x="4724280" y="2144880"/>
            <a:ext cx="42674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P1240433.JPG"/>
          <p:cNvPicPr/>
          <p:nvPr/>
        </p:nvPicPr>
        <p:blipFill>
          <a:blip r:embed="rId2"/>
          <a:stretch/>
        </p:blipFill>
        <p:spPr>
          <a:xfrm>
            <a:off x="152280" y="167652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P1240432.JPG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572000" y="1676520"/>
            <a:ext cx="426708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743200" y="304920"/>
            <a:ext cx="4343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Наши наряды сшиты из тк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200" spc="-1" strike="noStrike">
                <a:solidFill>
                  <a:srgbClr val="0000cc"/>
                </a:solidFill>
                <a:latin typeface="Calibri"/>
              </a:rPr>
              <a:t>Воспитание у дошкольников младшего и среднего возраста интереса к познавательной деятельности как предпосылка успешного обучения в школе: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33520" y="19051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Развитие познавательно-исследовательской деятельности и ознакомление с предметным окружение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676520" y="3701160"/>
            <a:ext cx="548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stellar"/>
              </a:rPr>
              <a:t>Всеми возможными способ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stellar"/>
              </a:rPr>
              <a:t>нужно воспитывать в детях горяч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stellar"/>
              </a:rPr>
              <a:t>стремление к знанию и к уч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astellar"/>
              </a:rPr>
              <a:t>                         </a:t>
            </a:r>
            <a:r>
              <a:rPr b="0" i="1" lang="en-US" sz="2400" spc="-1" strike="noStrike">
                <a:solidFill>
                  <a:srgbClr val="0000cc"/>
                </a:solidFill>
                <a:latin typeface="Castellar"/>
              </a:rPr>
              <a:t>Я.А. Коме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тол должен быть прочным, крепким. Деревянный кирпич подойд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P1240429.JPG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72000" y="1523880"/>
            <a:ext cx="4414680" cy="4462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P1240427"/>
          <p:cNvPicPr/>
          <p:nvPr/>
        </p:nvPicPr>
        <p:blipFill>
          <a:blip r:embed="rId3"/>
          <a:stretch/>
        </p:blipFill>
        <p:spPr>
          <a:xfrm>
            <a:off x="154080" y="1523880"/>
            <a:ext cx="43401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thanks_13"/>
          <p:cNvPicPr/>
          <p:nvPr/>
        </p:nvPicPr>
        <p:blipFill>
          <a:blip r:embed="rId2"/>
          <a:stretch/>
        </p:blipFill>
        <p:spPr>
          <a:xfrm>
            <a:off x="-6480" y="1444680"/>
            <a:ext cx="9083880" cy="5724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1143000" y="990720"/>
            <a:ext cx="7315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2895480" y="1828800"/>
            <a:ext cx="5877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  большое </a:t>
            </a:r>
            <a:endParaRPr b="1" i="1" lang="en-US" sz="4000" spc="1" strike="noStrike">
              <a:ln w="0">
                <a:noFill/>
              </a:ln>
              <a:solidFill>
                <a:srgbClr val="ff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Picture 12" descr="2"/>
          <p:cNvPicPr/>
          <p:nvPr/>
        </p:nvPicPr>
        <p:blipFill>
          <a:blip r:embed="rId3"/>
          <a:stretch/>
        </p:blipFill>
        <p:spPr>
          <a:xfrm>
            <a:off x="685800" y="518148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352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Задачи ПРОГРАММЫ и методик согласно ФГ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ладшая группа (от 3 до 4 л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Развитие познавательно-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Учить детей обобщающим способам исследования объектов с помощью специально разработанных систем эталонов, перцептивных действий. Предлагать группировать и классифицировать знакомые предм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Включать детей в совместные со взрослым практические познавательные действия экспериментального характера, в процессе которых выявляются ранее скрытые свойства изучаемого объ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ладшая группа (от 3 до 4 лет)</a:t>
            </a:r>
            <a:br>
              <a:rPr sz="2800"/>
            </a:b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Ознакомление с предметным ми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Продолжать знакомить детей 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дметами ближайшего окружения, их функциями, назнач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Побуждать детей вычленять особенности предметов. Способствовать овладению способами обследования, группировать и классифицирова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Расширять представления о свойствах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( твердость, мягкость, прочность)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 том, что одни предметы сделаны руками человека, другие – прир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редняя группа (от 4 до 5 л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азвитие познавательно-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олжать знакомить детей с обобщенными способами исследования объектов с помощью специально разработанных систем сенсорных эталонов. Помогать осваивать перцептивные действ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ть умение выполнять ряд последовательных действий в соответствии с задачей и предлагаемым алгоритмом деятельность, использовать модели предложенные взросл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Средняя группа (от 4 до 5 лет)</a:t>
            </a:r>
            <a:br>
              <a:rPr sz="4800"/>
            </a:b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Ознакомление с предметным ми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здавать условия для расширения представлений детей об объектах окружающего м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Продолжать знакомить с признаками предметов, побуждать определять их свой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Расширять представления о свойствах, качествах. Объяснять целесообразность изготовления предмета из определенного материала (колокольчики из металла - он звонки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Calibri"/>
              </a:rPr>
              <a:t>«Игровые ситуации, режимные моменты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P1240410"/>
          <p:cNvPicPr/>
          <p:nvPr/>
        </p:nvPicPr>
        <p:blipFill>
          <a:blip r:embed="rId2"/>
          <a:stretch/>
        </p:blipFill>
        <p:spPr>
          <a:xfrm>
            <a:off x="152280" y="914400"/>
            <a:ext cx="4316400" cy="472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P1240407"/>
          <p:cNvPicPr/>
          <p:nvPr/>
        </p:nvPicPr>
        <p:blipFill>
          <a:blip r:embed="rId3"/>
          <a:stretch/>
        </p:blipFill>
        <p:spPr>
          <a:xfrm>
            <a:off x="4572000" y="914400"/>
            <a:ext cx="4419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5" descr="P1240383.JPG"/>
          <p:cNvPicPr/>
          <p:nvPr/>
        </p:nvPicPr>
        <p:blipFill>
          <a:blip r:embed="rId2"/>
          <a:stretch/>
        </p:blipFill>
        <p:spPr>
          <a:xfrm>
            <a:off x="2573280" y="0"/>
            <a:ext cx="40924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ФЕЯ БУМА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15:26:46Z</dcterms:created>
  <dc:creator>1173</dc:creator>
  <dc:description/>
  <dc:language>en-US</dc:language>
  <cp:lastModifiedBy>1</cp:lastModifiedBy>
  <dcterms:modified xsi:type="dcterms:W3CDTF">2018-04-03T17:10:08Z</dcterms:modified>
  <cp:revision>7</cp:revision>
  <dc:subject/>
  <dc:title>Слайд 1</dc:title>
</cp:coreProperties>
</file>