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22.jpeg" ContentType="image/jpeg"/>
  <Override PartName="/ppt/media/image27.gif" ContentType="image/gif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0A77-3D7E-4388-A85D-321656C48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AAC7-9C9E-41F8-94C2-7A080BF6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C9CA-6B37-4D1E-9789-4AA31AD3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D9B5-6962-4DB9-A944-ED5841102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1067-CB2F-41E6-8A3B-D9326766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9A1B-6C4E-450B-8E46-67F4F49A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1D07-FA21-4FF4-A583-90898C1A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D3CE-7800-44D9-9219-EE082725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248D-1DD3-41C2-A215-DB37E788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3905-6D33-4786-BAE9-7672B9A5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38E4-F1CE-4C6F-A9C0-EDB2D52F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9543-AF03-4BD5-A726-41330C6E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A5FE-DDA3-447A-940F-A2C0B2D97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Сообщение из опыта работы на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методическом объединении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воспитателей младших и средних груп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школьных отделений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БОУ Школа № 2083 г. Москв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2565000"/>
            <a:ext cx="8496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Тема: «Воспитание у дошкольников младшего и среднего возраста интереса к познавательной деятельности как предпосылка успешного обучения в школе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одготовил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оспитатели младшей группы ДО «Росинка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Багимова Н.Г., Мухамидова Л.П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 воспитатели средней группы ДО «Росинка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Буксирова О.Г и Макаренко Л.В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ноября 2015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ТЕМАТИЧЕСКИЕ ИГРЫ - ВКЛАДЫШ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P1240420.JPG"/>
          <p:cNvPicPr/>
          <p:nvPr/>
        </p:nvPicPr>
        <p:blipFill>
          <a:blip r:embed="rId2"/>
          <a:stretch/>
        </p:blipFill>
        <p:spPr>
          <a:xfrm>
            <a:off x="5562720" y="533520"/>
            <a:ext cx="3581280" cy="358920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3" descr="P1240414.JPG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152280" y="457200"/>
            <a:ext cx="3505320" cy="3446640"/>
          </a:xfrm>
          <a:prstGeom prst="rect">
            <a:avLst/>
          </a:prstGeom>
          <a:ln w="0">
            <a:noFill/>
          </a:ln>
        </p:spPr>
      </p:pic>
      <p:pic>
        <p:nvPicPr>
          <p:cNvPr id="61" name="Содержимое 3" descr="P1240417.JPG"/>
          <p:cNvPicPr/>
          <p:nvPr/>
        </p:nvPicPr>
        <p:blipFill>
          <a:blip r:embed="rId4"/>
          <a:stretch/>
        </p:blipFill>
        <p:spPr>
          <a:xfrm>
            <a:off x="2962440" y="3657600"/>
            <a:ext cx="2990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«Скрытые свойств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P1240424.JPG"/>
          <p:cNvPicPr/>
          <p:nvPr/>
        </p:nvPicPr>
        <p:blipFill>
          <a:blip r:embed="rId2">
            <a:lum contrast="6000"/>
          </a:blip>
          <a:srcRect l="0" t="0" r="8736" b="0"/>
          <a:stretch/>
        </p:blipFill>
        <p:spPr>
          <a:xfrm>
            <a:off x="914400" y="914400"/>
            <a:ext cx="7010280" cy="5761080"/>
          </a:xfrm>
          <a:prstGeom prst="rect">
            <a:avLst/>
          </a:prstGeom>
          <a:ln w="0">
            <a:noFill/>
          </a:ln>
        </p:spPr>
      </p:pic>
      <p:pic>
        <p:nvPicPr>
          <p:cNvPr id="64" name="Содержимое 3" descr="P1240424.JPG"/>
          <p:cNvPicPr/>
          <p:nvPr/>
        </p:nvPicPr>
        <p:blipFill>
          <a:blip r:embed="rId3">
            <a:lum contrast="6000"/>
          </a:blip>
          <a:srcRect l="30754" t="59526" r="53380" b="20643"/>
          <a:stretch/>
        </p:blipFill>
        <p:spPr>
          <a:xfrm>
            <a:off x="3276720" y="4343400"/>
            <a:ext cx="1218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0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8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P1240446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70000" y="1197000"/>
            <a:ext cx="4336920" cy="540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P1240445"/>
          <p:cNvPicPr/>
          <p:nvPr/>
        </p:nvPicPr>
        <p:blipFill>
          <a:blip r:embed="rId3"/>
          <a:stretch/>
        </p:blipFill>
        <p:spPr>
          <a:xfrm>
            <a:off x="4859280" y="1197000"/>
            <a:ext cx="4038480" cy="54100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0"/>
          <p:cNvSpPr/>
          <p:nvPr/>
        </p:nvSpPr>
        <p:spPr>
          <a:xfrm>
            <a:off x="1752480" y="4572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«Скрытые свойств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Наша мини-лаборатория</a:t>
            </a:r>
            <a:br>
              <a:rPr sz="2200"/>
            </a:br>
            <a:r>
              <a:rPr b="1" i="1" lang="en-US" sz="2200" spc="-1" strike="noStrike">
                <a:solidFill>
                  <a:srgbClr val="ff0000"/>
                </a:solidFill>
                <a:latin typeface="Calibri"/>
              </a:rPr>
              <a:t>Будущий ученый-исследовател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7" descr="P1240442.JPG"/>
          <p:cNvPicPr/>
          <p:nvPr/>
        </p:nvPicPr>
        <p:blipFill>
          <a:blip r:embed="rId2"/>
          <a:stretch/>
        </p:blipFill>
        <p:spPr>
          <a:xfrm>
            <a:off x="395280" y="907920"/>
            <a:ext cx="4179960" cy="5545440"/>
          </a:xfrm>
          <a:prstGeom prst="rect">
            <a:avLst/>
          </a:prstGeom>
          <a:ln w="0">
            <a:noFill/>
          </a:ln>
        </p:spPr>
      </p:pic>
      <p:pic>
        <p:nvPicPr>
          <p:cNvPr id="70" name="Содержимое 11" descr="P1240444.JPG"/>
          <p:cNvPicPr/>
          <p:nvPr/>
        </p:nvPicPr>
        <p:blipFill>
          <a:blip r:embed="rId3"/>
          <a:stretch/>
        </p:blipFill>
        <p:spPr>
          <a:xfrm>
            <a:off x="4859280" y="907920"/>
            <a:ext cx="3886200" cy="5562720"/>
          </a:xfrm>
          <a:prstGeom prst="rect">
            <a:avLst/>
          </a:prstGeom>
          <a:ln w="0">
            <a:noFill/>
          </a:ln>
        </p:spPr>
      </p:pic>
      <p:pic>
        <p:nvPicPr>
          <p:cNvPr id="71" name="Содержимое 11" descr="P1240444.JPG"/>
          <p:cNvPicPr/>
          <p:nvPr/>
        </p:nvPicPr>
        <p:blipFill>
          <a:blip r:embed="rId4"/>
          <a:srcRect l="39222" t="48531" r="35294" b="35299"/>
          <a:stretch/>
        </p:blipFill>
        <p:spPr>
          <a:xfrm>
            <a:off x="5943600" y="3581280"/>
            <a:ext cx="99072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3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ЛАЙД «УЛИТ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Users\1173\Desktop\ГОТОВО\P1240405.JPG"/>
          <p:cNvPicPr/>
          <p:nvPr/>
        </p:nvPicPr>
        <p:blipFill>
          <a:blip r:embed="rId3"/>
          <a:stretch/>
        </p:blipFill>
        <p:spPr>
          <a:xfrm>
            <a:off x="304920" y="1219320"/>
            <a:ext cx="4190760" cy="4876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P1240406"/>
          <p:cNvPicPr/>
          <p:nvPr/>
        </p:nvPicPr>
        <p:blipFill>
          <a:blip r:embed="rId4"/>
          <a:stretch/>
        </p:blipFill>
        <p:spPr>
          <a:xfrm>
            <a:off x="4572000" y="1219320"/>
            <a:ext cx="43434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ЛАЙД «КАРТЫ-ШИФР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На приеме у доктора Пилюльк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3" descr="P1240436.JPG"/>
          <p:cNvPicPr/>
          <p:nvPr/>
        </p:nvPicPr>
        <p:blipFill>
          <a:blip r:embed="rId2"/>
          <a:stretch/>
        </p:blipFill>
        <p:spPr>
          <a:xfrm>
            <a:off x="0" y="1600200"/>
            <a:ext cx="4419720" cy="4876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P1240437"/>
          <p:cNvPicPr/>
          <p:nvPr/>
        </p:nvPicPr>
        <p:blipFill>
          <a:blip r:embed="rId3"/>
          <a:stretch/>
        </p:blipFill>
        <p:spPr>
          <a:xfrm>
            <a:off x="4572000" y="1600200"/>
            <a:ext cx="4572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cc"/>
                </a:solidFill>
                <a:latin typeface="Calibri"/>
              </a:rPr>
              <a:t>Художник Тюбик. Костюм – итог самостоятельного творческого подбора Слав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6" descr="P1240439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28600" y="1760400"/>
            <a:ext cx="4267080" cy="4121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P1240441"/>
          <p:cNvPicPr/>
          <p:nvPr/>
        </p:nvPicPr>
        <p:blipFill>
          <a:blip r:embed="rId3"/>
          <a:stretch/>
        </p:blipFill>
        <p:spPr>
          <a:xfrm>
            <a:off x="4648320" y="1760400"/>
            <a:ext cx="426708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На мягком дива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4" descr="P1240408.JPG"/>
          <p:cNvPicPr/>
          <p:nvPr/>
        </p:nvPicPr>
        <p:blipFill>
          <a:blip r:embed="rId2"/>
          <a:stretch/>
        </p:blipFill>
        <p:spPr>
          <a:xfrm>
            <a:off x="228600" y="2166840"/>
            <a:ext cx="4267080" cy="3638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P1240409"/>
          <p:cNvPicPr/>
          <p:nvPr/>
        </p:nvPicPr>
        <p:blipFill>
          <a:blip r:embed="rId3"/>
          <a:stretch/>
        </p:blipFill>
        <p:spPr>
          <a:xfrm>
            <a:off x="4724280" y="2144880"/>
            <a:ext cx="42674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Содержимое 3" descr="P1240433.JPG"/>
          <p:cNvPicPr/>
          <p:nvPr/>
        </p:nvPicPr>
        <p:blipFill>
          <a:blip r:embed="rId2"/>
          <a:stretch/>
        </p:blipFill>
        <p:spPr>
          <a:xfrm>
            <a:off x="152280" y="1676520"/>
            <a:ext cx="4343400" cy="4343400"/>
          </a:xfrm>
          <a:prstGeom prst="rect">
            <a:avLst/>
          </a:prstGeom>
          <a:ln w="0">
            <a:noFill/>
          </a:ln>
        </p:spPr>
      </p:pic>
      <p:pic>
        <p:nvPicPr>
          <p:cNvPr id="88" name="Содержимое 4" descr="P1240432.JPG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4572000" y="1676520"/>
            <a:ext cx="4267080" cy="43434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2743200" y="304920"/>
            <a:ext cx="43434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Наши наряды сшиты из тка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2200" spc="-1" strike="noStrike">
                <a:solidFill>
                  <a:srgbClr val="0000cc"/>
                </a:solidFill>
                <a:latin typeface="Calibri"/>
              </a:rPr>
              <a:t>Воспитание у дошкольников младшего и среднего возраста интереса к познавательной деятельности как предпосылка успешного обучения в школе:</a:t>
            </a:r>
            <a:br>
              <a:rPr sz="18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533520" y="190512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Развитие познавательно-исследовательской деятельности и ознакомление с предметным окружением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676520" y="3701160"/>
            <a:ext cx="5483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astellar"/>
              </a:rPr>
              <a:t>Всеми возможными способ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astellar"/>
              </a:rPr>
              <a:t>нужно воспитывать в детях горяче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astellar"/>
              </a:rPr>
              <a:t>стремление к знанию и к уч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Castellar"/>
              </a:rPr>
              <a:t>                         </a:t>
            </a:r>
            <a:r>
              <a:rPr b="0" i="1" lang="en-US" sz="2400" spc="-1" strike="noStrike">
                <a:solidFill>
                  <a:srgbClr val="0000cc"/>
                </a:solidFill>
                <a:latin typeface="Castellar"/>
              </a:rPr>
              <a:t>Я.А. Комен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Стол должен быть прочным, крепким. Деревянный кирпич подойд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3" descr="P1240429.JPG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4572000" y="1523880"/>
            <a:ext cx="4414680" cy="4462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P1240427"/>
          <p:cNvPicPr/>
          <p:nvPr/>
        </p:nvPicPr>
        <p:blipFill>
          <a:blip r:embed="rId3"/>
          <a:stretch/>
        </p:blipFill>
        <p:spPr>
          <a:xfrm>
            <a:off x="154080" y="1523880"/>
            <a:ext cx="434016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thanks_13"/>
          <p:cNvPicPr/>
          <p:nvPr/>
        </p:nvPicPr>
        <p:blipFill>
          <a:blip r:embed="rId2"/>
          <a:stretch/>
        </p:blipFill>
        <p:spPr>
          <a:xfrm>
            <a:off x="-6480" y="1444680"/>
            <a:ext cx="9083880" cy="57243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1143000" y="990720"/>
            <a:ext cx="7315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WordArt 9"/>
          <p:cNvSpPr txBox="1"/>
          <p:nvPr/>
        </p:nvSpPr>
        <p:spPr>
          <a:xfrm>
            <a:off x="2895480" y="1828800"/>
            <a:ext cx="5877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ff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 внимание  большое </a:t>
            </a:r>
            <a:endParaRPr b="1" i="1" lang="en-US" sz="4000" spc="1" strike="noStrike">
              <a:ln w="0">
                <a:noFill/>
              </a:ln>
              <a:solidFill>
                <a:srgbClr val="ff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6" name="Picture 12" descr="2"/>
          <p:cNvPicPr/>
          <p:nvPr/>
        </p:nvPicPr>
        <p:blipFill>
          <a:blip r:embed="rId3"/>
          <a:stretch/>
        </p:blipFill>
        <p:spPr>
          <a:xfrm>
            <a:off x="685800" y="5181480"/>
            <a:ext cx="19051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1523520"/>
            <a:ext cx="8763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Задачи ПРОГРАММЫ и методик согласно ФГО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  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Младшая группа (от 3 до 4 ле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Развитие познавательно-исследовательск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Учить детей обобщающим способам исследования объектов с помощью специально разработанных систем эталонов, перцептивных действий. Предлагать группировать и классифицировать знакомые предме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Включать детей в совместные со взрослым практические познавательные действия экспериментального характера, в процессе которых выявляются ранее скрытые свойства изучаемого объе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Младшая группа (от 3 до 4 лет)</a:t>
            </a:r>
            <a:br>
              <a:rPr sz="2800"/>
            </a:b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Ознакомление с предметным мир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Продолжать знакомить детей 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едметами ближайшего окружения, их функциями, назначени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Побуждать детей вычленять особенности предметов. Способствовать овладению способами обследования, группировать и классифицироват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Расширять представления о свойствах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( твердость, мягкость, прочность)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 том, что одни предметы сделаны руками человека, другие – природ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 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редняя группа (от 4 до 5 ле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Развитие познавательно-исследовательской 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должать знакомить детей с обобщенными способами исследования объектов с помощью специально разработанных систем сенсорных эталонов. Помогать осваивать перцептивные действ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ормировать умение выполнять ряд последовательных действий в соответствии с задачей и предлагаемым алгоритмом деятельность, использовать модели предложенные взросл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Средняя группа (от 4 до 5 лет)</a:t>
            </a:r>
            <a:br>
              <a:rPr sz="4800"/>
            </a:b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Ознакомление с предметным мир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оздавать условия для расширения представлений детей об объектах окружающего ми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Продолжать знакомить с признаками предметов, побуждать определять их свойств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 Расширять представления о свойствах, качествах. Объяснять целесообразность изготовления предмета из определенного материала (колокольчики из металла - он звонкий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Calibri"/>
              </a:rPr>
              <a:t>«Игровые ситуации, режимные моменты»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8" descr="P1240410"/>
          <p:cNvPicPr/>
          <p:nvPr/>
        </p:nvPicPr>
        <p:blipFill>
          <a:blip r:embed="rId2"/>
          <a:stretch/>
        </p:blipFill>
        <p:spPr>
          <a:xfrm>
            <a:off x="152280" y="914400"/>
            <a:ext cx="4316400" cy="4724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P1240407"/>
          <p:cNvPicPr/>
          <p:nvPr/>
        </p:nvPicPr>
        <p:blipFill>
          <a:blip r:embed="rId3"/>
          <a:stretch/>
        </p:blipFill>
        <p:spPr>
          <a:xfrm>
            <a:off x="4572000" y="914400"/>
            <a:ext cx="44197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Содержимое 5" descr="P1240383.JPG"/>
          <p:cNvPicPr/>
          <p:nvPr/>
        </p:nvPicPr>
        <p:blipFill>
          <a:blip r:embed="rId2"/>
          <a:stretch/>
        </p:blipFill>
        <p:spPr>
          <a:xfrm>
            <a:off x="2573280" y="0"/>
            <a:ext cx="409248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ФЕЯ БУМАГ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5T15:26:46Z</dcterms:created>
  <dc:creator>1173</dc:creator>
  <dc:description/>
  <dc:language>en-US</dc:language>
  <cp:lastModifiedBy>1</cp:lastModifiedBy>
  <dcterms:modified xsi:type="dcterms:W3CDTF">2018-04-03T17:10:08Z</dcterms:modified>
  <cp:revision>7</cp:revision>
  <dc:subject/>
  <dc:title>Слайд 1</dc:title>
</cp:coreProperties>
</file>