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310C-BAA9-445C-8DB0-DFBC125AF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2E10-3390-4BB1-9061-6951B9112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995-3676-4213-B5C5-FDF45249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69B-F59C-4568-91A3-12291C51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015-24F3-497A-8D20-DD2DB3E5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90B-E6B0-4E5B-AAFF-787E0C3C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F2CF-066D-4AE8-A758-FF93A894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F98C-FBA5-4F48-B9EF-FE2EC9CF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B280-7748-4EAA-8571-0DA18803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E3B9-DEBC-42D5-9D2D-97D29FA0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77A5-03F3-4D69-8DB0-A06FBC5F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9968-2981-4C52-93BC-AEF77229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D040-A9FB-4524-A730-8F357D44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402-0797-4BBC-8444-C9C68E2E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4817-3275-4750-9A69-8D79A28A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40E8-5011-4C42-A8ED-70DEF282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6E5D-ECC4-42EC-B6C8-2E4E855F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BAFF-0B61-483B-BCF3-9E0110C8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FFA9-D069-4BDA-8BED-997E5397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CD7-F505-427D-8992-2DC8465A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42F-4C0F-4CB8-9E4D-0AFF6D26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E77-04AF-4E42-9A15-81105E84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62F-E8CB-41D5-900B-158A22BD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FE7-1868-448E-AFDA-EA1882D0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282-B289-4862-B1E1-87706DB9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680-3C2A-46DE-95D4-9BD22B50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D2C-2E01-4AFB-9936-20E9568D5FB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F326-E866-4479-9BE6-D66674D99B7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Исследовательский проект «Влияние газированных напитков на живые организмы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1640" y="4876920"/>
            <a:ext cx="417348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ила: Кара –Сал Аржаана ,ученица 10  класса МБОУ Хайыраканской СОШ Дзун-Хемчикского кожууна Р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уководитель: Дулуш Ч.С . учитель химии и биологии МБОУ Хайыраканской СО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726000" cy="3733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Позитроника\Pictures\Март 2014 г\CAM00701.jpg"/>
          <p:cNvPicPr/>
          <p:nvPr/>
        </p:nvPicPr>
        <p:blipFill>
          <a:blip r:embed="rId2"/>
          <a:stretch/>
        </p:blipFill>
        <p:spPr>
          <a:xfrm>
            <a:off x="609480" y="2133720"/>
            <a:ext cx="3562560" cy="426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Позитроника\Pictures\Март 2014 г\CAM00700.jpg"/>
          <p:cNvPicPr/>
          <p:nvPr/>
        </p:nvPicPr>
        <p:blipFill>
          <a:blip r:embed="rId3"/>
          <a:stretch/>
        </p:blipFill>
        <p:spPr>
          <a:xfrm>
            <a:off x="4952880" y="1981080"/>
            <a:ext cx="26481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Социологический опрос учащихся среди 5-11-х классов: всего опрошено 100 (из них 87% ответили - да , 13 % - нет)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3048120"/>
            <a:ext cx="7340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Диаграмма 3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96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2. Изучение состава и свойств газированных напитков по этикеткам.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став газированной воды «Мандариновый»: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да ,двуокись углерода, ароматизатор идентичный натуральному, лимонная кислота ,бензоат натрия ,подсластители , красите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став напитка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сахар , лимонная кислота , подсластители  (цикламат, аспартам, сахарин), фумаровая кислота , красители , вкусовая добавка , фенилалани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3. Определение в газированном напитке углекислого газа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газированном  напитке присутствует угольная кислота, которая разлагается с выделением СО2.При добавлени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(OH)2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газированную воду раствор помутнеет. Это доказывает ,что в состав газированной воды есть углекислый газ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2 +Ca(OH)2 = CaCO3 + H2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C:\Users\Позитроника\Pictures\Март 2014 г\CAM00761.jpg"/>
          <p:cNvPicPr/>
          <p:nvPr/>
        </p:nvPicPr>
        <p:blipFill>
          <a:blip r:embed="rId1"/>
          <a:stretch/>
        </p:blipFill>
        <p:spPr>
          <a:xfrm>
            <a:off x="5715000" y="1676520"/>
            <a:ext cx="2724120" cy="2895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Позитроника\Pictures\Март 2014 г\CAM00766.jpg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4. Эксперименты, подтверждающие вредное влияние газированных напитков на живые организмы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1) Изучение влияния газированных напитков на прорастание семян редиса.</a:t>
            </a:r>
            <a:br>
              <a:rPr sz="1800"/>
            </a:b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ель: выявление вредного влияния газированных напитков на прорастание семян реди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– напиток 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– газированная вода «Мандариновый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 (контроль) – вода из колодц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2" descr="C:\Users\Позитроника\Pictures\Март 2014 г\CAM00690.jpg"/>
          <p:cNvPicPr/>
          <p:nvPr/>
        </p:nvPicPr>
        <p:blipFill>
          <a:blip r:embed="rId1"/>
          <a:stretch/>
        </p:blipFill>
        <p:spPr>
          <a:xfrm>
            <a:off x="380880" y="44197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Позитроника\Pictures\Март 2014 г\CAM00706.jpg"/>
          <p:cNvPicPr/>
          <p:nvPr/>
        </p:nvPicPr>
        <p:blipFill>
          <a:blip r:embed="rId2"/>
          <a:stretch/>
        </p:blipFill>
        <p:spPr>
          <a:xfrm>
            <a:off x="3505320" y="44197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Позитроника\Pictures\Март 2014 г\CAM00696.jpg"/>
          <p:cNvPicPr/>
          <p:nvPr/>
        </p:nvPicPr>
        <p:blipFill>
          <a:blip r:embed="rId3"/>
          <a:stretch/>
        </p:blipFill>
        <p:spPr>
          <a:xfrm>
            <a:off x="5181480" y="441972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213840"/>
            <a:ext cx="883944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№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1 напиток «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Yupi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»                   №2 газ.вода «Мандариновый»        №3 (контроль) вода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проростки не появились             проростки не появились,              проростки появились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развитие плесневых грибов       развитие плесневых грибов</a:t>
            </a:r>
            <a:br>
              <a:rPr sz="16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езультаты через 5 дней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2" descr="C:\Users\Позитроника\Pictures\Март 2014 г\CAM00732.jpg"/>
          <p:cNvPicPr/>
          <p:nvPr/>
        </p:nvPicPr>
        <p:blipFill>
          <a:blip r:embed="rId1"/>
          <a:stretch/>
        </p:blipFill>
        <p:spPr>
          <a:xfrm>
            <a:off x="6019920" y="365760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Users\Позитроника\Pictures\Март 2014 г\CAM00730.jpg"/>
          <p:cNvPicPr/>
          <p:nvPr/>
        </p:nvPicPr>
        <p:blipFill>
          <a:blip r:embed="rId2"/>
          <a:stretch/>
        </p:blipFill>
        <p:spPr>
          <a:xfrm>
            <a:off x="2895480" y="1828800"/>
            <a:ext cx="312444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:\Users\Позитроника\Pictures\Март 2014 г\CAM00723.jpg"/>
          <p:cNvPicPr/>
          <p:nvPr/>
        </p:nvPicPr>
        <p:blipFill>
          <a:blip r:embed="rId3"/>
          <a:stretch/>
        </p:blipFill>
        <p:spPr>
          <a:xfrm>
            <a:off x="0" y="38862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ходе эксперимента мы обнаружили, что семена прорастали только в контроле,  содержащем воду, а вот в газированном напитке "Мандариновый" и   в напитке 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 проростков не появились,  напитки  способствовали развитию плесневых грибов и образованию запаха гнили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5)Изучение влияния газированных  напитков на печень 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 3 прозрачных стакана с напитками положила по  1-му  куска пече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через полтора часа вода стала мутной от разложений (омертвленных частичек печен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щё через час разложилось более половины пече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вно через три часа начальную печень было не узнать, вот что с ней стал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2" descr="C:\Users\Позитроника\Pictures\Март 2014 г\CAM00762.jpg"/>
          <p:cNvPicPr/>
          <p:nvPr/>
        </p:nvPicPr>
        <p:blipFill>
          <a:blip r:embed="rId1"/>
          <a:stretch/>
        </p:blipFill>
        <p:spPr>
          <a:xfrm>
            <a:off x="0" y="411480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Позитроника\Pictures\Март 2014 г\CAM00764.jpg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этом исследовании мы убедились, что газированная вода пагубно влияет  на печень. В процессе исследования мы видим, как газированный сок разлагает частички печен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вы не хотите чтобы это случилось с вашей печенью, не употребляйте газированные напитки в любых ситуаци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5"/>
          <p:cNvSpPr/>
          <p:nvPr/>
        </p:nvSpPr>
        <p:spPr>
          <a:xfrm>
            <a:off x="9907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ределение наличия красителей в газированных напитках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762120" y="2057400"/>
            <a:ext cx="419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таканы положила в каждую кусок  яичной скорлупы ,залила яичные скорлупы напитк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– крас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ода(контроль) – остаетсябелы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газвода – оранжевый, мягк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апитки содержат красители, которые окрашивают яичные скорлупы. Газированная вода растворяет неорганические вещества в яичной скорлупе . А в организме газированная вода выводит из костей неорганические вещества, а значит, они становятся хрупки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6" descr="C:\Users\Позитроника\Pictures\Март 2014 г\CAM00748.jpg"/>
          <p:cNvPicPr/>
          <p:nvPr/>
        </p:nvPicPr>
        <p:blipFill>
          <a:blip r:embed="rId1"/>
          <a:stretch/>
        </p:blipFill>
        <p:spPr>
          <a:xfrm>
            <a:off x="4952880" y="4038480"/>
            <a:ext cx="381024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:\Users\Позитроника\Pictures\Март 2014 г\CAM00750.jpg"/>
          <p:cNvPicPr/>
          <p:nvPr/>
        </p:nvPicPr>
        <p:blipFill>
          <a:blip r:embed="rId2"/>
          <a:stretch/>
        </p:blipFill>
        <p:spPr>
          <a:xfrm>
            <a:off x="4952880" y="1752480"/>
            <a:ext cx="3810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основе  проведенных экспериментов можно сделать вывод, что газированные напитки    пагубно воздействуют на растущий организм.  Они  тормозят  правильное развитие его, а в некоторых случаях и вовсе губят. Растения не развиваются в среде, состоящей из газированных напитков. Химические вещества , которые входят в состав газированных напитков оказывает отрицательное влияние  на развитие живого организма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: если школьники будут владеть научно обоснованной информацией о влиянии газированных напитков на биологические процессы в живом организме  и как следствие, на организм человека, то возникнет осмысленное отношение к процессу употребления таких напитков - подтвердилась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2580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ктуальность      Проблема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ктуальность данной работы состои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еобходимости исследований поступающих в организм жидкостей на предмет их экологической безопасности и биологической ценнос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867280" y="1676520"/>
            <a:ext cx="254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ение влияния газированных напитков на организм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двинутая нами гипотеза получила подтверждение. Предлагаемые производителями напитки за счет содержания в них вредных добавок могут являться причиной заболеваний.  Прежде чем употреблять напиток, следует обратить внимание на его соста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45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комендац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40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Необходимо внимательно читать этикетк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Лучше выбирать напитки неярких естественных цветов – больше шансов на применение естественного красите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Напитки, содержащие сахар, безусловно предпочтительнее напитков на подсластител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Напитки с подсластителями не рекомендуется хранить без холодильника и уж тем более нагрева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Ни в коем случае не следует употреблять напитки с истекшим сроком год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305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бо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явление влияния газированных напитков на состояние растущего организма  в зависимости от их химического сост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бъек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газированный напиток и напиток «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едме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остав газированного напитка и напитка «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05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Изучить информацию о составе и свойствах газированных напитков в интернете и в научно-популярной литератур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Изучить состав газированных напитков по этикетке и опытным путем убедить о губительном влиянии газированных напитков на растущий организ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Провести опрос среди учащихся и предложить рекомендации по употреблению газированных напит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газированные напитки употреблять ежедневно и в больших количествах, то это негативно скажется на здоровье челове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5145120" y="2857680"/>
          <a:ext cx="3811680" cy="24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857680"/>
                    <a:ext cx="3811680" cy="24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рганизация и основные этапы исследовани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исково-теоретический, май-сентябрь 2015 года - анализ литературных источников, формулирование темы и задач исследов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опытно-исследовательский,  - сентябрь –декабрь  2015 года - проведение исследов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заключительно-обобщающий,  январь 2016 года - анализ полученных данных, формулировка вывод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09480" y="51814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581280" y="50292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Эксперимен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Сравн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Анали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оциологический опро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изна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смотря на широкую распространенность газированных напитков, в изученной литературе нам не встретилось изучение осведомленности учеников школ села Хайыракан  о влиянии газированных напитков на здоровь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ещества, входящие в состав газированных напитков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спартам 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худшает зр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имонная кисло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водит к  возникновению кариес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харный колер вызывае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ахарный диаб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Фосфорная кисло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мывает кальций из кос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ензоат натр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водит к нарушению обмена вещест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офеи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тощает  нервную систем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Углекислый га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аздражает слизистую желудка и кишечн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4343400"/>
            <a:ext cx="76201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Tahoma"/>
              </a:rPr>
              <a:t>Экспериментальные исследования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зитроника</dc:creator>
  <dc:description/>
  <dc:language>en-US</dc:language>
  <cp:lastModifiedBy>Позитроника</cp:lastModifiedBy>
  <dcterms:modified xsi:type="dcterms:W3CDTF">2018-04-03T12:24:34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