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A6A7-1E54-4763-B3F6-B22BB108C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EF6-12BA-4859-96F4-9E87C3FF7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D7C-520F-4619-94B5-39823C7F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122-515D-4EA4-B488-A39ECA86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24F-DA2B-4E52-A7DD-3AED5505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C4D-C697-478F-8DF9-C21EFA1C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F891-E6C9-45EC-9320-81B94B53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95E2-3330-4B9D-AD0B-8A2CCA66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B118-4C12-492E-B4CE-A4E61391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FEED-EAE1-4B3A-9739-6BC712B9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8A1B-F064-45DB-A716-D1149C48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38BB-BA5C-4916-816C-E58F5440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8705-4F7F-4BC7-AEB1-48BDE605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FE2-4544-47BC-8BD8-DB883EBF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19F4-F33C-4821-86EC-2886527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7001-2A6C-4100-808C-A55168A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11DE-3AA9-4E9C-B170-B540A57E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3299-CA4B-4F26-8A4C-C73264D9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90F9-0228-4B55-80AA-2820498A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DC6-0F97-475E-A137-3B49AB6E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2EE-61CE-4D4D-8DA6-983D2631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357-C308-4CA4-A169-8C52A035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372-B2B5-4AE8-9D88-ABC710D3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385-4F6F-4B3A-832C-152CEE4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440-6177-4378-AA8B-58A42570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6CB-A823-4798-8C05-2397F78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C0C1-BBE2-4658-8228-52E50CDC12C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C71C-DE06-4E6A-9F1B-286ADD0B04C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Исследовательский проект «Влияние газированных напитков на живые организмы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1640" y="4876920"/>
            <a:ext cx="417348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ила: Кара –Сал Аржаана ,ученица 10  класса МБОУ Хайыраканской СОШ Дзун-Хемчикского кожууна Р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ководитель: Дулуш Ч.С . учитель химии и биологии МБОУ Хайыраканской СО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72600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Позитроника\Pictures\Март 2014 г\CAM00701.jpg"/>
          <p:cNvPicPr/>
          <p:nvPr/>
        </p:nvPicPr>
        <p:blipFill>
          <a:blip r:embed="rId2"/>
          <a:stretch/>
        </p:blipFill>
        <p:spPr>
          <a:xfrm>
            <a:off x="609480" y="2133720"/>
            <a:ext cx="3562560" cy="426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Позитроника\Pictures\Март 2014 г\CAM00700.jpg"/>
          <p:cNvPicPr/>
          <p:nvPr/>
        </p:nvPicPr>
        <p:blipFill>
          <a:blip r:embed="rId3"/>
          <a:stretch/>
        </p:blipFill>
        <p:spPr>
          <a:xfrm>
            <a:off x="4952880" y="1981080"/>
            <a:ext cx="26481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Социологический опрос учащихся среди 5-11-х классов: всего опрошено 100 (из них 87% ответили - да , 13 % - нет)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3048120"/>
            <a:ext cx="7340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Диаграмма 3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2. Изучение состава и свойств газированных напитков по этикеткам.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став газированной воды «Мандариновый»: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да ,двуокись углерода, ароматизатор идентичный натуральному, лимонная кислота ,бензоат натрия ,подсластители , красите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став напитка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сахар , лимонная кислота , подсластители  (цикламат, аспартам, сахарин), фумаровая кислота , красители , вкусовая добавка , фенилалани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3. Определение в газированном напитке углекислого газа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газированном  напитке присутствует угольная кислота, которая разлагается с выделением СО2.При добавлени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(OH)2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газированную воду раствор помутнеет. Это доказывает ,что в состав газированной воды есть углекислый газ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2 +Ca(OH)2 = CaCO3 + H2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C:\Users\Позитроника\Pictures\Март 2014 г\CAM00761.jpg"/>
          <p:cNvPicPr/>
          <p:nvPr/>
        </p:nvPicPr>
        <p:blipFill>
          <a:blip r:embed="rId1"/>
          <a:stretch/>
        </p:blipFill>
        <p:spPr>
          <a:xfrm>
            <a:off x="5715000" y="1676520"/>
            <a:ext cx="2724120" cy="2895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Позитроника\Pictures\Март 2014 г\CAM00766.jpg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4. Эксперименты, подтверждающие вредное влияние газированных напитков на живые организмы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1) Изучение влияния газированных напитков на прорастание семян редиса.</a:t>
            </a:r>
            <a:br>
              <a:rPr sz="1800"/>
            </a:b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ь: выявление вредного влияния газированных напитков на прорастание семян реди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– напиток 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– газированная вода «Мандариновый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 (контроль) – вода из колод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2" descr="C:\Users\Позитроника\Pictures\Март 2014 г\CAM00690.jpg"/>
          <p:cNvPicPr/>
          <p:nvPr/>
        </p:nvPicPr>
        <p:blipFill>
          <a:blip r:embed="rId1"/>
          <a:stretch/>
        </p:blipFill>
        <p:spPr>
          <a:xfrm>
            <a:off x="380880" y="44197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Позитроника\Pictures\Март 2014 г\CAM00706.jpg"/>
          <p:cNvPicPr/>
          <p:nvPr/>
        </p:nvPicPr>
        <p:blipFill>
          <a:blip r:embed="rId2"/>
          <a:stretch/>
        </p:blipFill>
        <p:spPr>
          <a:xfrm>
            <a:off x="3505320" y="44197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Позитроника\Pictures\Март 2014 г\CAM00696.jpg"/>
          <p:cNvPicPr/>
          <p:nvPr/>
        </p:nvPicPr>
        <p:blipFill>
          <a:blip r:embed="rId3"/>
          <a:stretch/>
        </p:blipFill>
        <p:spPr>
          <a:xfrm>
            <a:off x="5181480" y="441972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213840"/>
            <a:ext cx="883944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№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1 напиток «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Yupi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»                   №2 газ.вода «Мандариновый»        №3 (контроль) вода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проростки не появились             проростки не появились,              проростки появились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развитие плесневых грибов       развитие плесневых грибов</a:t>
            </a:r>
            <a:br>
              <a:rPr sz="16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зультаты через 5 дней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2" descr="C:\Users\Позитроника\Pictures\Март 2014 г\CAM00732.jpg"/>
          <p:cNvPicPr/>
          <p:nvPr/>
        </p:nvPicPr>
        <p:blipFill>
          <a:blip r:embed="rId1"/>
          <a:stretch/>
        </p:blipFill>
        <p:spPr>
          <a:xfrm>
            <a:off x="6019920" y="365760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Позитроника\Pictures\Март 2014 г\CAM00730.jpg"/>
          <p:cNvPicPr/>
          <p:nvPr/>
        </p:nvPicPr>
        <p:blipFill>
          <a:blip r:embed="rId2"/>
          <a:stretch/>
        </p:blipFill>
        <p:spPr>
          <a:xfrm>
            <a:off x="2895480" y="1828800"/>
            <a:ext cx="312444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Users\Позитроника\Pictures\Март 2014 г\CAM00723.jpg"/>
          <p:cNvPicPr/>
          <p:nvPr/>
        </p:nvPicPr>
        <p:blipFill>
          <a:blip r:embed="rId3"/>
          <a:stretch/>
        </p:blipFill>
        <p:spPr>
          <a:xfrm>
            <a:off x="0" y="38862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ходе эксперимента мы обнаружили, что семена прорастали только в контроле,  содержащем воду, а вот в газированном напитке "Мандариновый" и   в напитке 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 проростков не появились,  напитки  способствовали развитию плесневых грибов и образованию запаха гнили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5)Изучение влияния газированных  напитков на печень 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 3 прозрачных стакана с напитками положила по  1-му  куска пече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через полтора часа вода стала мутной от разложений (омертвленных частичек печен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щё через час разложилось более половины пече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вно через три часа начальную печень было не узнать, вот что с ней стал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" descr="C:\Users\Позитроника\Pictures\Март 2014 г\CAM00762.jpg"/>
          <p:cNvPicPr/>
          <p:nvPr/>
        </p:nvPicPr>
        <p:blipFill>
          <a:blip r:embed="rId1"/>
          <a:stretch/>
        </p:blipFill>
        <p:spPr>
          <a:xfrm>
            <a:off x="0" y="411480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Позитроника\Pictures\Март 2014 г\CAM00764.jpg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этом исследовании мы убедились, что газированная вода пагубно влияет  на печень. В процессе исследования мы видим, как газированный сок разлагает частички печен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вы не хотите чтобы это случилось с вашей печенью, не употребляйте газированные напитки в любых ситуаци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5"/>
          <p:cNvSpPr/>
          <p:nvPr/>
        </p:nvSpPr>
        <p:spPr>
          <a:xfrm>
            <a:off x="9907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ределение наличия красителей в газированных напитках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762120" y="2057400"/>
            <a:ext cx="419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таканы положила в каждую кусок  яичной скорлупы ,залила яичные скорлупы напитк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– крас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ода(контроль) – остаетсябелы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газвода – оранжевый, мягк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апитки содержат красители, которые окрашивают яичные скорлупы. Газированная вода растворяет неорганические вещества в яичной скорлупе . А в организме газированная вода выводит из костей неорганические вещества, а значит, они становятся хрупки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C:\Users\Позитроника\Pictures\Март 2014 г\CAM00748.jpg"/>
          <p:cNvPicPr/>
          <p:nvPr/>
        </p:nvPicPr>
        <p:blipFill>
          <a:blip r:embed="rId1"/>
          <a:stretch/>
        </p:blipFill>
        <p:spPr>
          <a:xfrm>
            <a:off x="4952880" y="4038480"/>
            <a:ext cx="381024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Users\Позитроника\Pictures\Март 2014 г\CAM00750.jpg"/>
          <p:cNvPicPr/>
          <p:nvPr/>
        </p:nvPicPr>
        <p:blipFill>
          <a:blip r:embed="rId2"/>
          <a:stretch/>
        </p:blipFill>
        <p:spPr>
          <a:xfrm>
            <a:off x="4952880" y="1752480"/>
            <a:ext cx="3810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основе  проведенных экспериментов можно сделать вывод, что газированные напитки    пагубно воздействуют на растущий организм.  Они  тормозят  правильное развитие его, а в некоторых случаях и вовсе губят. Растения не развиваются в среде, состоящей из газированных напитков. Химические вещества , которые входят в состав газированных напитков оказывает отрицательное влияние  на развитие живого организма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: если школьники будут владеть научно обоснованной информацией о влиянии газированных напитков на биологические процессы в живом организме  и как следствие, на организм человека, то возникнет осмысленное отношение к процессу употребления таких напитков - подтвердилась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2580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ктуальность      Проблема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ктуальность данной работы состои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еобходимости исследований поступающих в организм жидкостей на предмет их экологической безопасности и биологической ценнос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867280" y="1676520"/>
            <a:ext cx="254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ие влияния газированных напитков на организм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двинутая нами гипотеза получила подтверждение. Предлагаемые производителями напитки за счет содержания в них вредных добавок могут являться причиной заболеваний.  Прежде чем употреблять напиток, следует обратить внимание на его соста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45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комендац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40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Необходимо внимательно читать этикетк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Лучше выбирать напитки неярких естественных цветов – больше шансов на применение естественного красит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Напитки, содержащие сахар, безусловно предпочтительнее напитков на подсластител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Напитки с подсластителями не рекомендуется хранить без холодильника и уж тем более нагрева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Ни в коем случае не следует употреблять напитки с истекшим сроком год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явление влияния газированных напитков на состояние растущего организма  в зависимости от их химического сост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газированный напиток и напиток «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едме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остав газированного напитка и напитка «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up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Изучить информацию о составе и свойствах газированных напитков в интернете и в научно-популярной литератур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Изучить состав газированных напитков по этикетке и опытным путем убедить о губительном влиянии газированных напитков на растущий орг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Провести опрос среди учащихся и предложить рекомендации по употреблению газированных напит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газированные напитки употреблять ежедневно и в больших количествах, то это негативно скажется на здоровье челове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5145120" y="2857680"/>
          <a:ext cx="3811680" cy="24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857680"/>
                    <a:ext cx="3811680" cy="24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рганизация и основные этапы исследовани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исково-теоретический, май-сентябрь 2015 года - анализ литературных источников, формулирование темы и задач исследов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опытно-исследовательский,  - сентябрь –декабрь  2015 года - проведение исследов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заключительно-обобщающий,  январь 2016 года - анализ полученных данных, формулировка вывод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09480" y="51814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581280" y="50292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Эксперимен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Сравн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Анали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оциологический опро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изна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смотря на широкую распространенность газированных напитков, в изученной литературе нам не встретилось изучение осведомленности учеников школ села Хайыракан  о влиянии газированных напитков на здоровь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ещества, входящие в состав газированных напитков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спартам 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худшает зр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монная кисло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одит к  возникновению кариес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харный колер вызывае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ахарный диаб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Фосфорная кисло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мывает кальций из кос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ензоат натр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водит к нарушению обмена вещест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офеи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тощает  нервную систем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Углекислый га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здражает слизистую желудка и кишеч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4343400"/>
            <a:ext cx="76201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Экспериментальные исследования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зитроника</dc:creator>
  <dc:description/>
  <dc:language>en-US</dc:language>
  <cp:lastModifiedBy>Позитроника</cp:lastModifiedBy>
  <dcterms:modified xsi:type="dcterms:W3CDTF">2018-04-03T12:24:34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