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760-60C2-41A0-A159-E597EA2B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70A-AFB6-4AF5-9BB6-BC087D37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114-D1BE-4536-ACC0-459BFC7E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3BD-11C4-4C0C-AE82-F35D6D77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5FD1-884D-4F73-BC84-2A5E6942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5854-2082-4074-916E-A8815A11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E8B3-10C0-4397-A87C-4FA53156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061C-19B9-4F7F-BA29-7E4D89A5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B962-A737-4341-8B7C-CA70A502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60E3-8560-47CA-A93C-6F99C7BC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D1D4-36C7-4283-9C10-79D38D7D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5FD-A2E9-4920-936E-311D87AD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C398-28BD-4AEB-B9C0-E39B172C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5A73-F594-4F2F-9DF6-DEA7481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E4D6-8FC9-4144-849C-41F46F6F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C9C5-2266-4F12-8447-C16BACA3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1B49-4797-4929-BEB6-8A1A63DA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81E-0AB0-4D11-8E47-616ECEF9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152-6B82-4646-A2CE-687B4FA5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A31-BA95-4E59-A2B2-4AE3D6F0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3AA-192E-4D3F-B599-B445FC81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C35-B378-447C-ADF2-1AE8D649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B37-A067-4539-AADD-CD9F51D5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EF7-3B3D-43B6-A766-A550D9CB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CE11-CFBD-47E0-8243-B45B08C0B3F4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C93E-753D-4045-A123-2AFF88E55F23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ЧЕБНЫЙ ПРОЕКТ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ПАСПОРТ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ПОРТФОЛИО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Паспорт проектной работ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звание проект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уководитель и консультан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«Рамочный» учебный предме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чебные дисциплины, близкие к теме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остав проектной групп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Тип проект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Цели проекта (педагогическая, практическая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дач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опросы проект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Паспорт проектной работ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09640" y="2214720"/>
            <a:ext cx="39020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орудование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Аннотация (актуальность, значимость, краткое содержание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ектируемые выходы и форма презентаци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4863960" y="2214720"/>
            <a:ext cx="39038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аспределение ролей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Этапы работы над проектом (название этапа, форма, содержание, продолжительность и место работы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Структура портфолио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933480" y="2305080"/>
            <a:ext cx="2800440" cy="5814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Тематическа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029920" y="2743200"/>
            <a:ext cx="2280960" cy="5814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Модульна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914400" y="4457880"/>
            <a:ext cx="2819520" cy="4597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Хронологическа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156680" y="3024360"/>
            <a:ext cx="116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- Тема 1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- Тема 2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- 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1141560" y="5156280"/>
            <a:ext cx="207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- Сентябрь 2005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- Октябрь 2005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- 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5257080" y="3432240"/>
            <a:ext cx="311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- Пла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- «Портрет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«Коллектор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Рабочие материал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Результат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Рефлекс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роекты в «портфолио» учащегося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838080" y="2819520"/>
            <a:ext cx="7943760" cy="2971440"/>
            <a:chOff x="838080" y="2819520"/>
            <a:chExt cx="7943760" cy="2971440"/>
          </a:xfrm>
        </p:grpSpPr>
        <p:grpSp>
          <p:nvGrpSpPr>
            <p:cNvPr id="307" name="Group 4"/>
            <p:cNvGrpSpPr/>
            <p:nvPr/>
          </p:nvGrpSpPr>
          <p:grpSpPr>
            <a:xfrm>
              <a:off x="843480" y="2826000"/>
              <a:ext cx="7931520" cy="2956680"/>
              <a:chOff x="843480" y="2826000"/>
              <a:chExt cx="7931520" cy="2956680"/>
            </a:xfrm>
          </p:grpSpPr>
          <p:grpSp>
            <p:nvGrpSpPr>
              <p:cNvPr id="308" name="Group 5"/>
              <p:cNvGrpSpPr/>
              <p:nvPr/>
            </p:nvGrpSpPr>
            <p:grpSpPr>
              <a:xfrm>
                <a:off x="843480" y="2826000"/>
                <a:ext cx="1088640" cy="1156680"/>
                <a:chOff x="843480" y="2826000"/>
                <a:chExt cx="1088640" cy="1156680"/>
              </a:xfrm>
            </p:grpSpPr>
            <p:sp>
              <p:nvSpPr>
                <p:cNvPr id="309" name="Rectangle 6"/>
                <p:cNvSpPr/>
                <p:nvPr/>
              </p:nvSpPr>
              <p:spPr>
                <a:xfrm>
                  <a:off x="927000" y="2826000"/>
                  <a:ext cx="921600" cy="11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Дата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7"/>
                <p:cNvSpPr/>
                <p:nvPr/>
              </p:nvSpPr>
              <p:spPr>
                <a:xfrm>
                  <a:off x="843480" y="2826000"/>
                  <a:ext cx="1088640" cy="11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8"/>
              <p:cNvGrpSpPr/>
              <p:nvPr/>
            </p:nvGrpSpPr>
            <p:grpSpPr>
              <a:xfrm>
                <a:off x="1932480" y="2826000"/>
                <a:ext cx="4359600" cy="1156680"/>
                <a:chOff x="1932480" y="2826000"/>
                <a:chExt cx="4359600" cy="1156680"/>
              </a:xfrm>
            </p:grpSpPr>
            <p:sp>
              <p:nvSpPr>
                <p:cNvPr id="312" name="Rectangle 9"/>
                <p:cNvSpPr/>
                <p:nvPr/>
              </p:nvSpPr>
              <p:spPr>
                <a:xfrm>
                  <a:off x="2015640" y="2826000"/>
                  <a:ext cx="4192920" cy="11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Наименование проекта, 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работы, роли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10"/>
                <p:cNvSpPr/>
                <p:nvPr/>
              </p:nvSpPr>
              <p:spPr>
                <a:xfrm>
                  <a:off x="1932480" y="2826000"/>
                  <a:ext cx="4359600" cy="11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11"/>
              <p:cNvGrpSpPr/>
              <p:nvPr/>
            </p:nvGrpSpPr>
            <p:grpSpPr>
              <a:xfrm>
                <a:off x="6292440" y="2826000"/>
                <a:ext cx="2482560" cy="1156680"/>
                <a:chOff x="6292440" y="2826000"/>
                <a:chExt cx="2482560" cy="1156680"/>
              </a:xfrm>
            </p:grpSpPr>
            <p:sp>
              <p:nvSpPr>
                <p:cNvPr id="315" name="Rectangle 12"/>
                <p:cNvSpPr/>
                <p:nvPr/>
              </p:nvSpPr>
              <p:spPr>
                <a:xfrm>
                  <a:off x="6375960" y="2826000"/>
                  <a:ext cx="2315880" cy="11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Достижения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13"/>
                <p:cNvSpPr/>
                <p:nvPr/>
              </p:nvSpPr>
              <p:spPr>
                <a:xfrm>
                  <a:off x="6292440" y="2826000"/>
                  <a:ext cx="2482560" cy="11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14"/>
              <p:cNvGrpSpPr/>
              <p:nvPr/>
            </p:nvGrpSpPr>
            <p:grpSpPr>
              <a:xfrm>
                <a:off x="843480" y="3983040"/>
                <a:ext cx="1088640" cy="899640"/>
                <a:chOff x="843480" y="3983040"/>
                <a:chExt cx="1088640" cy="899640"/>
              </a:xfrm>
            </p:grpSpPr>
            <p:sp>
              <p:nvSpPr>
                <p:cNvPr id="318" name="Rectangle 15"/>
                <p:cNvSpPr/>
                <p:nvPr/>
              </p:nvSpPr>
              <p:spPr>
                <a:xfrm>
                  <a:off x="927000" y="3983040"/>
                  <a:ext cx="92160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16"/>
                <p:cNvSpPr/>
                <p:nvPr/>
              </p:nvSpPr>
              <p:spPr>
                <a:xfrm>
                  <a:off x="843480" y="3983040"/>
                  <a:ext cx="1088640" cy="89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17"/>
              <p:cNvGrpSpPr/>
              <p:nvPr/>
            </p:nvGrpSpPr>
            <p:grpSpPr>
              <a:xfrm>
                <a:off x="1932480" y="3983040"/>
                <a:ext cx="4359600" cy="899640"/>
                <a:chOff x="1932480" y="3983040"/>
                <a:chExt cx="4359600" cy="899640"/>
              </a:xfrm>
            </p:grpSpPr>
            <p:sp>
              <p:nvSpPr>
                <p:cNvPr id="321" name="Rectangle 18"/>
                <p:cNvSpPr/>
                <p:nvPr/>
              </p:nvSpPr>
              <p:spPr>
                <a:xfrm>
                  <a:off x="2015640" y="3983040"/>
                  <a:ext cx="419292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Rectangle 19"/>
                <p:cNvSpPr/>
                <p:nvPr/>
              </p:nvSpPr>
              <p:spPr>
                <a:xfrm>
                  <a:off x="1932480" y="3983040"/>
                  <a:ext cx="4359600" cy="89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20"/>
              <p:cNvGrpSpPr/>
              <p:nvPr/>
            </p:nvGrpSpPr>
            <p:grpSpPr>
              <a:xfrm>
                <a:off x="6292440" y="3983040"/>
                <a:ext cx="2482560" cy="899640"/>
                <a:chOff x="6292440" y="3983040"/>
                <a:chExt cx="2482560" cy="899640"/>
              </a:xfrm>
            </p:grpSpPr>
            <p:sp>
              <p:nvSpPr>
                <p:cNvPr id="324" name="Rectangle 21"/>
                <p:cNvSpPr/>
                <p:nvPr/>
              </p:nvSpPr>
              <p:spPr>
                <a:xfrm>
                  <a:off x="6375960" y="3983040"/>
                  <a:ext cx="231588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Rectangle 22"/>
                <p:cNvSpPr/>
                <p:nvPr/>
              </p:nvSpPr>
              <p:spPr>
                <a:xfrm>
                  <a:off x="6292440" y="3983040"/>
                  <a:ext cx="2482560" cy="89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Group 23"/>
              <p:cNvGrpSpPr/>
              <p:nvPr/>
            </p:nvGrpSpPr>
            <p:grpSpPr>
              <a:xfrm>
                <a:off x="843480" y="4883040"/>
                <a:ext cx="1088640" cy="899640"/>
                <a:chOff x="843480" y="4883040"/>
                <a:chExt cx="1088640" cy="899640"/>
              </a:xfrm>
            </p:grpSpPr>
            <p:sp>
              <p:nvSpPr>
                <p:cNvPr id="327" name="Rectangle 24"/>
                <p:cNvSpPr/>
                <p:nvPr/>
              </p:nvSpPr>
              <p:spPr>
                <a:xfrm>
                  <a:off x="927000" y="4883040"/>
                  <a:ext cx="92160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Rectangle 25"/>
                <p:cNvSpPr/>
                <p:nvPr/>
              </p:nvSpPr>
              <p:spPr>
                <a:xfrm>
                  <a:off x="843480" y="4883040"/>
                  <a:ext cx="1088640" cy="89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26"/>
              <p:cNvGrpSpPr/>
              <p:nvPr/>
            </p:nvGrpSpPr>
            <p:grpSpPr>
              <a:xfrm>
                <a:off x="1932480" y="4883040"/>
                <a:ext cx="4359600" cy="899640"/>
                <a:chOff x="1932480" y="4883040"/>
                <a:chExt cx="4359600" cy="899640"/>
              </a:xfrm>
            </p:grpSpPr>
            <p:sp>
              <p:nvSpPr>
                <p:cNvPr id="330" name="Rectangle 27"/>
                <p:cNvSpPr/>
                <p:nvPr/>
              </p:nvSpPr>
              <p:spPr>
                <a:xfrm>
                  <a:off x="2015640" y="4883040"/>
                  <a:ext cx="419292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Rectangle 28"/>
                <p:cNvSpPr/>
                <p:nvPr/>
              </p:nvSpPr>
              <p:spPr>
                <a:xfrm>
                  <a:off x="1932480" y="4883040"/>
                  <a:ext cx="4359600" cy="89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Group 29"/>
              <p:cNvGrpSpPr/>
              <p:nvPr/>
            </p:nvGrpSpPr>
            <p:grpSpPr>
              <a:xfrm>
                <a:off x="6292440" y="4883040"/>
                <a:ext cx="2482560" cy="899640"/>
                <a:chOff x="6292440" y="4883040"/>
                <a:chExt cx="2482560" cy="899640"/>
              </a:xfrm>
            </p:grpSpPr>
            <p:sp>
              <p:nvSpPr>
                <p:cNvPr id="333" name="Rectangle 30"/>
                <p:cNvSpPr/>
                <p:nvPr/>
              </p:nvSpPr>
              <p:spPr>
                <a:xfrm>
                  <a:off x="6375960" y="4883040"/>
                  <a:ext cx="231588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Rectangle 31"/>
                <p:cNvSpPr/>
                <p:nvPr/>
              </p:nvSpPr>
              <p:spPr>
                <a:xfrm>
                  <a:off x="6292440" y="4883040"/>
                  <a:ext cx="2482560" cy="89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Rectangle 32"/>
            <p:cNvSpPr/>
            <p:nvPr/>
          </p:nvSpPr>
          <p:spPr>
            <a:xfrm>
              <a:off x="838080" y="2819520"/>
              <a:ext cx="7943760" cy="2971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4</dc:creator>
  <dc:description/>
  <dc:language>en-US</dc:language>
  <cp:lastModifiedBy>1234</cp:lastModifiedBy>
  <dcterms:modified xsi:type="dcterms:W3CDTF">2013-04-03T13:37:56Z</dcterms:modified>
  <cp:revision>7</cp:revision>
  <dc:subject/>
  <dc:title>PowerPoint Presentation</dc:title>
</cp:coreProperties>
</file>