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00C-2D9B-4550-984A-9DD373D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F8C-ECA6-44E5-8561-9FB400A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68C-95B0-49E7-BC52-5A25BD82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B27-8B25-4384-9C1A-37EA07E1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06C1-9FCA-440C-A8A6-8C7D6A72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2E1A-5AC9-4C6A-B7CC-FA41671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780-F0C7-492C-A712-09BE55D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BC1-7DAF-466B-BF3B-519B6D9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F2A-205D-432C-840A-65564F6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983-F147-411D-B43E-D5E3E46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81B1-C23B-466A-9915-329C7DA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B51-221F-4BDE-A39C-0A21C9BF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9F0-196C-4B01-BBB1-62059CF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2BF-BE41-4749-B4B2-9CD437B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37FF-0617-4B8B-B078-F3E1DF1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871E-72FF-4979-817E-E89AB4BC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FC4F-07B2-4FFC-848B-E7E9F897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FA3-A523-4F76-85BE-853C0E2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17A-173C-4715-A9A9-2B7ACCD6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34B-4933-47AF-A3A1-233FE4E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60E-1269-4566-8D0A-2DC99D09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50F-8BAA-41A4-9FAB-3F21480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057-E767-475E-A6CD-F5D983D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9E1-8BE7-41C7-B5EB-EE01E52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81D-6B5B-4628-9E89-783C9D762C73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881D-9A6F-4138-8F24-A4BE7B4F31B6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ЧЕБНЫЙ ПРОЕКТ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ПАСПОРТ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ПОРТФОЛИО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аспорт проектной работ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звание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уководитель и консультан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«Рамочный» учебный предме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ебные дисциплины, близкие к тем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став проектной групп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ип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Цели проекта (педагогическая, практическая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опросы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аспорт проектной работ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09640" y="2214720"/>
            <a:ext cx="39020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орудовани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ннотация (актуальность, значимость, краткое содержание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ектируемые выходы и форма презентаци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пределение роле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Этапы работы над проектом (название этапа, форма, содержание, продолжительность и место работы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труктура портфолио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933480" y="2305080"/>
            <a:ext cx="2800440" cy="5814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Тематическа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029920" y="2743200"/>
            <a:ext cx="2280960" cy="5814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Модульна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914400" y="4457880"/>
            <a:ext cx="2819520" cy="4597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Хронологическа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156680" y="3024360"/>
            <a:ext cx="11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Тема 1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Тема 2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141560" y="5156280"/>
            <a:ext cx="20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Сентябрь 2005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Октябрь 2005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5257080" y="3432240"/>
            <a:ext cx="311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 Пла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 «Портрет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«Коллектор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бочие материал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езультат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ефлекс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оекты в «портфолио» учащегос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838080" y="2819520"/>
            <a:ext cx="7943760" cy="2971440"/>
            <a:chOff x="838080" y="2819520"/>
            <a:chExt cx="7943760" cy="2971440"/>
          </a:xfrm>
        </p:grpSpPr>
        <p:grpSp>
          <p:nvGrpSpPr>
            <p:cNvPr id="307" name="Group 4"/>
            <p:cNvGrpSpPr/>
            <p:nvPr/>
          </p:nvGrpSpPr>
          <p:grpSpPr>
            <a:xfrm>
              <a:off x="843480" y="2826000"/>
              <a:ext cx="7931520" cy="2956680"/>
              <a:chOff x="843480" y="2826000"/>
              <a:chExt cx="7931520" cy="2956680"/>
            </a:xfrm>
          </p:grpSpPr>
          <p:grpSp>
            <p:nvGrpSpPr>
              <p:cNvPr id="308" name="Group 5"/>
              <p:cNvGrpSpPr/>
              <p:nvPr/>
            </p:nvGrpSpPr>
            <p:grpSpPr>
              <a:xfrm>
                <a:off x="843480" y="2826000"/>
                <a:ext cx="1088640" cy="1156680"/>
                <a:chOff x="843480" y="2826000"/>
                <a:chExt cx="1088640" cy="1156680"/>
              </a:xfrm>
            </p:grpSpPr>
            <p:sp>
              <p:nvSpPr>
                <p:cNvPr id="309" name="Rectangle 6"/>
                <p:cNvSpPr/>
                <p:nvPr/>
              </p:nvSpPr>
              <p:spPr>
                <a:xfrm>
                  <a:off x="927000" y="2826000"/>
                  <a:ext cx="92160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Дата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"/>
                <p:cNvSpPr/>
                <p:nvPr/>
              </p:nvSpPr>
              <p:spPr>
                <a:xfrm>
                  <a:off x="843480" y="2826000"/>
                  <a:ext cx="108864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8"/>
              <p:cNvGrpSpPr/>
              <p:nvPr/>
            </p:nvGrpSpPr>
            <p:grpSpPr>
              <a:xfrm>
                <a:off x="1932480" y="2826000"/>
                <a:ext cx="4359600" cy="1156680"/>
                <a:chOff x="1932480" y="2826000"/>
                <a:chExt cx="4359600" cy="1156680"/>
              </a:xfrm>
            </p:grpSpPr>
            <p:sp>
              <p:nvSpPr>
                <p:cNvPr id="312" name="Rectangle 9"/>
                <p:cNvSpPr/>
                <p:nvPr/>
              </p:nvSpPr>
              <p:spPr>
                <a:xfrm>
                  <a:off x="2015640" y="2826000"/>
                  <a:ext cx="419292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Наименование проекта, 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работы, роли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10"/>
                <p:cNvSpPr/>
                <p:nvPr/>
              </p:nvSpPr>
              <p:spPr>
                <a:xfrm>
                  <a:off x="1932480" y="2826000"/>
                  <a:ext cx="435960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11"/>
              <p:cNvGrpSpPr/>
              <p:nvPr/>
            </p:nvGrpSpPr>
            <p:grpSpPr>
              <a:xfrm>
                <a:off x="6292440" y="2826000"/>
                <a:ext cx="2482560" cy="1156680"/>
                <a:chOff x="6292440" y="2826000"/>
                <a:chExt cx="2482560" cy="1156680"/>
              </a:xfrm>
            </p:grpSpPr>
            <p:sp>
              <p:nvSpPr>
                <p:cNvPr id="315" name="Rectangle 12"/>
                <p:cNvSpPr/>
                <p:nvPr/>
              </p:nvSpPr>
              <p:spPr>
                <a:xfrm>
                  <a:off x="6375960" y="2826000"/>
                  <a:ext cx="231588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Достижения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13"/>
                <p:cNvSpPr/>
                <p:nvPr/>
              </p:nvSpPr>
              <p:spPr>
                <a:xfrm>
                  <a:off x="6292440" y="2826000"/>
                  <a:ext cx="248256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14"/>
              <p:cNvGrpSpPr/>
              <p:nvPr/>
            </p:nvGrpSpPr>
            <p:grpSpPr>
              <a:xfrm>
                <a:off x="843480" y="3983040"/>
                <a:ext cx="1088640" cy="899640"/>
                <a:chOff x="843480" y="3983040"/>
                <a:chExt cx="1088640" cy="899640"/>
              </a:xfrm>
            </p:grpSpPr>
            <p:sp>
              <p:nvSpPr>
                <p:cNvPr id="318" name="Rectangle 15"/>
                <p:cNvSpPr/>
                <p:nvPr/>
              </p:nvSpPr>
              <p:spPr>
                <a:xfrm>
                  <a:off x="927000" y="3983040"/>
                  <a:ext cx="92160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16"/>
                <p:cNvSpPr/>
                <p:nvPr/>
              </p:nvSpPr>
              <p:spPr>
                <a:xfrm>
                  <a:off x="843480" y="3983040"/>
                  <a:ext cx="108864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17"/>
              <p:cNvGrpSpPr/>
              <p:nvPr/>
            </p:nvGrpSpPr>
            <p:grpSpPr>
              <a:xfrm>
                <a:off x="1932480" y="3983040"/>
                <a:ext cx="4359600" cy="899640"/>
                <a:chOff x="1932480" y="3983040"/>
                <a:chExt cx="4359600" cy="899640"/>
              </a:xfrm>
            </p:grpSpPr>
            <p:sp>
              <p:nvSpPr>
                <p:cNvPr id="321" name="Rectangle 18"/>
                <p:cNvSpPr/>
                <p:nvPr/>
              </p:nvSpPr>
              <p:spPr>
                <a:xfrm>
                  <a:off x="2015640" y="3983040"/>
                  <a:ext cx="419292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19"/>
                <p:cNvSpPr/>
                <p:nvPr/>
              </p:nvSpPr>
              <p:spPr>
                <a:xfrm>
                  <a:off x="1932480" y="3983040"/>
                  <a:ext cx="435960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20"/>
              <p:cNvGrpSpPr/>
              <p:nvPr/>
            </p:nvGrpSpPr>
            <p:grpSpPr>
              <a:xfrm>
                <a:off x="6292440" y="3983040"/>
                <a:ext cx="2482560" cy="899640"/>
                <a:chOff x="6292440" y="3983040"/>
                <a:chExt cx="2482560" cy="899640"/>
              </a:xfrm>
            </p:grpSpPr>
            <p:sp>
              <p:nvSpPr>
                <p:cNvPr id="324" name="Rectangle 21"/>
                <p:cNvSpPr/>
                <p:nvPr/>
              </p:nvSpPr>
              <p:spPr>
                <a:xfrm>
                  <a:off x="6375960" y="3983040"/>
                  <a:ext cx="231588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22"/>
                <p:cNvSpPr/>
                <p:nvPr/>
              </p:nvSpPr>
              <p:spPr>
                <a:xfrm>
                  <a:off x="6292440" y="3983040"/>
                  <a:ext cx="248256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23"/>
              <p:cNvGrpSpPr/>
              <p:nvPr/>
            </p:nvGrpSpPr>
            <p:grpSpPr>
              <a:xfrm>
                <a:off x="843480" y="4883040"/>
                <a:ext cx="1088640" cy="899640"/>
                <a:chOff x="843480" y="4883040"/>
                <a:chExt cx="1088640" cy="899640"/>
              </a:xfrm>
            </p:grpSpPr>
            <p:sp>
              <p:nvSpPr>
                <p:cNvPr id="327" name="Rectangle 24"/>
                <p:cNvSpPr/>
                <p:nvPr/>
              </p:nvSpPr>
              <p:spPr>
                <a:xfrm>
                  <a:off x="927000" y="4883040"/>
                  <a:ext cx="92160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25"/>
                <p:cNvSpPr/>
                <p:nvPr/>
              </p:nvSpPr>
              <p:spPr>
                <a:xfrm>
                  <a:off x="843480" y="4883040"/>
                  <a:ext cx="108864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6"/>
              <p:cNvGrpSpPr/>
              <p:nvPr/>
            </p:nvGrpSpPr>
            <p:grpSpPr>
              <a:xfrm>
                <a:off x="1932480" y="4883040"/>
                <a:ext cx="4359600" cy="899640"/>
                <a:chOff x="1932480" y="4883040"/>
                <a:chExt cx="4359600" cy="899640"/>
              </a:xfrm>
            </p:grpSpPr>
            <p:sp>
              <p:nvSpPr>
                <p:cNvPr id="330" name="Rectangle 27"/>
                <p:cNvSpPr/>
                <p:nvPr/>
              </p:nvSpPr>
              <p:spPr>
                <a:xfrm>
                  <a:off x="2015640" y="4883040"/>
                  <a:ext cx="419292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28"/>
                <p:cNvSpPr/>
                <p:nvPr/>
              </p:nvSpPr>
              <p:spPr>
                <a:xfrm>
                  <a:off x="1932480" y="4883040"/>
                  <a:ext cx="435960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29"/>
              <p:cNvGrpSpPr/>
              <p:nvPr/>
            </p:nvGrpSpPr>
            <p:grpSpPr>
              <a:xfrm>
                <a:off x="6292440" y="4883040"/>
                <a:ext cx="2482560" cy="899640"/>
                <a:chOff x="6292440" y="4883040"/>
                <a:chExt cx="2482560" cy="899640"/>
              </a:xfrm>
            </p:grpSpPr>
            <p:sp>
              <p:nvSpPr>
                <p:cNvPr id="333" name="Rectangle 30"/>
                <p:cNvSpPr/>
                <p:nvPr/>
              </p:nvSpPr>
              <p:spPr>
                <a:xfrm>
                  <a:off x="6375960" y="4883040"/>
                  <a:ext cx="231588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31"/>
                <p:cNvSpPr/>
                <p:nvPr/>
              </p:nvSpPr>
              <p:spPr>
                <a:xfrm>
                  <a:off x="6292440" y="4883040"/>
                  <a:ext cx="248256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Rectangle 32"/>
            <p:cNvSpPr/>
            <p:nvPr/>
          </p:nvSpPr>
          <p:spPr>
            <a:xfrm>
              <a:off x="838080" y="2819520"/>
              <a:ext cx="7943760" cy="297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13-04-03T13:37:56Z</dcterms:modified>
  <cp:revision>7</cp:revision>
  <dc:subject/>
  <dc:title>PowerPoint Presentation</dc:title>
</cp:coreProperties>
</file>