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F4F-A95E-4554-8FCD-3E966431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77F-7A47-4716-B8DF-61780C1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4BCDD-7CCF-4CC7-AB25-DF23950C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B85B5-E98B-4A4C-A0A3-9A13FDF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E7B22-7341-4630-A2E4-B8C75CE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595E1-DF9A-4D39-86CB-A984909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A5C22-F602-41AC-AB38-41EFA21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C8161-608E-4082-914B-D458ABC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F05D5-BDF8-4290-A278-F4DAFB4F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B620C-2B21-498E-BBCD-6FDB446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99064-15E0-4B7A-9FC4-BA3976F7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E9631-8D0D-4DB7-8735-8330E466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22D-A94A-4097-A5CD-A6A636A8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FDEA6-30AA-4E05-A2BD-CA6BB17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31220-71FB-431E-859F-1CF04992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6D533-E161-4232-8087-1DA3A9AB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0D089-8518-44E1-A362-4110B37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560B7-D325-432D-B29B-EC6FFC6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6962B-394E-46EB-9D88-D4E6C54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954E9-1FDA-43A3-87A1-57616816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9651B-D6DF-4407-92DB-87ACE34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18D10-A3DF-4C10-844C-240843D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38108-8CDB-4FB9-BD17-C2B8BEDE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487-7D5E-4923-9352-08EFF288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6D163-13EC-4E33-9E9B-BE67570C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A138A-725C-4B97-AE32-94E13361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AF5F7-1401-4985-8CDC-C914D57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959B9-26E5-4FF1-93C2-E529EDB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84C64-D19C-4229-A7AD-890AFF9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DA1FC-7E04-478E-871D-D6DB85E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F98D-EAC7-4740-A92C-1DD361C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EE14-EF7E-476A-A831-24EB686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BC113-73DF-45F8-8DCF-B7D3014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C2B23-3E93-47D5-B8EF-4F79EF5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5963-683C-4177-8DC4-F6C53DA3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407C-BC27-46CD-B9D3-5D2553D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8D50-5F37-4584-A96D-27ECB7D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727C-2499-49E1-BE34-0086FA4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0D75F-67C7-4A01-9191-B86E8A38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38DC5-1003-45D9-8417-15F57BD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D1BC4-12CA-4111-8CE5-9CE8C05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2453D-B584-4353-8E86-D7FAF8A3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F14F1-8098-48E8-AC16-065A5ED1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84BA0-4E83-489B-BBA7-84864AE9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A376B-48A1-4946-A4DF-0039173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7CB1-7FC9-44AC-88E7-F1DAF17E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DAC82-C490-4640-A6CB-85AB5C8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9AA8E-4828-4EE7-BA95-47B94EC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09A2C-BB48-4D8F-AF97-B6B2201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3A50F-221B-4A07-890E-DE787137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88C16-FE8C-4C34-8701-1EC2FD35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E7E3-C5B8-4C4A-A74D-A36341C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4A2A-CAAC-4C4E-9BFE-A4A80B8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3B98-FFE5-4011-8342-4E57976B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197-66BE-42A5-84BB-FDD4C0C9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61A-5758-4B08-8E58-E5665AE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104-AD0D-4E51-88EF-E07160ED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4E89-78D5-4447-970D-B13492C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695-4261-4539-BCE0-9FCFF79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DCD-D410-455A-9E2B-1894DA9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3B30-ED02-481B-8F05-268FF49E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268-90D2-45E1-80D4-B000FF33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237B-81D2-4DBD-B482-9E660FB8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B126-76AD-4974-810E-10FB702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7872-6640-4648-99E7-27B124B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BA8A-8B03-46D5-8E06-9808C7F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2F81-93A0-4AFE-86A6-084B757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704-8691-478F-B5FA-93FCE4D2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5119-F9BB-4B5F-8BAD-57189458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AF03-70AC-40E9-9ECB-D7E524B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4F83-44A6-4A6E-8209-2AE4646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D503-8308-48EF-A515-9BF99A7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8A9E-3A48-4EFB-B4E0-A1F7945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6495-A259-4CAA-BFDF-5A47266A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8737-BF01-40AA-9C62-F4C1BAC6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F91C-1903-4BD5-A92B-D682F195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52DD-CFF3-4651-B407-79FD649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FBFF-0675-453C-9958-8E53C3A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C9C-4380-46C6-81E8-BBD84C98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01F4-8860-4B1E-B379-B78F69FE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1DF18-637E-407F-A141-508073A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7183-5FAB-406C-BD08-016AFCD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1856-E04F-4407-9A5F-4AE8755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567F-8182-4586-B3FB-0BB56F8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C951-ADF8-47F1-A365-D9265B7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5A47-450C-44D0-AF43-9CEAA5D7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EF6D-065E-4FA4-813E-9B692B06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4002-65E2-4FF5-BF06-DE1DD99C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5788-E945-45A4-85E4-5DA1F5B7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638-9A80-4B32-B1F8-6488DAF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B2E9-A2FC-467B-89D4-F4F5A63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4DCA-40B9-4EC4-B833-6E8EA2E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5D4C-2950-4142-AC0E-4060D63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9E82-F586-4CC2-8A07-2CC166D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9517-8483-4145-8B15-C1EAE6E4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948C6-7805-4FF8-8785-4407A002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9A91-0D6A-4A8E-BC8E-15AFEE59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1FEDC-F3B9-4300-BC26-C555015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2C5B-FC92-4C7F-8557-7624E6A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A354-A8D4-48F2-98F8-BA1CB68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366-6A07-4DE6-9D86-1ED1161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79F99-F9D5-46F3-B575-2324FEA6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AD3D-1503-47CA-8D0A-558C534F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B03E-1314-4D2B-B55E-B281C5E7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6495-7148-46BE-8A29-CD6F1D8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9166-2C06-4633-9D11-CBEBE8F7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2933-2EF3-40F4-9455-78A214BD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401B-4C0D-4CD4-A290-AF5DF2D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10E6-E0AE-4403-9949-B16DF8A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6627-053C-45AC-BCCE-3BF576C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7C2E-DF27-4D07-BF1D-510F3DD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9CF-DE0D-4A0C-9483-D02DCF4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C0AC-73D9-43FE-91D8-7ACBEC3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4DACC-162F-466D-981B-69CEEB5D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71AB-1CB9-4FF6-AE05-DC322CB7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78767-17F8-45B0-85AC-D05142C2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EDCF8-4E69-43D4-87CE-1F42B73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D13A6-544B-45A8-8370-37B6BF4B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55D4A-6638-4722-AA56-644E89B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B9FB-DD5A-4F7C-9652-F8E81B8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C46C-A575-4553-9A35-BA3A012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089F-04C1-4DBB-95DB-2416F9ED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B3D-7C2F-40C3-8EA7-F35A3E7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1D581-8EFD-4F05-A6A8-BF0B3C5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B6EB-AC50-4736-BC40-D08C32C0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B959-00A5-4C1E-9774-3B4BCC7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9ED00-B530-4952-9DA8-140B12DA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DD02-61D8-4467-A798-9A4A720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6B76-FFFA-43CA-AC7E-0D9D73F1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20445-B13B-465B-9270-A299BEC1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6435-5D34-4ADD-B903-CED04AD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86DE0-55B0-43C1-8EB4-66F7208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651D-7F6F-4C23-903F-DEABD32D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19B-C48A-4658-93DE-E1B4E09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A9E3-5B43-4F50-A51B-03080A9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BC49-EF0D-4AE9-B2E9-486B7DF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9FEB-C7CA-450C-ABAA-6FCC666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AB89-3A27-44E5-9A46-400101CC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37D4-6CC9-49E1-A08B-D1D0C67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9014-AB64-427E-802B-4D8DEB65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2D02-86F7-4802-B5BC-17411188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1AE27-E872-4EB4-9D36-C56DC960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E1CB5-9A98-4027-A20F-A5C9901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48D1D-3ACE-4D17-80D7-F4DC047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CA0-04CE-46D7-B0B2-31F243A876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4DD-DF8D-444E-A34F-E5E973CD7D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61F-18B0-450A-AB46-544C67F1B0F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6668-E6E1-4DA2-BAB2-267A518A19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48E-2C3D-4067-817C-C4A3573E37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93A-6966-4E28-8F01-32579DC5777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198F-C9B6-4E6C-A6FB-7CEFEEE2DD8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368C-2411-4B18-9CCD-8A69021D28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7EE-EED7-4EA9-8A85-398C987EF3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1FB-B84B-44AC-BAF8-3C8A16E5AB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76F-E667-4F0A-91C7-2B6B47756E4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1615-EE0E-4C71-9E58-73E6FD04A2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6564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ЛЯДНЫЕ ПРИМЕРЫ НАРУШЕНИЯ ЗВУКОПРОИЗНОШЕНИЯ НА ПРИМЕРЕ ИЗВЕСТНЫХ КИНОКАРТИ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ислал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240" y="2781360"/>
            <a:ext cx="67294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ЛАЛИЯ — НАРУШЕНИЕ ЗВУКОПРОИЗНОШЕНИЯ ПРИ НОРМАЛЬНОМ СЛУХЕ И СОХРАННОЙ ИННЕРВАЦИИ АРТИКУЛЯЦИОННОГО АППАРАТА. ПРАКТИЧЕСКИ МОЖЕТ БЫТЬ НАРУШЕНО (ДИСЛАЛИЯ) ИЛИ ЗАТРУДНЕНО (ПАРАЛАЛИЯ) ПРОИЗНОШЕНИЕ ЛЮБОЙ ИЗ ФОНЕМ РОДНОГО ЯЗЫ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16349"/>
                </a:solidFill>
                <a:latin typeface="Georgia"/>
              </a:rPr>
              <a:t>Дислали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дислалии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9492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Мономорфная — страдает один звук или несколько звуков из одной группы (С-З-Ц или Ш-Ж-Ч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Полиморфная — страдает несколько звуков из разных групп (С-Р-К-Ш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Физиологическая (возрастная) — нарушения звукопроизношения до 5 лет, обусловленные недостаточным развитием органов артикуляции. После 5 лет проходит сама. Эта единственная форма дислалии, которая присутствует у всех людей на определённом этапе развит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Функциональная — нарушение звукопроизношения при отсутствии отклонений в артикуляционном аппарате и функционировании центральной нервной системы, слуховом и периферическом артикуляционном аппарат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Органическая (механическая) — обусловлена наследственными, врождёнными или приобретёнными анатомическими дефектами периферического артикуляционного аппара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мле безжалостно маленькой!!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na_zemle_bezzhalostno_malenkoy.mp4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кидыш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odkidysh.avi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82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8c61"/>
                </a:solidFill>
                <a:latin typeface="Times New Roman"/>
                <a:ea typeface="Times New Roman"/>
              </a:rPr>
              <a:t>Ералаш!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eralash.avi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920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уговка. Папины дочки.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Novy_proekt.avi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4825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мание!!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2:47:01Z</dcterms:created>
  <dc:creator>Lena</dc:creator>
  <dc:description/>
  <dc:language>en-US</dc:language>
  <cp:lastModifiedBy>Lena</cp:lastModifiedBy>
  <dcterms:modified xsi:type="dcterms:W3CDTF">2018-04-04T13:32:42Z</dcterms:modified>
  <cp:revision>5</cp:revision>
  <dc:subject/>
  <dc:title>Дислалия</dc:title>
</cp:coreProperties>
</file>