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591-3372-4312-BE59-2F7BB696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81F-DFB7-4B55-9F2D-E325F10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75374-001C-4F41-B46A-6EA4E8EF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B78EA-C17D-4049-BD28-1E5178CF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E6198-173B-489A-ABF6-0D0B7C5C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A8E7B-3D82-424A-83C5-42E88403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F5E1E-AB6A-401C-86AD-8453A7F9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6D9EF-B03C-4622-BFA1-91B4F25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C820D-B4F3-421D-9106-CF0F19D1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4781B-0BA5-408C-8D8D-6F1E132D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714CC-5B0C-4E82-8992-708146F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D5B9D-8D21-4168-BACC-6679C82E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CAB-E920-48FC-879A-F970DC6A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65F09-4131-4DBB-BC23-BC4A792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38C00-B491-417A-A398-56741239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24A7F-442C-4D50-A504-45296EC7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01D7B-C2C8-49ED-8FAE-1E207F6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72ED6-45FE-4B0F-BD1A-8E7CED23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049B3-6A16-40DF-A394-16A8998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2072C-1DEB-498C-8DC5-6A262D2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D0C8E-CEDC-4D0C-A1A9-9598EDB9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F69F2-BB75-4B07-9555-5364DA21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86AB0-D3B7-4EBF-A226-6E44C93B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CC8-5B11-49B7-806A-8E9CFD69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B6525-8D40-45EA-9424-E08C34E1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07290-78AF-4CBC-B877-824D6C8C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B5E22-F448-40BC-8A88-3AC77CB6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05F6-590D-4CF9-8B76-610381AB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FAC8F-2B1A-4159-AAA3-BD24761A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0D25A-ACE3-4AA9-A10A-EF79B5F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3CA24-9E4F-437B-8A86-9CD8821F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9340A-0C49-419C-8568-7F81394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E2BC-6295-4A2A-ACC5-2493E52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62126-DC77-41DB-A1C9-8E1FCF2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A3DF-0C69-405F-ACE1-0B2EAFBB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BEAD9-A0B9-41A7-977D-876A267B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91033-0B56-4909-BF71-14A1112B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AAF09-43F3-4541-B88B-FAB61072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CBC93-92FC-4565-9F8C-282D37C4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BF165-7B14-414F-B767-28626F94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BDE42-C286-49EE-AE69-E1B652B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B22E0-6F3F-4AB8-AF26-BCED5799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352C5-9DA0-46AD-9305-A1F09CA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F68E6-18E9-47D2-98DF-7ABECCC8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141BF-C4E7-4AA8-9C04-3A9F27E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9057-6C34-4A19-BCB7-BD5BD1C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61EB1-3358-4EFF-82C9-25EC314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7D170-CD59-47AF-8B4B-2186284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10033-E98E-428A-A477-E099320C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9F5C5-2C34-44B5-A023-F6659FE5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8184B-7A3D-4781-82A9-C58D1E39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76C2-2EF8-4452-AF4E-4E9DA688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102-E6C9-472D-A6F0-FB2CE38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CD5A-013C-4151-8C9A-83FD7B1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479-2B4A-45B7-8A0E-40C7B17D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0C6E-8687-4D6E-AB66-B7A7EAB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99C-3C37-4D98-B262-6227A0D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956A-39C0-4363-A3CF-263D032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9D6-6E57-409A-B5C0-F6DBFB9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D86-D3A6-4444-A7E0-565FD9BC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4320-110A-4D36-A6F4-49120060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BAD-7657-4EC9-A082-443CFDAC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A391-361B-457A-A270-422ABBD4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6B63-158C-4C88-A679-94620145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361D-339D-41B4-8B07-7737A35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4B93-DD72-4ADD-A1CA-5C86C91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6FC9-FA7F-4A40-942E-D756A2D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8EA-8DB3-45F3-9975-1B6D6A8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81B4-EC5D-4DF0-888C-8D858E7B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4731-58EF-4B93-BD15-C96C4C9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4300-25FB-4BB3-A6F6-7ECF5C04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09E8-11BF-4F4F-A6D0-8AC76B6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C0A1-614A-4823-AFDF-FF4A964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7397-E65F-487D-A7CB-06EEC13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5CC4-A6E9-4836-B215-7967FCC2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05E6-420D-4BF0-9972-F14585D0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374C-B960-4111-AD68-32F3A945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A2EF-3212-4F07-9B6A-0A163590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2F6-529B-4B7F-A9FB-983D091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0065-93BF-4D53-BA78-B8FFBF5B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1A4E-8754-416B-A89A-F4E131B0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C091-BC63-41FA-B09A-D0DFF1E7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541E-BE43-4AC1-B2EE-AB92811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3E87-D195-403E-A347-004B572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7C5B-651B-40D0-85F6-987B376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586C-8DB1-4B96-A6B3-296BE30E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503B-7E62-4773-9B45-7E0D22EC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C8D3-ED39-4EAA-9881-20F93F06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6DBB-83C6-434D-BCB2-552D7B52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BDF-C5F8-4213-88BA-A5A58168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CB53-76D5-43F6-B382-846D8BB7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4677-2BF4-4D69-99BD-85ADE07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A79C-D923-480F-AE31-A59E8540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E443-196D-4503-80CA-AA290467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2C7A-6D8F-4B92-8EB7-698A448A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10E1-B1DB-46CB-9F1D-656F08D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317E-B1D0-4E49-9F25-EF662BD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F3A18-3CA1-4B34-8595-2F177E2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7A7A-8EB7-46B8-8599-D9D529D7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0CF1-C3D9-422D-BE72-C6DD4E26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4FE-3E58-473F-8BC9-A5788D08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861F-F679-4EAD-8442-B7D858D8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5A45-1A59-4D6E-96D4-6771DD82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21565-0C01-4586-9ECD-D6391B69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CBB0-0B48-403A-8751-F30179F9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6F3E-5240-46A2-B3E7-4AC59B57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6E6BD-60E4-465F-8030-64E4A6A7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C1484-41C0-4653-A411-96CA5B4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9BB6C-62F3-4DA1-82F7-186ED9B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3F34-A713-4B98-8DE8-4AD67B2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4A847-7DEE-4B02-B73E-14AACC5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4E0-B130-44AD-BBF8-9B1BD61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768F-B213-4EE3-A613-8C77579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A6922-AD66-4A37-BB79-17F1FC97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9E1F-3049-4FCB-8F55-517231F9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CC660-7CA9-4D6B-804D-ECA29467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9247-A522-4DFB-A2B7-326ADDF9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C101-E153-46DE-BE66-0B72CB9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0D058-89B6-4730-B917-C4090F45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E1E8-9DB0-4323-A674-066E48D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8328-06C1-45D8-AED7-6DB1C0D3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A420-D224-408F-A19E-DE9AD67B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989-A668-4BE2-933F-624C6F4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8085C-866B-4501-848C-16EB131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27DD-F635-4DBB-9571-B3AE6D3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635CB-E1BE-4F45-9ECB-8B301FB3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9BA37-22A9-488A-BE23-384ECBFA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5CF1-4C4E-483B-B8C4-71EFE256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9092-0332-40DE-A6CC-B1DEECE0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E1250-5A36-4C6C-AD6D-CF92B02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16335-2E0B-460E-A084-5253F8AD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BCBD-2B2D-4817-987E-6547A67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87E8-0F12-421E-A012-E2E548AA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D64-1D58-4C25-9B41-412D4B5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1C1C-A33C-4B0F-BF3C-2FDD6BD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FB036-E6FF-4C66-9586-04C6B64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33FB-3D52-4A3A-8B38-C691881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87652-3F9B-43AB-A93F-172454A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65D8-558E-4ED4-BD98-A17CFEB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FF54-C8B1-4559-AAB9-CBAC993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1B85-79AF-4E2E-838D-E8A1E17B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84AA2-EFC6-48A1-ADD0-D11D2482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2835B-1578-493A-88F1-2B8D8A08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C0237-F684-4A8A-90CE-67821495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E87A-2A22-4034-AE2B-C8E6EEFC890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390-CDAC-45AD-A809-7DD6EE83EE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8EB-88D0-4B87-8B39-27BE18D68EF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110-AB49-45C6-9F3F-46D6807FEF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97A7-69FB-4F75-AD09-E0F6A463DF2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A16F-9561-4A70-98AD-D189AF6C31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5079-0C05-4FDC-ACCD-CA37FE609E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9B4-D918-44FF-8D61-34CE5A6DE12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17AC-92B5-4A81-BE84-F1109F5517D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9BE-B392-4E25-86C3-ADCB6C51F0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3296-EC2D-4E46-BA03-A598FDB01F1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2B80-F1BF-4C70-B032-549F0425E3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65640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ЛЯДНЫЕ ПРИМЕРЫ НАРУШЕНИЯ ЗВУКОПРОИЗНОШЕНИЯ НА ПРИМЕРЕ ИЗВЕСТНЫХ КИНОКАРТИН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ислал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71240" y="2781360"/>
            <a:ext cx="67294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ЛАЛИЯ — НАРУШЕНИЕ ЗВУКОПРОИЗНОШЕНИЯ ПРИ НОРМАЛЬНОМ СЛУХЕ И СОХРАННОЙ ИННЕРВАЦИИ АРТИКУЛЯЦИОННОГО АППАРАТА. ПРАКТИЧЕСКИ МОЖЕТ БЫТЬ НАРУШЕНО (ДИСЛАЛИЯ) ИЛИ ЗАТРУДНЕНО (ПАРАЛАЛИЯ) ПРОИЗНОШЕНИЕ ЛЮБОЙ ИЗ ФОНЕМ РОДНОГО ЯЗЫ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16349"/>
                </a:solidFill>
                <a:latin typeface="Georgia"/>
              </a:rPr>
              <a:t>Дислали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дислалии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9492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Мономорфная — страдает один звук или несколько звуков из одной группы (С-З-Ц или Ш-Ж-Ч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Полиморфная — страдает несколько звуков из разных групп (С-Р-К-Ш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Физиологическая (возрастная) — нарушения звукопроизношения до 5 лет, обусловленные недостаточным развитием органов артикуляции. После 5 лет проходит сама. Эта единственная форма дислалии, которая присутствует у всех людей на определённом этапе развит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Функциональная — нарушение звукопроизношения при отсутствии отклонений в артикуляционном аппарате и функционировании центральной нервной системы, слуховом и периферическом артикуляционном аппарат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Органическая (механическая) — обусловлена наследственными, врождёнными или приобретёнными анатомическими дефектами периферического артикуляционного аппара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емле безжалостно маленькой!!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na_zemle_bezzhalostno_malenkoy.mp4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кидыш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odkidysh.avi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200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82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8c61"/>
                </a:solidFill>
                <a:latin typeface="Times New Roman"/>
                <a:ea typeface="Times New Roman"/>
              </a:rPr>
              <a:t>Ералаш!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eralash.avi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920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уговка. Папины дочки.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Novy_proekt.avi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4825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имание!!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2:47:01Z</dcterms:created>
  <dc:creator>Lena</dc:creator>
  <dc:description/>
  <dc:language>en-US</dc:language>
  <cp:lastModifiedBy>Lena</cp:lastModifiedBy>
  <dcterms:modified xsi:type="dcterms:W3CDTF">2018-04-04T13:32:42Z</dcterms:modified>
  <cp:revision>5</cp:revision>
  <dc:subject/>
  <dc:title>Дислалия</dc:title>
</cp:coreProperties>
</file>