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06F-6C60-492D-8B7B-A8EAF81F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94B-C6BE-42F5-9537-3D414D7B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0A0-AEDE-4A8F-8AB9-7FA1E2B6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F90-7F24-44FE-9FB5-E83943B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BDE-AAD8-4DE8-A543-007876C5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E84-CF16-40A2-956B-119A1877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9DA-0A53-479F-B8F5-CF7CF8F3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588-7D61-4ED5-8DC4-2294284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4B1-35EB-47EE-92AF-1F6F95F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8E9-0561-48EE-B721-F5534A4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D88-049D-45F1-A618-BB00D494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0B8-7364-49DA-B107-CFECA52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007-25BB-4D49-BF5C-5F2202E70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ГБОУ Школа № 2083 СП «Знамя Октября» ДО «Росин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000" y="4076640"/>
            <a:ext cx="4887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Воспитател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Кузнецова Е.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Шапошникова Н.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79280" y="1052640"/>
            <a:ext cx="8785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бразовательное собы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Мой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папа </a:t>
            </a:r>
            <a:r>
              <a:rPr b="1" lang="en-US" sz="3600" spc="-1" strike="noStrike">
                <a:solidFill>
                  <a:srgbClr val="00cc00"/>
                </a:solidFill>
                <a:latin typeface="Calibri"/>
              </a:rPr>
              <a:t>самый,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cc66ff"/>
                </a:solidFill>
                <a:latin typeface="Calibri"/>
              </a:rPr>
              <a:t>самый…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(запланирован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старшая группа «Солнышк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6"/>
          <p:cNvSpPr/>
          <p:nvPr/>
        </p:nvSpPr>
        <p:spPr>
          <a:xfrm>
            <a:off x="2411280" y="5445000"/>
            <a:ext cx="488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Calibri"/>
              </a:rPr>
              <a:t>2015-2016 учебный го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ОД Художественный труд –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«Подарок для пап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Дима\Desktop\IMAG0628.JPG"/>
          <p:cNvPicPr/>
          <p:nvPr/>
        </p:nvPicPr>
        <p:blipFill>
          <a:blip r:embed="rId1"/>
          <a:stretch/>
        </p:blipFill>
        <p:spPr>
          <a:xfrm>
            <a:off x="1525680" y="1557360"/>
            <a:ext cx="6092640" cy="45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cc66ff"/>
                </a:solidFill>
                <a:uFillTx/>
                <a:latin typeface="Calibri"/>
              </a:rPr>
              <a:t>4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cc00"/>
                </a:solidFill>
                <a:uFillTx/>
                <a:latin typeface="Calibri"/>
              </a:rPr>
              <a:t>этап</a:t>
            </a:r>
            <a:r>
              <a:rPr b="1" lang="ru-RU" sz="3200" spc="-1" strike="noStrike" u="sng">
                <a:solidFill>
                  <a:srgbClr val="ff00ff"/>
                </a:solidFill>
                <a:uFillTx/>
                <a:latin typeface="Calibri"/>
              </a:rPr>
              <a:t>: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роведение образовательного событ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вместный с папами праздник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Мой папа самый, самый…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Дима\Desktop\мама\23 fev papu_2.jpg"/>
          <p:cNvPicPr/>
          <p:nvPr/>
        </p:nvPicPr>
        <p:blipFill>
          <a:blip r:embed="rId1"/>
          <a:stretch/>
        </p:blipFill>
        <p:spPr>
          <a:xfrm>
            <a:off x="2050920" y="2133720"/>
            <a:ext cx="5545440" cy="417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Настоящие мужчины могут в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Дима\Desktop\мама\23 fev papu_4.jpg"/>
          <p:cNvPicPr/>
          <p:nvPr/>
        </p:nvPicPr>
        <p:blipFill>
          <a:blip r:embed="rId1"/>
          <a:stretch/>
        </p:blipFill>
        <p:spPr>
          <a:xfrm>
            <a:off x="-115920" y="2975040"/>
            <a:ext cx="4810320" cy="3790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Дима\Desktop\мама\23 fev papu_5.jpg"/>
          <p:cNvPicPr/>
          <p:nvPr/>
        </p:nvPicPr>
        <p:blipFill>
          <a:blip r:embed="rId2"/>
          <a:stretch/>
        </p:blipFill>
        <p:spPr>
          <a:xfrm>
            <a:off x="4280040" y="743040"/>
            <a:ext cx="4956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обедителям – медали и грам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Дима\Desktop\мама\23 fev papu_6.jpg"/>
          <p:cNvPicPr/>
          <p:nvPr/>
        </p:nvPicPr>
        <p:blipFill>
          <a:blip r:embed="rId1"/>
          <a:stretch/>
        </p:blipFill>
        <p:spPr>
          <a:xfrm>
            <a:off x="1212840" y="1052640"/>
            <a:ext cx="67183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cc66ff"/>
                </a:solidFill>
                <a:uFillTx/>
                <a:latin typeface="Calibri"/>
              </a:rPr>
              <a:t>4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Calibri"/>
              </a:rPr>
              <a:t>этап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Calibri"/>
              </a:rPr>
              <a:t>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выставка детских рисунков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«Наши защитни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19120" y="1773360"/>
            <a:ext cx="63039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юрприз от воспитателей: стенгазета «Наши будущие защитники Отечества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Текст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2704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cc"/>
                </a:solidFill>
                <a:uFillTx/>
                <a:latin typeface="Calibri"/>
              </a:rPr>
              <a:t>Задач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Углублять знания о Российской армии. Воспитывать чувство гордости за ее дост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Формировать у детей  уважительное отношение к своим родителям, интерес к истории семьи, профессиям своих родителей (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пап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Формировать у детей  представления о себе, как о члене семьи, детского коллекти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Формировать интерес к художественно-эстетическому творчеству (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изодеятельность, пение, танцы, инсценировки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Воспитывать эмоциональную отзывчивость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Формировать навыки свободного общения со взрослыми и сверстниками,  проявлять инициативу в продуктив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 Создание образовательного пространства для успешного творческого развития детей, их любознательности, познавательной мотивации и социализации воспитан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Calibri"/>
              </a:rPr>
              <a:t>Средства для достижения цел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9280" y="549360"/>
            <a:ext cx="8569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еседы с показом фотографий, презентаций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(с привлечением родител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Разговоры на утренних сборах. Рассказы детей о своих рисунках, фотограф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Подбор иллюстраций и книг в книжный угол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Изодеятельность  по данной теме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(краски, карандаши, мелки, цветная бум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Организация выста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Подбор материала для чтения, разучивания стихов, песен, танцев в ОД 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(в том числе атрибутов, костюм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Подбор иллюстративного материала для дид. иг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Использование ИКТ для сбора информации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(презентации, интернет-ресурс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Совместно со специалистам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 разработан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 модель достижения цели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692280"/>
            <a:ext cx="2521080" cy="86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Интегрированная 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познавательное, речевое, из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843280" y="907920"/>
            <a:ext cx="2952720" cy="57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общение знаний. навыков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084720" y="907920"/>
            <a:ext cx="2951280" cy="43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матривание иллюстраций, фо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773360"/>
            <a:ext cx="2808360" cy="71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ение литературы, рассказы родителей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утренние сбор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904000" y="1773360"/>
            <a:ext cx="32400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льзование информации: интернет-ресурсы, презентации, видео, филь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132000" y="2421000"/>
            <a:ext cx="2592360" cy="57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крепление знаний, умений и навы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187280" y="3213000"/>
            <a:ext cx="1872000" cy="62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идактические, настольные  иг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796000" y="3213000"/>
            <a:ext cx="1828800" cy="62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ловесные, интерактивные иг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195640" y="4941720"/>
            <a:ext cx="1828800" cy="57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лнение песен, стих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003640" y="4941720"/>
            <a:ext cx="1828800" cy="57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тавки рисунков, фо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2556000" y="5734080"/>
            <a:ext cx="4032000" cy="936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Праздник «Мой папа самый, самый 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Выставка детских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AutoShape 14"/>
          <p:cNvCxnSpPr/>
          <p:nvPr/>
        </p:nvCxnSpPr>
        <p:spPr>
          <a:xfrm>
            <a:off x="4427280" y="2997360"/>
            <a:ext cx="73800" cy="28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4"/>
          <p:cNvCxnSpPr>
            <a:stCxn id="51" idx="2"/>
          </p:cNvCxnSpPr>
          <p:nvPr/>
        </p:nvCxnSpPr>
        <p:spPr>
          <a:xfrm>
            <a:off x="4319280" y="1483920"/>
            <a:ext cx="370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4"/>
          <p:cNvCxnSpPr/>
          <p:nvPr/>
        </p:nvCxnSpPr>
        <p:spPr>
          <a:xfrm>
            <a:off x="2410920" y="3860280"/>
            <a:ext cx="10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14"/>
          <p:cNvCxnSpPr/>
          <p:nvPr/>
        </p:nvCxnSpPr>
        <p:spPr>
          <a:xfrm>
            <a:off x="6587640" y="3860280"/>
            <a:ext cx="10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5"/>
          <p:cNvCxnSpPr/>
          <p:nvPr/>
        </p:nvCxnSpPr>
        <p:spPr>
          <a:xfrm flipH="1">
            <a:off x="3058560" y="2997000"/>
            <a:ext cx="19908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15"/>
          <p:cNvCxnSpPr/>
          <p:nvPr/>
        </p:nvCxnSpPr>
        <p:spPr>
          <a:xfrm>
            <a:off x="5560560" y="2997000"/>
            <a:ext cx="235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4"/>
          <p:cNvCxnSpPr/>
          <p:nvPr/>
        </p:nvCxnSpPr>
        <p:spPr>
          <a:xfrm>
            <a:off x="6875280" y="134100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4"/>
          <p:cNvCxnSpPr/>
          <p:nvPr/>
        </p:nvCxnSpPr>
        <p:spPr>
          <a:xfrm>
            <a:off x="1692000" y="1557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15"/>
          <p:cNvCxnSpPr>
            <a:stCxn id="55" idx="1"/>
          </p:cNvCxnSpPr>
          <p:nvPr/>
        </p:nvCxnSpPr>
        <p:spPr>
          <a:xfrm flipH="1" flipV="1">
            <a:off x="2556000" y="2491920"/>
            <a:ext cx="576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15"/>
          <p:cNvCxnSpPr/>
          <p:nvPr/>
        </p:nvCxnSpPr>
        <p:spPr>
          <a:xfrm flipV="1">
            <a:off x="5219280" y="1267920"/>
            <a:ext cx="79308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5"/>
          <p:cNvCxnSpPr/>
          <p:nvPr/>
        </p:nvCxnSpPr>
        <p:spPr>
          <a:xfrm flipH="1" flipV="1">
            <a:off x="2699640" y="1412640"/>
            <a:ext cx="648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1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На 1 этап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этого образовательного события мы определили его тематику. Поскольку событие приурочено ко Дню защитника Отечества, мы провели  бес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 деть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й группы и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месте с деть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брали тему   «Мой папа самый, самый…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комплексно-тематическом планировании, п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оспитательной работы мы запланировали  различные мероприят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ОД - знакомство с родами войск, военной техникой, назначение нашей ар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Игры на военную тематику (настольные, дидактические, электронны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Презентации, иллюстрирующие военную т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Чтение художественных произведений на данную т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Рисование аппликация, лепка, поделки по те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Рассказы детей о своих пап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Заучивание стихов, песен, танцев по т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Подбор фотограф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по теме (работа с детьми и родителя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Словесные игры на подбор рифм, загад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Оформление книжных уголков по теме (книги, рисунки детей, картинки, иллюстрац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Участие в выставке детских рисунков «Наши защитни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2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На 2 этапе были  определены цель и задачи собы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Выбраны средства для достижения це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3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дготовка к образовательному событ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В процессе подготовки к образовательному событию воспитанники получили знания и умения, которые необходимы при проведении образовательного события. Проводились творческие мастерские, детям давались специальные задания, ребята готовились к событ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ОД Рисование «Пограничник с собако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Текст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708280" cy="36115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054240" y="1197000"/>
            <a:ext cx="3035520" cy="4167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303960" y="2708280"/>
            <a:ext cx="2840040" cy="3960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ОД Художественный труд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«На страже Роди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33680" y="1225440"/>
            <a:ext cx="587520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6:41:37Z</dcterms:created>
  <dc:creator>Дима</dc:creator>
  <dc:description/>
  <dc:language>en-US</dc:language>
  <cp:lastModifiedBy>1</cp:lastModifiedBy>
  <dcterms:modified xsi:type="dcterms:W3CDTF">2018-04-04T15:39:17Z</dcterms:modified>
  <cp:revision>39</cp:revision>
  <dc:subject/>
  <dc:title>ГБОУ школа №2083 СП «Знамя Октября» ДО «Росинка»</dc:title>
</cp:coreProperties>
</file>