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3A69-4629-4276-AC07-6C788E4D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905A-5D85-48CE-A558-40A42E38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3FC2-57CF-46A2-A712-D18EC464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4B34-334C-408F-88AB-6CC9D8D8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AA97-EAE9-42A8-A531-F48299FC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8D68-6392-45E4-9567-8966F4A5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72B9-FC9A-4B2D-9D73-5CA71A3C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0478-AD6E-40A5-A601-BAB1AC71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CA57-50F8-4401-93DB-119A5CD9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DB26-FABB-4BED-B11E-71D31E29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D432-021A-43AF-AF1B-F7A1A5AC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BEE5-242C-4406-BC77-B9C96801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589C-0805-4360-9CF5-6DFF420B4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glishinn.ru/gerundiy-dlya-nachinayushhih-ili-chto-takoe-gerundiy-v-angliyskom-yazyike.html" TargetMode="External"/><Relationship Id="rId2" Type="http://schemas.openxmlformats.org/officeDocument/2006/relationships/hyperlink" Target="http://englishinn.ru/gerundiy-dlya-nachinayushhih-ili-chto-takoe-gerundiy-v-angliyskom-yazyike.html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2130120"/>
            <a:ext cx="7088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erund. Герундий. </a:t>
            </a:r>
            <a:r>
              <a:rPr b="1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erund</a:t>
            </a:r>
            <a:r>
              <a:rPr b="1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или Герундий в английском язык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о понимать, что герундий — это часть речи, которая является одновременно существительным и глаголом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существительное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ерундий может сочетаться с предлогами (1) и определяться притяжательным местоимением или существительным в притяжательном падеже (2).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МЕР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he thinks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ntering an Institute. (1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insisted on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m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telling him the truth. (2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objected to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nn’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going there alone. (2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Упражнение 5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Раскройте скобки, употребляя герундий. Объясните, почему в данном случае надо употребить герундий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he doctor insisted on (send) the sick man to hospit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e was good at (repair) ca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he was sorry for (come) l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he children ran out the room and began (play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e seemed sorry for (be) ru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he girl had no talent for (danc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fter (check) the students’ papers, the teacher handed them bac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xcuse her for (break) her cu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he was proud of (win) the priz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he accused the boy of (steal) her pur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 don’t mind (open) the wind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 objected to my mother (do my roo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hey enjoy (watch) her danc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he doesn’t feel like (see) hi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he never approved of her daughter (drink) so much coffe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. Глаголы, после которых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употребляется герундий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Запомните следующие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глаголы, после которых употребляется герунд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void — избег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burst out — разрази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annot help — быть не в состоянии удержаться 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uggest — предлаг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deny — отриц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xcuse — изви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orgive — прост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ostpone (put off) — отклады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magine — представить себ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ractice — практиков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nsider — считать, рассматри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ВЕДИТ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 avoided speaking to hi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he burst out cry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he couldn’t help smil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 suggest going for a wal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denied having met hi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xcuse my being l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orgive my interfer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 put off buying compu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 can’t imagine George riding a motor bik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he practices speaking English every 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ave you ever considered going to live in another countr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глагол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герундий может иметь при себе прямое дополнение (3) и определяться наречием (4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 remember seeing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this film (3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 like getting up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early (4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тите внимание на перевод следующих конструкц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 love dancing. — Мне нравится танцев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 love her dancing. — Мне нравится, как она танцу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 love my daughter dancing.  — Мне нравится, как танцует моя доч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Gerund. Герундий. Упражнения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Упражнение 1 (повторение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разуйте герундий от глагола в скобках и переведите предложение. Почему надо в данном случае использовать герунд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tart … about pleasant things — and you’ll be happy! (think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mericans enjoy … houses and … to new places. (change/ mo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ould you like to go … in the sea? (sai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Most people enjoy … in the sun. (li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 haven’t had my lunch yet. Do you mind … outside for ten minutes? (wai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John likes … at a high speed. (dri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top … about your troubles. (worr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Jack was proud of … the first prize for…. (get/ jum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len was so angry that she left without… a word. (sa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Упражнение 2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Образуйте герундий от соответствующих глаголов и вставьте его в диалог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cook, sleep, spend, hike, tal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What’ s the best way to rela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 Well,  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love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 in the country. And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Yeah, but 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dislike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 on a camp fire and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an’t stand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 on the grou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 Oh, where’s your sense of adventure? And I bet you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hate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 a week without your mobile ph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 That’s true. I quite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  to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Как вы помните, герундий употребляется после предлогов. Выполняя следующее упражнение, вам придется вспомнить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устойчивые словосочетания с предлогами. 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пражнение 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берите предло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ead the rule … writing the exercise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after, before, by the time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iana is fond … collecting posters of pop singers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for, to, of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etty likes art very much and she is keen … visit­ing art galleries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(in, on, about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lack is tired … painting the wall. He has been working for 5 hours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of, after, for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usan is clever … learning English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of, for, at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 don’t understand how David can fish for hours … catching anything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with, without, on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Kate bought a book … buying an umbrella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but, without, instead of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isiting the British Museum the tourists were very much impressed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After, Before, Instead of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 can’t get used … getting up early. (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for, with, to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earing the news Mr White felt pleased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On, With, B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280" y="-360"/>
            <a:ext cx="768996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5400" indent="-365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e were fascinated … Ella’s singing Russian songs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by, about, on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 like the idea … visiting St. Petersburg this sum­mer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of, to, about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Jack answered the examiners’ questions … thinking and later he regretted it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without, instead of, with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hank you … helping us In troubles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about, by, for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My friends and I dream … going to England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to, of, for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hildren went for a walk … switching off the light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with, without, before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e were surprised … meeting Alice at the theatre. She was going to stay at home on that day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at, by, with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orry … interrupting you, but could you show me the way to the nearest cinema?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for, at, of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e have improved our English  …   learning the new words and rules every day. 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by, for, with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amela looking forward … visiting London again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(to, on, about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. Устойчивые сочетания глагол + предлог, после которых употребляется герунд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look forward to — с нетерпением жд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hank for — благодарить 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ongratulate on — поздравить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feel like — быть в настро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get/be used to — привыкнуть что-то делать/ иметь привычку что-то делать (не путайте 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used t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когда-то, бывал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ucceed in  — преуспеть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uspect of — подозревать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ccuse of — обвинять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depend on — зависе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bject to — возражать проти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pprove of — одобрять что-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xcuse for smth — извиниться за  что-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ppologize to smb for smth — извиниться перед кем-то за что-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revent from smth — помешать чему-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Упражнение 4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Переведите предложения на русский язык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he is very good at bak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was afraid of speaking to strang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 am looking forward to going on holi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 thanked her for helping 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thinks of buying a new c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gave up the idea of visiting New Yor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congratulated his friend on entering the institu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 succeeded in translating this difficult tex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hey suspected him of lying to th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fter checking the students’ papers, the teacher left the class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he has always dreamt of going abroa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e persisted in solving that difficult probl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y accused him of having robbed their ho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My happiness depends on your loving 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 object to lending money to hi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y felt like cry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he must apologize to him for wasting his 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Nothing can prevent us from visiting our grandparents this summ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y got used to much coff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 am used to drinking a glass of juice in the mor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21:30:33Z</dcterms:created>
  <dc:creator>220</dc:creator>
  <dc:description/>
  <dc:language>en-US</dc:language>
  <cp:lastModifiedBy>220</cp:lastModifiedBy>
  <dcterms:modified xsi:type="dcterms:W3CDTF">2018-04-04T04:20:05Z</dcterms:modified>
  <cp:revision>2</cp:revision>
  <dc:subject/>
  <dc:title>Gerund. Герундий. Gerund или Герундий в английском языке. Важно понимать, что герундий — это часть речи, которая является одновременно существительным и глаголом.  Как существительное, герундий может сочетаться с предлогами (1) и определяться притяжательным местоимением или существительным в притяжательном падеже (2). ПРИМЕРЫ She thinks of entering an Institute. (1)  He insisted on my telling him the truth. (2)  He objected to Ann’s going there alone. (2)  </dc:title>
</cp:coreProperties>
</file>