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B9F-060E-4F06-BEDC-EEB56C84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FC8-AC9F-4E94-89B6-96557577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7E6-E3F8-499F-9E72-4D7E08B7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FF3-0ADC-45F7-90C7-F0497320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A0261-756C-4CF8-B011-4625D0FD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CCE08-4688-4A2B-9804-1FEE57D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27493-3DA1-4F7E-8117-F6540BA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03748-B5EC-4839-9E2F-CBD532D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99C2E-0F5D-4BB2-8674-27C633F9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BD3D-A1B2-43DA-A071-4BECD1C5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389E-9C37-4874-972B-52AC126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BC9-B84F-4701-B32A-CF478AE0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1784B-7D18-4A98-9D6A-1474248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2A459-8FC7-4526-B333-BD19DFB9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628B1-C208-4267-B92C-7E8C088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4EAB-8662-43A9-9F7C-1E8D15D3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35551-9D87-4319-B0DD-B78FF031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E52F-0936-4FB4-8760-13DF6D01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F9FF-223D-456A-A929-7C4C35A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DD35-65BB-43C5-BCA5-4BADED9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E0E5-6D25-4732-B49B-88D00152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EF3A-3644-4EBC-A268-96E9D58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31D-0A98-4A52-BF28-9F5831FC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5B1A-3590-4ECD-B9A3-69EE723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A409-2453-4EDC-B998-851228CE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1A72-85DB-4FC7-86F8-FD7BAFC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D44B-BC9F-4A54-B59D-A7A3F84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2DDD-4486-4D5E-BB84-14D64A7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DACC-1FFA-4B58-B616-61C29BCF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0C06-4ED8-4662-95F8-DDD2503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9E7C0-CCF8-4FCA-A94E-74179D33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25E06-1D56-48A4-92C2-E81D60B7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10BA6-B738-4FBF-8B88-F700437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19B-4F50-4CF2-B92C-4369FEF3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A8498-8800-4873-83F9-4D16FB8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C29E4-D729-4C27-B55D-7DECBD5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59F82-466F-45A5-A16B-AAA1210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28AF6-8DE3-4487-9CC4-A408BB5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ADB57-8C7A-4CF3-B941-FA14D73C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AAE66-A344-46F0-AE7D-82AA1E9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9B1D3-4299-45F2-AFF3-DAE514F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7559C-7D23-452C-9ACD-A92EDAB2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44E46-F177-446C-B8D8-199DCBEC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07A-FD1D-4D9C-BE88-CB86BD4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230-6E91-460E-8A2A-F36FBF1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0D8-A2E8-42E5-B927-FCD211C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2AA-A5F6-4031-97D9-CF64DBC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CB8-3ECD-40F8-8A6F-94FD0CA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26D-0E91-46A5-963D-0DD6A9FAE01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02F-DCA2-40B5-B210-6251B1B26F4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61B3-6BC6-4034-AA44-9CF57E20743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64A-5A05-4944-A5CF-7E776AA9491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642960" y="714240"/>
            <a:ext cx="74581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23 ноябр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Классная рабо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C:\Users\User\Desktop\sch2.png"/>
          <p:cNvPicPr/>
          <p:nvPr/>
        </p:nvPicPr>
        <p:blipFill>
          <a:blip r:embed="rId1"/>
          <a:stretch/>
        </p:blipFill>
        <p:spPr>
          <a:xfrm>
            <a:off x="5857920" y="3714840"/>
            <a:ext cx="30099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Любое           …         число      умножают    на 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так же, как и     …,       …  :                     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по  разрядам начиная с  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:\мой урок\картинки для работы\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42960" y="2565360"/>
            <a:ext cx="74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Математика нас жде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начинаем 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63680" y="523800"/>
            <a:ext cx="8150040" cy="824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)7, 9,  2, 5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) 873, 524, 7 648, 211, 999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)80014,  45627,  23436,                              923758, 84884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G:\мой урок\картинки для работы\image-519276-galleryV9-lbjg-519276.jpg"/>
          <p:cNvPicPr/>
          <p:nvPr/>
        </p:nvPicPr>
        <p:blipFill>
          <a:blip r:embed="rId1"/>
          <a:stretch/>
        </p:blipFill>
        <p:spPr>
          <a:xfrm>
            <a:off x="285840" y="571680"/>
            <a:ext cx="871200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12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__________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1305000" y="2000160"/>
            <a:ext cx="1487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Цель урока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открыть» способ умножения многозначного числа на однозначно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12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__________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1305000" y="2000160"/>
            <a:ext cx="1487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4" name="Picture 4" descr="G:\мой урок\картинки для работы\panda-bear-cute-smile-t-g-i-f-tgif.jpg"/>
          <p:cNvPicPr/>
          <p:nvPr/>
        </p:nvPicPr>
        <p:blipFill>
          <a:blip r:embed="rId1"/>
          <a:stretch/>
        </p:blipFill>
        <p:spPr>
          <a:xfrm>
            <a:off x="928800" y="785880"/>
            <a:ext cx="74293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0:39Z</dcterms:created>
  <dc:creator>Харитонова</dc:creator>
  <dc:description/>
  <dc:language>en-US</dc:language>
  <cp:lastModifiedBy>User</cp:lastModifiedBy>
  <dcterms:modified xsi:type="dcterms:W3CDTF">2017-11-22T13:56:38Z</dcterms:modified>
  <cp:revision>189</cp:revision>
  <dc:subject/>
  <dc:title>Слайд 1</dc:title>
</cp:coreProperties>
</file>