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BE3-CF92-40FB-8E51-B5DA74AE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BAC-11BB-4449-9D13-59925554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E1A-5A4D-41E6-9D8F-A17FA3B6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950-7F0B-4AD7-926C-F1D01D99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5E0F4-F0B0-4992-90C7-B0B71113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A7D70-45AA-46AE-9EF4-B10D2C14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6F7D7-FBEF-4240-AD97-0C700313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95915-536E-4870-98A0-F839790C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CB2E2-D66C-4A3A-B3B8-EC418F0D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96BF1-9212-40BD-9A50-6D170CC4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9F80F-B36D-447D-8518-288DCBC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175-23B2-4DD9-8A28-9E038868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FEA90-FFE3-40A6-85EA-36E45A16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4ECFE-411A-456F-90DD-29B83E3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2FAF5-1CA1-4007-9B7C-280869A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E8455-D249-48ED-8600-B2CA8F84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328B7-4567-495F-8962-4B6CB0C8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9007-745A-4CE7-8024-B8A112AD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0ECE-5BEB-4CBB-BF8A-8E450F2E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FEAD1-F09A-4E23-9496-1818FDA7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A4C1-03B0-455F-BB7D-2F65969C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CF57-0026-4CBB-8BD9-BE22D3C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AF7-D507-4FF9-9F99-790206C7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ECAF-A2D6-4609-9DD2-184586E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FC290-68EB-45DB-9790-4EDF35F2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5129-9BB6-4C1C-895E-22C7F9BE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F045-AFF5-4EDB-8C91-A3475EB1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CABE-13E9-47B7-8813-79B41EE6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58C8-0BFA-4EA5-BBCB-773CBC11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81D3-B237-4BB4-BC92-ECCA7C96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D3680-C99D-4A31-8A58-77FA1253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56DDB-F2C8-450B-99DA-28C4654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70803-F3AB-4B95-BA56-74A3A9F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3A8-64BB-49B8-8AB0-AEB89A5B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82201-6A3A-4D23-A77A-4D2739C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22FE0-7373-42EB-A699-7764A17E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0B580-0F35-4E05-9304-D10F82C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81AA8-C855-4F76-B63D-52E5906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0C654-1B6D-4782-A6F2-C7EF4F11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3EFF2-03E9-429C-8E60-08A2DAF5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DE682-008D-4457-8D71-F8078E2E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CF27C-C86E-4817-B476-99F5D313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D06FE-7A5B-4778-BC63-595A8100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383-8BE9-4BFB-80C0-0743A656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B41-C44A-4D08-89B8-CE65C086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B8E-CA31-44CC-A588-489AB857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0EB-508E-422B-8125-D68B0DA9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FFE-0071-4CD0-A546-BCF620AA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226A-A45F-44D1-9B5C-12E1B215218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1915-7A28-411D-8096-E086586250D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BB18-D469-4F63-A95A-6E2638DEF95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7DC4-D8F1-40F0-B198-03176A3FC54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642960" y="714240"/>
            <a:ext cx="74581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192"/>
                </a:solidFill>
                <a:latin typeface="Arial"/>
              </a:rPr>
              <a:t>       </a:t>
            </a:r>
            <a:r>
              <a:rPr b="1" lang="ru-RU" sz="6000" spc="-1" strike="noStrike">
                <a:solidFill>
                  <a:srgbClr val="003192"/>
                </a:solidFill>
                <a:latin typeface="Arial"/>
              </a:rPr>
              <a:t>23 ноябр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192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3192"/>
                </a:solidFill>
                <a:latin typeface="Arial"/>
              </a:rPr>
              <a:t>Классная рабо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C:\Users\User\Desktop\sch2.png"/>
          <p:cNvPicPr/>
          <p:nvPr/>
        </p:nvPicPr>
        <p:blipFill>
          <a:blip r:embed="rId1"/>
          <a:stretch/>
        </p:blipFill>
        <p:spPr>
          <a:xfrm>
            <a:off x="5857920" y="3714840"/>
            <a:ext cx="300996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a1d"/>
                </a:solidFill>
                <a:latin typeface="Constantia"/>
              </a:rPr>
              <a:t>Любое           …         число      умножают    на  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a1d"/>
                </a:solidFill>
                <a:latin typeface="Constantia"/>
              </a:rPr>
              <a:t>так же, как и     …,       …  :                                 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a1d"/>
                </a:solidFill>
                <a:latin typeface="Constantia"/>
              </a:rPr>
              <a:t>по  разрядам начиная с   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G:\мой урок\картинки для работы\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642960" y="2565360"/>
            <a:ext cx="74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Математика нас жде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3192"/>
                </a:solidFill>
                <a:latin typeface="Arial"/>
              </a:rPr>
              <a:t>начинаем устный сч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63680" y="523800"/>
            <a:ext cx="8150040" cy="824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)7, 9,  2, 5;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) 873, 524, 7 648, 211, 999;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)80014,  45627,  23436,                              923758, 84884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G:\мой урок\картинки для работы\image-519276-galleryV9-lbjg-519276.jpg"/>
          <p:cNvPicPr/>
          <p:nvPr/>
        </p:nvPicPr>
        <p:blipFill>
          <a:blip r:embed="rId1"/>
          <a:stretch/>
        </p:blipFill>
        <p:spPr>
          <a:xfrm>
            <a:off x="285840" y="571680"/>
            <a:ext cx="871200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28548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124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       </a:t>
            </a: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바탕"/>
                <a:ea typeface="바탕"/>
              </a:rPr>
              <a:t>__________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1305000" y="2000160"/>
            <a:ext cx="1487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Цель урока: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открыть» способ умножения многозначного числа на однозначное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28548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124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       </a:t>
            </a: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바탕"/>
                <a:ea typeface="바탕"/>
              </a:rPr>
              <a:t>__________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15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1305000" y="2000160"/>
            <a:ext cx="1487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4" name="Picture 4" descr="G:\мой урок\картинки для работы\panda-bear-cute-smile-t-g-i-f-tgif.jpg"/>
          <p:cNvPicPr/>
          <p:nvPr/>
        </p:nvPicPr>
        <p:blipFill>
          <a:blip r:embed="rId1"/>
          <a:stretch/>
        </p:blipFill>
        <p:spPr>
          <a:xfrm>
            <a:off x="928800" y="785880"/>
            <a:ext cx="74293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0:39Z</dcterms:created>
  <dc:creator>Харитонова</dc:creator>
  <dc:description/>
  <dc:language>en-US</dc:language>
  <cp:lastModifiedBy>User</cp:lastModifiedBy>
  <dcterms:modified xsi:type="dcterms:W3CDTF">2017-11-22T13:56:38Z</dcterms:modified>
  <cp:revision>189</cp:revision>
  <dc:subject/>
  <dc:title>Слайд 1</dc:title>
</cp:coreProperties>
</file>