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9.jpeg" ContentType="image/jpeg"/>
  <Override PartName="/ppt/media/image1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D16-B5A9-4E82-BFFB-D31E6848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166-207A-4C50-BC25-1D4D57B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2C7-A6D6-4F08-A172-0675D778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5BE-51AC-426D-A762-E2AD3CB1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DF4-EE2A-41F8-8212-C5B3813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FFC-AE95-4788-B321-481ACD4C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FF7-5E1C-4035-8896-F1E72928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0D8-A1D2-40E7-A6A7-D1218D81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6F3-3AA8-4485-A964-E21E3966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1D4-8919-4DF6-9237-4439EC15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69C-64DF-4037-A5D7-5A36544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135-B2EE-4FED-A401-D4A32973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62EB-6178-46E1-B437-6750FD8F76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wmf"/><Relationship Id="rId7" Type="http://schemas.openxmlformats.org/officeDocument/2006/relationships/image" Target="../media/image23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ofija-nosova@rambler.ru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6920" y="5272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осова Соф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48564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МУНИЦИПАЛЬНОЕ КАЗЕННОЕ ДОШКОЛЬНОЕ ОБРАЗОВАТЕЛЬНОЕ УЧРЕЖДЕНИЕ ДЕТСКИЙ САД «ПЕТУШ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2590920"/>
            <a:ext cx="7010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фоли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MG-20180128-WA0183"/>
          <p:cNvPicPr/>
          <p:nvPr/>
        </p:nvPicPr>
        <p:blipFill>
          <a:blip r:embed="rId2"/>
          <a:stretch/>
        </p:blipFill>
        <p:spPr>
          <a:xfrm>
            <a:off x="457200" y="1905120"/>
            <a:ext cx="2519280" cy="175104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6248520" y="4038480"/>
            <a:ext cx="2498760" cy="175896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3352680" y="2743200"/>
            <a:ext cx="2519640" cy="177480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  <p:sp>
        <p:nvSpPr>
          <p:cNvPr id="70" name="Text Box 10"/>
          <p:cNvSpPr/>
          <p:nvPr/>
        </p:nvSpPr>
        <p:spPr>
          <a:xfrm>
            <a:off x="1676520" y="38088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Активное самообразование и темп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Белова Ульяна"/>
          <p:cNvPicPr/>
          <p:nvPr/>
        </p:nvPicPr>
        <p:blipFill>
          <a:blip r:embed="rId2"/>
          <a:stretch/>
        </p:blipFill>
        <p:spPr>
          <a:xfrm>
            <a:off x="1241280" y="4200480"/>
            <a:ext cx="226404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Гурьянова Лера"/>
          <p:cNvPicPr/>
          <p:nvPr/>
        </p:nvPicPr>
        <p:blipFill>
          <a:blip r:embed="rId3"/>
          <a:stretch/>
        </p:blipFill>
        <p:spPr>
          <a:xfrm>
            <a:off x="5830920" y="993600"/>
            <a:ext cx="1941480" cy="272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52915 (1)"/>
          <p:cNvPicPr/>
          <p:nvPr/>
        </p:nvPicPr>
        <p:blipFill>
          <a:blip r:embed="rId4"/>
          <a:stretch/>
        </p:blipFill>
        <p:spPr>
          <a:xfrm>
            <a:off x="3711600" y="993600"/>
            <a:ext cx="1927080" cy="272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sertifikat"/>
          <p:cNvPicPr/>
          <p:nvPr/>
        </p:nvPicPr>
        <p:blipFill>
          <a:blip r:embed="rId5"/>
          <a:stretch/>
        </p:blipFill>
        <p:spPr>
          <a:xfrm>
            <a:off x="1577880" y="990720"/>
            <a:ext cx="1927440" cy="2725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5791320" y="3830760"/>
            <a:ext cx="1931760" cy="2720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2268360" y="21600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частие детей в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IMG_20171128_073909"/>
          <p:cNvPicPr/>
          <p:nvPr/>
        </p:nvPicPr>
        <p:blipFill>
          <a:blip r:embed="rId7"/>
          <a:stretch/>
        </p:blipFill>
        <p:spPr>
          <a:xfrm>
            <a:off x="3687840" y="3809880"/>
            <a:ext cx="195084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7162920" y="5970600"/>
            <a:ext cx="1218960" cy="887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600200"/>
            <a:ext cx="7848360" cy="24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дел 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бщие сведения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бъект 1"/>
          <p:cNvSpPr/>
          <p:nvPr/>
        </p:nvSpPr>
        <p:spPr>
          <a:xfrm>
            <a:off x="457200" y="1523880"/>
            <a:ext cx="8147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разование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сш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нимаемая должность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валификационная категория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й трудовой стаж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й стаж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ж работы в МКДОУ детский сад «Петушок»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дрес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32660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овосибирская обла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ченевский район, с. Прокудск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л. Политотдельская д.135, кв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лефон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895292649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лектронный адрес: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2"/>
              </a:rPr>
              <a:t>sofija-nosova@rambler.ru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248520" y="457200"/>
            <a:ext cx="2133360" cy="320040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666880" y="609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зитная кар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бъект 2"/>
          <p:cNvSpPr/>
          <p:nvPr/>
        </p:nvSpPr>
        <p:spPr>
          <a:xfrm>
            <a:off x="228600" y="380880"/>
            <a:ext cx="8643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ведения об образовании</a:t>
            </a:r>
            <a:r>
              <a:rPr b="1" i="1" lang="en-US" sz="2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1295280"/>
          <a:ext cx="8382240" cy="1739880"/>
        </p:xfrm>
        <a:graphic>
          <a:graphicData uri="http://schemas.openxmlformats.org/drawingml/2006/table">
            <a:tbl>
              <a:tblPr/>
              <a:tblGrid>
                <a:gridCol w="1629000"/>
                <a:gridCol w="1886040"/>
                <a:gridCol w="2593800"/>
                <a:gridCol w="2273400"/>
              </a:tblGrid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Наименование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Год окон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Специальность (включая дополнительную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Присвоение квалификации (включая дополнительную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НГП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«Физика и информат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Учитель физики и информа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4495680" cy="323208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81080" y="625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ведения о присвоении квалификационной категории</a:t>
            </a: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2362320"/>
          <a:ext cx="8458200" cy="1904760"/>
        </p:xfrm>
        <a:graphic>
          <a:graphicData uri="http://schemas.openxmlformats.org/drawingml/2006/table">
            <a:tbl>
              <a:tblPr/>
              <a:tblGrid>
                <a:gridCol w="2057400"/>
                <a:gridCol w="1650960"/>
                <a:gridCol w="4749840"/>
              </a:tblGrid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Наименование квалификационной катег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Дата присво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Должность (должности) по которой (которым) присвоена квалификационная катег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Вто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Пер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ведения о почетных наград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-20180128-WA0178"/>
          <p:cNvPicPr/>
          <p:nvPr/>
        </p:nvPicPr>
        <p:blipFill>
          <a:blip r:embed="rId2"/>
          <a:stretch/>
        </p:blipFill>
        <p:spPr>
          <a:xfrm>
            <a:off x="1219320" y="1523880"/>
            <a:ext cx="3271680" cy="468180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  <p:pic>
        <p:nvPicPr>
          <p:cNvPr id="55" name="Picture 4" descr="IMG_20180128_154647"/>
          <p:cNvPicPr/>
          <p:nvPr/>
        </p:nvPicPr>
        <p:blipFill>
          <a:blip r:embed="rId3"/>
          <a:stretch/>
        </p:blipFill>
        <p:spPr>
          <a:xfrm>
            <a:off x="4978440" y="1523880"/>
            <a:ext cx="3297240" cy="468180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600200"/>
            <a:ext cx="7848360" cy="24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дел I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Инновационно-педагогическа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ятельность"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962280"/>
            <a:ext cx="705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ма: «Использование современных образовательных технологий в познавательном развити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ок реализации: 2016-2021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ль: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овышение своего теоретического уровня, профессионального мастерства и компетентности по данной теме; систематизация практического материала по данной проблеме в соответствии с ФГОС 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вать у детей интерес к решению познавательных, творческих задач, к разнообразной интеллекту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учить литературу по данной теме самообразования, педагогический опыт через статьи в СМИ,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дрить в практику образовательной деятельности современные педагогические технолог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работать методические рекомендации, дидактические матери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Сам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ertificate_1927303 (2)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800600" y="3733920"/>
            <a:ext cx="1843200" cy="257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ertificate_4408453"/>
          <p:cNvPicPr/>
          <p:nvPr/>
        </p:nvPicPr>
        <p:blipFill>
          <a:blip r:embed="rId3"/>
          <a:stretch/>
        </p:blipFill>
        <p:spPr>
          <a:xfrm>
            <a:off x="6934320" y="3733920"/>
            <a:ext cx="1776240" cy="251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61" name="Picture 8" descr="Свидетельство проекта infourok"/>
          <p:cNvPicPr/>
          <p:nvPr/>
        </p:nvPicPr>
        <p:blipFill>
          <a:blip r:embed="rId4"/>
          <a:stretch/>
        </p:blipFill>
        <p:spPr>
          <a:xfrm>
            <a:off x="2743200" y="3809880"/>
            <a:ext cx="1730520" cy="24480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62" name="Picture 10" descr="Certificate_2145427"/>
          <p:cNvPicPr/>
          <p:nvPr/>
        </p:nvPicPr>
        <p:blipFill>
          <a:blip r:embed="rId5"/>
          <a:stretch/>
        </p:blipFill>
        <p:spPr>
          <a:xfrm>
            <a:off x="685800" y="3809880"/>
            <a:ext cx="1730520" cy="24480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63" name="Text Box 10"/>
          <p:cNvSpPr/>
          <p:nvPr/>
        </p:nvSpPr>
        <p:spPr>
          <a:xfrm>
            <a:off x="1763640" y="15228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Активное самообразование и темп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924680" y="5861160"/>
            <a:ext cx="137160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105520" y="1143000"/>
            <a:ext cx="3276360" cy="226548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371600" y="1143000"/>
            <a:ext cx="3124080" cy="224640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0:06:06Z</dcterms:created>
  <dc:creator>Evgen</dc:creator>
  <dc:description/>
  <dc:language>en-US</dc:language>
  <cp:lastModifiedBy>Evgen</cp:lastModifiedBy>
  <dcterms:modified xsi:type="dcterms:W3CDTF">2018-04-04T11:09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