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wmf" ContentType="image/x-wmf"/>
  <Override PartName="/ppt/media/image21.jpeg" ContentType="image/jpeg"/>
  <Override PartName="/ppt/media/image19.jpeg" ContentType="image/jpeg"/>
  <Override PartName="/ppt/media/image1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FCB-7A08-44CD-8873-99374C28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98F-4F65-4D9A-AC14-7372A650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79D3-9EA9-4402-8CA9-70475F72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131-ED48-4E30-B53A-2082671D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A87F-4B6A-429A-B464-F7DA8EA3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FA74-237F-479B-B13F-2734FCC0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1B7F-6EEA-4CF6-8535-E48BCD2D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5FBB-54FA-4911-96E8-EE9CC512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4FFD-8C21-4D7D-A608-C604956B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1002-D528-4F8D-919C-0FF5B273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FA3-817E-45E5-8047-808345C0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D8E-979A-406D-A83A-324CE8ED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0D2F-63ED-4B76-9C8B-BE777219A3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wmf"/><Relationship Id="rId7" Type="http://schemas.openxmlformats.org/officeDocument/2006/relationships/image" Target="../media/image23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ofija-nosova@rambler.ru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76920" y="5272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осова София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485640"/>
            <a:ext cx="89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МУНИЦИПАЛЬНОЕ КАЗЕННОЕ ДОШКОЛЬНОЕ ОБРАЗОВАТЕЛЬНОЕ УЧРЕЖДЕНИЕ ДЕТСКИЙ САД «ПЕТУШ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95280" y="2590920"/>
            <a:ext cx="70106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тфоли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IMG-20180128-WA0183"/>
          <p:cNvPicPr/>
          <p:nvPr/>
        </p:nvPicPr>
        <p:blipFill>
          <a:blip r:embed="rId2"/>
          <a:stretch/>
        </p:blipFill>
        <p:spPr>
          <a:xfrm>
            <a:off x="457200" y="1905120"/>
            <a:ext cx="2519280" cy="1751040"/>
          </a:xfrm>
          <a:prstGeom prst="rect">
            <a:avLst/>
          </a:prstGeom>
          <a:ln w="57240">
            <a:solidFill>
              <a:srgbClr val="c0c0c0"/>
            </a:solidFill>
            <a:miter/>
          </a:ln>
        </p:spPr>
      </p:pic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6248520" y="4038480"/>
            <a:ext cx="2498760" cy="1758960"/>
          </a:xfrm>
          <a:prstGeom prst="rect">
            <a:avLst/>
          </a:prstGeom>
          <a:ln w="57240">
            <a:solidFill>
              <a:srgbClr val="c0c0c0"/>
            </a:solidFill>
            <a:miter/>
          </a:ln>
        </p:spPr>
      </p:pic>
      <p:pic>
        <p:nvPicPr>
          <p:cNvPr id="69" name="Picture 11" descr=""/>
          <p:cNvPicPr/>
          <p:nvPr/>
        </p:nvPicPr>
        <p:blipFill>
          <a:blip r:embed="rId4"/>
          <a:stretch/>
        </p:blipFill>
        <p:spPr>
          <a:xfrm>
            <a:off x="3352680" y="2743200"/>
            <a:ext cx="2519640" cy="1774800"/>
          </a:xfrm>
          <a:prstGeom prst="rect">
            <a:avLst/>
          </a:prstGeom>
          <a:ln w="57240">
            <a:solidFill>
              <a:srgbClr val="c0c0c0"/>
            </a:solidFill>
            <a:miter/>
          </a:ln>
        </p:spPr>
      </p:pic>
      <p:sp>
        <p:nvSpPr>
          <p:cNvPr id="70" name="Text Box 10"/>
          <p:cNvSpPr/>
          <p:nvPr/>
        </p:nvSpPr>
        <p:spPr>
          <a:xfrm>
            <a:off x="1676520" y="380880"/>
            <a:ext cx="61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Активное самообразование и темп повышения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Белова Ульяна"/>
          <p:cNvPicPr/>
          <p:nvPr/>
        </p:nvPicPr>
        <p:blipFill>
          <a:blip r:embed="rId2"/>
          <a:stretch/>
        </p:blipFill>
        <p:spPr>
          <a:xfrm>
            <a:off x="1241280" y="4200480"/>
            <a:ext cx="226404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Гурьянова Лера"/>
          <p:cNvPicPr/>
          <p:nvPr/>
        </p:nvPicPr>
        <p:blipFill>
          <a:blip r:embed="rId3"/>
          <a:stretch/>
        </p:blipFill>
        <p:spPr>
          <a:xfrm>
            <a:off x="5830920" y="993600"/>
            <a:ext cx="1941480" cy="272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52915 (1)"/>
          <p:cNvPicPr/>
          <p:nvPr/>
        </p:nvPicPr>
        <p:blipFill>
          <a:blip r:embed="rId4"/>
          <a:stretch/>
        </p:blipFill>
        <p:spPr>
          <a:xfrm>
            <a:off x="3711600" y="993600"/>
            <a:ext cx="1927080" cy="2722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sertifikat"/>
          <p:cNvPicPr/>
          <p:nvPr/>
        </p:nvPicPr>
        <p:blipFill>
          <a:blip r:embed="rId5"/>
          <a:stretch/>
        </p:blipFill>
        <p:spPr>
          <a:xfrm>
            <a:off x="1577880" y="990720"/>
            <a:ext cx="1927440" cy="2725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6"/>
          <a:stretch/>
        </p:blipFill>
        <p:spPr>
          <a:xfrm>
            <a:off x="5791320" y="3830760"/>
            <a:ext cx="1931760" cy="27208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"/>
          <p:cNvSpPr/>
          <p:nvPr/>
        </p:nvSpPr>
        <p:spPr>
          <a:xfrm>
            <a:off x="2268360" y="21600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частие детей в конкур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IMG_20171128_073909"/>
          <p:cNvPicPr/>
          <p:nvPr/>
        </p:nvPicPr>
        <p:blipFill>
          <a:blip r:embed="rId7"/>
          <a:stretch/>
        </p:blipFill>
        <p:spPr>
          <a:xfrm>
            <a:off x="3687840" y="3809880"/>
            <a:ext cx="1950840" cy="2743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7162920" y="5970600"/>
            <a:ext cx="1218960" cy="887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1600200"/>
            <a:ext cx="7848360" cy="24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дел I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Общие сведения"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Объект 1"/>
          <p:cNvSpPr/>
          <p:nvPr/>
        </p:nvSpPr>
        <p:spPr>
          <a:xfrm>
            <a:off x="457200" y="1523880"/>
            <a:ext cx="81471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разование: </a:t>
            </a: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ысш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нимаемая должность: </a:t>
            </a: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валификационная категория: </a:t>
            </a: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р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ий трудовой стаж: </a:t>
            </a: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дагогический стаж: </a:t>
            </a: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аж работы в МКДОУ детский сад «Петушок»: </a:t>
            </a: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дрес: </a:t>
            </a: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632660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овосибирская обла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</a:t>
            </a: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ченевский район, с. Прокудск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</a:t>
            </a: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л. Политотдельская д.135, кв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елефон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895292649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Электронный адрес: </a:t>
            </a:r>
            <a:r>
              <a:rPr b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  <a:hlinkClick r:id="rId2"/>
              </a:rPr>
              <a:t>sofija-nosova@rambler.ru</a:t>
            </a: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248520" y="457200"/>
            <a:ext cx="2133360" cy="320040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2666880" y="6094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изитная кар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Объект 2"/>
          <p:cNvSpPr/>
          <p:nvPr/>
        </p:nvSpPr>
        <p:spPr>
          <a:xfrm>
            <a:off x="228600" y="380880"/>
            <a:ext cx="8643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ведения об образовании</a:t>
            </a:r>
            <a:r>
              <a:rPr b="1" i="1" lang="en-US" sz="2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1295280"/>
          <a:ext cx="8382240" cy="1739880"/>
        </p:xfrm>
        <a:graphic>
          <a:graphicData uri="http://schemas.openxmlformats.org/drawingml/2006/table">
            <a:tbl>
              <a:tblPr/>
              <a:tblGrid>
                <a:gridCol w="1629000"/>
                <a:gridCol w="1886040"/>
                <a:gridCol w="2593800"/>
                <a:gridCol w="2273400"/>
              </a:tblGrid>
              <a:tr h="106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Наименование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Год оконч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Специальность (включая дополнительную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Присвоение квалификации (включая дополнительную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НГП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«Физика и информати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Учитель физики и информа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057400" y="3200400"/>
            <a:ext cx="4495680" cy="323208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81080" y="6253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ведения о присвоении квалификационной категории</a:t>
            </a: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2362320"/>
          <a:ext cx="8458200" cy="1904760"/>
        </p:xfrm>
        <a:graphic>
          <a:graphicData uri="http://schemas.openxmlformats.org/drawingml/2006/table">
            <a:tbl>
              <a:tblPr/>
              <a:tblGrid>
                <a:gridCol w="2057400"/>
                <a:gridCol w="1650960"/>
                <a:gridCol w="4749840"/>
              </a:tblGrid>
              <a:tr h="94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Наименование квалификационной катего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Дата присво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Должность (должности) по которой (которым) присвоена квалификационная катег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Втор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Воспит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Пер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Воспит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71600" y="5335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ведения о почетных наград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G-20180128-WA0178"/>
          <p:cNvPicPr/>
          <p:nvPr/>
        </p:nvPicPr>
        <p:blipFill>
          <a:blip r:embed="rId2"/>
          <a:stretch/>
        </p:blipFill>
        <p:spPr>
          <a:xfrm>
            <a:off x="1219320" y="1523880"/>
            <a:ext cx="3271680" cy="4681800"/>
          </a:xfrm>
          <a:prstGeom prst="rect">
            <a:avLst/>
          </a:prstGeom>
          <a:ln w="57240">
            <a:solidFill>
              <a:srgbClr val="c0c0c0"/>
            </a:solidFill>
            <a:miter/>
          </a:ln>
        </p:spPr>
      </p:pic>
      <p:pic>
        <p:nvPicPr>
          <p:cNvPr id="55" name="Picture 4" descr="IMG_20180128_154647"/>
          <p:cNvPicPr/>
          <p:nvPr/>
        </p:nvPicPr>
        <p:blipFill>
          <a:blip r:embed="rId3"/>
          <a:stretch/>
        </p:blipFill>
        <p:spPr>
          <a:xfrm>
            <a:off x="4978440" y="1523880"/>
            <a:ext cx="3297240" cy="4681800"/>
          </a:xfrm>
          <a:prstGeom prst="rect">
            <a:avLst/>
          </a:prstGeom>
          <a:ln w="57240">
            <a:solidFill>
              <a:srgbClr val="c0c0c0"/>
            </a:solidFill>
            <a:miter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1600200"/>
            <a:ext cx="7848360" cy="24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дел II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Инновационно-педагогическая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ятельность"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962280"/>
            <a:ext cx="7056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ема: «Использование современных образовательных технологий в познавательном развити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рок реализации: 2016-2021 учебн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Цель: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повышение своего теоретического уровня, профессионального мастерства и компетентности по данной теме; систематизация практического материала по данной проблеме в соответствии с ФГОС Д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звивать у детей интерес к решению познавательных, творческих задач, к разнообразной интеллектуа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зучить литературу по данной теме самообразования, педагогический опыт через статьи в СМИ, Интер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дрить в практику образовательной деятельности современные педагогические технологи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зработать методические рекомендации, дидактические матери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304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Само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ertificate_1927303 (2)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4800600" y="3733920"/>
            <a:ext cx="1843200" cy="2570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ertificate_4408453"/>
          <p:cNvPicPr/>
          <p:nvPr/>
        </p:nvPicPr>
        <p:blipFill>
          <a:blip r:embed="rId3"/>
          <a:stretch/>
        </p:blipFill>
        <p:spPr>
          <a:xfrm>
            <a:off x="6934320" y="3733920"/>
            <a:ext cx="1776240" cy="2514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61" name="Picture 8" descr="Свидетельство проекта infourok"/>
          <p:cNvPicPr/>
          <p:nvPr/>
        </p:nvPicPr>
        <p:blipFill>
          <a:blip r:embed="rId4"/>
          <a:stretch/>
        </p:blipFill>
        <p:spPr>
          <a:xfrm>
            <a:off x="2743200" y="3809880"/>
            <a:ext cx="1730520" cy="24480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62" name="Picture 10" descr="Certificate_2145427"/>
          <p:cNvPicPr/>
          <p:nvPr/>
        </p:nvPicPr>
        <p:blipFill>
          <a:blip r:embed="rId5"/>
          <a:stretch/>
        </p:blipFill>
        <p:spPr>
          <a:xfrm>
            <a:off x="685800" y="3809880"/>
            <a:ext cx="1730520" cy="24480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63" name="Text Box 10"/>
          <p:cNvSpPr/>
          <p:nvPr/>
        </p:nvSpPr>
        <p:spPr>
          <a:xfrm>
            <a:off x="1763640" y="152280"/>
            <a:ext cx="61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Активное самообразование и темп повышения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7924680" y="5861160"/>
            <a:ext cx="1371600" cy="996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5105520" y="1143000"/>
            <a:ext cx="3276360" cy="226548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1371600" y="1143000"/>
            <a:ext cx="3124080" cy="224640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4T10:06:06Z</dcterms:created>
  <dc:creator>Evgen</dc:creator>
  <dc:description/>
  <dc:language>en-US</dc:language>
  <cp:lastModifiedBy>Evgen</cp:lastModifiedBy>
  <dcterms:modified xsi:type="dcterms:W3CDTF">2018-04-04T11:09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