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980-D6ED-4D87-B071-BDA83BF2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77E-2629-4FF4-8EBB-18CDD4E4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212-0F3D-4219-A818-903F8A6B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386-DECB-4744-A427-2B0FEB98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E444-455D-4728-B0CF-EAF6BA62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D3B7-5B61-4765-97B6-0CD00FB4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A07-C7CC-4A4E-80DA-1EA00203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BA85-5880-485F-A751-6D55900E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B10-48ED-4E42-9821-560902C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6F86-E2D0-49FD-B003-1D161B3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01E-BABB-452A-87DD-95BC203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A94-AF10-449B-AA59-F3A8EC09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2920-443C-4385-BEE0-5EBBCF8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D54A-5E01-495B-AABE-D30F9872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B027-6DA7-448B-9044-4AAF6F7A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3138-3FD4-4208-852C-62B05FA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5C1F-393C-4EA1-BF69-96CB3827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D1C3-A2F5-4EB3-A97B-81AD964E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55C2-1F43-42BD-966B-1F417DC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D1FB-A905-4253-A7BA-B7D7253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0704-E5EA-4EB1-B7DF-62D80D3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FE91-DA75-4C20-A72A-370B5B7D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EBA-DEAD-46F1-A448-4B67C752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1F9D-292B-49B6-8A68-F76CBA30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C9A8-4CDE-4691-8B46-52D505C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FBFE-9BBC-4920-91D2-2E9D2D7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F518-2DD6-4D9A-9095-4A05CEE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E619-5F75-4CBD-89A9-19F62E25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97A6-01F1-4399-8637-E1301168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D4A8-8883-4DE3-B2B8-B8C4528A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7674-5E4A-481D-9C49-4F6896D6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4193-6D9F-4230-B9B8-F5D8A851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D38A-8BB5-4E58-B7CB-90F6D62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EB4-98C3-4FA9-A7E9-B34A5F9E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F1A5-DADF-4EAE-988B-48E36CAB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41B7-DE97-4C68-93EB-0899CC82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2BCA-2275-42C9-959B-FE5DC3A0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49B8-492F-4520-AAC3-F049430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D02B-E5A6-4D55-9EC4-448D4D92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D551-1BE6-4316-96BC-45DDCA9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269E-70A8-43BE-A1D2-A5B4328C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2DCF-FFA4-4263-8DD7-CD35B200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2519-E451-4314-B3DB-6CCECC02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C514-BE33-4414-B37B-20694775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530-0D0E-4E0E-88E1-DEC080D5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B138-1141-45B1-89FA-41501B00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6786-2084-4573-AB0E-FF1B3AF1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01A6-7AD8-4143-B131-6A7BB34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F1EC-3BC1-438F-B13D-0D74BA6B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E4B5-E792-49E2-B8B5-5F895A22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646E-55B9-400D-BC73-D41B85F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2328-0C2A-4D48-88A0-0073D6C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E64D6-4D47-48A3-B61C-4E7FDD0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8692-5432-4284-B27E-836A6AFB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4AC3-4BF8-4AB6-A6E0-17882782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1FB-DB75-49E6-87AD-BBFBEE82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231E-82E6-4975-966F-4B653534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8A18-DDA0-4DA1-9256-F73D40EE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C199D-EE9D-45B0-9D79-346B37EF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1B4D-5B7B-47BB-AB75-57B0E46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8124-82DB-4260-BE4A-69C4A5E7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EA40-5276-47AF-AC90-18B3334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B0274-9805-44AE-B2DB-7ADA7430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1C754-1879-40B1-9C78-91D152E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E84B-47B0-4D9C-877D-15A24B5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E9DF-F026-4C64-9089-E71B6F7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A59-21B1-4B67-98B9-4D4344B9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902FD-6313-496B-B811-E4187EB8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525F-925E-4B01-9DEC-A7C96F8D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1A4E-885D-4A4E-B178-E70D5D0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CE96-910A-47A0-8206-642F947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39472-131A-40C2-A50B-337EB42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F372-CFC0-4471-B403-DB46435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54E9-2BE1-4C34-8D62-6D2EB5BF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96196-330F-4C99-A8F9-0D1AE8A2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CA211-1119-476A-BD67-273DA23B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A52C-DBF4-4552-821F-4271788E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CD0-48D9-4029-88A0-C691087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419B-CD90-4819-809F-ABEA95F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753C-A13C-45EB-A01F-25B2CFD1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2C8A-F096-4B37-ABD0-07D6E35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B8508-E1D8-4F56-845F-5C2395D8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DB31-7D6F-4359-871A-1CCD81FD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D3D1C-DA4E-4A8A-AA99-E66281BF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CDAA-A508-4520-8E83-C511EA0D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4046D-7724-4358-9AD8-8DCDB331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1B82-B626-4FC0-A24D-23E18D5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2FB2-0972-401B-A83B-CB4C447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E49-657C-4ECF-B163-D9845C8B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BE5A-91ED-4CA7-BDBD-8C8F7F9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4BEB9-AD3C-48AE-A4B0-0FA2F13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EC08-E362-49BF-8518-4073F59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D2533-CE92-4526-81B9-6DBD082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0C6CC-2B2C-478F-830E-22F025F1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B389-02E3-42BD-88CC-96853FF8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A91F-E82A-4957-931C-895890D4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0096-48D7-4E24-BAF0-B6077C3EA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568-0118-4079-BE85-A350EE6594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E1C3-F234-4330-A095-D9D15161A9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A53-1078-4744-9D27-FB5B6EF494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40E9-36A6-4ED4-B4C1-1BA2F3C54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8FC5-367F-4EE7-8D44-0C91D7E5AC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5365-9E4A-4090-9366-2FE090CBD8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0531-B215-46F9-8682-0FEF0DD2F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199360" cy="2865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 младшая группа «Василёк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ОП «Росинк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131760" y="189000"/>
            <a:ext cx="4440240" cy="2361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5537160" cy="41544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951280" y="2637000"/>
            <a:ext cx="5763960" cy="381636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225360" y="133200"/>
            <a:ext cx="8785440" cy="247032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700360" y="2006640"/>
            <a:ext cx="5495760" cy="40147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2" descr=""/>
          <p:cNvPicPr/>
          <p:nvPr/>
        </p:nvPicPr>
        <p:blipFill>
          <a:blip r:embed="rId2"/>
          <a:stretch/>
        </p:blipFill>
        <p:spPr>
          <a:xfrm>
            <a:off x="225360" y="19080"/>
            <a:ext cx="8637480" cy="1906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700360" y="1988640"/>
            <a:ext cx="5472000" cy="403236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362240" y="1197000"/>
            <a:ext cx="6419520" cy="48132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-19080"/>
            <a:ext cx="8534520" cy="1908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1936800" y="2060640"/>
            <a:ext cx="5481720" cy="410508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335400" cy="4452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276720" y="2465280"/>
            <a:ext cx="3294000" cy="439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3"/>
          <a:stretch/>
        </p:blipFill>
        <p:spPr>
          <a:xfrm>
            <a:off x="5740560" y="0"/>
            <a:ext cx="3403440" cy="453564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6894360" cy="1395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086360" cy="3068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3"/>
          <a:stretch/>
        </p:blipFill>
        <p:spPr>
          <a:xfrm>
            <a:off x="4572000" y="1125360"/>
            <a:ext cx="4351320" cy="2895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4"/>
          <a:stretch/>
        </p:blipFill>
        <p:spPr>
          <a:xfrm>
            <a:off x="3995640" y="372600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6:27:04Z</dcterms:created>
  <dc:creator>Пользователь Windows</dc:creator>
  <dc:description/>
  <dc:language>en-US</dc:language>
  <cp:lastModifiedBy>1</cp:lastModifiedBy>
  <dcterms:modified xsi:type="dcterms:W3CDTF">2018-04-04T16:35:51Z</dcterms:modified>
  <cp:revision>15</cp:revision>
  <dc:subject/>
  <dc:title>Формирование представлений о родном городе у детей младшего возраста</dc:title>
</cp:coreProperties>
</file>