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360-6D19-4C5B-A72A-9622B99A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88E-D220-46FF-AA10-C6B5B9D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5D0-98FA-41C0-BA9E-09B76845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8D7-C60F-4DB8-B1E4-37058120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389-676F-4FCA-962F-C966A8B6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80B-DF41-4D32-9BC8-DA9BEAF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D3A-E13C-4F90-BF21-0715045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82F3-6266-4D9D-889F-F02C28DA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601A-6691-4E86-9327-0996732F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36E-A69C-4EC5-97C8-BDA5159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7433-F011-4A56-B0ED-4267BC6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49D-ADFB-4940-B75F-05F967C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EAC8-95A6-418A-85E4-1E48709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430E-7065-47E2-94DF-85250FE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9D94-B955-46EF-895B-25F661C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59A9-56B2-40F5-9D4A-77B6A440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7E2-A07D-419D-997C-E2CEB31F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8BEB-495D-45FA-BB07-13C6D6F9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A0B3-60A9-4378-93E5-386EFBC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8823-0F11-4FE2-B7A2-465D3BC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659F-D7E5-4A1E-BBD4-8FBFDE2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4038-FC81-4578-839A-BB2AAA0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A47-F1ED-466A-A207-E87650A9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FFD8-C334-4174-B841-63CBC509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D4F3-5D72-4749-A539-29FA61E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ABE4-E972-4FB3-8C2C-CFACA82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552E-D3C4-49AD-ADE8-2C01D5D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A8DE-DD11-48BC-9F1E-05CD654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EAEB-379B-4981-AFC0-F826D141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DE4D-9BEB-499E-9B3D-5B473E61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1F66-D3B6-421A-8A2D-112904F9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8003-AC78-43C0-B824-6819DA9F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06B3-69B0-44C4-AFDF-88B6F6B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27D-EAF3-4698-884D-E21975A0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3D10-67EE-4516-A0C1-823FA9AC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1A53-F611-44B9-AE79-571C09DA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886E-DD96-4D27-9EC9-9FDCEFD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A957-B2A4-486C-B6E5-88E99E5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A07D-E55D-4416-8376-4FD6E5B4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0CC7-7AC8-44AA-ACBD-9FE3AF0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A985-EBEA-4712-89F6-B3B57B9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245E-4D8B-4099-8CA2-4AFF5539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49F5-A05A-4AFD-BE78-0787BD6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A432-6794-4DD9-9F5E-4D47AEC3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2D0-DEA5-4249-9DC5-24521FC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7082-9260-49EB-868C-2A2A767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A8524-6B06-42ED-9454-7537069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1571-9DE6-44B5-9499-B5ABCFB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6B38-5861-4F02-8A12-FA2B1116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6A3F-FC40-48F9-810D-390A779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7FEC-5172-49A0-B1E5-26F2061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5C19-0C87-44FD-882F-94A825F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038B-201A-4EFE-9DB2-2817768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09D0-DDD7-4671-B3B6-9556B55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5ABC-6E96-4FFC-AD5A-681B3F7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E95-52C1-4C48-8354-D14D4C80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C37C9-2F77-4A9A-99A2-8A090FAB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E173-73BF-4686-A117-1765AFC5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C60D8-8668-42FA-9772-1F077ED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2CAB-FABE-497E-9A3C-E9E29911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0BFB-001A-4D6D-9B81-9D3630C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BF62-D856-48BF-B2E8-40A98C68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9CEE-FE28-4269-833F-56BD4FC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05DC8-1069-430B-BA62-FE35515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40BFB-CC95-45C6-86BC-2058B8B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BD7C-6A6D-4F9A-98AA-D3A8F89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FB1-95FC-447D-BF9F-79D606E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AAB4-5792-40BF-8C3C-95E573D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36E4B-7BF2-45F1-B9B0-D7F2820C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1C6D-A866-42D0-8D9A-27CDC39B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E43E5-F03C-4A24-90BD-6D302F51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35DA-58FD-4F52-95AC-46D27936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6598-13CC-458A-A2B6-B717661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0834-CD94-4FA0-9559-91C3FA8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E66CE-A77F-4F14-A602-F624F47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C130E-B2C7-497D-9465-C48B6E4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419F-2D60-48E1-B3EC-D20613A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A84-5613-438D-8A68-43A7509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9641-FF4A-40D6-9115-74D0AE9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8530F-2CAF-4611-9F49-457B653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F0C6D-FBDF-40C8-9B23-8439DD3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271D-B497-4D7C-843D-A2E5C704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61BF-658C-4EC8-B790-6D912CE1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E8C0-D8ED-4211-B42A-4D223356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76FF-2B8C-4C79-892D-F77D2A6B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BABE-BB7E-49C9-8428-6314F4DC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85F7-EAC2-4781-9907-AD7195F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4540-3947-4C6A-B0BD-196E6BF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766-1346-4D68-A3D0-2815763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0546-94E9-4D39-977D-7C5333D5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06BDF-0CD9-4983-8ECD-CE7EAF6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6CD18-6151-483B-8508-1D9B9522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66DF-67B1-43E0-AAF3-D43AD01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A6BB7-7F0C-464D-BBB8-977BB63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2779A-14F8-41E0-A4F0-CEFD6891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4F5C-FABA-4838-8940-C7AC154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AC4-2828-41A8-80F9-CFAADFDC19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6990-FA5D-420A-9552-F03D17AB8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AF4-8845-4E76-BC95-47A76A960E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BA7-0AC3-4ECF-A73D-B62FD97D85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AAE-3C99-4EBD-8D17-76EE1E6BB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B7A-51DD-4907-831B-885486255E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6EF3-27A0-4AB4-8CCB-6DA7A03F20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3637-1B42-4E14-B77E-7862F1E20E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199360" cy="2865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 младшая группа «Василёк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П «Росинк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131760" y="189000"/>
            <a:ext cx="4440240" cy="2361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5537160" cy="41544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951280" y="2637000"/>
            <a:ext cx="5763960" cy="381636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25360" y="133200"/>
            <a:ext cx="8785440" cy="247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700360" y="2006640"/>
            <a:ext cx="5495760" cy="40147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2" descr=""/>
          <p:cNvPicPr/>
          <p:nvPr/>
        </p:nvPicPr>
        <p:blipFill>
          <a:blip r:embed="rId2"/>
          <a:stretch/>
        </p:blipFill>
        <p:spPr>
          <a:xfrm>
            <a:off x="225360" y="19080"/>
            <a:ext cx="8637480" cy="1906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700360" y="1988640"/>
            <a:ext cx="547200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362240" y="1197000"/>
            <a:ext cx="6419520" cy="48132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-19080"/>
            <a:ext cx="8534520" cy="1908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1936800" y="2060640"/>
            <a:ext cx="5481720" cy="410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335400" cy="4452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276720" y="2465280"/>
            <a:ext cx="3294000" cy="439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3"/>
          <a:stretch/>
        </p:blipFill>
        <p:spPr>
          <a:xfrm>
            <a:off x="5740560" y="0"/>
            <a:ext cx="3403440" cy="453564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6894360" cy="1395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086360" cy="3068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3"/>
          <a:stretch/>
        </p:blipFill>
        <p:spPr>
          <a:xfrm>
            <a:off x="4572000" y="1125360"/>
            <a:ext cx="4351320" cy="2895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4"/>
          <a:stretch/>
        </p:blipFill>
        <p:spPr>
          <a:xfrm>
            <a:off x="3995640" y="372600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6:27:04Z</dcterms:created>
  <dc:creator>Пользователь Windows</dc:creator>
  <dc:description/>
  <dc:language>en-US</dc:language>
  <cp:lastModifiedBy>1</cp:lastModifiedBy>
  <dcterms:modified xsi:type="dcterms:W3CDTF">2018-04-04T16:35:51Z</dcterms:modified>
  <cp:revision>15</cp:revision>
  <dc:subject/>
  <dc:title>Формирование представлений о родном городе у детей младшего возраста</dc:title>
</cp:coreProperties>
</file>