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159-AE76-4B16-951D-35581097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4F0-8EFF-4673-AF5C-FF80B9F6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5BE-621C-4F33-84EC-A06742B7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539-9FD8-4369-9EBE-E425CDF1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96BA-F69D-46A2-B368-8F6D664A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ADAF-B8F3-49FA-B07A-9B727097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9E76-4E05-4F66-8429-7B376B89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6428-544A-4B78-8293-51AA9E4F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942C-2673-4836-B774-FC43EBE5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A50C-29E0-4447-9340-BAC2712F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F5FC-78C7-4307-AA2A-CB4EF4EA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71D-0A66-4F2E-973B-36E7BF3E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D84F-9FC9-453C-A1EC-DAF9138D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81BA-930D-41BB-8203-03F5DBB9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99E3-BBE8-48A1-88B3-D82168AB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DF34-0F83-4803-A4F6-6E886C61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DD64-A741-48BE-B8D9-C45AD09D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3E4EB-568A-4AF5-AD5C-39F64174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347CE-90E1-4DAF-97E8-E3529014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B0AC9-91FF-4919-A27B-40DC702C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119F0-D685-4C55-B6F4-2672BFFF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7955F-8C6B-4072-A716-966D94CD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F80-A032-4D8E-A04A-8305D4A3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F860C-15B2-427D-BA59-3E40FADD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C9230-9604-42F9-8100-B07878BA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2411A-B25E-4199-BC08-93EA6629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15DA9-7E6C-4354-B5CA-EF11504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A7D21-B649-4868-B17F-5E8551B4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699EB-184E-4E2C-8E19-00EA29E0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08D94-9386-42C0-90AF-C434F843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C6DD-773D-45B7-8798-292E9FCE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C7003-D503-4601-BE5B-0B9937CD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AC01-1A72-4102-A22F-08A77992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ADA-8584-42B3-8AFD-9A7858EB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7FBA-6CFB-4186-80BB-34DBC32C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07B3-B551-49C9-B81D-039404DF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B36D-0804-4F29-8CC8-486F84D0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AEC1-8E74-4CB8-A8FA-554B4D8F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45D4-9284-4F55-B864-64BA624F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7B42-76DE-4A84-B10A-661D9D41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12EC7-9DDB-4887-995D-5026A6CA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F4FF-2BAA-451D-AB36-E6AF4866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7EAA0-E9B7-4B3B-A25F-03EADA11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C830E-CA26-4C54-9AA3-E306B8DA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6ED-AD99-4910-BDA0-F7392DB0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F372B-6BE3-43A0-85E1-AEC17E23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69E8D-3E4F-4D86-8494-F23E7FE6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F137B-DF5A-483C-BB21-A28EF3F7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30F6E-F9A9-4313-847D-BA046A1F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8D90A-37C7-4332-BA74-FD55231A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6D6BA-DEF6-4246-897D-91386AB7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6B097-0088-4346-AA74-EBA93B46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43E43-5C73-4D1E-BE56-45C8C49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5D382-304B-47F5-B5C5-A3CCE338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37B73-FC94-4E62-A22B-129A36F9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CD3-0C55-4F12-8A77-E03D35A5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DF91F-BFE3-4469-B7BC-CA488FB8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3E6E6-6F3A-4D01-8D8E-87DDA16B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AB6C3-5630-4293-A946-02966AF9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A1A8F-0714-4350-8A81-2FC06873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0BE0A-31F4-4AC5-9583-0CBBCFE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8A592-0E54-43F6-9524-21563203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C9ADD-5C39-4B16-9483-F5C0DB5A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85828-47CF-4EB2-9247-2051381F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1AC7E-9712-49EE-B210-ED72A08D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26EBD9-1230-4E39-9ED7-697AF8A7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E1F-E7D3-4E09-9846-95D0F501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4EBBE-ACC9-467E-BFA8-16C1EA72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48AE1-9C8C-44EA-BAE7-0699562D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B4A67-5570-421A-BE44-28190135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342ED-7E6F-443C-9634-BD8AAAE5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B3A5F-FA46-4FCD-935F-F368EAC6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C5F8F-76EC-4E07-82A6-A6F4DEC4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16B64-8929-4D9F-96D9-AFE083DA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BFD6D-6833-4AAC-9080-879661EE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63602-FCB2-4EF9-9B9C-A9702C79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3690D-8163-497D-B59C-C478BE1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F9A-FCF5-423D-B6DE-CF0FE929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6EA52-93E5-456A-B234-1132D7C3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168C1-CE3C-462E-8430-47D86CE8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56E46-D683-4EAA-BA23-7CC150B4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1BD99-C14E-4E34-89C6-0F48875C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F4D75-6CC1-4301-B4DE-05BC15EB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1F7-08ED-428F-A6D1-CAC6ABFB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3EF6-8609-4CF9-A71D-E823A0C213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186F-FB8A-4392-A946-A3229C7B68B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725B-EF87-47DB-A443-BDF87636CD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4DAD-FBD2-44BB-8E2F-C5A26356C8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6BC2-1DA9-4E43-8E81-9960DC44F0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061F-D818-40B6-A606-EFB9B136F9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9A00-47F5-47A5-B263-E6DFBAEB25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12960" y="189000"/>
            <a:ext cx="67975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1" lang="ru-RU" sz="7200" spc="-1" strike="noStrike">
                <a:solidFill>
                  <a:srgbClr val="575f6d"/>
                </a:solidFill>
                <a:latin typeface="Blackadder ITC"/>
              </a:rPr>
              <a:t>СТЕПЕНЬ ЧИСЛА</a:t>
            </a:r>
            <a:br>
              <a:rPr sz="7200"/>
            </a:b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3059280" y="278136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059280" y="256536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bd05012_"/>
          <p:cNvPicPr/>
          <p:nvPr/>
        </p:nvPicPr>
        <p:blipFill>
          <a:blip r:embed="rId1"/>
          <a:stretch/>
        </p:blipFill>
        <p:spPr>
          <a:xfrm>
            <a:off x="250920" y="189000"/>
            <a:ext cx="1562040" cy="1365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j0088956"/>
          <p:cNvPicPr/>
          <p:nvPr/>
        </p:nvPicPr>
        <p:blipFill>
          <a:blip r:embed="rId2"/>
          <a:stretch/>
        </p:blipFill>
        <p:spPr>
          <a:xfrm>
            <a:off x="250920" y="4508640"/>
            <a:ext cx="3311280" cy="2057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301360"/>
          <p:cNvPicPr/>
          <p:nvPr/>
        </p:nvPicPr>
        <p:blipFill>
          <a:blip r:embed="rId3"/>
          <a:stretch/>
        </p:blipFill>
        <p:spPr>
          <a:xfrm>
            <a:off x="5992920" y="3716280"/>
            <a:ext cx="2832120" cy="29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4920" y="333360"/>
            <a:ext cx="821052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ыражение вида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5</a:t>
            </a:r>
            <a:r>
              <a:rPr b="1" lang="ru-RU" sz="2200" spc="-1" strike="noStrike" baseline="30000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называется степенью, где число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- это основание степени, а число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4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это показатель степен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снование степени – это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повторяющийся множитель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, а показатель степени равен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числу повторений, т. е он указывает, сколько одинаковых множителей содержится в произведении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ыражение 5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читают так :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«Пять в четвёртой степени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торую степень числа называют также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квадрато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этого числ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пись 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итают так: «Три во второй степень» или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«Три в квадрате»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ретью степень числа называют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кубо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этого числ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пись 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итают: «Четыре в третьей степени» или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«Четыре в кубе»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20"/>
          <p:cNvSpPr/>
          <p:nvPr/>
        </p:nvSpPr>
        <p:spPr>
          <a:xfrm>
            <a:off x="395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йти верное равен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0" y="549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0" y="66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0" y="86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0" y="10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60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=5+5+5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60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=5*3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60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=3*3*3*3*3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60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=5*5*5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95280" y="1397160"/>
          <a:ext cx="8280360" cy="3479760"/>
        </p:xfrm>
        <a:graphic>
          <a:graphicData uri="http://schemas.openxmlformats.org/drawingml/2006/table">
            <a:tbl>
              <a:tblPr/>
              <a:tblGrid>
                <a:gridCol w="2448000"/>
                <a:gridCol w="1944720"/>
                <a:gridCol w="1817640"/>
                <a:gridCol w="207000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изве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теп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снование степ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казатель степ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261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∙ 4 ∙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0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24000" y="1125360"/>
            <a:ext cx="84247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Мне на уроке понравилось…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Мне показалось трудным…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Я бы ещё хотел выполнить …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Главным результатом   считаю…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j0292112"/>
          <p:cNvPicPr/>
          <p:nvPr/>
        </p:nvPicPr>
        <p:blipFill>
          <a:blip r:embed="rId1"/>
          <a:stretch/>
        </p:blipFill>
        <p:spPr>
          <a:xfrm>
            <a:off x="7020000" y="476280"/>
            <a:ext cx="1817640" cy="1801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j0292134"/>
          <p:cNvPicPr/>
          <p:nvPr/>
        </p:nvPicPr>
        <p:blipFill>
          <a:blip r:embed="rId2"/>
          <a:stretch/>
        </p:blipFill>
        <p:spPr>
          <a:xfrm>
            <a:off x="6588000" y="3573360"/>
            <a:ext cx="2341800" cy="2975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92122"/>
          <p:cNvPicPr/>
          <p:nvPr/>
        </p:nvPicPr>
        <p:blipFill>
          <a:blip r:embed="rId3"/>
          <a:stretch/>
        </p:blipFill>
        <p:spPr>
          <a:xfrm>
            <a:off x="395280" y="4005360"/>
            <a:ext cx="2879640" cy="2523960"/>
          </a:xfrm>
          <a:prstGeom prst="rect">
            <a:avLst/>
          </a:prstGeom>
          <a:ln w="0">
            <a:noFill/>
          </a:ln>
        </p:spPr>
      </p:pic>
      <p:sp>
        <p:nvSpPr>
          <p:cNvPr id="372" name="WordArt 7"/>
          <p:cNvSpPr txBox="1"/>
          <p:nvPr/>
        </p:nvSpPr>
        <p:spPr>
          <a:xfrm>
            <a:off x="1547640" y="692280"/>
            <a:ext cx="4680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бята !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7:12:48Z</dcterms:created>
  <dc:creator>Светлана</dc:creator>
  <dc:description/>
  <dc:language>en-US</dc:language>
  <cp:lastModifiedBy>Tuturskaia SOSH</cp:lastModifiedBy>
  <dcterms:modified xsi:type="dcterms:W3CDTF">2018-04-04T14:29:14Z</dcterms:modified>
  <cp:revision>22</cp:revision>
  <dc:subject/>
  <dc:title>Куб и квадрат числа</dc:title>
</cp:coreProperties>
</file>