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A5A-9E3C-4834-8DAA-52953A7D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C87-77FC-4874-BD8A-A24B129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A78-F4BB-4043-B48E-59DEE5E2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CC2-A50D-417D-94E5-8DE00742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A47-2BC4-491C-A172-5D9071E0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64CE-F326-45D9-A106-03631674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5083-7F5B-446B-A558-834F3E0E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BE5-367F-4C35-8C84-72C2E1E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75A9-5A9E-46C0-AC53-B5A5858F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8440-BAA0-4855-85C0-74A15D06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DB3D-E9D7-473E-B4D0-44A7C0A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337-123D-4EF3-8231-187A25E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014-FD48-4AE2-954E-B7718F5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9F75-5ED8-42D0-8C75-AB5FA0B7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6BB0-D523-4B6C-92E1-42B11A6D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8C79-3053-45E8-AC9F-EBB3261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DF50-31F9-4DB3-9B31-4E607897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5952A-E42A-4CD4-B55E-09AF0BD2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2F5F7-2842-49A1-BF7B-57432CD4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ADFE1-AF09-4C25-A9F7-D66F1B8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B643A-4F10-4650-8F5A-CF352BD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8AF5B-3165-4934-B3FA-E0D80A5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3CF-6964-459F-A625-F2D909C9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97589-FD37-4F71-9154-92560BC6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94DBC-465B-47C5-B659-814A1CD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7D07B-99E1-41FD-B3A8-EB070B8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8CD4F-4C0B-4742-8D4E-B60119F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D3F6F-B94C-489A-978C-AC32F19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7E50B-FF8A-4952-9B0B-EE154FFA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29214-D6A2-46CB-ABA0-5135D044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A15C-E8B9-4995-AC8E-E4C320C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DED1-B743-427A-A895-2F2BA45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C4B04-F008-4266-92B8-AB40425A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6D8-7F5C-4AA0-A8E7-329ADE9C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FF96-2A26-477F-96E1-9FB4E299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F7F7-672E-4BA1-BA39-2634FB0E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9F10-984E-4751-B848-74FEE593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5D97-B591-423A-84EE-CEEE633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8893-4D05-47D5-932C-4429816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7635-52E1-4F52-B2F1-8EAB30F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1759-5902-412A-A6AD-29A1F091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9D5B-EC25-4940-BF34-8AFE2D64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D98B-52B7-4132-84B7-03BA8F37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A40F9-C1B7-4FA7-91C0-6BC925D4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9F8-2CB4-4454-A96C-F52FB42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26562-7642-48B8-A311-C401C5DC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AFD29-3A32-4FBB-9BF5-E5952AAC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D37F7-B862-4665-9976-42D28CC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890F7-DAF5-41AE-B851-1D61741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0B2EC-8D38-4B33-94E9-2DED617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CB15B-7F3E-4532-B070-2544A1E3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89786-9CEA-4D3A-B2D1-B10163E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9AC6A-CB20-412E-9103-5CAA9C0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71847-2D5A-4C0A-AEBC-20CD1DC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D7640-09BF-4164-85E4-3348D271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9A8-025F-4658-A458-F81D5C4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CE989-5C09-488F-AD9B-A6CDF8F3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95F17-5206-4B16-A44E-A59144FA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98A5B-1EA3-4E82-BA20-965D6599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BCE85-3681-4AFD-A656-B52DE14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F614E-0D49-4AF0-BF36-321FB031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41156-3A52-4A76-AE04-AA7B897C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DAA16-EC2F-47FC-AAE0-8E26C83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4DB8F-B302-4D5E-9A8B-F010901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5C3BC-F672-4EAF-B914-7EF0F62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BE5C8-1808-4474-BAD3-5A56382E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BB1-57F2-4795-BD1C-8134D74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A6EB3-959E-4783-82AC-ED799140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FB8CF-75AA-46C0-81B3-1C300B8A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5284E-681C-420B-B89C-1C6D4D39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245D8-0BBF-4E22-ACCB-75500586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C5D2A-7320-4A67-BB36-889900FA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46989-55F7-49AF-9292-37830E7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0B941-1332-4C64-9140-F9834CF4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20310-298E-4F5B-B93A-9930F04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C2723-3EB3-4971-BDD0-6584BF02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EA404-5437-4194-9AB5-123CF7E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09E-2731-4E9A-985C-2E793F3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191C2-8DDD-4AA7-987B-F598C95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47960-3E0E-4D9A-9E1E-864821B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8FAF0-9631-4092-BE30-38DADD4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8181F-398B-4A00-9450-424FBB07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84845-01C1-4490-9865-B2667AF4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B28-B466-4F7A-BE18-8849A68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298-5B47-4A8F-BD10-0D315112AA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F3BE-4C40-49D6-BEFB-4EB09EABF9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D53C-4C60-4CEA-B05F-4F1B50BD6F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BE53-6CAA-4862-87C0-C8343BC9EEE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7A9E-055F-4691-9A73-C142663FEE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58BC-357B-4204-ACD9-6C5794372B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1F3-2779-4F7E-B0E8-5DF6CC1A8A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12960" y="189000"/>
            <a:ext cx="67975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1" lang="ru-RU" sz="7200" spc="-1" strike="noStrike">
                <a:solidFill>
                  <a:srgbClr val="575f6d"/>
                </a:solidFill>
                <a:latin typeface="Blackadder ITC"/>
              </a:rPr>
              <a:t>СТЕПЕНЬ ЧИСЛА</a:t>
            </a:r>
            <a:br>
              <a:rPr sz="7200"/>
            </a:b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059280" y="2781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059280" y="2565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bd05012_"/>
          <p:cNvPicPr/>
          <p:nvPr/>
        </p:nvPicPr>
        <p:blipFill>
          <a:blip r:embed="rId1"/>
          <a:stretch/>
        </p:blipFill>
        <p:spPr>
          <a:xfrm>
            <a:off x="250920" y="189000"/>
            <a:ext cx="1562040" cy="136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j0088956"/>
          <p:cNvPicPr/>
          <p:nvPr/>
        </p:nvPicPr>
        <p:blipFill>
          <a:blip r:embed="rId2"/>
          <a:stretch/>
        </p:blipFill>
        <p:spPr>
          <a:xfrm>
            <a:off x="250920" y="4508640"/>
            <a:ext cx="3311280" cy="2057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301360"/>
          <p:cNvPicPr/>
          <p:nvPr/>
        </p:nvPicPr>
        <p:blipFill>
          <a:blip r:embed="rId3"/>
          <a:stretch/>
        </p:blipFill>
        <p:spPr>
          <a:xfrm>
            <a:off x="5992920" y="3716280"/>
            <a:ext cx="283212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333360"/>
            <a:ext cx="821052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ражение вида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1" lang="ru-RU" sz="2200" spc="-1" strike="noStrike" baseline="30000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называется степенью, где число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- это основание степени, а число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4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это показатель степен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снование степени – это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повторяющийся множител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, а показатель степени равен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числу повторений, т. е он указывает, сколько одинаковых множителей содержится в произведени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ражение 5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читают так :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Пять в четвёртой степени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ую степень числа называют также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квадрато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этого числ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пись 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тают так: «Три во второй степень» или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Три в квадрате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ретью степень числа называют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кубо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этого числ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пись 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тают: «Четыре в третьей степени» или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Четыре в кубе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0"/>
          <p:cNvSpPr/>
          <p:nvPr/>
        </p:nvSpPr>
        <p:spPr>
          <a:xfrm>
            <a:off x="395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йти верное равен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0" y="54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0" y="66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0" y="8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5+5+5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5*3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3*3*3*3*3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5*5*5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397160"/>
          <a:ext cx="8280360" cy="3479760"/>
        </p:xfrm>
        <a:graphic>
          <a:graphicData uri="http://schemas.openxmlformats.org/drawingml/2006/table">
            <a:tbl>
              <a:tblPr/>
              <a:tblGrid>
                <a:gridCol w="2448000"/>
                <a:gridCol w="1944720"/>
                <a:gridCol w="1817640"/>
                <a:gridCol w="207000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из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теп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нование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казатель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∙ 4 ∙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0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24000" y="1125360"/>
            <a:ext cx="84247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Мне на уроке понравилось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Мне показалось трудным…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Я бы ещё хотел выполнить 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Главным результатом   считаю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j0292112"/>
          <p:cNvPicPr/>
          <p:nvPr/>
        </p:nvPicPr>
        <p:blipFill>
          <a:blip r:embed="rId1"/>
          <a:stretch/>
        </p:blipFill>
        <p:spPr>
          <a:xfrm>
            <a:off x="7020000" y="47628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j0292134"/>
          <p:cNvPicPr/>
          <p:nvPr/>
        </p:nvPicPr>
        <p:blipFill>
          <a:blip r:embed="rId2"/>
          <a:stretch/>
        </p:blipFill>
        <p:spPr>
          <a:xfrm>
            <a:off x="6588000" y="3573360"/>
            <a:ext cx="2341800" cy="2975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92122"/>
          <p:cNvPicPr/>
          <p:nvPr/>
        </p:nvPicPr>
        <p:blipFill>
          <a:blip r:embed="rId3"/>
          <a:stretch/>
        </p:blipFill>
        <p:spPr>
          <a:xfrm>
            <a:off x="395280" y="4005360"/>
            <a:ext cx="2879640" cy="252396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>
            <a:off x="1547640" y="692280"/>
            <a:ext cx="468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ята !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7:12:48Z</dcterms:created>
  <dc:creator>Светлана</dc:creator>
  <dc:description/>
  <dc:language>en-US</dc:language>
  <cp:lastModifiedBy>Tuturskaia SOSH</cp:lastModifiedBy>
  <dcterms:modified xsi:type="dcterms:W3CDTF">2018-04-04T14:29:14Z</dcterms:modified>
  <cp:revision>22</cp:revision>
  <dc:subject/>
  <dc:title>Куб и квадрат числа</dc:title>
</cp:coreProperties>
</file>