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2FF2-5FFA-4531-A768-13BDD180A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4EC1-A659-45F7-8158-FD9B53A174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62B-E07B-46B9-92CE-39AE216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72E-9B17-4287-91DC-16F3D55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02A-2C27-40E6-B762-B78D6FE6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7C6-BD25-4F20-84FB-5F59E55F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DD0-9388-4D9D-9151-ADDFA0DA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F92-9661-453F-9950-8E1C9B9F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D42-3272-4624-94EF-131D09CB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7F8-1C87-4D95-8C0E-DEAB7920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9EA-B14D-47CF-851B-BBDCC386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04F-B11A-42F9-94D7-CFC7B29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676-03F7-4CF2-A151-8C4B3E7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8CE-EE8E-4650-A365-0638D18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FEA-B646-4A80-8292-3CA0444E19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БОУ Школа №883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лыш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льно-физкультурный круж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у часть входят элементы ритмической гимнастики, разучивание танцевальных движений ,игропластика, креативная гимнастика, подвиж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ключительная ча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Используются упражнения на расслабление мышц, игровой самомассаж, подвижные игры  малой интенс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алыш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Содержимое 3" descr="DSC03873.JPG"/>
          <p:cNvPicPr/>
          <p:nvPr/>
        </p:nvPicPr>
        <p:blipFill>
          <a:blip r:embed="rId1"/>
          <a:stretch/>
        </p:blipFill>
        <p:spPr>
          <a:xfrm>
            <a:off x="644400" y="1676520"/>
            <a:ext cx="785520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6" descr="DSC03802"/>
          <p:cNvPicPr/>
          <p:nvPr/>
        </p:nvPicPr>
        <p:blipFill>
          <a:blip r:embed="rId1"/>
          <a:stretch/>
        </p:blipFill>
        <p:spPr>
          <a:xfrm>
            <a:off x="642960" y="1676520"/>
            <a:ext cx="7856640" cy="4422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843280" y="616572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удная доро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8540640" cy="21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DSC03816"/>
          <p:cNvPicPr/>
          <p:nvPr/>
        </p:nvPicPr>
        <p:blipFill>
          <a:blip r:embed="rId1"/>
          <a:stretch/>
        </p:blipFill>
        <p:spPr>
          <a:xfrm>
            <a:off x="755640" y="1628640"/>
            <a:ext cx="7416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5805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ем очере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одержимое 6" descr="DSC03808.JPG"/>
          <p:cNvPicPr/>
          <p:nvPr/>
        </p:nvPicPr>
        <p:blipFill>
          <a:blip r:embed="rId1"/>
          <a:stretch/>
        </p:blipFill>
        <p:spPr>
          <a:xfrm>
            <a:off x="1187280" y="1773360"/>
            <a:ext cx="633096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Содержимое 4" descr="DSC03805.JPG"/>
          <p:cNvPicPr/>
          <p:nvPr/>
        </p:nvPicPr>
        <p:blipFill>
          <a:blip r:embed="rId1"/>
          <a:stretch/>
        </p:blipFill>
        <p:spPr>
          <a:xfrm>
            <a:off x="1042920" y="2060640"/>
            <a:ext cx="7164360" cy="403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Содержимое 4" descr="DSC03819.JPG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378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пражнение с ленточк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Содержимое 4" descr="DSC03877.JPG"/>
          <p:cNvPicPr/>
          <p:nvPr/>
        </p:nvPicPr>
        <p:blipFill>
          <a:blip r:embed="rId1"/>
          <a:stretch/>
        </p:blipFill>
        <p:spPr>
          <a:xfrm>
            <a:off x="900000" y="1413000"/>
            <a:ext cx="7631280" cy="4295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Содержимое 4" descr="DSC03879.JPG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пражнение с платочк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Содержимое 4" descr="DSC03886.JPG"/>
          <p:cNvPicPr/>
          <p:nvPr/>
        </p:nvPicPr>
        <p:blipFill>
          <a:blip r:embed="rId1"/>
          <a:stretch/>
        </p:blipFill>
        <p:spPr>
          <a:xfrm>
            <a:off x="826920" y="1557360"/>
            <a:ext cx="7153560" cy="4006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5660640"/>
            <a:ext cx="8540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 М. Сеченов писал: «Не умеешь двигаться – не умеешь познавать мир, знания такой души перекошены на один бок». Опираясь на выше сказанные слова, можно с уверенностью считать, что музыкально - ритмические движения (упражнения, танцы, музыкально-подвижные игры и т. д.) автоматически становятся приоритетным видом деятельности развитии дошкольников. Дошкольный возраст является основным периодом в организации процесса обучения музыкально – ритмическим движения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Содержимое 4" descr="DSC03888.JPG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09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пражнение с мячико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Содержимое 4" descr="DSC04134.JPG"/>
          <p:cNvPicPr/>
          <p:nvPr/>
        </p:nvPicPr>
        <p:blipFill>
          <a:blip r:embed="rId1"/>
          <a:stretch/>
        </p:blipFill>
        <p:spPr>
          <a:xfrm>
            <a:off x="826920" y="1557360"/>
            <a:ext cx="7236000" cy="4073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Содержимое 4" descr="DSC04142.JPG"/>
          <p:cNvPicPr/>
          <p:nvPr/>
        </p:nvPicPr>
        <p:blipFill>
          <a:blip r:embed="rId1"/>
          <a:stretch/>
        </p:blipFill>
        <p:spPr>
          <a:xfrm>
            <a:off x="755640" y="1484280"/>
            <a:ext cx="730728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Содержимое 4" descr="DSC03826.JPG"/>
          <p:cNvPicPr/>
          <p:nvPr/>
        </p:nvPicPr>
        <p:blipFill>
          <a:blip r:embed="rId1"/>
          <a:stretch/>
        </p:blipFill>
        <p:spPr>
          <a:xfrm>
            <a:off x="1187280" y="1557360"/>
            <a:ext cx="6444000" cy="3627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5444640"/>
            <a:ext cx="854064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учивание новых танцевальных дви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5081400"/>
            <a:ext cx="6337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DSC03827"/>
          <p:cNvPicPr/>
          <p:nvPr/>
        </p:nvPicPr>
        <p:blipFill>
          <a:blip r:embed="rId1"/>
          <a:stretch/>
        </p:blipFill>
        <p:spPr>
          <a:xfrm>
            <a:off x="1835280" y="1557360"/>
            <a:ext cx="604836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Содержимое 4" descr="DSC03834.JPG"/>
          <p:cNvPicPr/>
          <p:nvPr/>
        </p:nvPicPr>
        <p:blipFill>
          <a:blip r:embed="rId1"/>
          <a:stretch/>
        </p:blipFill>
        <p:spPr>
          <a:xfrm>
            <a:off x="1258920" y="1484280"/>
            <a:ext cx="6192720" cy="3486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5084640"/>
            <a:ext cx="8540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,  да уд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Содержимое 4" descr="DSC03841.JPG"/>
          <p:cNvPicPr/>
          <p:nvPr/>
        </p:nvPicPr>
        <p:blipFill>
          <a:blip r:embed="rId1"/>
          <a:stretch/>
        </p:blipFill>
        <p:spPr>
          <a:xfrm>
            <a:off x="826920" y="1557360"/>
            <a:ext cx="716472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5805000"/>
            <a:ext cx="8540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ская фиг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Содержимое 4" descr="DSC03844.JPG"/>
          <p:cNvPicPr/>
          <p:nvPr/>
        </p:nvPicPr>
        <p:blipFill>
          <a:blip r:embed="rId1"/>
          <a:stretch/>
        </p:blipFill>
        <p:spPr>
          <a:xfrm>
            <a:off x="539640" y="1557360"/>
            <a:ext cx="7775640" cy="4376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595008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а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Фестиваль детского творчества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Ярмарка талантов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Содержимое 4" descr="цыганочка.jpg"/>
          <p:cNvPicPr/>
          <p:nvPr/>
        </p:nvPicPr>
        <p:blipFill>
          <a:blip r:embed="rId1"/>
          <a:stretch/>
        </p:blipFill>
        <p:spPr>
          <a:xfrm>
            <a:off x="1042920" y="1557360"/>
            <a:ext cx="687708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Наши достижения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Международный фестиваль искусств «Московские звезды» 2016</a:t>
            </a:r>
            <a:br>
              <a:rPr sz="40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5877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д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DSC03762"/>
          <p:cNvPicPr/>
          <p:nvPr/>
        </p:nvPicPr>
        <p:blipFill>
          <a:blip r:embed="rId1"/>
          <a:stretch/>
        </p:blipFill>
        <p:spPr>
          <a:xfrm>
            <a:off x="971640" y="1676520"/>
            <a:ext cx="705636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нно в этом возрасте необходимо воспитывать в детях «мышечные чувства», которые в свою очередь способствуют успешной работе мозга. Обучение музыкально – ритмическим движениям, является универсальным средством развития у детей музыкального слуха, памяти, внимания, выразительности движений, творческого вообра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  позволяют ребенку развивать творческие способности, формировать красивые манеры, походку, осанку, выразительность движ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Цыганоч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Малышок - Цыганочка.mp4" descr=""/>
          <p:cNvPicPr/>
          <p:nvPr/>
        </p:nvPicPr>
        <p:blipFill>
          <a:blip r:embed="rId1"/>
          <a:stretch/>
        </p:blipFill>
        <p:spPr>
          <a:xfrm>
            <a:off x="3556080" y="1982880"/>
            <a:ext cx="20318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Малышок - Цыганочка.mp4"/>
          <p:cNvSpPr/>
          <p:nvPr/>
        </p:nvSpPr>
        <p:spPr>
          <a:xfrm>
            <a:off x="2154240" y="1484280"/>
            <a:ext cx="49435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детей укрепляется здоровье, укрепляются мышцы, улучшается работа органов дыхания, кровообращения, а также в процессе занятий дети избавляются от стеснительности, зажатости и  комплексов. Двигательная активность вызывает у ребенка радостные эмоции, которые существенно влияют на его физическое, психическое и социальное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Малышок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541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 программы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витие ребенка, формирование средствами музыки и ритмических движений разнообразных умений, способностей, качеств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ающие задач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звитие двигательных качеств и умений: координация движений, гибкости и пластичности, умения ориентироваться в пространст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богащение двигательного опыта различными видами движ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звитие чувства ритма – способности выражать в движении ритмическую пульсацию мелод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слухового внимания – умение начинать и заканчивать движения в соответствии с началом и концом музы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способности менять темп и характер движения в соответствии с изменением темпа и характера звуч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музыкального слуха: звуковысотного, динамического, ладово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эмоциональной отзывчивости на музыку, образно-игровых движ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Развивающие задачи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музыкаль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способности воспринимать музыку, то есть чувствовать ее настроение и характер, понимать ее содержан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музыкальной памя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двигательных качеств и уме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ловкости, точности, координации движ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гибкости и пластич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правильной осанки, красивой поход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умения ориентироваться в пространств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гащение двигательного опыта разнообразными видами движ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, потребности самовыражения в движении под музык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творческого воображения и фантазии; развитие способности к импровизации: в дви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руктура занят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занятия состоит из трех частей: подготовительной, основной и заключитель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дготовительная часть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дача этой части - подготовить организм ребенка к работе: разогреть мышцы, связки и суставы. В эту часть входят строевые упражнения с использованием элементов игроритмики,   пальчиковая гимна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ча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Основные задачи – формирование двигательных умений и навыков, идет основная работа над развитием двигательных способностей: гибкости, мышечной силы, быстроты движений, ловкости, выносливости.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1:09:37Z</dcterms:created>
  <dc:creator>Home 2</dc:creator>
  <dc:description/>
  <dc:language>en-US</dc:language>
  <cp:lastModifiedBy>Наташа</cp:lastModifiedBy>
  <dcterms:modified xsi:type="dcterms:W3CDTF">2018-04-04T06:10:00Z</dcterms:modified>
  <cp:revision>22</cp:revision>
  <dc:subject/>
  <dc:title>Вокальная студия «Улыбка»</dc:title>
</cp:coreProperties>
</file>