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CA21-40F5-4598-9197-C15354EE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A6E9-0FC0-4477-92FB-C1F83F5C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C58A-827C-45C2-841F-552FA42F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B7BD-5255-44AA-BAE9-F91AB6B6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6F6D-770A-4B94-8BF2-2379F3BA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A7FE-23CD-45E9-9A22-DECEE82D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A0C5-A3D6-49E7-A116-49EA7A26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4F23-03D9-4DCE-964F-BFDDF87C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9693-8FD5-424C-955C-B6CFE1DB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DEA7-F40A-4546-9485-78C5C4FF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AC6A-6C1C-4A0A-8FD8-0F1A0868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75C5-88CE-458B-954B-E54BF453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2105-16FF-473E-BA9C-037B918E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AE10-2ECC-4AE7-B076-C8E84824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5033-AE10-495D-A4A6-516ED8CA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D26F-2D93-4A2A-A10F-3B94919E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EF6E-3807-4854-968B-1F647C86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5F604-DA79-4D7B-95D3-FFCEA4CF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D7361-0D03-4D75-AEBA-7154F5E9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F4E1A-BBB4-4A4C-A597-9CFF0E11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8955C-2459-4F3D-B283-7E2AD113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2BDF1-0F17-4280-ACC5-7426C4AD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8FA9-14F6-42B7-8F0F-65088EA3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4E9EC-7EF9-4AD7-A34E-78E894C1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70BEE-68F3-4784-9E92-C89F64B5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8443E-64C4-461A-8765-188E5082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68F29-F7E8-41D5-9C5D-7D29FDDB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E6E60-70A2-4F14-A8F2-A9A7185E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F8304-6402-4F91-BBBB-AC82DC7B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4100-3635-4D0B-8E1A-BEF5BFE6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F0700-643A-47BE-8E36-A1A50CA7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7F020-F199-4C10-8FD9-E47941D5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CC45B-31D3-4000-B0B6-BD72F587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A16D-59D1-49A5-9037-D94474C0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927C4-F2C0-43AA-B7D2-952A5123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3C26C-BD70-4DF5-95C3-2D46F79E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D702D-BDB7-489D-B029-59F84E5B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15EEB-4BD1-49D1-B050-3E66CFCE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B3D9D-E518-4E49-8A10-603F5639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D3812-04AE-4373-B930-67AA1BA0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49E49-F8D0-4CDA-A758-43D23BE9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A46CE-29DA-47E6-84C6-2F8B3ED6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CAAF1-34D4-4499-AE46-04002BBE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65191-FFC3-434F-8D95-0DCF0ED3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91A7-6C9C-44D9-9608-23B9D797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EB2DF-0492-421A-88DA-D2BBA71E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55582-DE0C-40A6-B8A6-EECE84F6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CDE78-9363-4F3F-8EE3-2942A8F4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D1E6D-62CD-4B44-8A85-CD295742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35301-8561-4D7E-8997-29AC1275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04754-97E3-4E43-BC83-95E4C8F0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64D2A-2A08-4235-A290-46FE51F5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83FEA-2512-4540-9D66-DA28CA39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CB7D5-5C42-48AF-A9DD-35706D35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25085-9A2F-43E5-8444-336E3BD5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F041-72CC-4237-AA53-16B8D3E0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C41E7-7B36-4162-A150-C9A65057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8E188-BF41-4C19-945E-53813D5B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315D2-2176-4520-B7B0-684059F3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6A236-19E3-4806-A446-87E85136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4C938-2C97-4DA4-8C0F-66E15E20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78F84-637D-415E-8C11-F9AEDDD1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3FCD3-2237-46F4-9B49-39ADE6A4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271B2-37BD-4D3F-AFE2-02AD89DD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1E2D0-3F83-473D-9DB3-2A070343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2312D-E3E1-494D-AA50-D57AEF53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55A9-4802-40C1-BC02-A7D1F1B8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B5070-74B5-466F-A822-2EAA7C5A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35122-15E9-4890-9EB4-BD0FCE96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75937-0C38-4FB9-A147-6E35F1F6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EAEB4-2E1C-4D9F-B15D-5836DF1F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B2558-FF44-483C-A821-96D0A52C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E7196-79A9-4D5D-875E-316CA087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9C1E4-4E95-40D2-9816-9551E8AD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90D75-6C52-42AB-AE71-317D5C15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BD64F-AB2F-4DBF-956F-3C2E2C3A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D6BF0-AC95-4A10-9161-9F74650F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2D32-395C-43D0-846F-51C72F89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934C1-9488-4500-90EF-2AB62531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AC8EE-4B70-48F9-91C7-786C8701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E044D-7CCA-48F0-975F-1BD4581E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6EFDC-3F98-46A0-A3D2-99838934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C0063-6919-4D82-9B32-0D65A55E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D3B7-DE5C-42CA-8836-28B0C308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A2EBA6-12BD-4075-AB02-185B0D9BF08F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47653-7ED4-47DA-99A1-CED2EB9FAE67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9028E-D150-4EE3-A6D1-7E503368C696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64F50-34C1-4CCC-AABD-CA929F68EE8A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637052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F71BA0-1FFA-4C4E-847D-C5EBE2F9E351}" type="slidenum">
              <a:rPr b="0" lang="ru-RU" sz="1000" spc="-1" strike="noStrike">
                <a:solidFill>
                  <a:srgbClr val="637052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9B186-0303-4C61-9CE7-F5F98A38EA3F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80DCF-A66D-4B0C-A263-CAF9DE9F806C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807084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грамма «Школа России»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это УМК для 1-4 классов общеобразовательных учреждений, которая обеспечивает достижение требований к результатам освоения основной образовательной программы начального общего образования. .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тверждена приказом Министерства образования и науки Российской Федерации от «6» октября 2009 г.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й руководитель УМК «Школа России» Андрей Анатольевич ПЛЕШАКОВ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6012000" y="1125360"/>
            <a:ext cx="2970000" cy="4526280"/>
          </a:xfrm>
          <a:prstGeom prst="rect">
            <a:avLst/>
          </a:prstGeom>
          <a:ln w="0">
            <a:noFill/>
          </a:ln>
        </p:spPr>
      </p:pic>
      <p:sp>
        <p:nvSpPr>
          <p:cNvPr id="308" name="TextBox 3"/>
          <p:cNvSpPr/>
          <p:nvPr/>
        </p:nvSpPr>
        <p:spPr>
          <a:xfrm>
            <a:off x="0" y="1144440"/>
            <a:ext cx="5743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ей   Анатольевич  Плешак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 педагогических  наук, лауреат Премии   Президента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  Федерации  в  области   образования,  один  из   постоянных авторов журнала «Начальная школа», член редколлегии и редакционного совета журнала. Известный автор учебников, рабочих тетрадей, тестов и других пособий по курсу «Окружающий  мир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10720" y="691920"/>
            <a:ext cx="754380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цепция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68360" y="1915920"/>
            <a:ext cx="822960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лавная идея комплекта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школа России должна стать школой духовно-нравственного развития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снову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здания образовательной модели «Школа России» положены традиции отечественной школы с признанием их исключительной ценности и значимости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900000" y="1773000"/>
            <a:ext cx="806472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ить регулирование различных аспектов освоения метапредметных умений, т.е. способов деятельности, применимых в рамках, как образовательного процесса, так и при решении проблем в реальных жизненных ситуациях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ль обучения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7952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58720" indent="-5144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стижение личностных результатов учащихся;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58720" indent="-5144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отовность и способность обучающихся к саморазвитию;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58720" indent="-5144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формированность мотивации  к обучению и познанию;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58720" indent="-5144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мысление и принятие основных базовых ценностей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5872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чи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ru-RU" sz="4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обенности: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11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01480" indent="-4572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личностно развивающее образование младших школьников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01480" indent="-4572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гражданско-ориентированное образование младших школьников;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01480" indent="-4572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глобально-ориентированное образование младших школьников;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01480" indent="-45720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экоадекватное образование младших школьников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0148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нципы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принцип воспитания гражданина России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принцип ценностных ориентиров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принцип обучения в деятельности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принцип работы на результат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принцип синтеза традиций и инноваций в образовании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250560" y="1052640"/>
            <a:ext cx="858996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етает  традиционные наработки и новейшие достижения по психологии, педагогике, включает в себя элементы развивающего мышления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собой целостную модель начальной школы, построенную на единых концептуальных основах и имеющее полное программно-методическое обеспечение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т реализует Федеральный компонент содержания образования и охватывает все образовательные области, включая такие инновационные для начальной школы, как информатика и иностранный язык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а России»- школа духовно нравственного развития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методическому комплекту приданы такие качества, как фундаментальность, надежность, стабильность, открытость новому, которые должны стать неотъемлемыми характеристиками начальной школы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ция обучения, развитие личности каждого ребенка, снятие стрессообразующих факторов учебного процесса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611280" y="182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«Школа Росси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rcRect l="15218" t="0" r="15052" b="6250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7:45:32Z</dcterms:created>
  <dc:creator>Алексей Хвароща</dc:creator>
  <dc:description/>
  <dc:language>en-US</dc:language>
  <cp:lastModifiedBy>Ирина</cp:lastModifiedBy>
  <dcterms:modified xsi:type="dcterms:W3CDTF">2018-04-04T15:42:27Z</dcterms:modified>
  <cp:revision>27</cp:revision>
  <dc:subject/>
  <dc:title>Слайд 1</dc:title>
</cp:coreProperties>
</file>