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89C-80AC-4AB2-B2B0-4BC883FC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C7B-0BAC-4C9B-8652-B393E8CD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37B4-A7D4-4E1B-AF22-50F9AFAD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6BC-FADC-4CEB-B526-CF17142D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C6F1-2712-4C60-BBA6-7060FB03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1614-9C4F-4DBD-8EAE-92974797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3FF0-9276-48E7-88DE-3ECC6B75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35E5-9D78-4D3C-B60F-7CF64E10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54FF-B8D7-4558-9245-5C19208C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98A7-6DEF-4E0E-8D77-881DB111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4EB7-3A5C-4EC7-B9A8-3FB8C46C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B08-DD09-4AAC-996A-22CBC5FA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2D27-6619-4821-B102-C8891C4E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E01D-634B-4578-B4D7-101F94F9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A53A-8135-4255-A64F-48C57967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1689-4233-468A-AABB-EE7CEB37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3608-93A4-4D95-A964-C8DC0A97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F5477-8A14-4197-85E8-7506D358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83082-6724-4C4B-900C-A01E7CC3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9A3FC-C810-4C99-808A-665E06BA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5A9B2-D20E-40EE-BE59-C8964C7B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5E742-6F12-462E-AF4F-697F428E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E4BC-85ED-415B-836A-AB7CA246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71A23-5D76-46E5-B502-DD7D0DF3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2C45D-227F-41FF-B947-61BAC45C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EA474-7638-4221-BB52-52C4BE6D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45159-43F7-486B-AFA0-3F5E480B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AF5BE-AB83-4F7F-A822-951E7CEF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CC6D1-AF7C-4F73-96D8-A973ECE8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A72B8-1662-49BF-A5E9-66EEF517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532CB-9AA4-4DEE-8715-3ED5DD42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01766-0096-4DD5-9D51-0E4E8BD5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5AC9F-44F7-4462-AA4A-9F4C2FAC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E62-6710-45E4-87AE-DF2862C8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6CAF6-9048-43D8-8ED6-0CAEB8E4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4069A-F690-4248-9FC1-22AB36F7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AB751-BF4F-4FEB-8EFB-761E92A0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79AB4-5DF1-450C-BBEF-DCB659A9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CB9E9-AFB1-4651-8DB1-471503A6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64F38-A1E7-4BDA-991F-CC9B0417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85C0B-C812-43C2-BB96-35EFC02B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A284F-F3C8-4AEB-BC35-7C0831E6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8A7AE-1EEE-4A96-9E95-C8F53093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B024D-E127-4C4D-9CFE-276F623C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62E-21B5-4148-A23E-AE32D579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E976E-E1D4-46EB-BDAF-0FF9CCBB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11A34-C9F9-4706-BC89-F585D580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37AEF-E55E-4F57-B23D-30C9A3DA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D0A68-5844-4996-8D1C-B705D93E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AE486-ED5D-43D2-91FA-C2B2D7FD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CB075-00F4-4DE5-8699-0D48358B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DFED9-C2C2-42C2-8EF7-AA49A7A4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D257F-FE45-4EE8-8841-4BD80109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0443A-43A5-4F3F-B5E7-F0747969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195DF-85C3-4359-8710-6C451E4C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A0B9-62E8-4AB5-A618-E9CDA02A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8298C-5ADF-457A-84A2-D4AA9E9F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740C9-D781-4042-9FD9-74F355DC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9A90D-8D05-4AC5-BCFF-BCCC3C6A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605A0-B405-4C50-B2ED-521F5438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2C004-DD3C-4172-A507-91591646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95FE9-2CB2-4C70-B402-0CCC50EC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038CE-D38F-43B0-9E93-66BCA9CF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9B67C-2820-47AD-ABE4-DB542949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4F0CD-5AB9-438F-ABB8-089BFEBC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44C07-BADD-4FCA-A427-1F0E1638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585-7510-485A-9D38-966146C4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B0EE2-E73A-4807-81CE-9252F9EF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E5D35-CA92-46A7-B77A-962AEBC4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3C9A3-567C-4738-BF35-1CF8D3DD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E3A5A-7A95-46AB-AADB-DA0490CD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A6D2A-9FB2-42BF-8230-79A41729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6F48E-67C9-4BE5-BFEA-C0D91C76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A398C-FDF3-45C8-8D87-70D83D2B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11200-C47F-47A8-8A65-3E899706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347EF-8201-4FD2-8D34-0AE29EDF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6605F-61D2-4AC5-8316-32B7020C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AAC-1982-4029-868B-B36A9535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32360-D34E-4C3F-8100-35FBC5F4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87F08-A9C8-482C-A559-85791C35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A0CB7-3C36-497A-A7BC-7ACD4DDA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3448D-00C0-4BE2-8F15-91D12D93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72F45-DF42-4C5D-BC06-55DC871A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388-FCA8-4430-BEBD-E756C1B6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AA787-A427-458D-95B9-F049BF8063B1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03DA5-FA9E-41DF-BDDA-CF8805D7BA02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38E3B9-F758-47FE-9648-92E373532DBD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4B988-9555-4002-BB77-4C595A1A40A4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637052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613AC-F02A-4489-A2C3-F8E9B06AF2C1}" type="slidenum">
              <a:rPr b="0" lang="ru-RU" sz="1000" spc="-1" strike="noStrike">
                <a:solidFill>
                  <a:srgbClr val="637052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F5EB1-5E1D-426E-A599-1F468C25673B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64CACC-65BF-4C50-A6A7-5A0007E85C79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807084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грамма «Школа России»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это УМК для 1-4 классов общеобразовательных учреждений, которая обеспечивает достижение требований к результатам освоения основной образовательной программы начального общего образования. .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тверждена приказом Министерства образования и науки Российской Федерации от «6» октября 2009 г.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руководитель УМК «Школа России» Андрей Анатольевич ПЛЕШАКОВ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6012000" y="1125360"/>
            <a:ext cx="2970000" cy="4526280"/>
          </a:xfrm>
          <a:prstGeom prst="rect">
            <a:avLst/>
          </a:prstGeom>
          <a:ln w="0">
            <a:noFill/>
          </a:ln>
        </p:spPr>
      </p:pic>
      <p:sp>
        <p:nvSpPr>
          <p:cNvPr id="308" name="TextBox 3"/>
          <p:cNvSpPr/>
          <p:nvPr/>
        </p:nvSpPr>
        <p:spPr>
          <a:xfrm>
            <a:off x="0" y="1144440"/>
            <a:ext cx="5743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   Анатольевич  Плешак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 педагогических  наук, лауреат Премии   Президента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  Федерации  в  области   образования,  один  из   постоянных авторов журнала «Начальная школа», член редколлегии и редакционного совета журнала. Известный автор учебников, рабочих тетрадей, тестов и других пособий по курсу «Окружающий  мир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10720" y="691920"/>
            <a:ext cx="754380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цепция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68360" y="1915920"/>
            <a:ext cx="822960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лавная идея комплекта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школа России должна стать школой духовно-нравственного развития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снову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здания образовательной модели «Школа России» положены традиции отечественной школы с признанием их исключительной ценности и значимости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900000" y="1773000"/>
            <a:ext cx="806472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ить регулирование различных аспектов освоения метапредметных умений, т.е. способов деятельности, применимых в рамках, как образовательного процесса, так и при решении проблем в реальных жизненных ситуациях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ль обучения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7952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58720" indent="-5144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стижение личностных результатов учащихся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58720" indent="-5144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товность и способность обучающихся к саморазвитию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58720" indent="-5144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формированность мотивации  к обучению и познанию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58720" indent="-5144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мысление и принятие основных базовых ценностей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5872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чи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4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обенности: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01480" indent="-4572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личностно развивающее образование младших школьников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01480" indent="-4572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гражданско-ориентированное образование младших школьников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01480" indent="-4572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глобально-ориентированное образование младших школьников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01480" indent="-45720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экоадекватное образование младших школьников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0148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ципы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принцип воспитания гражданина России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принцип ценностных ориентиров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принцип обучения в деятельности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принцип работы на результат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принцип синтеза традиций и инноваций в образовании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250560" y="1052640"/>
            <a:ext cx="858996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етает  традиционные наработки и новейшие достижения по психологии, педагогике, включает в себя элементы развивающего мышления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целостную модель начальной школы, построенную на единых концептуальных основах и имеющее полное программно-методическое обеспечение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 реализует Федеральный компонент содержания образования и охватывает все образовательные области, включая такие инновационные для начальной школы, как информатика и иностранный язык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а России»- школа духовно нравственного развития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ому комплекту приданы такие качества, как фундаментальность, надежность, стабильность, открытость новому, которые должны стать неотъемлемыми характеристиками начальной школы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ция обучения, развитие личности каждого ребенка, снятие стрессообразующих факторов учебного процесса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611280" y="182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«Школа Росси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rcRect l="15218" t="0" r="15052" b="6250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7:45:32Z</dcterms:created>
  <dc:creator>Алексей Хвароща</dc:creator>
  <dc:description/>
  <dc:language>en-US</dc:language>
  <cp:lastModifiedBy>Ирина</cp:lastModifiedBy>
  <dcterms:modified xsi:type="dcterms:W3CDTF">2018-04-04T15:42:27Z</dcterms:modified>
  <cp:revision>27</cp:revision>
  <dc:subject/>
  <dc:title>Слайд 1</dc:title>
</cp:coreProperties>
</file>