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166-7DCA-4468-9BC8-FFBBC130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CBA-9247-4E6E-A445-7C87E05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FFD-A9AD-4227-B8EC-1F285E4B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2A6-8EEF-44AC-AD0E-4F90EFB3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A18-36F2-4D42-B71F-F878893F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587-91D7-4A70-A2BA-2D47F130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44E-EEA9-412C-BF74-27A8F11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086-8055-429A-8340-9D9749D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950-7D61-4341-AC4C-66B3CAD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AC0-7673-4A12-9295-52917C6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392-ACE0-42B2-834E-FA480C6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BE1-0835-4329-80E7-C529AE7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F5F2-0282-4D27-A726-68FBA65EC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2009-03/thumbs/1237976378_0_a89a_a3fe10b6_xl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rx.novosibdom.ru/story/STILI/06_AR_NUVO/art-nouveau_09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starski.com.ua/images/all/livingroom24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oli.ru/images/lnt/ww_71_28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tdelstroy-spb.ru/images/2006062712020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konkurs.com/uploads/img/2008-08-09/MISCELLANEOUS/20642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arti-m.kiev.ua/img/catalog/3183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2007-12.photosight.ru/03/2442708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foto.rambler.ru/public/004alexandrovich/_photos/DSCI0133/DSCI0133-web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nanometer.ru/2009/03/02/12359809081012/QPROP_IMG_image/351px-Bowl_hygeia_darkred.svg.png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7806320.ru/sofas/im/modern/03b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privatestyle.ru/stylesphoto/modern/4356_main_b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тиль модерн и сопря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6 из 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781360"/>
            <a:ext cx="3240360" cy="30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0 из 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2637000"/>
            <a:ext cx="218268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51 из 8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620640"/>
            <a:ext cx="2411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мотримся внимательнее к  архитектурным сооружениям, мебели и интерьерам квартир.  Все предметы стиля модерн включают в себя циркульные кривые, которые в черчении называют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пряжениями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19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3284640"/>
            <a:ext cx="2613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5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 – (франц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овейший, современный) стиль искусства конца XIX в. – начал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стремился, используя новые технические и конструктивные средства, создать предметы искусства, необычные по внешнему виду и за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0"/>
            <a:ext cx="12841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Рисунок4"/>
          <p:cNvPicPr/>
          <p:nvPr/>
        </p:nvPicPr>
        <p:blipFill>
          <a:blip r:embed="rId2"/>
          <a:stretch/>
        </p:blipFill>
        <p:spPr>
          <a:xfrm>
            <a:off x="6372360" y="4741920"/>
            <a:ext cx="2519280" cy="185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Рисунок10"/>
          <p:cNvPicPr/>
          <p:nvPr/>
        </p:nvPicPr>
        <p:blipFill>
          <a:blip r:embed="rId3"/>
          <a:stretch/>
        </p:blipFill>
        <p:spPr>
          <a:xfrm>
            <a:off x="7308720" y="189000"/>
            <a:ext cx="1230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, своевольная линия господствует в орнаменте модерна, получая в своем упрямом беге невиданную своб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артинка 38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6551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8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тличие от классического стиля модерн не подчеркивает структурность, не разделяет, а напротив, соединяет разнородные части предмета – стена с его помощью плавно перетекает в потолок, горловина и ножка вазы составляют неразделимое целое с ее осн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артинка 22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852640"/>
            <a:ext cx="243036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9 из 9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2924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 породил свой собственный орнамент, являющийся его своеобразной визитной карточкой. Это волнообразная, извивающаяся линия во множестве своих материальных воплощений: стебли вьюнка, волна, пряди волос, зм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артинка 30 из 10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068640"/>
            <a:ext cx="1895400" cy="28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а 2 из 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292428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351px-Bowl_hygeia_darkr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997360"/>
            <a:ext cx="2300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лнистая линия стала своеобразным символом искусства модерна, она как бы сошла со стен зданий Модерна и стала неотъемлемой частью декора или основой формы, силуэта канделябров и диванов, браслетов и журнальных обложек, фарфоровых чашек и женского платья. Этот орнамент пронизывал все сферы декоративно-прикладного искусства и стал безошибочным знаком стиля моде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Картинка 25 из 123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5084640"/>
            <a:ext cx="1728720" cy="160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02 из 103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89000"/>
            <a:ext cx="1379520" cy="158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1 из 1371"/>
          <p:cNvPicPr/>
          <p:nvPr/>
        </p:nvPicPr>
        <p:blipFill>
          <a:blip r:embed="rId5"/>
          <a:stretch/>
        </p:blipFill>
        <p:spPr>
          <a:xfrm>
            <a:off x="7451640" y="189000"/>
            <a:ext cx="1295640" cy="158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Картинка 23 из 107"/>
          <p:cNvPicPr/>
          <p:nvPr/>
        </p:nvPicPr>
        <p:blipFill>
          <a:blip r:embed="rId6"/>
          <a:stretch/>
        </p:blipFill>
        <p:spPr>
          <a:xfrm>
            <a:off x="2268360" y="5084640"/>
            <a:ext cx="3457800" cy="15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артинка 22 из 107"/>
          <p:cNvPicPr/>
          <p:nvPr/>
        </p:nvPicPr>
        <p:blipFill>
          <a:blip r:embed="rId7"/>
          <a:stretch/>
        </p:blipFill>
        <p:spPr>
          <a:xfrm>
            <a:off x="324000" y="5013360"/>
            <a:ext cx="82368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Картинка 7 из 43"/>
          <p:cNvPicPr/>
          <p:nvPr/>
        </p:nvPicPr>
        <p:blipFill>
          <a:blip r:embed="rId8"/>
          <a:stretch/>
        </p:blipFill>
        <p:spPr>
          <a:xfrm>
            <a:off x="2484360" y="260280"/>
            <a:ext cx="38894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43:18Z</dcterms:created>
  <dc:creator>Sam</dc:creator>
  <dc:description/>
  <dc:language>en-US</dc:language>
  <cp:lastModifiedBy>Даша</cp:lastModifiedBy>
  <dcterms:modified xsi:type="dcterms:W3CDTF">2016-09-24T15:45:04Z</dcterms:modified>
  <cp:revision>7</cp:revision>
  <dc:subject/>
  <dc:title>Стиль модерн</dc:title>
</cp:coreProperties>
</file>