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8.gif" ContentType="image/gif"/>
  <Override PartName="/ppt/media/image6.jpeg" ContentType="image/jpeg"/>
  <Override PartName="/ppt/media/image10.jpeg" ContentType="image/jpeg"/>
  <Override PartName="/ppt/media/image5.jpeg" ContentType="image/jpeg"/>
  <Override PartName="/ppt/media/image26.gif" ContentType="image/gif"/>
  <Override PartName="/ppt/media/image1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7.gif" ContentType="image/gif"/>
  <Override PartName="/ppt/media/image3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F15-5D32-4B0A-8363-BB1A4688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374-2A20-4E5D-BBB6-64B12542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4F3-910B-482F-823F-1573C8CC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787-4776-40DF-BEA5-9885F40B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7BF4-D10D-4BD4-89D5-4EC265B8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E6D2-77FE-4005-8FF4-0CA8BDCA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9654-2FE7-45D4-9E9B-01BE597F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5C0D-4BA2-4CDB-9E49-3958AEEF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ACE2-1D03-4CBB-BEDE-E3E077AD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4EC0-A33D-4054-A7BA-67CCC830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99C1-A85E-44E3-A7DC-EEBB6E3C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018-C9DC-47FD-802F-4BAFC091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61A2-94B6-4682-B260-40FB361C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6540-FDAB-47B1-8E5D-05A7081B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4954-A3C7-4455-9BD5-CFFACBF1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1BC8-855D-432C-A2BA-9F8E4F03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CC3A-5694-4118-9D67-921F506F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B5D5-B24B-4228-BFBA-E65DD8DC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6FC8-AA31-4FBA-BC2D-848D62A3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F9F2C-6700-4E29-ADBC-FC26D8F7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1AB9-2CA6-457E-8493-778A2A37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E6D83-C7E9-4913-AAD4-AAAB5533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C85-9AD5-4947-93BD-CFE99193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2AC95-5496-49F5-8FF3-038B6D12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E9DC-DA78-4E19-934B-552FCD99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A7EE-7498-45CC-87F4-A19CB1B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62EC-FC56-4ABF-9B36-07E926F0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3816-46E1-46F4-B226-DD039DF5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FD46-5049-41DA-BCCE-64F7D174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DAA8-1E8C-4017-AB77-DC845E2F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1FA23-4603-4B8E-A7FD-A1A7C1CC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85EFB-86F9-404C-85AF-EB0E2FBF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7C628-7AC9-4F53-8441-D584C460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3A6-9667-4706-8120-655B8351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976B0-5B64-4099-BC74-12C8C8BA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D3C5-9D5D-4852-AC1A-095C8284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0AB60-9899-4904-AA0B-104BBCC4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6FDC-4F97-4E35-840D-FD95489B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4BDCE-E639-488D-A85C-C66A189E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67109-589D-481D-A6E9-C3A2AD5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E95A9-9929-4CE4-A0CE-AFC99F9C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D671-00D7-4C78-9C68-49232AED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33375-3DA4-431B-A301-60E354F3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32F-FCC4-433B-92A6-98227090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B2C-3303-4FF7-8D69-FB2F5B70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8BE-DC51-45C5-AD73-FFD3003E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1D0-9A47-4084-9575-FD23C324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E4D-4D1B-4B8D-9F52-7AAB5301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0031-DB8B-4245-8156-5DC6529008F4}" type="slidenum">
              <a:rPr b="0" lang="ru-RU" sz="3200" spc="-1" strike="noStrike">
                <a:solidFill>
                  <a:srgbClr val="8e8e94"/>
                </a:solidFill>
                <a:latin typeface="Arial Unicode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1AEE-E4B9-4D39-B59A-2EF59A3BE1E5}" type="slidenum">
              <a:rPr b="0" lang="ru-RU" sz="3200" spc="-1" strike="noStrike">
                <a:solidFill>
                  <a:srgbClr val="8e8e94"/>
                </a:solidFill>
                <a:latin typeface="Arial Unicode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ED92-1889-48C9-AC71-ED0AACA8F83F}" type="slidenum">
              <a:rPr b="0" lang="ru-RU" sz="3200" spc="-1" strike="noStrike">
                <a:solidFill>
                  <a:srgbClr val="8e8e94"/>
                </a:solidFill>
                <a:latin typeface="Arial Unicode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105520"/>
            <a:ext cx="8469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955B-623E-456F-97F9-E78696B97A14}" type="slidenum">
              <a:rPr b="0" lang="ru-RU" sz="3200" spc="-1" strike="noStrike">
                <a:solidFill>
                  <a:srgbClr val="8e8e94"/>
                </a:solidFill>
                <a:latin typeface="Arial Unicode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1916280"/>
            <a:ext cx="7704000" cy="72720"/>
          </a:xfrm>
          <a:prstGeom prst="rect">
            <a:avLst/>
          </a:prstGeom>
          <a:noFill/>
          <a:ln w="0">
            <a:noFill/>
          </a:ln>
        </p:spPr>
        <p:txBody>
          <a:bodyPr tIns="27000" bIns="27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entury Schoolbook"/>
              </a:rPr>
              <a:t>Исследовательская работ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2400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41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ru-RU" sz="6100" spc="-1" strike="noStrike">
                <a:solidFill>
                  <a:srgbClr val="0000ff"/>
                </a:solidFill>
                <a:latin typeface="Century Schoolbook"/>
              </a:rPr>
              <a:t>Такие разные часы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Century Schoolbook"/>
              </a:rPr>
              <a:t>                    </a:t>
            </a:r>
            <a:r>
              <a:rPr b="0" lang="ru-RU" sz="2600" spc="-1" strike="noStrike">
                <a:solidFill>
                  <a:srgbClr val="0000ff"/>
                </a:solidFill>
                <a:latin typeface="Century Schoolbook"/>
              </a:rPr>
              <a:t>Выполнила Суркова Полина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entury Schoolbook"/>
              </a:rPr>
              <a:t>                                                         </a:t>
            </a:r>
            <a:r>
              <a:rPr b="0" lang="ru-RU" sz="2600" spc="-1" strike="noStrike">
                <a:solidFill>
                  <a:srgbClr val="0000ff"/>
                </a:solidFill>
                <a:latin typeface="Century Schoolbook"/>
              </a:rPr>
              <a:t>2 Б класс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 algn="r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entury Schoolbook"/>
              </a:rPr>
              <a:t>МБОУ «Школа № 20»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цветочные 3"/>
          <p:cNvPicPr/>
          <p:nvPr/>
        </p:nvPicPr>
        <p:blipFill>
          <a:blip r:embed="rId1"/>
          <a:stretch/>
        </p:blipFill>
        <p:spPr>
          <a:xfrm>
            <a:off x="1403280" y="403200"/>
            <a:ext cx="5905440" cy="44337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50920" y="494028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амые первые цветочные часы были созданы в Швеции. Циферблатом цветов послужила цветочная клумба, а роль цифр исполняли разнообразные цветы, пробуждающиеся и засыпающие в определённое время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7" name="Picture 6" descr="f5e5dd8de86a9521540342889fcada12"/>
          <p:cNvPicPr/>
          <p:nvPr/>
        </p:nvPicPr>
        <p:blipFill>
          <a:blip r:embed="rId2"/>
          <a:stretch/>
        </p:blipFill>
        <p:spPr>
          <a:xfrm>
            <a:off x="7020000" y="378936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0984010df61dab4bda1b645273a2f76"/>
          <p:cNvPicPr/>
          <p:nvPr/>
        </p:nvPicPr>
        <p:blipFill>
          <a:blip r:embed="rId3"/>
          <a:stretch/>
        </p:blipFill>
        <p:spPr>
          <a:xfrm>
            <a:off x="250920" y="3213000"/>
            <a:ext cx="1876320" cy="16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179280" y="383724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       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В  древнем  Китае  существовали,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 например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«часы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»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, которые   были  сделаны  из   пропитанных  маслом веревок на  которых были  завязаны  узлы. Такой шнурок зажигали, каждый  раз,  когда  пламя достигало узла, проходил  определенный отрезок  времени.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20" name="Picture 6" descr="f4439d360d6c8342f891103f535d8bc2"/>
          <p:cNvPicPr/>
          <p:nvPr/>
        </p:nvPicPr>
        <p:blipFill>
          <a:blip r:embed="rId1"/>
          <a:stretch/>
        </p:blipFill>
        <p:spPr>
          <a:xfrm>
            <a:off x="3348000" y="2421000"/>
            <a:ext cx="1743120" cy="1255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f4439d360d6c8342f891103f535d8bc2"/>
          <p:cNvPicPr/>
          <p:nvPr/>
        </p:nvPicPr>
        <p:blipFill>
          <a:blip r:embed="rId2"/>
          <a:stretch/>
        </p:blipFill>
        <p:spPr>
          <a:xfrm>
            <a:off x="5076720" y="2205000"/>
            <a:ext cx="2016360" cy="1451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f4439d360d6c8342f891103f535d8bc2"/>
          <p:cNvPicPr/>
          <p:nvPr/>
        </p:nvPicPr>
        <p:blipFill>
          <a:blip r:embed="rId3"/>
          <a:stretch/>
        </p:blipFill>
        <p:spPr>
          <a:xfrm>
            <a:off x="7093080" y="2349360"/>
            <a:ext cx="1800000" cy="129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f4439d360d6c8342f891103f535d8bc2"/>
          <p:cNvPicPr/>
          <p:nvPr/>
        </p:nvPicPr>
        <p:blipFill>
          <a:blip r:embed="rId4"/>
          <a:stretch/>
        </p:blipFill>
        <p:spPr>
          <a:xfrm>
            <a:off x="1547640" y="2349360"/>
            <a:ext cx="1800360" cy="129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f4439d360d6c8342f891103f535d8bc2"/>
          <p:cNvPicPr/>
          <p:nvPr/>
        </p:nvPicPr>
        <p:blipFill>
          <a:blip r:embed="rId5"/>
          <a:stretch/>
        </p:blipFill>
        <p:spPr>
          <a:xfrm>
            <a:off x="0" y="2357280"/>
            <a:ext cx="1800360" cy="1295640"/>
          </a:xfrm>
          <a:prstGeom prst="rect">
            <a:avLst/>
          </a:prstGeom>
          <a:ln w="0">
            <a:noFill/>
          </a:ln>
        </p:spPr>
      </p:pic>
      <p:sp>
        <p:nvSpPr>
          <p:cNvPr id="225" name="Line 12"/>
          <p:cNvSpPr/>
          <p:nvPr/>
        </p:nvSpPr>
        <p:spPr>
          <a:xfrm flipV="1">
            <a:off x="1116000" y="1989000"/>
            <a:ext cx="7201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5400" spc="-1" strike="noStrike">
                <a:solidFill>
                  <a:srgbClr val="0000ff"/>
                </a:solidFill>
                <a:latin typeface="Century Schoolbook"/>
              </a:rPr>
              <a:t>Заключение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70000" y="2204640"/>
            <a:ext cx="7945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entury Schoolbook"/>
              </a:rPr>
              <a:t>Изучив данный вопрос, я убедилась в том, что время можно определить не только с помощью часов, но и по солнцу, с помощью свечки, по уровню воды в колбе с отверстием, песочными, солнечными и водяными часа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967120" y="539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1042920" y="476280"/>
            <a:ext cx="7286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а к и х    ч а с о в    н а    с в е т е   н е т 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042920" y="1197000"/>
            <a:ext cx="70581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   в    к а ж д ы х   с в о й  с е к р е т 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5" name="Picture 7" descr="цветочные 2"/>
          <p:cNvPicPr/>
          <p:nvPr/>
        </p:nvPicPr>
        <p:blipFill>
          <a:blip r:embed="rId1"/>
          <a:stretch/>
        </p:blipFill>
        <p:spPr>
          <a:xfrm>
            <a:off x="179280" y="2205000"/>
            <a:ext cx="3313080" cy="2200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золотые часы"/>
          <p:cNvPicPr/>
          <p:nvPr/>
        </p:nvPicPr>
        <p:blipFill>
          <a:blip r:embed="rId2"/>
          <a:stretch/>
        </p:blipFill>
        <p:spPr>
          <a:xfrm>
            <a:off x="6588000" y="2133720"/>
            <a:ext cx="2197080" cy="24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часы Англии"/>
          <p:cNvPicPr/>
          <p:nvPr/>
        </p:nvPicPr>
        <p:blipFill>
          <a:blip r:embed="rId3"/>
          <a:stretch/>
        </p:blipFill>
        <p:spPr>
          <a:xfrm>
            <a:off x="3635280" y="2276640"/>
            <a:ext cx="2664000" cy="199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дорожные"/>
          <p:cNvPicPr/>
          <p:nvPr/>
        </p:nvPicPr>
        <p:blipFill>
          <a:blip r:embed="rId4"/>
          <a:stretch/>
        </p:blipFill>
        <p:spPr>
          <a:xfrm>
            <a:off x="6659640" y="4770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песочные гелевые"/>
          <p:cNvPicPr/>
          <p:nvPr/>
        </p:nvPicPr>
        <p:blipFill>
          <a:blip r:embed="rId5"/>
          <a:stretch/>
        </p:blipFill>
        <p:spPr>
          <a:xfrm>
            <a:off x="3851280" y="4770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" descr="D:\Ольга\Часы\часы\0_a121_ef291dd5_XL.jpg"/>
          <p:cNvPicPr/>
          <p:nvPr/>
        </p:nvPicPr>
        <p:blipFill>
          <a:blip r:embed="rId6"/>
          <a:stretch/>
        </p:blipFill>
        <p:spPr>
          <a:xfrm>
            <a:off x="826920" y="4508640"/>
            <a:ext cx="198468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0" descr="часы МГУ одни из самых больших в европе"/>
          <p:cNvPicPr/>
          <p:nvPr/>
        </p:nvPicPr>
        <p:blipFill>
          <a:blip r:embed="rId1"/>
          <a:stretch/>
        </p:blipFill>
        <p:spPr>
          <a:xfrm>
            <a:off x="4572000" y="476280"/>
            <a:ext cx="3816360" cy="25239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Century Schoolbook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3" name="Picture 13" descr="Спасская башня"/>
          <p:cNvPicPr/>
          <p:nvPr/>
        </p:nvPicPr>
        <p:blipFill>
          <a:blip r:embed="rId2"/>
          <a:stretch/>
        </p:blipFill>
        <p:spPr>
          <a:xfrm>
            <a:off x="324000" y="476280"/>
            <a:ext cx="3489120" cy="4667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с кукушкой"/>
          <p:cNvPicPr/>
          <p:nvPr/>
        </p:nvPicPr>
        <p:blipFill>
          <a:blip r:embed="rId3"/>
          <a:stretch/>
        </p:blipFill>
        <p:spPr>
          <a:xfrm>
            <a:off x="4716360" y="3284640"/>
            <a:ext cx="352908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0" y="5704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6177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 можно самой определять время, если в доме нет часов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озможно, люди время определяли по явлениям природы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 может быть, им помогали народные приметы?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 что, если люди изобретали свои часы и могли по ним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пределить время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Рисунок 7" descr="D:\Ольга\Часы\часы\a6c5c5961e7b.jpg"/>
          <p:cNvPicPr/>
          <p:nvPr/>
        </p:nvPicPr>
        <p:blipFill>
          <a:blip r:embed="rId1"/>
          <a:stretch/>
        </p:blipFill>
        <p:spPr>
          <a:xfrm>
            <a:off x="1042920" y="3429000"/>
            <a:ext cx="2808360" cy="20876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8" descr="D:\Ольга\Часы\часы\1582355.jpg"/>
          <p:cNvPicPr/>
          <p:nvPr/>
        </p:nvPicPr>
        <p:blipFill>
          <a:blip r:embed="rId2"/>
          <a:stretch/>
        </p:blipFill>
        <p:spPr>
          <a:xfrm>
            <a:off x="4572000" y="3429000"/>
            <a:ext cx="2830680" cy="2087640"/>
          </a:xfrm>
          <a:prstGeom prst="rect">
            <a:avLst/>
          </a:prstGeom>
          <a:ln w="0">
            <a:noFill/>
          </a:ln>
        </p:spPr>
      </p:pic>
      <p:sp>
        <p:nvSpPr>
          <p:cNvPr id="189" name="WordArt 9"/>
          <p:cNvSpPr txBox="1"/>
          <p:nvPr/>
        </p:nvSpPr>
        <p:spPr>
          <a:xfrm>
            <a:off x="2411280" y="5734080"/>
            <a:ext cx="359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о л н е ч н ы е   ч а с 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250920" y="45752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1" name="Рисунок 9" descr="D:\Ольга\Часы\часы\12832.gif"/>
          <p:cNvPicPr/>
          <p:nvPr/>
        </p:nvPicPr>
        <p:blipFill>
          <a:blip r:embed="rId1"/>
          <a:stretch/>
        </p:blipFill>
        <p:spPr>
          <a:xfrm>
            <a:off x="250920" y="47628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342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entury Schoolbook"/>
              </a:rPr>
              <a:t>А ночью решали проблему с помощью своеобразных часов: внутрь колбы насыпали песок, либо наливали воду. Песок высыпался через маленькое отверстие. Колба пустела, значит прошло определенное врем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3" name="Picture 20" descr="2"/>
          <p:cNvPicPr/>
          <p:nvPr/>
        </p:nvPicPr>
        <p:blipFill>
          <a:blip r:embed="rId2"/>
          <a:stretch/>
        </p:blipFill>
        <p:spPr>
          <a:xfrm>
            <a:off x="6732720" y="476280"/>
            <a:ext cx="2133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Century Schoolbook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Century Schoolbook"/>
              </a:rPr>
              <a:t>Также для определения времени использовали свечи. К свечке прикрепляли бусинки – по мере ее сгорания бусинки падали, что давало возможность определить время. Но это устройство работало лишь в помещении, где нет ветра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11280" y="404640"/>
            <a:ext cx="91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осковые часы</a:t>
            </a:r>
            <a:endParaRPr b="0" lang="en-US" sz="6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0" y="58093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1332000" y="20556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Восковые часы</a:t>
            </a:r>
            <a:endParaRPr b="0" lang="en-US" sz="6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3709800" y="3213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0" name="Рисунок 1" descr="C:\Documents and Settings\Admin\Рабочий стол\Новая папка\SDC11909.JPG"/>
          <p:cNvPicPr/>
          <p:nvPr/>
        </p:nvPicPr>
        <p:blipFill>
          <a:blip r:embed="rId1"/>
          <a:stretch/>
        </p:blipFill>
        <p:spPr>
          <a:xfrm>
            <a:off x="324000" y="1125360"/>
            <a:ext cx="2592360" cy="25909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" descr="C:\Documents and Settings\Admin\Рабочий стол\Новая папка\SDC11910.JPG"/>
          <p:cNvPicPr/>
          <p:nvPr/>
        </p:nvPicPr>
        <p:blipFill>
          <a:blip r:embed="rId2"/>
          <a:stretch/>
        </p:blipFill>
        <p:spPr>
          <a:xfrm>
            <a:off x="3276720" y="1125360"/>
            <a:ext cx="2808000" cy="25909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C:\Documents and Settings\Admin\Рабочий стол\Новая папка\SDC11915.JPG"/>
          <p:cNvPicPr/>
          <p:nvPr/>
        </p:nvPicPr>
        <p:blipFill>
          <a:blip r:embed="rId3"/>
          <a:stretch/>
        </p:blipFill>
        <p:spPr>
          <a:xfrm>
            <a:off x="6300720" y="1125360"/>
            <a:ext cx="2843280" cy="25909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C:\Documents and Settings\Admin\Рабочий стол\Новая папка\SDC11916.JPG"/>
          <p:cNvPicPr/>
          <p:nvPr/>
        </p:nvPicPr>
        <p:blipFill>
          <a:blip r:embed="rId4"/>
          <a:stretch/>
        </p:blipFill>
        <p:spPr>
          <a:xfrm>
            <a:off x="755640" y="3933720"/>
            <a:ext cx="303048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" descr="G:\DCIM\100SSCAM\SDC11931.JPG"/>
          <p:cNvPicPr/>
          <p:nvPr/>
        </p:nvPicPr>
        <p:blipFill>
          <a:blip r:embed="rId5"/>
          <a:stretch/>
        </p:blipFill>
        <p:spPr>
          <a:xfrm>
            <a:off x="5148360" y="3933720"/>
            <a:ext cx="309564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6600" spc="-1" strike="noStrike">
                <a:solidFill>
                  <a:srgbClr val="0000ff"/>
                </a:solidFill>
                <a:latin typeface="Century Schoolbook"/>
              </a:rPr>
              <a:t>Водяные часы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5589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Century Schoolbook"/>
              </a:rPr>
              <a:t>Египетские фараоны узнавали время по уровню воды в большой колбе с отверстиями</a:t>
            </a:r>
            <a:r>
              <a:rPr b="0" lang="ru-RU" sz="2800" spc="-1" strike="noStrike">
                <a:solidFill>
                  <a:srgbClr val="0000ff"/>
                </a:solidFill>
                <a:latin typeface="Century Schoolboo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7" name="Рисунок 11" descr="D:\Ольга\Часы\часы\4131_0.jpg"/>
          <p:cNvPicPr/>
          <p:nvPr/>
        </p:nvPicPr>
        <p:blipFill>
          <a:blip r:embed="rId1"/>
          <a:stretch/>
        </p:blipFill>
        <p:spPr>
          <a:xfrm>
            <a:off x="1042920" y="1989000"/>
            <a:ext cx="2737080" cy="352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2" descr="D:\Ольга\Часы\часы\194reloj de diamantes.jpg"/>
          <p:cNvPicPr/>
          <p:nvPr/>
        </p:nvPicPr>
        <p:blipFill>
          <a:blip r:embed="rId2"/>
          <a:stretch/>
        </p:blipFill>
        <p:spPr>
          <a:xfrm>
            <a:off x="4716360" y="1989000"/>
            <a:ext cx="273528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1692360" y="404640"/>
            <a:ext cx="472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 в е т о ч н ы е   ч а с ы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0" name="Picture 5" descr="цвет 6"/>
          <p:cNvPicPr/>
          <p:nvPr/>
        </p:nvPicPr>
        <p:blipFill>
          <a:blip r:embed="rId1"/>
          <a:stretch/>
        </p:blipFill>
        <p:spPr>
          <a:xfrm>
            <a:off x="324000" y="1197000"/>
            <a:ext cx="4170240" cy="31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цветочные 2"/>
          <p:cNvPicPr/>
          <p:nvPr/>
        </p:nvPicPr>
        <p:blipFill>
          <a:blip r:embed="rId2"/>
          <a:stretch/>
        </p:blipFill>
        <p:spPr>
          <a:xfrm>
            <a:off x="4140360" y="3408480"/>
            <a:ext cx="4841640" cy="3214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b170cc0b7efcb2484d75f5036a9e8e49"/>
          <p:cNvPicPr/>
          <p:nvPr/>
        </p:nvPicPr>
        <p:blipFill>
          <a:blip r:embed="rId3"/>
          <a:stretch/>
        </p:blipFill>
        <p:spPr>
          <a:xfrm>
            <a:off x="3348000" y="4797360"/>
            <a:ext cx="1247760" cy="180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992830e35b32df5cede5a0136a2befc7"/>
          <p:cNvPicPr/>
          <p:nvPr/>
        </p:nvPicPr>
        <p:blipFill>
          <a:blip r:embed="rId4"/>
          <a:stretch/>
        </p:blipFill>
        <p:spPr>
          <a:xfrm>
            <a:off x="0" y="2852640"/>
            <a:ext cx="1571760" cy="1895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292cdf0b22d0aab13740aa8cd7d47447"/>
          <p:cNvPicPr/>
          <p:nvPr/>
        </p:nvPicPr>
        <p:blipFill>
          <a:blip r:embed="rId5"/>
          <a:stretch/>
        </p:blipFill>
        <p:spPr>
          <a:xfrm>
            <a:off x="7740720" y="5373720"/>
            <a:ext cx="12380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4:40:35Z</dcterms:created>
  <dc:creator>Берюхова</dc:creator>
  <dc:description/>
  <dc:language>en-US</dc:language>
  <cp:lastModifiedBy>Катюшенька</cp:lastModifiedBy>
  <dcterms:modified xsi:type="dcterms:W3CDTF">2018-04-04T17:40:23Z</dcterms:modified>
  <cp:revision>34</cp:revision>
  <dc:subject/>
  <dc:title>Слайд 1</dc:title>
</cp:coreProperties>
</file>