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8.gif" ContentType="image/gif"/>
  <Override PartName="/ppt/media/image6.jpeg" ContentType="image/jpeg"/>
  <Override PartName="/ppt/media/image10.jpeg" ContentType="image/jpeg"/>
  <Override PartName="/ppt/media/image5.jpeg" ContentType="image/jpeg"/>
  <Override PartName="/ppt/media/image26.gif" ContentType="image/gif"/>
  <Override PartName="/ppt/media/image15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7.gif" ContentType="image/gif"/>
  <Override PartName="/ppt/media/image3.jpeg" ContentType="image/jpeg"/>
  <Override PartName="/ppt/media/image4.jpeg" ContentType="image/jpeg"/>
  <Override PartName="/ppt/media/image2.png" ContentType="image/png"/>
  <Override PartName="/ppt/media/image22.gif" ContentType="image/gif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1A4-4195-42A2-9EC8-456B554F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A5D-CF70-4C8E-AFF8-50709DCA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22E-45ED-4CF3-B42D-26F0E380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981-7654-4AC0-98B6-1260A08F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1FBF-A4C7-4159-9E1A-BD112B0D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FA3A-259E-438E-BA92-4A710A6E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D202-844C-4C3C-8776-33D341C1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57EB-044D-43C8-8334-48F82F50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0ADF-E2C0-48E8-BB0D-250F5A09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9638-410F-4962-99E3-781B01C3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3562-7B56-40B8-A8F5-5E83CB84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E8E1-5337-4AAD-9E40-E3C0F445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D3EC-DB7D-470E-81B9-8A8168B2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5328-B090-4215-A82A-F009F345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CC04-A266-4D34-BDD4-3B0B32DD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DC37-6398-4D32-9829-191622A2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B04D-2ABC-45C8-BB14-373B9F75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49467-5D7E-4C76-8CB3-28FB2CBF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2AEA3-77F4-41CE-82B2-9E80A24D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7621B-300C-4A2E-9662-367C2711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E78E3-4991-4E5C-B1E8-E5CE02B1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9C154-EDBF-4867-8EDD-2DE8ECF5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FEE-F06F-4B81-B2EF-C3BA081B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3AC70-759C-413A-984B-F88BF4F0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256BF-7415-4BF3-B320-B2E61F07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007E8-3C10-4817-A401-62C1DCFC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DC06E-F1C6-44A4-AE25-56F7500B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58188-926B-4C54-B2E6-B070A595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E1A91-8CD3-4566-97DB-98BC11A6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FB1EC-50CD-47C9-9F2F-A33BDCF3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C0BB1-565C-4099-BBB2-8394DFC2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B5780-7D62-431C-B53A-69CED4EA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4103B-EE10-4A2A-B2EE-3E982003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803C-018F-4F35-BB36-3DD779B3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03833-F3F1-459C-A9F8-A8FEF1FB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78645-3246-4DDD-9338-1ACECC6A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8FBFE-5FB2-4E85-8E46-CC6E270D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CE1BF-EC88-439E-9F4B-D62404E7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07C3D-B63F-4F7A-9CB9-B4615F3E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43C70-CB59-4047-8702-8276B0B0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B7AC8-E2F9-4F5F-9688-44D21992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126F2-6D04-4B34-805A-5068EC99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DC933-612F-4AFF-AC1D-80405D1E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79A-0B7A-45CF-B3EF-65707843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2B7-0845-4810-8E82-899F55C1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DB85-CD90-4C58-B7E1-46E1B29C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20B9-6815-47BD-B80E-E76A2A8B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298-E2E5-47D2-8A77-73881722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8e8e94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5091-F1B8-4B29-B2A9-1767840DABCA}" type="slidenum">
              <a:rPr b="0" lang="ru-RU" sz="3200" spc="-1" strike="noStrike">
                <a:solidFill>
                  <a:srgbClr val="8e8e94"/>
                </a:solidFill>
                <a:latin typeface="Arial Unicode MS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5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343080" cy="68580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8e8e94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187A-4E92-4459-A9BD-0F132ED12FE8}" type="slidenum">
              <a:rPr b="0" lang="ru-RU" sz="3200" spc="-1" strike="noStrike">
                <a:solidFill>
                  <a:srgbClr val="8e8e94"/>
                </a:solidFill>
                <a:latin typeface="Arial Unicode MS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343080" cy="68580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8e8e94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4E3D-227F-4E6E-9F94-35B5991EDC9A}" type="slidenum">
              <a:rPr b="0" lang="ru-RU" sz="3200" spc="-1" strike="noStrike">
                <a:solidFill>
                  <a:srgbClr val="8e8e94"/>
                </a:solidFill>
                <a:latin typeface="Arial Unicode MS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5105520"/>
            <a:ext cx="846936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8e8e94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63D3-60C4-478B-8BB1-CDD52E4187C5}" type="slidenum">
              <a:rPr b="0" lang="ru-RU" sz="3200" spc="-1" strike="noStrike">
                <a:solidFill>
                  <a:srgbClr val="8e8e94"/>
                </a:solidFill>
                <a:latin typeface="Arial Unicode MS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jpeg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6000" y="1916280"/>
            <a:ext cx="7704000" cy="72720"/>
          </a:xfrm>
          <a:prstGeom prst="rect">
            <a:avLst/>
          </a:prstGeom>
          <a:noFill/>
          <a:ln w="0">
            <a:noFill/>
          </a:ln>
        </p:spPr>
        <p:txBody>
          <a:bodyPr tIns="27000" bIns="270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entury Schoolbook"/>
              </a:rPr>
              <a:t>Исследовательская работ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2400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41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ru-RU" sz="6100" spc="-1" strike="noStrike">
                <a:solidFill>
                  <a:srgbClr val="0000ff"/>
                </a:solidFill>
                <a:latin typeface="Century Schoolbook"/>
              </a:rPr>
              <a:t>Такие разные часы</a:t>
            </a:r>
            <a:endParaRPr b="0" lang="en-US" sz="61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ff"/>
                </a:solidFill>
                <a:latin typeface="Century Schoolbook"/>
              </a:rPr>
              <a:t>                    </a:t>
            </a:r>
            <a:r>
              <a:rPr b="0" lang="ru-RU" sz="2600" spc="-1" strike="noStrike">
                <a:solidFill>
                  <a:srgbClr val="0000ff"/>
                </a:solidFill>
                <a:latin typeface="Century Schoolbook"/>
              </a:rPr>
              <a:t>Выполнила Суркова Полина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entury Schoolbook"/>
              </a:rPr>
              <a:t>                                                         </a:t>
            </a:r>
            <a:r>
              <a:rPr b="0" lang="ru-RU" sz="2600" spc="-1" strike="noStrike">
                <a:solidFill>
                  <a:srgbClr val="0000ff"/>
                </a:solidFill>
                <a:latin typeface="Century Schoolbook"/>
              </a:rPr>
              <a:t>2 Б класс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 algn="r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entury Schoolbook"/>
              </a:rPr>
              <a:t>МБОУ «Школа № 20»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цветочные 3"/>
          <p:cNvPicPr/>
          <p:nvPr/>
        </p:nvPicPr>
        <p:blipFill>
          <a:blip r:embed="rId1"/>
          <a:stretch/>
        </p:blipFill>
        <p:spPr>
          <a:xfrm>
            <a:off x="1403280" y="403200"/>
            <a:ext cx="5905440" cy="44337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50920" y="494028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амые первые цветочные часы были созданы в Швеции. Циферблатом цветов послужила цветочная клумба, а роль цифр исполняли разнообразные цветы, пробуждающиеся и засыпающие в определённое время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7" name="Picture 6" descr="f5e5dd8de86a9521540342889fcada12"/>
          <p:cNvPicPr/>
          <p:nvPr/>
        </p:nvPicPr>
        <p:blipFill>
          <a:blip r:embed="rId2"/>
          <a:stretch/>
        </p:blipFill>
        <p:spPr>
          <a:xfrm>
            <a:off x="7020000" y="378936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c0984010df61dab4bda1b645273a2f76"/>
          <p:cNvPicPr/>
          <p:nvPr/>
        </p:nvPicPr>
        <p:blipFill>
          <a:blip r:embed="rId3"/>
          <a:stretch/>
        </p:blipFill>
        <p:spPr>
          <a:xfrm>
            <a:off x="250920" y="3213000"/>
            <a:ext cx="1876320" cy="162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179280" y="383724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       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В  древнем  Китае  существовали,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 например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«часы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»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, которые   были  сделаны  из   пропитанных  маслом веревок на  которых были  завязаны  узлы. Такой шнурок зажигали, каждый  раз,  когда  пламя достигало узла, проходил  определенный отрезок  времени.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20" name="Picture 6" descr="f4439d360d6c8342f891103f535d8bc2"/>
          <p:cNvPicPr/>
          <p:nvPr/>
        </p:nvPicPr>
        <p:blipFill>
          <a:blip r:embed="rId1"/>
          <a:stretch/>
        </p:blipFill>
        <p:spPr>
          <a:xfrm>
            <a:off x="3348000" y="2421000"/>
            <a:ext cx="1743120" cy="1255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f4439d360d6c8342f891103f535d8bc2"/>
          <p:cNvPicPr/>
          <p:nvPr/>
        </p:nvPicPr>
        <p:blipFill>
          <a:blip r:embed="rId2"/>
          <a:stretch/>
        </p:blipFill>
        <p:spPr>
          <a:xfrm>
            <a:off x="5076720" y="2205000"/>
            <a:ext cx="2016360" cy="1451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f4439d360d6c8342f891103f535d8bc2"/>
          <p:cNvPicPr/>
          <p:nvPr/>
        </p:nvPicPr>
        <p:blipFill>
          <a:blip r:embed="rId3"/>
          <a:stretch/>
        </p:blipFill>
        <p:spPr>
          <a:xfrm>
            <a:off x="7093080" y="2349360"/>
            <a:ext cx="1800000" cy="1295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f4439d360d6c8342f891103f535d8bc2"/>
          <p:cNvPicPr/>
          <p:nvPr/>
        </p:nvPicPr>
        <p:blipFill>
          <a:blip r:embed="rId4"/>
          <a:stretch/>
        </p:blipFill>
        <p:spPr>
          <a:xfrm>
            <a:off x="1547640" y="2349360"/>
            <a:ext cx="1800360" cy="1295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f4439d360d6c8342f891103f535d8bc2"/>
          <p:cNvPicPr/>
          <p:nvPr/>
        </p:nvPicPr>
        <p:blipFill>
          <a:blip r:embed="rId5"/>
          <a:stretch/>
        </p:blipFill>
        <p:spPr>
          <a:xfrm>
            <a:off x="0" y="2357280"/>
            <a:ext cx="1800360" cy="1295640"/>
          </a:xfrm>
          <a:prstGeom prst="rect">
            <a:avLst/>
          </a:prstGeom>
          <a:ln w="0">
            <a:noFill/>
          </a:ln>
        </p:spPr>
      </p:pic>
      <p:sp>
        <p:nvSpPr>
          <p:cNvPr id="225" name="Line 12"/>
          <p:cNvSpPr/>
          <p:nvPr/>
        </p:nvSpPr>
        <p:spPr>
          <a:xfrm flipV="1">
            <a:off x="1116000" y="1989000"/>
            <a:ext cx="72010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ru-RU" sz="5400" spc="-1" strike="noStrike">
                <a:solidFill>
                  <a:srgbClr val="0000ff"/>
                </a:solidFill>
                <a:latin typeface="Century Schoolbook"/>
              </a:rPr>
              <a:t>Заключение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70000" y="2204640"/>
            <a:ext cx="79452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entury Schoolbook"/>
              </a:rPr>
              <a:t>Изучив данный вопрос, я убедилась в том, что время можно определить не только с помощью часов, но и по солнцу, с помощью свечки, по уровню воды в колбе с отверстием, песочными, солнечными и водяными часам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2967120" y="539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WordArt 5"/>
          <p:cNvSpPr txBox="1"/>
          <p:nvPr/>
        </p:nvSpPr>
        <p:spPr>
          <a:xfrm>
            <a:off x="1042920" y="476280"/>
            <a:ext cx="7286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а к и х    ч а с о в    н а    с в е т е   н е т 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6"/>
          <p:cNvSpPr txBox="1"/>
          <p:nvPr/>
        </p:nvSpPr>
        <p:spPr>
          <a:xfrm>
            <a:off x="1042920" y="1197000"/>
            <a:ext cx="70581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   в    к а ж д ы х   с в о й  с е к р е т 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5" name="Picture 7" descr="цветочные 2"/>
          <p:cNvPicPr/>
          <p:nvPr/>
        </p:nvPicPr>
        <p:blipFill>
          <a:blip r:embed="rId1"/>
          <a:stretch/>
        </p:blipFill>
        <p:spPr>
          <a:xfrm>
            <a:off x="179280" y="2205000"/>
            <a:ext cx="3313080" cy="2200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золотые часы"/>
          <p:cNvPicPr/>
          <p:nvPr/>
        </p:nvPicPr>
        <p:blipFill>
          <a:blip r:embed="rId2"/>
          <a:stretch/>
        </p:blipFill>
        <p:spPr>
          <a:xfrm>
            <a:off x="6588000" y="2133720"/>
            <a:ext cx="2197080" cy="2423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часы Англии"/>
          <p:cNvPicPr/>
          <p:nvPr/>
        </p:nvPicPr>
        <p:blipFill>
          <a:blip r:embed="rId3"/>
          <a:stretch/>
        </p:blipFill>
        <p:spPr>
          <a:xfrm>
            <a:off x="3635280" y="2276640"/>
            <a:ext cx="2664000" cy="1998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дорожные"/>
          <p:cNvPicPr/>
          <p:nvPr/>
        </p:nvPicPr>
        <p:blipFill>
          <a:blip r:embed="rId4"/>
          <a:stretch/>
        </p:blipFill>
        <p:spPr>
          <a:xfrm>
            <a:off x="6659640" y="477036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песочные гелевые"/>
          <p:cNvPicPr/>
          <p:nvPr/>
        </p:nvPicPr>
        <p:blipFill>
          <a:blip r:embed="rId5"/>
          <a:stretch/>
        </p:blipFill>
        <p:spPr>
          <a:xfrm>
            <a:off x="3851280" y="477036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" descr="D:\Ольга\Часы\часы\0_a121_ef291dd5_XL.jpg"/>
          <p:cNvPicPr/>
          <p:nvPr/>
        </p:nvPicPr>
        <p:blipFill>
          <a:blip r:embed="rId6"/>
          <a:stretch/>
        </p:blipFill>
        <p:spPr>
          <a:xfrm>
            <a:off x="826920" y="4508640"/>
            <a:ext cx="198468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0" descr="часы МГУ одни из самых больших в европе"/>
          <p:cNvPicPr/>
          <p:nvPr/>
        </p:nvPicPr>
        <p:blipFill>
          <a:blip r:embed="rId1"/>
          <a:stretch/>
        </p:blipFill>
        <p:spPr>
          <a:xfrm>
            <a:off x="4572000" y="476280"/>
            <a:ext cx="3816360" cy="25239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Century Schoolbook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3" name="Picture 13" descr="Спасская башня"/>
          <p:cNvPicPr/>
          <p:nvPr/>
        </p:nvPicPr>
        <p:blipFill>
          <a:blip r:embed="rId2"/>
          <a:stretch/>
        </p:blipFill>
        <p:spPr>
          <a:xfrm>
            <a:off x="324000" y="476280"/>
            <a:ext cx="3489120" cy="4667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с кукушкой"/>
          <p:cNvPicPr/>
          <p:nvPr/>
        </p:nvPicPr>
        <p:blipFill>
          <a:blip r:embed="rId3"/>
          <a:stretch/>
        </p:blipFill>
        <p:spPr>
          <a:xfrm>
            <a:off x="4716360" y="3284640"/>
            <a:ext cx="352908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0" y="5704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6177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 можно самой определять время, если в доме нет часов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озможно, люди время определяли по явлениям природы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 может быть, им помогали народные приметы?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 что, если люди изобретали свои часы и могли по ним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пределить время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7" name="Рисунок 7" descr="D:\Ольга\Часы\часы\a6c5c5961e7b.jpg"/>
          <p:cNvPicPr/>
          <p:nvPr/>
        </p:nvPicPr>
        <p:blipFill>
          <a:blip r:embed="rId1"/>
          <a:stretch/>
        </p:blipFill>
        <p:spPr>
          <a:xfrm>
            <a:off x="1042920" y="3429000"/>
            <a:ext cx="2808360" cy="20876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8" descr="D:\Ольга\Часы\часы\1582355.jpg"/>
          <p:cNvPicPr/>
          <p:nvPr/>
        </p:nvPicPr>
        <p:blipFill>
          <a:blip r:embed="rId2"/>
          <a:stretch/>
        </p:blipFill>
        <p:spPr>
          <a:xfrm>
            <a:off x="4572000" y="3429000"/>
            <a:ext cx="2830680" cy="2087640"/>
          </a:xfrm>
          <a:prstGeom prst="rect">
            <a:avLst/>
          </a:prstGeom>
          <a:ln w="0">
            <a:noFill/>
          </a:ln>
        </p:spPr>
      </p:pic>
      <p:sp>
        <p:nvSpPr>
          <p:cNvPr id="189" name="WordArt 9"/>
          <p:cNvSpPr txBox="1"/>
          <p:nvPr/>
        </p:nvSpPr>
        <p:spPr>
          <a:xfrm>
            <a:off x="2411280" y="5734080"/>
            <a:ext cx="3591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о л н е ч н ы е   ч а с 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250920" y="457524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91" name="Рисунок 9" descr="D:\Ольга\Часы\часы\12832.gif"/>
          <p:cNvPicPr/>
          <p:nvPr/>
        </p:nvPicPr>
        <p:blipFill>
          <a:blip r:embed="rId1"/>
          <a:stretch/>
        </p:blipFill>
        <p:spPr>
          <a:xfrm>
            <a:off x="250920" y="476280"/>
            <a:ext cx="2879640" cy="2879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57200" y="342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entury Schoolbook"/>
              </a:rPr>
              <a:t>А ночью решали проблему с помощью своеобразных часов: внутрь колбы насыпали песок, либо наливали воду. Песок высыпался через маленькое отверстие. Колба пустела, значит прошло определенное врем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3" name="Picture 20" descr="2"/>
          <p:cNvPicPr/>
          <p:nvPr/>
        </p:nvPicPr>
        <p:blipFill>
          <a:blip r:embed="rId2"/>
          <a:stretch/>
        </p:blipFill>
        <p:spPr>
          <a:xfrm>
            <a:off x="6732720" y="476280"/>
            <a:ext cx="2133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Century Schoolbook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ff"/>
                </a:solidFill>
                <a:latin typeface="Century Schoolbook"/>
              </a:rPr>
              <a:t>Также для определения времени использовали свечи. К свечке прикрепляли бусинки – по мере ее сгорания бусинки падали, что давало возможность определить время. Но это устройство работало лишь в помещении, где нет ветра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611280" y="404640"/>
            <a:ext cx="91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</a:rPr>
              <a:t>Восковые часы</a:t>
            </a:r>
            <a:endParaRPr b="0" lang="en-US" sz="6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0" y="580932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1332000" y="205560"/>
            <a:ext cx="75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Восковые часы</a:t>
            </a:r>
            <a:endParaRPr b="0" lang="en-US" sz="6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3709800" y="3213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00" name="Рисунок 1" descr="C:\Documents and Settings\Admin\Рабочий стол\Новая папка\SDC11909.JPG"/>
          <p:cNvPicPr/>
          <p:nvPr/>
        </p:nvPicPr>
        <p:blipFill>
          <a:blip r:embed="rId1"/>
          <a:stretch/>
        </p:blipFill>
        <p:spPr>
          <a:xfrm>
            <a:off x="324000" y="1125360"/>
            <a:ext cx="2592360" cy="25909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2" descr="C:\Documents and Settings\Admin\Рабочий стол\Новая папка\SDC11910.JPG"/>
          <p:cNvPicPr/>
          <p:nvPr/>
        </p:nvPicPr>
        <p:blipFill>
          <a:blip r:embed="rId2"/>
          <a:stretch/>
        </p:blipFill>
        <p:spPr>
          <a:xfrm>
            <a:off x="3276720" y="1125360"/>
            <a:ext cx="2808000" cy="25909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3" descr="C:\Documents and Settings\Admin\Рабочий стол\Новая папка\SDC11915.JPG"/>
          <p:cNvPicPr/>
          <p:nvPr/>
        </p:nvPicPr>
        <p:blipFill>
          <a:blip r:embed="rId3"/>
          <a:stretch/>
        </p:blipFill>
        <p:spPr>
          <a:xfrm>
            <a:off x="6300720" y="1125360"/>
            <a:ext cx="2843280" cy="25909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4" descr="C:\Documents and Settings\Admin\Рабочий стол\Новая папка\SDC11916.JPG"/>
          <p:cNvPicPr/>
          <p:nvPr/>
        </p:nvPicPr>
        <p:blipFill>
          <a:blip r:embed="rId4"/>
          <a:stretch/>
        </p:blipFill>
        <p:spPr>
          <a:xfrm>
            <a:off x="755640" y="3933720"/>
            <a:ext cx="3030480" cy="25909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2" descr="G:\DCIM\100SSCAM\SDC11931.JPG"/>
          <p:cNvPicPr/>
          <p:nvPr/>
        </p:nvPicPr>
        <p:blipFill>
          <a:blip r:embed="rId5"/>
          <a:stretch/>
        </p:blipFill>
        <p:spPr>
          <a:xfrm>
            <a:off x="5148360" y="3933720"/>
            <a:ext cx="309564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6600" spc="-1" strike="noStrike">
                <a:solidFill>
                  <a:srgbClr val="0000ff"/>
                </a:solidFill>
                <a:latin typeface="Century Schoolbook"/>
              </a:rPr>
              <a:t>Водяные часы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5589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Century Schoolbook"/>
              </a:rPr>
              <a:t>Египетские фараоны узнавали время по уровню воды в большой колбе с отверстиями</a:t>
            </a:r>
            <a:r>
              <a:rPr b="0" lang="ru-RU" sz="2800" spc="-1" strike="noStrike">
                <a:solidFill>
                  <a:srgbClr val="0000ff"/>
                </a:solidFill>
                <a:latin typeface="Century Schoolbook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07" name="Рисунок 11" descr="D:\Ольга\Часы\часы\4131_0.jpg"/>
          <p:cNvPicPr/>
          <p:nvPr/>
        </p:nvPicPr>
        <p:blipFill>
          <a:blip r:embed="rId1"/>
          <a:stretch/>
        </p:blipFill>
        <p:spPr>
          <a:xfrm>
            <a:off x="1042920" y="1989000"/>
            <a:ext cx="2737080" cy="3527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2" descr="D:\Ольга\Часы\часы\194reloj de diamantes.jpg"/>
          <p:cNvPicPr/>
          <p:nvPr/>
        </p:nvPicPr>
        <p:blipFill>
          <a:blip r:embed="rId2"/>
          <a:stretch/>
        </p:blipFill>
        <p:spPr>
          <a:xfrm>
            <a:off x="4716360" y="1989000"/>
            <a:ext cx="273528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1692360" y="404640"/>
            <a:ext cx="4724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 в е т о ч н ы е   ч а с ы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0" name="Picture 5" descr="цвет 6"/>
          <p:cNvPicPr/>
          <p:nvPr/>
        </p:nvPicPr>
        <p:blipFill>
          <a:blip r:embed="rId1"/>
          <a:stretch/>
        </p:blipFill>
        <p:spPr>
          <a:xfrm>
            <a:off x="324000" y="1197000"/>
            <a:ext cx="4170240" cy="3132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цветочные 2"/>
          <p:cNvPicPr/>
          <p:nvPr/>
        </p:nvPicPr>
        <p:blipFill>
          <a:blip r:embed="rId2"/>
          <a:stretch/>
        </p:blipFill>
        <p:spPr>
          <a:xfrm>
            <a:off x="4140360" y="3408480"/>
            <a:ext cx="4841640" cy="3214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b170cc0b7efcb2484d75f5036a9e8e49"/>
          <p:cNvPicPr/>
          <p:nvPr/>
        </p:nvPicPr>
        <p:blipFill>
          <a:blip r:embed="rId3"/>
          <a:stretch/>
        </p:blipFill>
        <p:spPr>
          <a:xfrm>
            <a:off x="3348000" y="4797360"/>
            <a:ext cx="1247760" cy="1800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992830e35b32df5cede5a0136a2befc7"/>
          <p:cNvPicPr/>
          <p:nvPr/>
        </p:nvPicPr>
        <p:blipFill>
          <a:blip r:embed="rId4"/>
          <a:stretch/>
        </p:blipFill>
        <p:spPr>
          <a:xfrm>
            <a:off x="0" y="2852640"/>
            <a:ext cx="1571760" cy="1895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292cdf0b22d0aab13740aa8cd7d47447"/>
          <p:cNvPicPr/>
          <p:nvPr/>
        </p:nvPicPr>
        <p:blipFill>
          <a:blip r:embed="rId5"/>
          <a:stretch/>
        </p:blipFill>
        <p:spPr>
          <a:xfrm>
            <a:off x="7740720" y="5373720"/>
            <a:ext cx="123804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4:40:35Z</dcterms:created>
  <dc:creator>Берюхова</dc:creator>
  <dc:description/>
  <dc:language>en-US</dc:language>
  <cp:lastModifiedBy>Катюшенька</cp:lastModifiedBy>
  <dcterms:modified xsi:type="dcterms:W3CDTF">2018-04-04T17:40:23Z</dcterms:modified>
  <cp:revision>34</cp:revision>
  <dc:subject/>
  <dc:title>Слайд 1</dc:title>
</cp:coreProperties>
</file>