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8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9D8-ADEA-480A-9BAC-13AC4090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18A-5C9D-47AF-82C7-884F7C4D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874-C86E-4AFD-B2A0-3EED89BC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9270-E423-4F55-8030-CBF0CC0C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D5E8-F3BE-4FF1-996E-37F16FA2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352E-3ACE-4F6D-B685-0B907D20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0794-4A1B-46F1-B3BB-ABBBFFF2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7D1-A326-4B49-9BAC-217D900A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E81-1AC2-4048-961A-08FB80F0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D56-025D-4291-A2D8-C9001A44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E45-20C6-448D-AFE4-0B3E0EE9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45D-546B-491A-A943-A41C5138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C947-05A0-4C16-8B5A-81CAF1C203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-19368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00"/>
                </a:solidFill>
                <a:latin typeface="Monotype Corsiva"/>
              </a:rPr>
              <a:t>Моя творческая мастерск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Мастер п/о по профессии «Оператор швейного оборуд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Елена Викторовна Никола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340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ой деви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Любить, понимать, проща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50920" y="260280"/>
            <a:ext cx="8713800" cy="619308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Цель педагогической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Monotype Corsiva"/>
              </a:rPr>
              <a:t>Всесторонне способствовать социализации личности учащегос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468360" y="1413000"/>
            <a:ext cx="867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Мотив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Забота 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жизнеустройстве выпускни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468360" y="1413000"/>
            <a:ext cx="867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Задачи</a:t>
            </a:r>
            <a:r>
              <a:rPr b="0" i="1" lang="ru-RU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формировать базовый уровень профильных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оздать благоприятный психологический климат в коллекти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пособствовать не только адаптации выпускников в сложных жизненных ситуациях, но и найти свое место, быть полезным в обще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68360" y="907920"/>
            <a:ext cx="867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8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Я – как преподавате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11308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dern No. 20"/>
              </a:rPr>
              <a:t>Бесталантных  детей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dern No. 20"/>
              </a:rPr>
              <a:t>Важно только вовремя научить их, раскрыть свои способности, поверить  в себя. Спокойный тон, продуманный план, разнообразный дидактический материал, индивидуальная работа сочетается с творческим трудом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5035680" y="1590840"/>
          <a:ext cx="3544920" cy="220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35680" y="1590840"/>
                    <a:ext cx="3544920" cy="22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0"/>
          <p:cNvGraphicFramePr/>
          <p:nvPr/>
        </p:nvGraphicFramePr>
        <p:xfrm>
          <a:off x="4649760" y="3936960"/>
          <a:ext cx="4033800" cy="218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9760" y="3936960"/>
                    <a:ext cx="40338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11"/>
          <p:cNvGraphicFramePr/>
          <p:nvPr/>
        </p:nvGraphicFramePr>
        <p:xfrm>
          <a:off x="5076720" y="3860640"/>
          <a:ext cx="3527640" cy="218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76720" y="3860640"/>
                    <a:ext cx="352764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12"/>
          <p:cNvSpPr/>
          <p:nvPr/>
        </p:nvSpPr>
        <p:spPr>
          <a:xfrm>
            <a:off x="7524720" y="1916280"/>
            <a:ext cx="1008000" cy="43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у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7524720" y="429264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у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5292720" y="1268280"/>
            <a:ext cx="3097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dern No. 20"/>
              </a:rPr>
              <a:t>Качеств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826920" y="6093000"/>
            <a:ext cx="3097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dern No. 20"/>
              </a:rPr>
              <a:t>Успеваемость – </a:t>
            </a:r>
            <a:r>
              <a:rPr b="0" i="1" lang="en-US" sz="2400" spc="-1" strike="noStrike">
                <a:solidFill>
                  <a:srgbClr val="000000"/>
                </a:solidFill>
                <a:latin typeface="Modern No. 20"/>
              </a:rPr>
              <a:t>100 </a:t>
            </a:r>
            <a:r>
              <a:rPr b="0" i="1" lang="ru-RU" sz="2400" spc="-1" strike="noStrike">
                <a:solidFill>
                  <a:srgbClr val="000000"/>
                </a:solidFill>
                <a:latin typeface="Modern No. 20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17"/>
          <p:cNvGraphicFramePr/>
          <p:nvPr/>
        </p:nvGraphicFramePr>
        <p:xfrm>
          <a:off x="1187280" y="4076640"/>
          <a:ext cx="3313440" cy="2428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87280" y="4076640"/>
                    <a:ext cx="331344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Line 19"/>
          <p:cNvSpPr/>
          <p:nvPr/>
        </p:nvSpPr>
        <p:spPr>
          <a:xfrm>
            <a:off x="468360" y="1125360"/>
            <a:ext cx="867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dern No. 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dern No. 20"/>
              </a:rPr>
              <a:t>Воспитание члена коллектива, способного к сотрудничеству, владеющего культурой межличностных 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dern No. 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dern No. 20"/>
              </a:rPr>
              <a:t>Воспитание гражда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dern No. 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dern No. 20"/>
              </a:rPr>
              <a:t>Воспитание професси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dern No. 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dern No. 20"/>
              </a:rPr>
              <a:t>Воспитание семья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Я – как воспитате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468360" y="1413000"/>
            <a:ext cx="867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5724360" y="2421000"/>
            <a:ext cx="3054600" cy="1893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3"/>
          <a:stretch/>
        </p:blipFill>
        <p:spPr>
          <a:xfrm>
            <a:off x="395280" y="4538520"/>
            <a:ext cx="259236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4"/>
          <a:stretch/>
        </p:blipFill>
        <p:spPr>
          <a:xfrm>
            <a:off x="6156360" y="4437000"/>
            <a:ext cx="2665440" cy="2016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5"/>
          <a:stretch/>
        </p:blipFill>
        <p:spPr>
          <a:xfrm>
            <a:off x="3203640" y="4491000"/>
            <a:ext cx="288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dern No. 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dern No. 20"/>
              </a:rPr>
              <a:t>Разработка адаптивных образовательных программ для обучающихся с нарушением интелл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dern No. 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dern No. 20"/>
              </a:rPr>
              <a:t>Проведение мастер – классов для педагогов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dern No. 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dern No. 20"/>
              </a:rPr>
              <a:t>Выступление на заседаниях педагогических советов, методических объеди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dern No. 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dern No. 20"/>
              </a:rPr>
              <a:t>Проведение открытых ур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Я – как  </a:t>
            </a:r>
            <a:r>
              <a:rPr b="0" i="1" lang="ru-RU" sz="6600" spc="-1" strike="noStrike">
                <a:solidFill>
                  <a:srgbClr val="000000"/>
                </a:solidFill>
                <a:latin typeface="Monotype Corsiva"/>
              </a:rPr>
              <a:t>методис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468360" y="1413000"/>
            <a:ext cx="867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P1100853"/>
          <p:cNvPicPr/>
          <p:nvPr/>
        </p:nvPicPr>
        <p:blipFill>
          <a:blip r:embed="rId2"/>
          <a:stretch/>
        </p:blipFill>
        <p:spPr>
          <a:xfrm>
            <a:off x="6953400" y="3500280"/>
            <a:ext cx="2190600" cy="2926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P1100875"/>
          <p:cNvPicPr/>
          <p:nvPr/>
        </p:nvPicPr>
        <p:blipFill>
          <a:blip r:embed="rId3"/>
          <a:stretch/>
        </p:blipFill>
        <p:spPr>
          <a:xfrm>
            <a:off x="179280" y="3789360"/>
            <a:ext cx="2811600" cy="2106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P1100865"/>
          <p:cNvPicPr/>
          <p:nvPr/>
        </p:nvPicPr>
        <p:blipFill>
          <a:blip r:embed="rId4"/>
          <a:stretch/>
        </p:blipFill>
        <p:spPr>
          <a:xfrm>
            <a:off x="4859280" y="3500280"/>
            <a:ext cx="2400480" cy="1803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P1100860"/>
          <p:cNvPicPr/>
          <p:nvPr/>
        </p:nvPicPr>
        <p:blipFill>
          <a:blip r:embed="rId5"/>
          <a:stretch/>
        </p:blipFill>
        <p:spPr>
          <a:xfrm>
            <a:off x="2771640" y="4797360"/>
            <a:ext cx="23972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Я – как творческая лично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468360" y="2060640"/>
            <a:ext cx="867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P1030710"/>
          <p:cNvPicPr/>
          <p:nvPr/>
        </p:nvPicPr>
        <p:blipFill>
          <a:blip r:embed="rId2"/>
          <a:stretch/>
        </p:blipFill>
        <p:spPr>
          <a:xfrm>
            <a:off x="468360" y="458136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dern No. 20"/>
              </a:rPr>
              <a:t>Разработчик моделей «Театра мо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P1030112"/>
          <p:cNvPicPr/>
          <p:nvPr/>
        </p:nvPicPr>
        <p:blipFill>
          <a:blip r:embed="rId3"/>
          <a:stretch/>
        </p:blipFill>
        <p:spPr>
          <a:xfrm>
            <a:off x="3059280" y="3500280"/>
            <a:ext cx="3168360" cy="2291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1080687"/>
          <p:cNvPicPr/>
          <p:nvPr/>
        </p:nvPicPr>
        <p:blipFill>
          <a:blip r:embed="rId4"/>
          <a:stretch/>
        </p:blipFill>
        <p:spPr>
          <a:xfrm>
            <a:off x="5940360" y="2708280"/>
            <a:ext cx="295596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8:57:24Z</dcterms:created>
  <dc:creator>user</dc:creator>
  <dc:description/>
  <dc:language>en-US</dc:language>
  <cp:lastModifiedBy>Админ</cp:lastModifiedBy>
  <dcterms:modified xsi:type="dcterms:W3CDTF">2018-04-05T09:12:10Z</dcterms:modified>
  <cp:revision>6</cp:revision>
  <dc:subject/>
  <dc:title>Моя творческая мастерская</dc:title>
</cp:coreProperties>
</file>