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9.wmf" ContentType="image/x-wmf"/>
  <Override PartName="/ppt/media/image16.jpeg" ContentType="image/jpeg"/>
  <Override PartName="/ppt/media/image14.jpeg" ContentType="image/jpeg"/>
  <Override PartName="/ppt/media/image1.png" ContentType="image/png"/>
  <Override PartName="/ppt/media/image2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4.wmf" ContentType="image/x-wmf"/>
  <Override PartName="/ppt/media/image5.wmf" ContentType="image/x-wmf"/>
  <Override PartName="/ppt/media/image8.wmf" ContentType="image/x-wmf"/>
  <Override PartName="/ppt/media/image12.jpeg" ContentType="image/jpeg"/>
  <Override PartName="/ppt/media/image6.wmf" ContentType="image/x-wmf"/>
  <Override PartName="/ppt/media/image7.wmf" ContentType="image/x-wmf"/>
  <Override PartName="/ppt/media/image11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73AD-59A0-4EE0-A64B-CD9C8E1FF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1516-9EE4-4D6C-A42D-D57428025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3A2E-5F6C-4D90-AA94-B2684DEFC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9528-E74B-46A1-864A-8174E16A2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E60D-ED76-4B95-A957-6C7FC1148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2E2E-14EE-49E0-9D84-A3F69D0B5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7DD8-231E-4500-BA0C-0207367B0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4823-6CE9-4667-9154-4223B91C6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5AA2-4B57-4960-8EFD-30C748604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6326-76E0-431A-BBDC-63DE3BA0D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D06F-8486-44FE-983E-BACC49C18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C660-8E03-425C-B1E8-7BC6B5A06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D4E7D-3E44-4D29-9BC0-C656449C46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wmf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-19368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640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990000"/>
                </a:solidFill>
                <a:latin typeface="Monotype Corsiva"/>
              </a:rPr>
              <a:t>Моя творческая мастерска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34000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Мастер п/о по профессии «Оператор швейного оборудовани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Елена Викторовна Николае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234000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Мой девиз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«Любить, понимать, прощат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250920" y="260280"/>
            <a:ext cx="8713800" cy="6193080"/>
          </a:xfrm>
          <a:prstGeom prst="rect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Monotype Corsiva"/>
              </a:rPr>
              <a:t>Цель педагогической деятель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000000"/>
                </a:solidFill>
                <a:latin typeface="Monotype Corsiva"/>
              </a:rPr>
              <a:t>Всесторонне способствовать социализации личности учащегос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5"/>
          <p:cNvSpPr/>
          <p:nvPr/>
        </p:nvSpPr>
        <p:spPr>
          <a:xfrm>
            <a:off x="468360" y="1413000"/>
            <a:ext cx="867564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Мотив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Monotype Corsiva"/>
              </a:rPr>
              <a:t>Забота 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7200" spc="-1" strike="noStrike">
                <a:solidFill>
                  <a:srgbClr val="000000"/>
                </a:solidFill>
                <a:latin typeface="Monotype Corsiva"/>
              </a:rPr>
              <a:t>жизнеустройстве выпускник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5"/>
          <p:cNvSpPr/>
          <p:nvPr/>
        </p:nvSpPr>
        <p:spPr>
          <a:xfrm>
            <a:off x="468360" y="1413000"/>
            <a:ext cx="867564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Monotype Corsiva"/>
              </a:rPr>
              <a:t>Задачи</a:t>
            </a:r>
            <a:r>
              <a:rPr b="0" i="1" lang="ru-RU" sz="54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964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Сформировать базовый уровень профильных зна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Создать благоприятный психологический климат в коллектив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Способствовать не только адаптации выпускников в сложных жизненных ситуациях, но и найти свое место, быть полезным в обществ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5"/>
          <p:cNvSpPr/>
          <p:nvPr/>
        </p:nvSpPr>
        <p:spPr>
          <a:xfrm>
            <a:off x="468360" y="907920"/>
            <a:ext cx="867564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8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Monotype Corsiva"/>
              </a:rPr>
              <a:t>Я – как преподавател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5113080" cy="29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Modern No. 20"/>
              </a:rPr>
              <a:t>Бесталантных  детей н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Modern No. 20"/>
              </a:rPr>
              <a:t>Важно только вовремя научить их, раскрыть свои способности, поверить  в себя. Спокойный тон, продуманный план, разнообразный дидактический материал, индивидуальная работа сочетается с творческим трудом дет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Object 6"/>
          <p:cNvGraphicFramePr/>
          <p:nvPr/>
        </p:nvGraphicFramePr>
        <p:xfrm>
          <a:off x="5035680" y="1590840"/>
          <a:ext cx="3544920" cy="220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2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35680" y="1590840"/>
                    <a:ext cx="3544920" cy="22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Object 10"/>
          <p:cNvGraphicFramePr/>
          <p:nvPr/>
        </p:nvGraphicFramePr>
        <p:xfrm>
          <a:off x="4649760" y="3936960"/>
          <a:ext cx="4033800" cy="2189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4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49760" y="3936960"/>
                    <a:ext cx="4033800" cy="21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Object 11"/>
          <p:cNvGraphicFramePr/>
          <p:nvPr/>
        </p:nvGraphicFramePr>
        <p:xfrm>
          <a:off x="5076720" y="3860640"/>
          <a:ext cx="3527640" cy="2186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6" name="Object 1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076720" y="3860640"/>
                    <a:ext cx="3527640" cy="21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Rectangle 12"/>
          <p:cNvSpPr/>
          <p:nvPr/>
        </p:nvSpPr>
        <p:spPr>
          <a:xfrm>
            <a:off x="7524720" y="1916280"/>
            <a:ext cx="1008000" cy="43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ур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3"/>
          <p:cNvSpPr/>
          <p:nvPr/>
        </p:nvSpPr>
        <p:spPr>
          <a:xfrm>
            <a:off x="7524720" y="4292640"/>
            <a:ext cx="93672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ур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5"/>
          <p:cNvSpPr/>
          <p:nvPr/>
        </p:nvSpPr>
        <p:spPr>
          <a:xfrm>
            <a:off x="5292720" y="1268280"/>
            <a:ext cx="3097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Modern No. 20"/>
              </a:rPr>
              <a:t>Качество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6"/>
          <p:cNvSpPr/>
          <p:nvPr/>
        </p:nvSpPr>
        <p:spPr>
          <a:xfrm>
            <a:off x="826920" y="6093000"/>
            <a:ext cx="30974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Modern No. 20"/>
              </a:rPr>
              <a:t>Успеваемость – </a:t>
            </a:r>
            <a:r>
              <a:rPr b="0" i="1" lang="en-US" sz="2400" spc="-1" strike="noStrike">
                <a:solidFill>
                  <a:srgbClr val="000000"/>
                </a:solidFill>
                <a:latin typeface="Modern No. 20"/>
              </a:rPr>
              <a:t>100 </a:t>
            </a:r>
            <a:r>
              <a:rPr b="0" i="1" lang="ru-RU" sz="2400" spc="-1" strike="noStrike">
                <a:solidFill>
                  <a:srgbClr val="000000"/>
                </a:solidFill>
                <a:latin typeface="Modern No. 20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Object 17"/>
          <p:cNvGraphicFramePr/>
          <p:nvPr/>
        </p:nvGraphicFramePr>
        <p:xfrm>
          <a:off x="1187280" y="4076640"/>
          <a:ext cx="3313440" cy="2428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2" name="Object 1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87280" y="4076640"/>
                    <a:ext cx="3313440" cy="24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Line 19"/>
          <p:cNvSpPr/>
          <p:nvPr/>
        </p:nvSpPr>
        <p:spPr>
          <a:xfrm>
            <a:off x="468360" y="1125360"/>
            <a:ext cx="867564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6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dern No. 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Modern No. 20"/>
              </a:rPr>
              <a:t>Воспитание члена коллектива, способного к сотрудничеству, владеющего культурой межличностных отнош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dern No. 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Modern No. 20"/>
              </a:rPr>
              <a:t>Воспитание граждан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dern No. 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Modern No. 20"/>
              </a:rPr>
              <a:t>Воспитание профессион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dern No. 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Modern No. 20"/>
              </a:rPr>
              <a:t>Воспитание семьян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Monotype Corsiva"/>
              </a:rPr>
              <a:t>Я – как воспитател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7"/>
          <p:cNvSpPr/>
          <p:nvPr/>
        </p:nvSpPr>
        <p:spPr>
          <a:xfrm>
            <a:off x="468360" y="1413000"/>
            <a:ext cx="867564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8" descr=""/>
          <p:cNvPicPr/>
          <p:nvPr/>
        </p:nvPicPr>
        <p:blipFill>
          <a:blip r:embed="rId2"/>
          <a:stretch/>
        </p:blipFill>
        <p:spPr>
          <a:xfrm>
            <a:off x="5724360" y="2421000"/>
            <a:ext cx="3054600" cy="18939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3"/>
          <a:stretch/>
        </p:blipFill>
        <p:spPr>
          <a:xfrm>
            <a:off x="395280" y="4538520"/>
            <a:ext cx="2592360" cy="2071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4"/>
          <a:stretch/>
        </p:blipFill>
        <p:spPr>
          <a:xfrm>
            <a:off x="6156360" y="4437000"/>
            <a:ext cx="2665440" cy="2016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"/>
          <p:cNvPicPr/>
          <p:nvPr/>
        </p:nvPicPr>
        <p:blipFill>
          <a:blip r:embed="rId5"/>
          <a:stretch/>
        </p:blipFill>
        <p:spPr>
          <a:xfrm>
            <a:off x="3203640" y="4491000"/>
            <a:ext cx="2881080" cy="20844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dern No. 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Modern No. 20"/>
              </a:rPr>
              <a:t>Разработка адаптивных образовательных программ для обучающихся с нарушением интелл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dern No. 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Modern No. 20"/>
              </a:rPr>
              <a:t>Проведение мастер – классов для педагогов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dern No. 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Modern No. 20"/>
              </a:rPr>
              <a:t>Выступление на заседаниях педагогических советов, методических объедин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dern No. 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Modern No. 20"/>
              </a:rPr>
              <a:t>Проведение открытых уро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Monotype Corsiva"/>
              </a:rPr>
              <a:t>Я – как  </a:t>
            </a:r>
            <a:r>
              <a:rPr b="0" i="1" lang="ru-RU" sz="6600" spc="-1" strike="noStrike">
                <a:solidFill>
                  <a:srgbClr val="000000"/>
                </a:solidFill>
                <a:latin typeface="Monotype Corsiva"/>
              </a:rPr>
              <a:t>методис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6"/>
          <p:cNvSpPr/>
          <p:nvPr/>
        </p:nvSpPr>
        <p:spPr>
          <a:xfrm>
            <a:off x="468360" y="1413000"/>
            <a:ext cx="867564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P1100853"/>
          <p:cNvPicPr/>
          <p:nvPr/>
        </p:nvPicPr>
        <p:blipFill>
          <a:blip r:embed="rId2"/>
          <a:stretch/>
        </p:blipFill>
        <p:spPr>
          <a:xfrm>
            <a:off x="6953400" y="3500280"/>
            <a:ext cx="2190600" cy="2926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3" descr="P1100875"/>
          <p:cNvPicPr/>
          <p:nvPr/>
        </p:nvPicPr>
        <p:blipFill>
          <a:blip r:embed="rId3"/>
          <a:stretch/>
        </p:blipFill>
        <p:spPr>
          <a:xfrm>
            <a:off x="179280" y="3789360"/>
            <a:ext cx="2811600" cy="2106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2" descr="P1100865"/>
          <p:cNvPicPr/>
          <p:nvPr/>
        </p:nvPicPr>
        <p:blipFill>
          <a:blip r:embed="rId4"/>
          <a:stretch/>
        </p:blipFill>
        <p:spPr>
          <a:xfrm>
            <a:off x="4859280" y="3500280"/>
            <a:ext cx="2400480" cy="18036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P1100860"/>
          <p:cNvPicPr/>
          <p:nvPr/>
        </p:nvPicPr>
        <p:blipFill>
          <a:blip r:embed="rId5"/>
          <a:stretch/>
        </p:blipFill>
        <p:spPr>
          <a:xfrm>
            <a:off x="2771640" y="4797360"/>
            <a:ext cx="2397240" cy="18003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Monotype Corsiva"/>
              </a:rPr>
              <a:t>Я – как творческая личност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"/>
          <p:cNvSpPr/>
          <p:nvPr/>
        </p:nvSpPr>
        <p:spPr>
          <a:xfrm>
            <a:off x="468360" y="2060640"/>
            <a:ext cx="867564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1" descr="P1030710"/>
          <p:cNvPicPr/>
          <p:nvPr/>
        </p:nvPicPr>
        <p:blipFill>
          <a:blip r:embed="rId2"/>
          <a:stretch/>
        </p:blipFill>
        <p:spPr>
          <a:xfrm>
            <a:off x="468360" y="4581360"/>
            <a:ext cx="2736720" cy="20527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Modern No. 20"/>
              </a:rPr>
              <a:t>Разработчик моделей «Театра моды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0" descr="P1030112"/>
          <p:cNvPicPr/>
          <p:nvPr/>
        </p:nvPicPr>
        <p:blipFill>
          <a:blip r:embed="rId3"/>
          <a:stretch/>
        </p:blipFill>
        <p:spPr>
          <a:xfrm>
            <a:off x="3059280" y="3500280"/>
            <a:ext cx="3168360" cy="22910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3" descr="P1080687"/>
          <p:cNvPicPr/>
          <p:nvPr/>
        </p:nvPicPr>
        <p:blipFill>
          <a:blip r:embed="rId4"/>
          <a:stretch/>
        </p:blipFill>
        <p:spPr>
          <a:xfrm>
            <a:off x="5940360" y="2708280"/>
            <a:ext cx="2955960" cy="22161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18:57:24Z</dcterms:created>
  <dc:creator>user</dc:creator>
  <dc:description/>
  <dc:language>en-US</dc:language>
  <cp:lastModifiedBy>Админ</cp:lastModifiedBy>
  <dcterms:modified xsi:type="dcterms:W3CDTF">2018-04-05T09:12:10Z</dcterms:modified>
  <cp:revision>6</cp:revision>
  <dc:subject/>
  <dc:title>Моя творческая мастерская</dc:title>
</cp:coreProperties>
</file>