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71F-FD5C-42E4-A3FB-EC4A9893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F42-FC90-4B49-B9E8-9C2D0FE4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730-6E2F-4B89-A369-0842D769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E70-29F8-4940-A514-73B9164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687-063A-4868-87E0-E020E7C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9B5-A35E-45EF-970D-6D07D9AD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3DD-1486-486B-817C-BCA673B4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EDA-8B56-4D61-8A70-4CD76C77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F58-C4E5-4D85-A864-26F4A83F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FB2-DEB8-4741-8A19-8EA05D1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7C5-CF35-497E-894F-795E7B9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4FC-8027-49D5-8E31-65361F7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52BD-2504-4E27-9E64-275BCD1531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risscross.at.ua/people/mama_i_malish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icsdesktop.net/sea/800x600/PicsDesktop.net_1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cetki.com/uploads/posts/thumbs/1253884656_m013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8/wcm2008.a/0_12139_a76aa0ee_X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-albom.narod.ru/FOTO/ludi/vse/mama/0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17680085_58_1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46.radikal.ru/i113/0910/20/47bda49fc5a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rovoefoto.ru/_module/photo/Show/1663/votin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217.minsk.edu.by/sm.aspx?uid=980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veroni.ru/portrait/id_223_Strength_and_tenderness_portrait_oil_paintings_b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at.compot.ru/album/albums/userpics/11449/normal_DSC0669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077.radikal.ru/0907/9d/d86009bc1eb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0920" y="3789360"/>
            <a:ext cx="4359240" cy="1923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Что в сердце нашем самое свято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Навряд ли надо думать и гад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Есть в мире самое прост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И самое возвышенное - Ма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7" descr="i?id=42633186&amp;tov=0"/>
          <p:cNvPicPr/>
          <p:nvPr/>
        </p:nvPicPr>
        <p:blipFill>
          <a:blip r:embed="rId1"/>
          <a:stretch/>
        </p:blipFill>
        <p:spPr>
          <a:xfrm>
            <a:off x="611280" y="404640"/>
            <a:ext cx="3251160" cy="325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Картинка 89 из 236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33360"/>
            <a:ext cx="44035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Картинка 77 из 10012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20 из 236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1413000"/>
            <a:ext cx="3719520" cy="5445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2771640" y="1700280"/>
            <a:ext cx="405792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Я люблю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вою любовь ко мне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0_12139_a76aa0ee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412128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4932360" y="1413000"/>
            <a:ext cx="396072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ама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ы всег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с прощаеш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Картинка 19 из 337149"/>
          <p:cNvPicPr/>
          <p:nvPr/>
        </p:nvPicPr>
        <p:blipFill>
          <a:blip r:embed="rId1"/>
          <a:stretch/>
        </p:blipFill>
        <p:spPr>
          <a:xfrm>
            <a:off x="3995640" y="620640"/>
            <a:ext cx="4767480" cy="568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250920" y="1341360"/>
            <a:ext cx="3313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ы учиш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с бы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юдь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Картинка 53 из 23672"/>
          <p:cNvPicPr/>
          <p:nvPr/>
        </p:nvPicPr>
        <p:blipFill>
          <a:blip r:embed="rId1"/>
          <a:stretch/>
        </p:blipFill>
        <p:spPr>
          <a:xfrm>
            <a:off x="4211640" y="404640"/>
            <a:ext cx="4537080" cy="5904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395280" y="1484280"/>
            <a:ext cx="3384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ы всег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отова обня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прижа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Картинка 5 из 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9"/>
          <p:cNvSpPr txBox="1"/>
          <p:nvPr/>
        </p:nvSpPr>
        <p:spPr>
          <a:xfrm>
            <a:off x="468360" y="189000"/>
            <a:ext cx="7920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 терпима к нам,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49669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239864760_1238050051_40"/>
          <p:cNvPicPr/>
          <p:nvPr/>
        </p:nvPicPr>
        <p:blipFill>
          <a:blip r:embed="rId1"/>
          <a:stretch/>
        </p:blipFill>
        <p:spPr>
          <a:xfrm>
            <a:off x="4257720" y="404640"/>
            <a:ext cx="4275000" cy="612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KkiyV6y56"/>
          <p:cNvPicPr/>
          <p:nvPr/>
        </p:nvPicPr>
        <p:blipFill>
          <a:blip r:embed="rId2"/>
          <a:stretch/>
        </p:blipFill>
        <p:spPr>
          <a:xfrm>
            <a:off x="204840" y="404640"/>
            <a:ext cx="4295880" cy="6048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89880" y="0"/>
            <a:ext cx="81756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ahoma"/>
              </a:rPr>
              <a:t>Спасибо, что ты всегда ряд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Картинка 62 из 25719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3276720" y="4076640"/>
            <a:ext cx="5395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лю тебя за то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дышу и мечтаю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x_8e29dc08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826920" y="5516640"/>
            <a:ext cx="72741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дуюсь солнц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Картинка 115 из 125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826920" y="620640"/>
            <a:ext cx="403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ма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 мой самы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ший дру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Картинка 73 из 337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496960" y="5372280"/>
            <a:ext cx="504684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Сердце матер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неиссякаемый источник чудес.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x_25dd56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468360" y="620640"/>
            <a:ext cx="4637160" cy="29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хочу,  чтоб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олнялась счастье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знь тво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5651640" y="0"/>
            <a:ext cx="3492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o_4f2cdf9d0a356da33d0628bb65e29eda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4788000" y="1197000"/>
            <a:ext cx="41529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сть распускаютс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рко цвет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теб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x_1f5d67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1763640" y="692280"/>
            <a:ext cx="604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теб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то, чт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ест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Картинка 65 из 7158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2050920" y="2349360"/>
            <a:ext cx="568980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Картинка 1 из 23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979640" y="333360"/>
            <a:ext cx="66978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м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80000" y="3141720"/>
            <a:ext cx="46688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 для меня 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Картинка 26 из 21640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3887640" y="1413000"/>
            <a:ext cx="5256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зможн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этом мир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просто человек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 для мен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ы весь ми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49 из 23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Здравствуй, Солнце!"/>
          <p:cNvPicPr/>
          <p:nvPr/>
        </p:nvPicPr>
        <p:blipFill>
          <a:blip r:embed="rId3"/>
          <a:stretch/>
        </p:blipFill>
        <p:spPr>
          <a:xfrm>
            <a:off x="493236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2700360" y="620640"/>
            <a:ext cx="54482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ы дана на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вышним –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а и навсегд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Картинка 64 из 30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9"/>
          <p:cNvSpPr txBox="1"/>
          <p:nvPr/>
        </p:nvSpPr>
        <p:spPr>
          <a:xfrm>
            <a:off x="1116000" y="404640"/>
            <a:ext cx="734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 – наша опор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19 из 836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4920"/>
            <a:ext cx="9288360" cy="6892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2916360" y="0"/>
            <a:ext cx="53038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ша сил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Картинка 56 из 23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Картинка 10 из 715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82520" y="185760"/>
            <a:ext cx="64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Только ты способна почувствовать т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что испытывает твой ребено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37:01Z</dcterms:created>
  <dc:creator>User</dc:creator>
  <dc:description/>
  <dc:language>en-US</dc:language>
  <cp:lastModifiedBy>Раиса</cp:lastModifiedBy>
  <dcterms:modified xsi:type="dcterms:W3CDTF">2018-04-05T10:44:59Z</dcterms:modified>
  <cp:revision>5</cp:revision>
  <dc:subject/>
  <dc:title> </dc:title>
</cp:coreProperties>
</file>