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1EE-83C7-498D-9136-ACF8CA5C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713-3472-418E-AF36-77CD087D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2736-4661-4373-AC4E-F4D5A0DF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DDF6-68F6-4F51-9CCB-93E4DEE7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1D11-50A7-48CB-B035-EB091D21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E05A-7E84-4FCE-AC11-D41D4735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3658-8A09-46AC-87EA-70049FC3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39DE-7E5B-41F1-8187-4D047DD4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0BE9-12C7-4EF2-B3B8-D939F3C7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DF16-EFEA-495C-804D-5D22D98C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EEC7-C3E4-4F07-894B-6A692AE4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20E-0A8F-47D9-BD92-309B1BB3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86B1-C53A-4F5F-B90A-C53A4FD55D8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crisscross.at.ua/people/mama_i_malish1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icsdesktop.net/sea/800x600/PicsDesktop.net_19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cetki.com/uploads/posts/thumbs/1253884656_m013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8/wcm2008.a/0_12139_a76aa0ee_X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-albom.narod.ru/FOTO/ludi/vse/mama/00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ive4fun.ru/small_pictures/img_17680085_58_12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46.radikal.ru/i113/0910/20/47bda49fc5a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rovoefoto.ru/_module/photo/Show/1663/votin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217.minsk.edu.by/sm.aspx?uid=98085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rtveroni.ru/portrait/id_223_Strength_and_tenderness_portrait_oil_paintings_b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hat.compot.ru/album/albums/userpics/11449/normal_DSC06695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077.radikal.ru/0907/9d/d86009bc1ebe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50920" y="3789360"/>
            <a:ext cx="4359240" cy="1923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ahoma"/>
              </a:rPr>
              <a:t>Что в сердце нашем самое свято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ahoma"/>
              </a:rPr>
              <a:t>Навряд ли надо думать и гада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ahoma"/>
              </a:rPr>
              <a:t>Есть в мире самое прост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ahoma"/>
              </a:rPr>
              <a:t>И самое возвышенное - Мать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7" descr="i?id=42633186&amp;tov=0"/>
          <p:cNvPicPr/>
          <p:nvPr/>
        </p:nvPicPr>
        <p:blipFill>
          <a:blip r:embed="rId1"/>
          <a:stretch/>
        </p:blipFill>
        <p:spPr>
          <a:xfrm>
            <a:off x="611280" y="404640"/>
            <a:ext cx="3251160" cy="3251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Картинка 89 из 236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333360"/>
            <a:ext cx="440352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Картинка 77 из 10012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Картинка 120 из 236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43280" y="1413000"/>
            <a:ext cx="3719520" cy="5445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7"/>
          <p:cNvSpPr txBox="1"/>
          <p:nvPr/>
        </p:nvSpPr>
        <p:spPr>
          <a:xfrm>
            <a:off x="2771640" y="1700280"/>
            <a:ext cx="405792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Я люблю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вою любовь ко мне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0_12139_a76aa0ee_X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76280"/>
            <a:ext cx="4121280" cy="5334120"/>
          </a:xfrm>
          <a:prstGeom prst="rect">
            <a:avLst/>
          </a:prstGeom>
          <a:ln w="0">
            <a:noFill/>
          </a:ln>
        </p:spPr>
      </p:pic>
      <p:sp>
        <p:nvSpPr>
          <p:cNvPr id="66" name="WordArt 7"/>
          <p:cNvSpPr txBox="1"/>
          <p:nvPr/>
        </p:nvSpPr>
        <p:spPr>
          <a:xfrm>
            <a:off x="4932360" y="1413000"/>
            <a:ext cx="396072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ама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ы всегд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ас прощаеш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Картинка 19 из 337149"/>
          <p:cNvPicPr/>
          <p:nvPr/>
        </p:nvPicPr>
        <p:blipFill>
          <a:blip r:embed="rId1"/>
          <a:stretch/>
        </p:blipFill>
        <p:spPr>
          <a:xfrm>
            <a:off x="3995640" y="620640"/>
            <a:ext cx="4767480" cy="568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7"/>
          <p:cNvSpPr txBox="1"/>
          <p:nvPr/>
        </p:nvSpPr>
        <p:spPr>
          <a:xfrm>
            <a:off x="250920" y="1341360"/>
            <a:ext cx="331308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ы учиш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ас бы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юдьм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Картинка 53 из 23672"/>
          <p:cNvPicPr/>
          <p:nvPr/>
        </p:nvPicPr>
        <p:blipFill>
          <a:blip r:embed="rId1"/>
          <a:stretch/>
        </p:blipFill>
        <p:spPr>
          <a:xfrm>
            <a:off x="4211640" y="404640"/>
            <a:ext cx="4537080" cy="5904000"/>
          </a:xfrm>
          <a:prstGeom prst="rect">
            <a:avLst/>
          </a:prstGeom>
          <a:ln w="0">
            <a:noFill/>
          </a:ln>
        </p:spPr>
      </p:pic>
      <p:sp>
        <p:nvSpPr>
          <p:cNvPr id="70" name="WordArt 8"/>
          <p:cNvSpPr txBox="1"/>
          <p:nvPr/>
        </p:nvSpPr>
        <p:spPr>
          <a:xfrm>
            <a:off x="395280" y="1484280"/>
            <a:ext cx="338472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ы всегд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готова обнят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 прижат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8" descr="Картинка 5 из 3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9"/>
          <p:cNvSpPr txBox="1"/>
          <p:nvPr/>
        </p:nvSpPr>
        <p:spPr>
          <a:xfrm>
            <a:off x="468360" y="189000"/>
            <a:ext cx="7920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ы терпима к нам,спасиб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649669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239864760_1238050051_40"/>
          <p:cNvPicPr/>
          <p:nvPr/>
        </p:nvPicPr>
        <p:blipFill>
          <a:blip r:embed="rId1"/>
          <a:stretch/>
        </p:blipFill>
        <p:spPr>
          <a:xfrm>
            <a:off x="4257720" y="404640"/>
            <a:ext cx="4275000" cy="6120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cKkiyV6y56"/>
          <p:cNvPicPr/>
          <p:nvPr/>
        </p:nvPicPr>
        <p:blipFill>
          <a:blip r:embed="rId2"/>
          <a:stretch/>
        </p:blipFill>
        <p:spPr>
          <a:xfrm>
            <a:off x="204840" y="404640"/>
            <a:ext cx="4295880" cy="6048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389880" y="0"/>
            <a:ext cx="81756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ahoma"/>
              </a:rPr>
              <a:t>Спасибо, что ты всегда рядо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Картинка 62 из 257196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78" name="WordArt 6"/>
          <p:cNvSpPr txBox="1"/>
          <p:nvPr/>
        </p:nvSpPr>
        <p:spPr>
          <a:xfrm>
            <a:off x="3276720" y="4076640"/>
            <a:ext cx="53956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юблю тебя за то,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дышу и мечтаю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x_8e29dc08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  <p:sp>
        <p:nvSpPr>
          <p:cNvPr id="80" name="WordArt 5"/>
          <p:cNvSpPr txBox="1"/>
          <p:nvPr/>
        </p:nvSpPr>
        <p:spPr>
          <a:xfrm>
            <a:off x="826920" y="5516640"/>
            <a:ext cx="727416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дуюсь солнц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Картинка 115 из 125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6"/>
          <p:cNvSpPr txBox="1"/>
          <p:nvPr/>
        </p:nvSpPr>
        <p:spPr>
          <a:xfrm>
            <a:off x="826920" y="620640"/>
            <a:ext cx="4032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ма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ы мой самый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учший дру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Картинка 73 из 3371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2496960" y="5372280"/>
            <a:ext cx="5046840" cy="825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ahoma"/>
              </a:rPr>
              <a:t>Сердце матери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ahoma"/>
              </a:rPr>
              <a:t>неиссякаемый источник чудес.</a:t>
            </a:r>
            <a:r>
              <a:rPr b="1" i="1" lang="ru-RU" sz="18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x_25dd56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7"/>
          <p:cNvSpPr txBox="1"/>
          <p:nvPr/>
        </p:nvSpPr>
        <p:spPr>
          <a:xfrm>
            <a:off x="468360" y="620640"/>
            <a:ext cx="4637160" cy="29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 хочу,  чтоб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полнялась счастьем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изнь твоя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1"/>
          <p:cNvSpPr/>
          <p:nvPr/>
        </p:nvSpPr>
        <p:spPr>
          <a:xfrm>
            <a:off x="5651640" y="0"/>
            <a:ext cx="34923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8" descr="o_4f2cdf9d0a356da33d0628bb65e29eda"/>
          <p:cNvPicPr/>
          <p:nvPr/>
        </p:nvPicPr>
        <p:blipFill>
          <a:blip r:embed="rId1"/>
          <a:stretch/>
        </p:blipFill>
        <p:spPr>
          <a:xfrm>
            <a:off x="0" y="0"/>
            <a:ext cx="562464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7"/>
          <p:cNvSpPr txBox="1"/>
          <p:nvPr/>
        </p:nvSpPr>
        <p:spPr>
          <a:xfrm>
            <a:off x="4788000" y="1197000"/>
            <a:ext cx="415296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усть распускаются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ярко цветы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тебя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x_1f5d67f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7"/>
          <p:cNvSpPr txBox="1"/>
          <p:nvPr/>
        </p:nvSpPr>
        <p:spPr>
          <a:xfrm>
            <a:off x="1763640" y="692280"/>
            <a:ext cx="60483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теб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то, что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ы есть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Картинка 65 из 7158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6"/>
          <p:cNvSpPr txBox="1"/>
          <p:nvPr/>
        </p:nvSpPr>
        <p:spPr>
          <a:xfrm>
            <a:off x="2050920" y="2349360"/>
            <a:ext cx="5689800" cy="17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ш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Картинка 1 из 236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1979640" y="333360"/>
            <a:ext cx="6697800" cy="20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ма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3780000" y="3141720"/>
            <a:ext cx="466884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ы для меня -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ё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Картинка 26 из 21640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5040"/>
          </a:xfrm>
          <a:prstGeom prst="rect">
            <a:avLst/>
          </a:prstGeom>
          <a:ln w="0">
            <a:noFill/>
          </a:ln>
        </p:spPr>
      </p:pic>
      <p:sp>
        <p:nvSpPr>
          <p:cNvPr id="51" name="WordArt 9"/>
          <p:cNvSpPr txBox="1"/>
          <p:nvPr/>
        </p:nvSpPr>
        <p:spPr>
          <a:xfrm>
            <a:off x="3887640" y="1413000"/>
            <a:ext cx="525636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зможно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этом мир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ы просто человек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 для меня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ы весь ми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Картинка 49 из 236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94352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Здравствуй, Солнце!"/>
          <p:cNvPicPr/>
          <p:nvPr/>
        </p:nvPicPr>
        <p:blipFill>
          <a:blip r:embed="rId3"/>
          <a:stretch/>
        </p:blipFill>
        <p:spPr>
          <a:xfrm>
            <a:off x="4932360" y="0"/>
            <a:ext cx="45673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9"/>
          <p:cNvSpPr txBox="1"/>
          <p:nvPr/>
        </p:nvSpPr>
        <p:spPr>
          <a:xfrm>
            <a:off x="2700360" y="620640"/>
            <a:ext cx="5448240" cy="33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ы дана нам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вышним –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дна и навсегд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Картинка 64 из 303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9"/>
          <p:cNvSpPr txBox="1"/>
          <p:nvPr/>
        </p:nvSpPr>
        <p:spPr>
          <a:xfrm>
            <a:off x="1116000" y="404640"/>
            <a:ext cx="7343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ы – наша опор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Картинка 19 из 8367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4920"/>
            <a:ext cx="9288360" cy="6892920"/>
          </a:xfrm>
          <a:prstGeom prst="rect">
            <a:avLst/>
          </a:prstGeom>
          <a:ln w="0">
            <a:noFill/>
          </a:ln>
        </p:spPr>
      </p:pic>
      <p:sp>
        <p:nvSpPr>
          <p:cNvPr id="58" name="WordArt 6"/>
          <p:cNvSpPr txBox="1"/>
          <p:nvPr/>
        </p:nvSpPr>
        <p:spPr>
          <a:xfrm>
            <a:off x="2916360" y="0"/>
            <a:ext cx="5303880" cy="15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ша сил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Картинка 56 из 236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Картинка 10 из 7158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82520" y="185760"/>
            <a:ext cx="64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ahoma"/>
              </a:rPr>
              <a:t>Только ты способна почувствовать т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ahoma"/>
              </a:rPr>
              <a:t>что испытывает твой ребенок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7:37:01Z</dcterms:created>
  <dc:creator>User</dc:creator>
  <dc:description/>
  <dc:language>en-US</dc:language>
  <cp:lastModifiedBy>Раиса</cp:lastModifiedBy>
  <dcterms:modified xsi:type="dcterms:W3CDTF">2018-04-05T10:44:59Z</dcterms:modified>
  <cp:revision>5</cp:revision>
  <dc:subject/>
  <dc:title> </dc:title>
</cp:coreProperties>
</file>