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3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4C1-5419-4595-9EE8-7DE37A428C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8FBF-311E-4573-AB0B-B6E8380026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8AD-F392-471F-8134-B0A4E852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677-FB28-4EBD-B6FE-A55E345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2F3-E3A6-4E62-95BD-5386BA2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D85-87F4-4D5F-A498-27EC4219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2804E-4679-4354-A1E3-96F57F41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06F8D-EAA0-4769-A60D-EFC0E326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1F51E-CB86-42D2-A55D-6039F0D5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C2129-B531-4046-A203-B0DB90A7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044E4-D89E-45B0-9CB9-9EC3FB22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7035-198D-459D-8129-203724F7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15A88-85E6-47CF-9D78-987E750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179-4CAA-45E0-AA32-AE180EE1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98DA-F9AA-4320-BE87-7A551B89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D43DE-B2BC-472B-AF1F-0C92617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3189-B36C-4E5C-A695-D38F9557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F2AC8-1D66-47D5-ACCD-52F96B25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09B2E-0789-4068-804D-BB02F199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791-685E-4786-AEAA-0B2A2460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A2B-8A53-49CD-B3CD-B97CE82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A4B-6CDB-41FA-88B0-C32E08E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59A-5376-4E8E-B33E-1E7ED9D4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DAD-7691-409B-986A-C7FC0D9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AE1-2812-4A49-B19C-7CF3E2B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709-468B-46C2-9B93-BA0951F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9FDA-AFC9-407A-B6A8-5CB0CE9B8033}" type="datetime">
              <a:rPr b="0" lang="en-US" sz="10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A51E-EBC4-4191-B451-D850DA069B2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0D88-82D4-4258-9AF8-2B05877229FC}" type="datetime">
              <a:rPr b="0" lang="en-US" sz="1000" spc="-1" strike="noStrike">
                <a:solidFill>
                  <a:srgbClr val="000000"/>
                </a:solidFill>
                <a:latin typeface="Corbe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1D5-39E2-4B71-90F0-ADCF0CD73DB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30240"/>
            <a:ext cx="8656920" cy="262728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CFF-2217-4E7E-A5CE-6E236E62265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9" name="Группа 9"/>
          <p:cNvGrpSpPr/>
          <p:nvPr/>
        </p:nvGrpSpPr>
        <p:grpSpPr>
          <a:xfrm>
            <a:off x="285840" y="2428920"/>
            <a:ext cx="3628800" cy="2811240"/>
            <a:chOff x="285840" y="2428920"/>
            <a:chExt cx="3628800" cy="2811240"/>
          </a:xfrm>
        </p:grpSpPr>
        <p:pic>
          <p:nvPicPr>
            <p:cNvPr id="100" name="Рисунок 8" descr="img13.jpg"/>
            <p:cNvPicPr/>
            <p:nvPr/>
          </p:nvPicPr>
          <p:blipFill>
            <a:blip r:embed="rId2"/>
            <a:stretch/>
          </p:blipFill>
          <p:spPr>
            <a:xfrm>
              <a:off x="285840" y="2428920"/>
              <a:ext cx="3628800" cy="28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Рисунок 6" descr="img0.jpg"/>
            <p:cNvPicPr/>
            <p:nvPr/>
          </p:nvPicPr>
          <p:blipFill>
            <a:blip r:embed="rId3"/>
            <a:stretch/>
          </p:blipFill>
          <p:spPr>
            <a:xfrm>
              <a:off x="597240" y="2926080"/>
              <a:ext cx="297468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11"/>
          <p:cNvGrpSpPr/>
          <p:nvPr/>
        </p:nvGrpSpPr>
        <p:grpSpPr>
          <a:xfrm>
            <a:off x="4500720" y="2428920"/>
            <a:ext cx="3843360" cy="2882880"/>
            <a:chOff x="4500720" y="2428920"/>
            <a:chExt cx="3843360" cy="2882880"/>
          </a:xfrm>
        </p:grpSpPr>
        <p:pic>
          <p:nvPicPr>
            <p:cNvPr id="103" name="Рисунок 7" descr="img13.jpg"/>
            <p:cNvPicPr/>
            <p:nvPr/>
          </p:nvPicPr>
          <p:blipFill>
            <a:blip r:embed="rId4"/>
            <a:stretch/>
          </p:blipFill>
          <p:spPr>
            <a:xfrm>
              <a:off x="4500720" y="2428920"/>
              <a:ext cx="384336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10" descr="img13.jpg"/>
            <p:cNvPicPr/>
            <p:nvPr/>
          </p:nvPicPr>
          <p:blipFill>
            <a:blip r:embed="rId5"/>
            <a:stretch/>
          </p:blipFill>
          <p:spPr>
            <a:xfrm>
              <a:off x="5000760" y="4286520"/>
              <a:ext cx="2928960" cy="5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214200" y="1143000"/>
            <a:ext cx="4643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найти процент от числа, следует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записать десятичной дробь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ножить на эту десятичную дроб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" name="Прямоугольник 4" descr=""/>
          <p:cNvPicPr/>
          <p:nvPr/>
        </p:nvPicPr>
        <p:blipFill>
          <a:blip r:embed="rId1"/>
          <a:stretch/>
        </p:blipFill>
        <p:spPr>
          <a:xfrm>
            <a:off x="-122400" y="0"/>
            <a:ext cx="909504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3643200" y="3071880"/>
            <a:ext cx="5072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найти число по его процентам, следует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записать десятичной дробь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оцентов разделить на эту дроб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285840" y="4429080"/>
            <a:ext cx="4786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узнать, сколько процентов одно число составляет от второго, следует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число разделить на второе 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умножить на 100%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706-BBCC-43B9-85B3-408608F5188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Овал 3"/>
          <p:cNvSpPr/>
          <p:nvPr/>
        </p:nvSpPr>
        <p:spPr>
          <a:xfrm>
            <a:off x="6659640" y="3068640"/>
            <a:ext cx="230508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Агрон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Овал 4"/>
          <p:cNvSpPr/>
          <p:nvPr/>
        </p:nvSpPr>
        <p:spPr>
          <a:xfrm>
            <a:off x="250920" y="2997360"/>
            <a:ext cx="230508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Ферм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Овал 5"/>
          <p:cNvSpPr/>
          <p:nvPr/>
        </p:nvSpPr>
        <p:spPr>
          <a:xfrm>
            <a:off x="324000" y="4437000"/>
            <a:ext cx="230328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ова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Овал 6"/>
          <p:cNvSpPr/>
          <p:nvPr/>
        </p:nvSpPr>
        <p:spPr>
          <a:xfrm>
            <a:off x="1000080" y="1916280"/>
            <a:ext cx="2635200" cy="108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Фармацев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Овал 7"/>
          <p:cNvSpPr/>
          <p:nvPr/>
        </p:nvSpPr>
        <p:spPr>
          <a:xfrm>
            <a:off x="3708360" y="1628640"/>
            <a:ext cx="2303640" cy="10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2050920" y="5229360"/>
            <a:ext cx="237672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Статис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Овал 9"/>
          <p:cNvSpPr/>
          <p:nvPr/>
        </p:nvSpPr>
        <p:spPr>
          <a:xfrm>
            <a:off x="6516720" y="4437000"/>
            <a:ext cx="223200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Товарове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Овал 10"/>
          <p:cNvSpPr/>
          <p:nvPr/>
        </p:nvSpPr>
        <p:spPr>
          <a:xfrm>
            <a:off x="6012000" y="1989000"/>
            <a:ext cx="2160360" cy="10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родавец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Овал 13"/>
          <p:cNvSpPr/>
          <p:nvPr/>
        </p:nvSpPr>
        <p:spPr>
          <a:xfrm>
            <a:off x="4500720" y="5373720"/>
            <a:ext cx="2447640" cy="1150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Работники ба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3" name="Рисунок 14" descr="Без названия.png"/>
          <p:cNvPicPr/>
          <p:nvPr/>
        </p:nvPicPr>
        <p:blipFill>
          <a:blip r:embed="rId1"/>
          <a:stretch/>
        </p:blipFill>
        <p:spPr>
          <a:xfrm>
            <a:off x="3638520" y="2919240"/>
            <a:ext cx="2013120" cy="2017800"/>
          </a:xfrm>
          <a:prstGeom prst="rect">
            <a:avLst/>
          </a:prstGeom>
          <a:ln w="0">
            <a:noFill/>
          </a:ln>
        </p:spPr>
      </p:pic>
      <p:sp>
        <p:nvSpPr>
          <p:cNvPr id="174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7B3B-9002-488A-8B62-D4F86F01394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0.02501 -0.00741 L 0.04584 -0.02778 L 0.06112 -0.05741 L 0.08612 -0.09259 L 0.08889 -0.10741 L 0.09723 -0.14815 L 0.09584 -0.16667 L 0.08889 -0.21296 L 0.08334 -0.23333 L 0.04723 -0.26852 L 0.03056 -0.28148 L -0.00416 -0.28518 L -0.02499 -0.28518 L -0.04027 -0.28518 L -0.08055 -0.24259 L -0.08333 -0.23148 L -0.09027 -0.1963 L -0.08194 -0.14074 L -0.07777 -0.11852 L -0.06666 -0.10185 L -0.06111 -0.07593 L -0.05555 -0.06481 L -0.04305 -0.04259 L -0.03749 -0.02778 L -0.02083 -0.01296 L -0.00833 0.00556 L 0.01528 0.02407 L 0.03889 0.04444 L 0.09306 0.08889 L 0.10278 0.12963 L 0.10278 0.19444 L 0.08473 0.22037 L 0.06112 0.25741 L 0.02084 0.26482 L 0.01112 0.27037 L -0.02499 0.25926 L -0.04999 0.24074 L -0.07638 0.21482 L -0.10416 0.16852 L -0.10416 0.13704 L -0.08333 0.07037 L -0.06527 0.03519 L -0.03888 0.02037 L -0.02361 0.01111 L 6.94444E-006 -3.7037E-006 Z">
                                      <p:cBhvr>
                                        <p:cTn id="12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44290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3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та за телефон составляет 360 рублей в месяц. В следующем году она увеличится на 4%. Сколько рублей придётся платить ежемесячно за телефон в следующем году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77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й в продажу в январе мобильный телефон стоил 1600 рублей. В сентябре он стал стоить 960 руб­лей. На сколько процентов снизилась цена на мобиль­ный телефон в период с января по сентябрь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2098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5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вар на распродаже уценили на 25%, при этом он стал стоить 900 р. Сколько рублей стоил товар до распродажи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7" name="Прямоугольник 4" descr=""/>
          <p:cNvPicPr/>
          <p:nvPr/>
        </p:nvPicPr>
        <p:blipFill>
          <a:blip r:embed="rId1"/>
          <a:stretch/>
        </p:blipFill>
        <p:spPr>
          <a:xfrm>
            <a:off x="1768320" y="328680"/>
            <a:ext cx="5418360" cy="1098360"/>
          </a:xfrm>
          <a:prstGeom prst="rect">
            <a:avLst/>
          </a:prstGeom>
          <a:ln w="0">
            <a:noFill/>
          </a:ln>
        </p:spPr>
      </p:pic>
      <p:sp>
        <p:nvSpPr>
          <p:cNvPr id="17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EDC8-42CA-4341-BF79-7684BC3FFD6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Текст 1"/>
          <p:cNvSpPr/>
          <p:nvPr/>
        </p:nvSpPr>
        <p:spPr>
          <a:xfrm>
            <a:off x="4643280" y="3071880"/>
            <a:ext cx="4071960" cy="3214800"/>
          </a:xfrm>
          <a:prstGeom prst="rect">
            <a:avLst/>
          </a:prstGeom>
          <a:blipFill rotWithShape="0">
            <a:blip r:embed="rId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262080"/>
            <a:ext cx="822960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642960" y="1071720"/>
          <a:ext cx="3357720" cy="5240160"/>
        </p:xfrm>
        <a:graphic>
          <a:graphicData uri="http://schemas.openxmlformats.org/drawingml/2006/table">
            <a:tbl>
              <a:tblPr/>
              <a:tblGrid>
                <a:gridCol w="3357720"/>
              </a:tblGrid>
              <a:tr h="103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30) 374,4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7) 152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)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0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2)  30,8 тыс.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5) 875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5) 3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54) 12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2)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2) 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77)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0D3-A6B9-460C-A1D2-6BCCF4E1131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786200" y="1571760"/>
            <a:ext cx="3757680" cy="4643280"/>
          </a:xfrm>
          <a:prstGeom prst="rect">
            <a:avLst/>
          </a:prstGeom>
          <a:blipFill rotWithShape="0">
            <a:blip r:embed="rId2">
              <a:alphaModFix amt="10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Прямоугольник 4" descr=""/>
          <p:cNvPicPr/>
          <p:nvPr/>
        </p:nvPicPr>
        <p:blipFill>
          <a:blip r:embed="rId1"/>
          <a:stretch/>
        </p:blipFill>
        <p:spPr>
          <a:xfrm>
            <a:off x="328680" y="262080"/>
            <a:ext cx="84135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2071800" y="1285920"/>
          <a:ext cx="4762440" cy="4911840"/>
        </p:xfrm>
        <a:graphic>
          <a:graphicData uri="http://schemas.openxmlformats.org/drawingml/2006/table">
            <a:tbl>
              <a:tblPr/>
              <a:tblGrid>
                <a:gridCol w="2381040"/>
                <a:gridCol w="2381400"/>
              </a:tblGrid>
              <a:tr h="11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ип 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мер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Процент от  заданного числа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0, 2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, 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Нахождение числа по заданной его величине в процентах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 Процентное выражение одного числа от друг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2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20F-F0C1-4D81-AF52-FB875503675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214200" y="137052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а уроке мне все было понятно. Со всеми заданиями я справился самостоятельн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!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а уроке мне почти все было понятно. Не все получалось сразу, но я все равно справился с задан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могите! Мне требуется помощь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рисуйте, какое у вас настро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8" name="Прямоугольник 2" descr=""/>
          <p:cNvPicPr/>
          <p:nvPr/>
        </p:nvPicPr>
        <p:blipFill>
          <a:blip r:embed="rId1"/>
          <a:stretch/>
        </p:blipFill>
        <p:spPr>
          <a:xfrm>
            <a:off x="1432080" y="249120"/>
            <a:ext cx="5919480" cy="1146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vozvrat-protsentov.jpg"/>
          <p:cNvPicPr/>
          <p:nvPr/>
        </p:nvPicPr>
        <p:blipFill>
          <a:blip r:embed="rId2"/>
          <a:stretch/>
        </p:blipFill>
        <p:spPr>
          <a:xfrm>
            <a:off x="4929120" y="3214800"/>
            <a:ext cx="4214880" cy="3160440"/>
          </a:xfrm>
          <a:prstGeom prst="rect">
            <a:avLst/>
          </a:prstGeom>
          <a:ln w="0">
            <a:noFill/>
          </a:ln>
        </p:spPr>
      </p:pic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B79-70DD-478E-8BE8-DF7E1C094149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714240" y="785880"/>
            <a:ext cx="74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ую бы область человеческой жизни вы не затронули, в этой области обязательно находится проблема или задача решаемая с помощью процен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2" name="Рисунок 3" descr="promotii1-e1337879963573.jpg"/>
          <p:cNvPicPr/>
          <p:nvPr/>
        </p:nvPicPr>
        <p:blipFill>
          <a:blip r:embed="rId1"/>
          <a:stretch/>
        </p:blipFill>
        <p:spPr>
          <a:xfrm>
            <a:off x="2071800" y="3071880"/>
            <a:ext cx="6333840" cy="333360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6F7-B755-497F-9985-FAD7DB69CFE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09440"/>
            <a:ext cx="6765840" cy="11034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2" descr=""/>
          <p:cNvPicPr/>
          <p:nvPr/>
        </p:nvPicPr>
        <p:blipFill>
          <a:blip r:embed="rId2"/>
          <a:stretch/>
        </p:blipFill>
        <p:spPr>
          <a:xfrm>
            <a:off x="6480" y="2146320"/>
            <a:ext cx="8929440" cy="3284640"/>
          </a:xfrm>
          <a:prstGeom prst="rect">
            <a:avLst/>
          </a:prstGeom>
          <a:ln w="0">
            <a:noFill/>
          </a:ln>
        </p:spPr>
      </p:pic>
      <p:sp>
        <p:nvSpPr>
          <p:cNvPr id="1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4435-A1AA-42CE-B26A-C200E1FA977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6"/>
          <p:cNvSpPr/>
          <p:nvPr/>
        </p:nvSpPr>
        <p:spPr>
          <a:xfrm>
            <a:off x="214200" y="571680"/>
            <a:ext cx="85010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люди талантливы! Когда-нибудь вы сами приятно поразитесь, как много  хорошего умеете, если будете постоянно работать над собой, ставить новые цели и стремиться к их достижению...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Ж. Руссо (1712–1778 гг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Рисунок 2" descr="logotip_od.png"/>
          <p:cNvPicPr/>
          <p:nvPr/>
        </p:nvPicPr>
        <p:blipFill>
          <a:blip r:embed="rId1"/>
          <a:stretch/>
        </p:blipFill>
        <p:spPr>
          <a:xfrm>
            <a:off x="214200" y="2357280"/>
            <a:ext cx="4881600" cy="423252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9E7B-16F7-41E5-9DBD-7D87637E2AD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152280"/>
            <a:ext cx="84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orbel"/>
              </a:rPr>
              <a:t>Проценты в современной жизн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9" name="Группа 28"/>
          <p:cNvGrpSpPr/>
          <p:nvPr/>
        </p:nvGrpSpPr>
        <p:grpSpPr>
          <a:xfrm>
            <a:off x="785880" y="2000160"/>
            <a:ext cx="2143080" cy="1086120"/>
            <a:chOff x="785880" y="2000160"/>
            <a:chExt cx="2143080" cy="1086120"/>
          </a:xfrm>
        </p:grpSpPr>
        <p:sp>
          <p:nvSpPr>
            <p:cNvPr id="110" name="Овал 20"/>
            <p:cNvSpPr/>
            <p:nvPr/>
          </p:nvSpPr>
          <p:spPr>
            <a:xfrm>
              <a:off x="785880" y="2000160"/>
              <a:ext cx="2122560" cy="1086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11" name="Rectangle 1"/>
            <p:cNvSpPr/>
            <p:nvPr/>
          </p:nvSpPr>
          <p:spPr>
            <a:xfrm>
              <a:off x="928440" y="2079360"/>
              <a:ext cx="20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Вычисление цен на распродаже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12" name="Группа 30"/>
          <p:cNvGrpSpPr/>
          <p:nvPr/>
        </p:nvGrpSpPr>
        <p:grpSpPr>
          <a:xfrm>
            <a:off x="0" y="3478320"/>
            <a:ext cx="2214720" cy="1087200"/>
            <a:chOff x="0" y="3478320"/>
            <a:chExt cx="2214720" cy="1087200"/>
          </a:xfrm>
        </p:grpSpPr>
        <p:sp>
          <p:nvSpPr>
            <p:cNvPr id="113" name="Овал 22"/>
            <p:cNvSpPr/>
            <p:nvPr/>
          </p:nvSpPr>
          <p:spPr>
            <a:xfrm>
              <a:off x="0" y="3478320"/>
              <a:ext cx="2122920" cy="1087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14" name="Rectangle 2"/>
            <p:cNvSpPr/>
            <p:nvPr/>
          </p:nvSpPr>
          <p:spPr>
            <a:xfrm>
              <a:off x="285480" y="3503520"/>
              <a:ext cx="1929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одсчет голосов на выборах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15" name="Группа 31"/>
          <p:cNvGrpSpPr/>
          <p:nvPr/>
        </p:nvGrpSpPr>
        <p:grpSpPr>
          <a:xfrm>
            <a:off x="1123920" y="4921560"/>
            <a:ext cx="2233800" cy="1087200"/>
            <a:chOff x="1123920" y="4921560"/>
            <a:chExt cx="2233800" cy="1087200"/>
          </a:xfrm>
        </p:grpSpPr>
        <p:sp>
          <p:nvSpPr>
            <p:cNvPr id="116" name="Овал 24"/>
            <p:cNvSpPr/>
            <p:nvPr/>
          </p:nvSpPr>
          <p:spPr>
            <a:xfrm>
              <a:off x="1123920" y="4923000"/>
              <a:ext cx="2121840" cy="1085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17" name="Rectangle 3"/>
            <p:cNvSpPr/>
            <p:nvPr/>
          </p:nvSpPr>
          <p:spPr>
            <a:xfrm>
              <a:off x="1142640" y="4921560"/>
              <a:ext cx="2215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начислении пени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18" name="Группа 33"/>
          <p:cNvGrpSpPr/>
          <p:nvPr/>
        </p:nvGrpSpPr>
        <p:grpSpPr>
          <a:xfrm>
            <a:off x="3357720" y="5572080"/>
            <a:ext cx="2928960" cy="1071720"/>
            <a:chOff x="3357720" y="5572080"/>
            <a:chExt cx="2928960" cy="1071720"/>
          </a:xfrm>
        </p:grpSpPr>
        <p:sp>
          <p:nvSpPr>
            <p:cNvPr id="119" name="Овал 25"/>
            <p:cNvSpPr/>
            <p:nvPr/>
          </p:nvSpPr>
          <p:spPr>
            <a:xfrm>
              <a:off x="3357720" y="5572080"/>
              <a:ext cx="278640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3429000" y="5646960"/>
              <a:ext cx="285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вычислении процентных отношений веществ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21" name="Группа 32"/>
          <p:cNvGrpSpPr/>
          <p:nvPr/>
        </p:nvGrpSpPr>
        <p:grpSpPr>
          <a:xfrm>
            <a:off x="6143760" y="4852080"/>
            <a:ext cx="2428920" cy="1313640"/>
            <a:chOff x="6143760" y="4852080"/>
            <a:chExt cx="2428920" cy="1313640"/>
          </a:xfrm>
        </p:grpSpPr>
        <p:sp>
          <p:nvSpPr>
            <p:cNvPr id="122" name="Овал 23"/>
            <p:cNvSpPr/>
            <p:nvPr/>
          </p:nvSpPr>
          <p:spPr>
            <a:xfrm>
              <a:off x="6143760" y="4923000"/>
              <a:ext cx="2203560" cy="1085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6357960" y="4852080"/>
              <a:ext cx="2214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подсчёте статистических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  </a:t>
              </a: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данных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24" name="Группа 29"/>
          <p:cNvGrpSpPr/>
          <p:nvPr/>
        </p:nvGrpSpPr>
        <p:grpSpPr>
          <a:xfrm>
            <a:off x="6429240" y="3286080"/>
            <a:ext cx="2357640" cy="1087560"/>
            <a:chOff x="6429240" y="3286080"/>
            <a:chExt cx="2357640" cy="1087560"/>
          </a:xfrm>
        </p:grpSpPr>
        <p:sp>
          <p:nvSpPr>
            <p:cNvPr id="125" name="Овал 21"/>
            <p:cNvSpPr/>
            <p:nvPr/>
          </p:nvSpPr>
          <p:spPr>
            <a:xfrm>
              <a:off x="6429240" y="3286080"/>
              <a:ext cx="2357640" cy="1087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6723000" y="3337560"/>
              <a:ext cx="1825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начислении зарплаты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27" name="Группа 27"/>
          <p:cNvGrpSpPr/>
          <p:nvPr/>
        </p:nvGrpSpPr>
        <p:grpSpPr>
          <a:xfrm>
            <a:off x="6327720" y="2036880"/>
            <a:ext cx="2816280" cy="1085760"/>
            <a:chOff x="6327720" y="2036880"/>
            <a:chExt cx="2816280" cy="1085760"/>
          </a:xfrm>
        </p:grpSpPr>
        <p:sp>
          <p:nvSpPr>
            <p:cNvPr id="128" name="Овал 19"/>
            <p:cNvSpPr/>
            <p:nvPr/>
          </p:nvSpPr>
          <p:spPr>
            <a:xfrm>
              <a:off x="6327720" y="2036880"/>
              <a:ext cx="2122560" cy="1085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6714720" y="2075040"/>
              <a:ext cx="242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оформлении кредита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30" name="Группа 26"/>
          <p:cNvGrpSpPr/>
          <p:nvPr/>
        </p:nvGrpSpPr>
        <p:grpSpPr>
          <a:xfrm>
            <a:off x="3571920" y="1357200"/>
            <a:ext cx="2571840" cy="1087560"/>
            <a:chOff x="3571920" y="1357200"/>
            <a:chExt cx="2571840" cy="1087560"/>
          </a:xfrm>
        </p:grpSpPr>
        <p:sp>
          <p:nvSpPr>
            <p:cNvPr id="131" name="Овал 18"/>
            <p:cNvSpPr/>
            <p:nvPr/>
          </p:nvSpPr>
          <p:spPr>
            <a:xfrm>
              <a:off x="3571920" y="1357200"/>
              <a:ext cx="2122560" cy="1087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32" name="Прямоугольник 33"/>
            <p:cNvSpPr/>
            <p:nvPr/>
          </p:nvSpPr>
          <p:spPr>
            <a:xfrm>
              <a:off x="3857400" y="1428480"/>
              <a:ext cx="228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rbel"/>
                  <a:ea typeface="Times New Roman"/>
                </a:rPr>
                <a:t>При расчёте тарифов за коммунальные 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33" name="Рисунок 28" descr="82568438.png"/>
          <p:cNvPicPr/>
          <p:nvPr/>
        </p:nvPicPr>
        <p:blipFill>
          <a:blip r:embed="rId1"/>
          <a:stretch/>
        </p:blipFill>
        <p:spPr>
          <a:xfrm>
            <a:off x="3143160" y="2786040"/>
            <a:ext cx="2309760" cy="2309760"/>
          </a:xfrm>
          <a:prstGeom prst="rect">
            <a:avLst/>
          </a:prstGeom>
          <a:ln w="0">
            <a:noFill/>
          </a:ln>
        </p:spPr>
      </p:pic>
      <p:sp>
        <p:nvSpPr>
          <p:cNvPr id="134" name="Номер слайда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B7F-3159-457F-9377-ACA2D1C4FF5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цен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это сотая часть чис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Запись 1% означает 0,01 или 1/100.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 %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вен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той част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личин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ся величин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вна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-30240"/>
            <a:ext cx="3998880" cy="1103400"/>
          </a:xfrm>
          <a:prstGeom prst="rect">
            <a:avLst/>
          </a:prstGeom>
          <a:ln w="0">
            <a:noFill/>
          </a:ln>
        </p:spPr>
      </p:pic>
      <p:sp>
        <p:nvSpPr>
          <p:cNvPr id="13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8BE-8A34-4949-BB9E-B1EC208BB8B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blipFill rotWithShape="0">
            <a:blip r:embed="rId1">
              <a:alphaModFix amt="10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rbel"/>
              </a:rPr>
              <a:t>Pro cento – cento – cto - c/o - %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Так возник знак процент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9" name="Прямоугольник 3" descr=""/>
          <p:cNvPicPr/>
          <p:nvPr/>
        </p:nvPicPr>
        <p:blipFill>
          <a:blip r:embed="rId2"/>
          <a:stretch/>
        </p:blipFill>
        <p:spPr>
          <a:xfrm>
            <a:off x="55440" y="219240"/>
            <a:ext cx="8813880" cy="976320"/>
          </a:xfrm>
          <a:prstGeom prst="rect">
            <a:avLst/>
          </a:prstGeom>
          <a:ln w="0">
            <a:noFill/>
          </a:ln>
        </p:spPr>
      </p:pic>
      <p:sp>
        <p:nvSpPr>
          <p:cNvPr id="1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8BF5-BD6E-4D8F-9FCA-C04B3579012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572160" cy="6072120"/>
          </a:xfrm>
          <a:prstGeom prst="rect">
            <a:avLst/>
          </a:prstGeom>
          <a:ln w="0">
            <a:noFill/>
          </a:ln>
        </p:spPr>
      </p:pic>
      <p:sp>
        <p:nvSpPr>
          <p:cNvPr id="14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3425-EDBB-4139-8DFD-93ABDCB52035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508720" y="2276640"/>
            <a:ext cx="3311280" cy="3142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=100%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200%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=0,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=1/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=1/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=1/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%=1,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061-7BE6-467E-8D58-5A62D35CB11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95280" y="119700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% от 100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a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Найти число, если 3% этого числа равны 60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% от 100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% от числа составляют 14. Найдите числ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% от числа составляет 250. Найдите это числ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оцентов составляет число 250 от 1000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% от 100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a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Сколько % составляет 200 м от 500 м</a:t>
            </a:r>
            <a:r>
              <a:rPr b="0" lang="ru-RU" sz="1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438120"/>
            <a:ext cx="41576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2577960" cy="1103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7120" y="1599840"/>
            <a:ext cx="49291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еть различные  типы задач на проценты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алгоритм решения этих задач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ь знания к решению практических задач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9" name="Рисунок 5" descr="procent1.png"/>
          <p:cNvPicPr/>
          <p:nvPr/>
        </p:nvPicPr>
        <p:blipFill>
          <a:blip r:embed="rId2"/>
          <a:stretch/>
        </p:blipFill>
        <p:spPr>
          <a:xfrm>
            <a:off x="5357880" y="1714680"/>
            <a:ext cx="3427200" cy="400500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3308-91BC-40F4-BE4A-149A8F85CE6B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D96-5D38-40F3-B03E-5CBE72FED03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971640" y="549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Как определять вид задачи на процент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35000" y="1220760"/>
            <a:ext cx="8781840" cy="384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2976480"/>
            <a:ext cx="8408880" cy="5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1258920" y="1700280"/>
          <a:ext cx="6095880" cy="1112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5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хм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826920" y="3513240"/>
          <a:ext cx="6096240" cy="1112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е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,4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55640" y="5424480"/>
          <a:ext cx="7056360" cy="1173240"/>
        </p:xfrm>
        <a:graphic>
          <a:graphicData uri="http://schemas.openxmlformats.org/drawingml/2006/table">
            <a:tbl>
              <a:tblPr/>
              <a:tblGrid>
                <a:gridCol w="2347920"/>
                <a:gridCol w="2360520"/>
                <a:gridCol w="2347920"/>
              </a:tblGrid>
              <a:tr h="39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  </a:t>
                      </a:r>
                      <a:r>
                        <a:rPr b="1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        </a:t>
                      </a:r>
                      <a:r>
                        <a:rPr b="1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Всего посея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  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    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Взош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  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                      </a:t>
                      </a:r>
                      <a:r>
                        <a:rPr b="0" lang="ru-RU" sz="1600" spc="-1" strike="noStrike">
                          <a:solidFill>
                            <a:srgbClr val="542121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4"/>
          <p:cNvSpPr/>
          <p:nvPr/>
        </p:nvSpPr>
        <p:spPr>
          <a:xfrm>
            <a:off x="309960" y="4970880"/>
            <a:ext cx="88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42121"/>
                </a:solidFill>
                <a:uFillTx/>
                <a:latin typeface="Calibri"/>
                <a:ea typeface="Times New Roman"/>
              </a:rPr>
              <a:t>3. Из 400 зерен пшеницы взошло 360. Определить процент всхожести семя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0:43:05Z</dcterms:created>
  <dc:creator/>
  <dc:description/>
  <dc:language>en-US</dc:language>
  <cp:lastModifiedBy/>
  <dcterms:modified xsi:type="dcterms:W3CDTF">2018-04-05T09:15:2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9</vt:lpwstr>
  </property>
  <property fmtid="{D5CDD505-2E9C-101B-9397-08002B2CF9AE}" pid="3" name="_TemplateID">
    <vt:lpwstr>TC100738461049</vt:lpwstr>
  </property>
</Properties>
</file>