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7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2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3.png" ContentType="image/png"/>
  <Override PartName="/ppt/media/image3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CCA7-A000-401B-9CF6-4D91CF713D3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5ECF-807A-43DF-86B2-F030B9956BA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6261-9AD3-411E-A57E-26F15839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969-3F0D-4177-88D5-4D68DB1C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03C-AE99-41AB-A137-5A6250F4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61F-2056-47FE-A4FB-21A76765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DD2BC-74E6-4262-AF91-A8727FFB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6143F-7DE5-43E5-BDE9-0BF2833D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1B3ED-01EB-41DB-A6B4-13E1DEE7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2FD95-87C5-4DC8-9C1E-55556585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92934-FDAF-49DF-AAAA-A4F0FFA0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58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ABBAB-48B3-4B0F-ACE5-D6000579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7A90F-D6F3-4EC9-A4E3-B7E8BE16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AE7-A5F1-4140-B6B2-F6D2F097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D415E-CF77-41A9-9320-AF23F320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0CAC6-0B7B-48F1-861A-20B03FA1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2D558-D622-4D29-B352-EDB4D97C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5C5A0-54AE-4961-9B45-8AE67F09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FD379-51BF-4261-B4C2-8DE555C9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E17-01F5-4417-A2C4-F87B2DEE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95A-873A-4EEA-8828-06B8FDC0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200-69DF-4DED-8595-4185639D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58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2E6-EF26-42E9-90EB-B98BE101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954-E270-4E4D-B91C-C9A0B059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1A1-2279-474D-B875-1A3EF17E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1DA-C6ED-44B7-AFBE-E0C91626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5.p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image6.pn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BCD5-764C-47C7-AEE1-B8B1CF9F6D9F}" type="datetime">
              <a:rPr b="0" lang="en-US" sz="10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2242-C6AF-4D3E-8D07-46D40A6D1E22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5.p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image6.pn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image1.jpg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image2.png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image3.png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image4.png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9508-865D-47ED-B53F-B6ED2B0F4C01}" type="datetime">
              <a:rPr b="0" lang="en-US" sz="10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F798-8BBF-4FF2-A9A5-5B7340250AD7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30240"/>
            <a:ext cx="8656920" cy="262728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130A-3F4C-4987-AA12-EB0EAD67A594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99" name="Группа 9"/>
          <p:cNvGrpSpPr/>
          <p:nvPr/>
        </p:nvGrpSpPr>
        <p:grpSpPr>
          <a:xfrm>
            <a:off x="285840" y="2428920"/>
            <a:ext cx="3628800" cy="2811240"/>
            <a:chOff x="285840" y="2428920"/>
            <a:chExt cx="3628800" cy="2811240"/>
          </a:xfrm>
        </p:grpSpPr>
        <p:pic>
          <p:nvPicPr>
            <p:cNvPr id="100" name="Рисунок 8" descr="img13.jpg"/>
            <p:cNvPicPr/>
            <p:nvPr/>
          </p:nvPicPr>
          <p:blipFill>
            <a:blip r:embed="rId2"/>
            <a:stretch/>
          </p:blipFill>
          <p:spPr>
            <a:xfrm>
              <a:off x="285840" y="2428920"/>
              <a:ext cx="3628800" cy="28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Рисунок 6" descr="img0.jpg"/>
            <p:cNvPicPr/>
            <p:nvPr/>
          </p:nvPicPr>
          <p:blipFill>
            <a:blip r:embed="rId3"/>
            <a:stretch/>
          </p:blipFill>
          <p:spPr>
            <a:xfrm>
              <a:off x="597240" y="2926080"/>
              <a:ext cx="2974680" cy="194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Группа 11"/>
          <p:cNvGrpSpPr/>
          <p:nvPr/>
        </p:nvGrpSpPr>
        <p:grpSpPr>
          <a:xfrm>
            <a:off x="4500720" y="2428920"/>
            <a:ext cx="3843360" cy="2882880"/>
            <a:chOff x="4500720" y="2428920"/>
            <a:chExt cx="3843360" cy="2882880"/>
          </a:xfrm>
        </p:grpSpPr>
        <p:pic>
          <p:nvPicPr>
            <p:cNvPr id="103" name="Рисунок 7" descr="img13.jpg"/>
            <p:cNvPicPr/>
            <p:nvPr/>
          </p:nvPicPr>
          <p:blipFill>
            <a:blip r:embed="rId4"/>
            <a:stretch/>
          </p:blipFill>
          <p:spPr>
            <a:xfrm>
              <a:off x="4500720" y="2428920"/>
              <a:ext cx="384336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Рисунок 10" descr="img13.jpg"/>
            <p:cNvPicPr/>
            <p:nvPr/>
          </p:nvPicPr>
          <p:blipFill>
            <a:blip r:embed="rId5"/>
            <a:stretch/>
          </p:blipFill>
          <p:spPr>
            <a:xfrm>
              <a:off x="5000760" y="4286520"/>
              <a:ext cx="2928960" cy="50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214200" y="1143000"/>
            <a:ext cx="46436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бы найти процент от числа, следует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ы записать десятичной дробью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ножить на эту десятичную дроб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0" name="Прямоугольник 4" descr=""/>
          <p:cNvPicPr/>
          <p:nvPr/>
        </p:nvPicPr>
        <p:blipFill>
          <a:blip r:embed="rId1"/>
          <a:stretch/>
        </p:blipFill>
        <p:spPr>
          <a:xfrm>
            <a:off x="-122400" y="0"/>
            <a:ext cx="9095040" cy="11462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5"/>
          <p:cNvSpPr/>
          <p:nvPr/>
        </p:nvSpPr>
        <p:spPr>
          <a:xfrm>
            <a:off x="3643200" y="3071880"/>
            <a:ext cx="5072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бы найти число по его процентам, следует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ы записать десятичной дробью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роцентов разделить на эту дроб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285840" y="4429080"/>
            <a:ext cx="4786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бы узнать, сколько процентов одно число составляет от второго, следует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число разделить на второе 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умножить на 100%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ECC4-F61D-4A98-A71E-237DF7E1D9FF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Овал 3"/>
          <p:cNvSpPr/>
          <p:nvPr/>
        </p:nvSpPr>
        <p:spPr>
          <a:xfrm>
            <a:off x="6659640" y="3068640"/>
            <a:ext cx="230508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Агроно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Овал 4"/>
          <p:cNvSpPr/>
          <p:nvPr/>
        </p:nvSpPr>
        <p:spPr>
          <a:xfrm>
            <a:off x="250920" y="2997360"/>
            <a:ext cx="2305080" cy="115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rbel"/>
              </a:rPr>
              <a:t>Ферм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Овал 5"/>
          <p:cNvSpPr/>
          <p:nvPr/>
        </p:nvSpPr>
        <p:spPr>
          <a:xfrm>
            <a:off x="324000" y="4437000"/>
            <a:ext cx="2303280" cy="115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Повар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Овал 6"/>
          <p:cNvSpPr/>
          <p:nvPr/>
        </p:nvSpPr>
        <p:spPr>
          <a:xfrm>
            <a:off x="1000080" y="1916280"/>
            <a:ext cx="2635200" cy="1081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rbel"/>
              </a:rPr>
              <a:t>Фармацев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Овал 7"/>
          <p:cNvSpPr/>
          <p:nvPr/>
        </p:nvSpPr>
        <p:spPr>
          <a:xfrm>
            <a:off x="3708360" y="1628640"/>
            <a:ext cx="2303640" cy="1079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rbel"/>
              </a:rPr>
              <a:t>Бухгалт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Овал 8"/>
          <p:cNvSpPr/>
          <p:nvPr/>
        </p:nvSpPr>
        <p:spPr>
          <a:xfrm>
            <a:off x="2050920" y="5229360"/>
            <a:ext cx="2376720" cy="129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Статис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Овал 9"/>
          <p:cNvSpPr/>
          <p:nvPr/>
        </p:nvSpPr>
        <p:spPr>
          <a:xfrm>
            <a:off x="6516720" y="4437000"/>
            <a:ext cx="2232000" cy="115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Товаровед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Овал 10"/>
          <p:cNvSpPr/>
          <p:nvPr/>
        </p:nvSpPr>
        <p:spPr>
          <a:xfrm>
            <a:off x="6012000" y="1989000"/>
            <a:ext cx="2160360" cy="1079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Продавец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Овал 13"/>
          <p:cNvSpPr/>
          <p:nvPr/>
        </p:nvSpPr>
        <p:spPr>
          <a:xfrm>
            <a:off x="4500720" y="5373720"/>
            <a:ext cx="2447640" cy="1150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Работники бан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73" name="Рисунок 14" descr="Без названия.png"/>
          <p:cNvPicPr/>
          <p:nvPr/>
        </p:nvPicPr>
        <p:blipFill>
          <a:blip r:embed="rId1"/>
          <a:stretch/>
        </p:blipFill>
        <p:spPr>
          <a:xfrm>
            <a:off x="3638520" y="2919240"/>
            <a:ext cx="2013120" cy="2017800"/>
          </a:xfrm>
          <a:prstGeom prst="rect">
            <a:avLst/>
          </a:prstGeom>
          <a:ln w="0">
            <a:noFill/>
          </a:ln>
        </p:spPr>
      </p:pic>
      <p:sp>
        <p:nvSpPr>
          <p:cNvPr id="174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CC38-EA71-4086-861D-C3FFE319160C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6 L 0.02501 -0.00741 L 0.04584 -0.02778 L 0.06112 -0.05741 L 0.08612 -0.09259 L 0.08889 -0.10741 L 0.09723 -0.14815 L 0.09584 -0.16667 L 0.08889 -0.21296 L 0.08334 -0.23333 L 0.04723 -0.26852 L 0.03056 -0.28148 L -0.00416 -0.28518 L -0.02499 -0.28518 L -0.04027 -0.28518 L -0.08055 -0.24259 L -0.08333 -0.23148 L -0.09027 -0.1963 L -0.08194 -0.14074 L -0.07777 -0.11852 L -0.06666 -0.10185 L -0.06111 -0.07593 L -0.05555 -0.06481 L -0.04305 -0.04259 L -0.03749 -0.02778 L -0.02083 -0.01296 L -0.00833 0.00556 L 0.01528 0.02407 L 0.03889 0.04444 L 0.09306 0.08889 L 0.10278 0.12963 L 0.10278 0.19444 L 0.08473 0.22037 L 0.06112 0.25741 L 0.02084 0.26482 L 0.01112 0.27037 L -0.02499 0.25926 L -0.04999 0.24074 L -0.07638 0.21482 L -0.10416 0.16852 L -0.10416 0.13704 L -0.08333 0.07037 L -0.06527 0.03519 L -0.03888 0.02037 L -0.02361 0.01111 L 6.94444E-006 -3.7037E-006 Z">
                                      <p:cBhvr>
                                        <p:cTn id="124" dur="5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442908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30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ата за телефон составляет 360 рублей в месяц. В следующем году она увеличится на 4%. Сколько рублей придётся платить ежемесячно за телефон в следующем году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77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й в продажу в январе мобильный телефон стоил 1600 рублей. В сентябре он стал стоить 960 руб­лей. На сколько процентов снизилась цена на мобиль­ный телефон в период с января по сентябрь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20984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54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вар на распродаже уценили на 25%, при этом он стал стоить 900 р. Сколько рублей стоил товар до распродажи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77" name="Прямоугольник 4" descr=""/>
          <p:cNvPicPr/>
          <p:nvPr/>
        </p:nvPicPr>
        <p:blipFill>
          <a:blip r:embed="rId1"/>
          <a:stretch/>
        </p:blipFill>
        <p:spPr>
          <a:xfrm>
            <a:off x="1768320" y="328680"/>
            <a:ext cx="5418360" cy="1098360"/>
          </a:xfrm>
          <a:prstGeom prst="rect">
            <a:avLst/>
          </a:prstGeom>
          <a:ln w="0">
            <a:noFill/>
          </a:ln>
        </p:spPr>
      </p:pic>
      <p:sp>
        <p:nvSpPr>
          <p:cNvPr id="178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08DF-C984-4E04-A7A6-90E6B0A39692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Текст 1"/>
          <p:cNvSpPr/>
          <p:nvPr/>
        </p:nvSpPr>
        <p:spPr>
          <a:xfrm>
            <a:off x="4643280" y="3071880"/>
            <a:ext cx="4071960" cy="3214800"/>
          </a:xfrm>
          <a:prstGeom prst="rect">
            <a:avLst/>
          </a:prstGeom>
          <a:blipFill rotWithShape="0">
            <a:blip r:embed="rId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Прямоугольник 4" descr=""/>
          <p:cNvPicPr/>
          <p:nvPr/>
        </p:nvPicPr>
        <p:blipFill>
          <a:blip r:embed="rId1"/>
          <a:stretch/>
        </p:blipFill>
        <p:spPr>
          <a:xfrm>
            <a:off x="420840" y="262080"/>
            <a:ext cx="822960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642960" y="1071720"/>
          <a:ext cx="3357720" cy="5240160"/>
        </p:xfrm>
        <a:graphic>
          <a:graphicData uri="http://schemas.openxmlformats.org/drawingml/2006/table">
            <a:tbl>
              <a:tblPr/>
              <a:tblGrid>
                <a:gridCol w="3357720"/>
              </a:tblGrid>
              <a:tr h="103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30) 374,4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7) 152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9)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0000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2)  30,8 тыс.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5) 875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5) 3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54) 12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2)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2) 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77)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86EE-1E18-4B4C-B80F-B94814D7FF18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786200" y="1571760"/>
            <a:ext cx="3757680" cy="4643280"/>
          </a:xfrm>
          <a:prstGeom prst="rect">
            <a:avLst/>
          </a:prstGeom>
          <a:blipFill rotWithShape="0">
            <a:blip r:embed="rId2">
              <a:alphaModFix amt="10000"/>
            </a:blip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Прямоугольник 4" descr=""/>
          <p:cNvPicPr/>
          <p:nvPr/>
        </p:nvPicPr>
        <p:blipFill>
          <a:blip r:embed="rId1"/>
          <a:stretch/>
        </p:blipFill>
        <p:spPr>
          <a:xfrm>
            <a:off x="328680" y="262080"/>
            <a:ext cx="84135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2071800" y="1285920"/>
          <a:ext cx="4762440" cy="4911840"/>
        </p:xfrm>
        <a:graphic>
          <a:graphicData uri="http://schemas.openxmlformats.org/drawingml/2006/table">
            <a:tbl>
              <a:tblPr/>
              <a:tblGrid>
                <a:gridCol w="2381040"/>
                <a:gridCol w="2381400"/>
              </a:tblGrid>
              <a:tr h="118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ип задач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мер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Процент от  заданного числа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0, 2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9, 24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 Нахождение числа по заданной его величине в процентах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  Процентное выражение одного числа от другог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2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FEE8-B27B-4E0E-94E1-955012468700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214200" y="137052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на уроке мне все было понятно. Со всеми заданиями я справился самостоятельно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!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На уроке мне почти все было понятно. Не все получалось сразу, но я все равно справился с задания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омогите! Мне требуется помощь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арисуйте, какое у вас настрое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8" name="Прямоугольник 2" descr=""/>
          <p:cNvPicPr/>
          <p:nvPr/>
        </p:nvPicPr>
        <p:blipFill>
          <a:blip r:embed="rId1"/>
          <a:stretch/>
        </p:blipFill>
        <p:spPr>
          <a:xfrm>
            <a:off x="1432080" y="249120"/>
            <a:ext cx="5919480" cy="11462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7" descr="vozvrat-protsentov.jpg"/>
          <p:cNvPicPr/>
          <p:nvPr/>
        </p:nvPicPr>
        <p:blipFill>
          <a:blip r:embed="rId2"/>
          <a:stretch/>
        </p:blipFill>
        <p:spPr>
          <a:xfrm>
            <a:off x="4929120" y="3214800"/>
            <a:ext cx="4214880" cy="3160440"/>
          </a:xfrm>
          <a:prstGeom prst="rect">
            <a:avLst/>
          </a:prstGeom>
          <a:ln w="0">
            <a:noFill/>
          </a:ln>
        </p:spPr>
      </p:pic>
      <p:sp>
        <p:nvSpPr>
          <p:cNvPr id="1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0943-60E2-49BD-B63C-9457DAF63987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714240" y="785880"/>
            <a:ext cx="7429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ую бы область человеческой жизни вы не затронули, в этой области обязательно находится проблема или задача решаемая с помощью процент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92" name="Рисунок 3" descr="promotii1-e1337879963573.jpg"/>
          <p:cNvPicPr/>
          <p:nvPr/>
        </p:nvPicPr>
        <p:blipFill>
          <a:blip r:embed="rId1"/>
          <a:stretch/>
        </p:blipFill>
        <p:spPr>
          <a:xfrm>
            <a:off x="2071800" y="3071880"/>
            <a:ext cx="6333840" cy="3333600"/>
          </a:xfrm>
          <a:prstGeom prst="rect">
            <a:avLst/>
          </a:prstGeom>
          <a:ln w="0">
            <a:noFill/>
          </a:ln>
        </p:spPr>
      </p:pic>
      <p:sp>
        <p:nvSpPr>
          <p:cNvPr id="19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CEAA-321B-44AC-9CBC-706ECFC9C4C9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109440"/>
            <a:ext cx="6765840" cy="110340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2" descr=""/>
          <p:cNvPicPr/>
          <p:nvPr/>
        </p:nvPicPr>
        <p:blipFill>
          <a:blip r:embed="rId2"/>
          <a:stretch/>
        </p:blipFill>
        <p:spPr>
          <a:xfrm>
            <a:off x="6480" y="2146320"/>
            <a:ext cx="8929440" cy="3284640"/>
          </a:xfrm>
          <a:prstGeom prst="rect">
            <a:avLst/>
          </a:prstGeom>
          <a:ln w="0">
            <a:noFill/>
          </a:ln>
        </p:spPr>
      </p:pic>
      <p:sp>
        <p:nvSpPr>
          <p:cNvPr id="1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C2FE-D6C9-43C5-84A1-C0D996A6F41F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6"/>
          <p:cNvSpPr/>
          <p:nvPr/>
        </p:nvSpPr>
        <p:spPr>
          <a:xfrm>
            <a:off x="214200" y="571680"/>
            <a:ext cx="85010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 люди талантливы! Когда-нибудь вы сами приятно поразитесь, как много  хорошего умеете, если будете постоянно работать над собой, ставить новые цели и стремиться к их достижению...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.Ж. Руссо (1712–1778 гг.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6" name="Рисунок 2" descr="logotip_od.png"/>
          <p:cNvPicPr/>
          <p:nvPr/>
        </p:nvPicPr>
        <p:blipFill>
          <a:blip r:embed="rId1"/>
          <a:stretch/>
        </p:blipFill>
        <p:spPr>
          <a:xfrm>
            <a:off x="214200" y="2357280"/>
            <a:ext cx="4881600" cy="423252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D4AB-5313-4405-9E8D-FF945066E2E2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480" y="152280"/>
            <a:ext cx="8429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orbel"/>
              </a:rPr>
              <a:t>Проценты в современной жизн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9" name="Группа 28"/>
          <p:cNvGrpSpPr/>
          <p:nvPr/>
        </p:nvGrpSpPr>
        <p:grpSpPr>
          <a:xfrm>
            <a:off x="785880" y="2000160"/>
            <a:ext cx="2143080" cy="1086120"/>
            <a:chOff x="785880" y="2000160"/>
            <a:chExt cx="2143080" cy="1086120"/>
          </a:xfrm>
        </p:grpSpPr>
        <p:sp>
          <p:nvSpPr>
            <p:cNvPr id="110" name="Овал 20"/>
            <p:cNvSpPr/>
            <p:nvPr/>
          </p:nvSpPr>
          <p:spPr>
            <a:xfrm>
              <a:off x="785880" y="2000160"/>
              <a:ext cx="2122560" cy="1086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11" name="Rectangle 1"/>
            <p:cNvSpPr/>
            <p:nvPr/>
          </p:nvSpPr>
          <p:spPr>
            <a:xfrm>
              <a:off x="928440" y="2079360"/>
              <a:ext cx="20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Вычисление цен на распродаже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12" name="Группа 30"/>
          <p:cNvGrpSpPr/>
          <p:nvPr/>
        </p:nvGrpSpPr>
        <p:grpSpPr>
          <a:xfrm>
            <a:off x="0" y="3478320"/>
            <a:ext cx="2214720" cy="1087200"/>
            <a:chOff x="0" y="3478320"/>
            <a:chExt cx="2214720" cy="1087200"/>
          </a:xfrm>
        </p:grpSpPr>
        <p:sp>
          <p:nvSpPr>
            <p:cNvPr id="113" name="Овал 22"/>
            <p:cNvSpPr/>
            <p:nvPr/>
          </p:nvSpPr>
          <p:spPr>
            <a:xfrm>
              <a:off x="0" y="3478320"/>
              <a:ext cx="2122920" cy="1087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14" name="Rectangle 2"/>
            <p:cNvSpPr/>
            <p:nvPr/>
          </p:nvSpPr>
          <p:spPr>
            <a:xfrm>
              <a:off x="285480" y="3503520"/>
              <a:ext cx="1929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Подсчет голосов на выборах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15" name="Группа 31"/>
          <p:cNvGrpSpPr/>
          <p:nvPr/>
        </p:nvGrpSpPr>
        <p:grpSpPr>
          <a:xfrm>
            <a:off x="1123920" y="4921560"/>
            <a:ext cx="2233800" cy="1087200"/>
            <a:chOff x="1123920" y="4921560"/>
            <a:chExt cx="2233800" cy="1087200"/>
          </a:xfrm>
        </p:grpSpPr>
        <p:sp>
          <p:nvSpPr>
            <p:cNvPr id="116" name="Овал 24"/>
            <p:cNvSpPr/>
            <p:nvPr/>
          </p:nvSpPr>
          <p:spPr>
            <a:xfrm>
              <a:off x="1123920" y="4923000"/>
              <a:ext cx="2121840" cy="10857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17" name="Rectangle 3"/>
            <p:cNvSpPr/>
            <p:nvPr/>
          </p:nvSpPr>
          <p:spPr>
            <a:xfrm>
              <a:off x="1142640" y="4921560"/>
              <a:ext cx="2215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При начислении пени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18" name="Группа 33"/>
          <p:cNvGrpSpPr/>
          <p:nvPr/>
        </p:nvGrpSpPr>
        <p:grpSpPr>
          <a:xfrm>
            <a:off x="3357720" y="5572080"/>
            <a:ext cx="2928960" cy="1071720"/>
            <a:chOff x="3357720" y="5572080"/>
            <a:chExt cx="2928960" cy="1071720"/>
          </a:xfrm>
        </p:grpSpPr>
        <p:sp>
          <p:nvSpPr>
            <p:cNvPr id="119" name="Овал 25"/>
            <p:cNvSpPr/>
            <p:nvPr/>
          </p:nvSpPr>
          <p:spPr>
            <a:xfrm>
              <a:off x="3357720" y="5572080"/>
              <a:ext cx="2786400" cy="1071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3429000" y="5646960"/>
              <a:ext cx="2857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При вычислении процентных отношений веществ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21" name="Группа 32"/>
          <p:cNvGrpSpPr/>
          <p:nvPr/>
        </p:nvGrpSpPr>
        <p:grpSpPr>
          <a:xfrm>
            <a:off x="6143760" y="4852080"/>
            <a:ext cx="2428920" cy="1313640"/>
            <a:chOff x="6143760" y="4852080"/>
            <a:chExt cx="2428920" cy="1313640"/>
          </a:xfrm>
        </p:grpSpPr>
        <p:sp>
          <p:nvSpPr>
            <p:cNvPr id="122" name="Овал 23"/>
            <p:cNvSpPr/>
            <p:nvPr/>
          </p:nvSpPr>
          <p:spPr>
            <a:xfrm>
              <a:off x="6143760" y="4923000"/>
              <a:ext cx="2203560" cy="10857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>
              <a:off x="6357960" y="4852080"/>
              <a:ext cx="2214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При подсчёте статистических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  </a:t>
              </a:r>
              <a:r>
                <a:rPr b="1" lang="ru-RU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данных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24" name="Группа 29"/>
          <p:cNvGrpSpPr/>
          <p:nvPr/>
        </p:nvGrpSpPr>
        <p:grpSpPr>
          <a:xfrm>
            <a:off x="6429240" y="3286080"/>
            <a:ext cx="2357640" cy="1087560"/>
            <a:chOff x="6429240" y="3286080"/>
            <a:chExt cx="2357640" cy="1087560"/>
          </a:xfrm>
        </p:grpSpPr>
        <p:sp>
          <p:nvSpPr>
            <p:cNvPr id="125" name="Овал 21"/>
            <p:cNvSpPr/>
            <p:nvPr/>
          </p:nvSpPr>
          <p:spPr>
            <a:xfrm>
              <a:off x="6429240" y="3286080"/>
              <a:ext cx="2357640" cy="1087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6723000" y="3337560"/>
              <a:ext cx="1825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При начислении зарплаты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27" name="Группа 27"/>
          <p:cNvGrpSpPr/>
          <p:nvPr/>
        </p:nvGrpSpPr>
        <p:grpSpPr>
          <a:xfrm>
            <a:off x="6327720" y="2036880"/>
            <a:ext cx="2816280" cy="1085760"/>
            <a:chOff x="6327720" y="2036880"/>
            <a:chExt cx="2816280" cy="1085760"/>
          </a:xfrm>
        </p:grpSpPr>
        <p:sp>
          <p:nvSpPr>
            <p:cNvPr id="128" name="Овал 19"/>
            <p:cNvSpPr/>
            <p:nvPr/>
          </p:nvSpPr>
          <p:spPr>
            <a:xfrm>
              <a:off x="6327720" y="2036880"/>
              <a:ext cx="2122560" cy="10857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6714720" y="2075040"/>
              <a:ext cx="242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При 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оформлении кредита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30" name="Группа 26"/>
          <p:cNvGrpSpPr/>
          <p:nvPr/>
        </p:nvGrpSpPr>
        <p:grpSpPr>
          <a:xfrm>
            <a:off x="3571920" y="1357200"/>
            <a:ext cx="2571840" cy="1087560"/>
            <a:chOff x="3571920" y="1357200"/>
            <a:chExt cx="2571840" cy="1087560"/>
          </a:xfrm>
        </p:grpSpPr>
        <p:sp>
          <p:nvSpPr>
            <p:cNvPr id="131" name="Овал 18"/>
            <p:cNvSpPr/>
            <p:nvPr/>
          </p:nvSpPr>
          <p:spPr>
            <a:xfrm>
              <a:off x="3571920" y="1357200"/>
              <a:ext cx="2122560" cy="1087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32" name="Прямоугольник 33"/>
            <p:cNvSpPr/>
            <p:nvPr/>
          </p:nvSpPr>
          <p:spPr>
            <a:xfrm>
              <a:off x="3857400" y="1428480"/>
              <a:ext cx="228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При расчёте тарифов за коммунальные 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133" name="Рисунок 28" descr="82568438.png"/>
          <p:cNvPicPr/>
          <p:nvPr/>
        </p:nvPicPr>
        <p:blipFill>
          <a:blip r:embed="rId1"/>
          <a:stretch/>
        </p:blipFill>
        <p:spPr>
          <a:xfrm>
            <a:off x="3143160" y="2786040"/>
            <a:ext cx="2309760" cy="2309760"/>
          </a:xfrm>
          <a:prstGeom prst="rect">
            <a:avLst/>
          </a:prstGeom>
          <a:ln w="0">
            <a:noFill/>
          </a:ln>
        </p:spPr>
      </p:pic>
      <p:sp>
        <p:nvSpPr>
          <p:cNvPr id="134" name="Номер слайда 2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B956-3455-4B68-A6A9-269B68EE2F33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2876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оцент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это сотая часть чис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Запись 1% означает 0,01 или 1/100.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1 %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вен 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сотой части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личины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о 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вся величина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вна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100%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6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-30240"/>
            <a:ext cx="3998880" cy="1103400"/>
          </a:xfrm>
          <a:prstGeom prst="rect">
            <a:avLst/>
          </a:prstGeom>
          <a:ln w="0">
            <a:noFill/>
          </a:ln>
        </p:spPr>
      </p:pic>
      <p:sp>
        <p:nvSpPr>
          <p:cNvPr id="13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EE2F-9E6B-4068-A1A6-15A642131A73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blipFill rotWithShape="0">
            <a:blip r:embed="rId1">
              <a:alphaModFix amt="10000"/>
            </a:blip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rbel"/>
              </a:rPr>
              <a:t>Pro cento – cento – cto - c/o - %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Так возник знак процента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9" name="Прямоугольник 3" descr=""/>
          <p:cNvPicPr/>
          <p:nvPr/>
        </p:nvPicPr>
        <p:blipFill>
          <a:blip r:embed="rId2"/>
          <a:stretch/>
        </p:blipFill>
        <p:spPr>
          <a:xfrm>
            <a:off x="55440" y="219240"/>
            <a:ext cx="8813880" cy="976320"/>
          </a:xfrm>
          <a:prstGeom prst="rect">
            <a:avLst/>
          </a:prstGeom>
          <a:ln w="0">
            <a:noFill/>
          </a:ln>
        </p:spPr>
      </p:pic>
      <p:sp>
        <p:nvSpPr>
          <p:cNvPr id="14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0239-7683-46F0-B2E3-FCA88D80D67E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"/>
          <p:cNvPicPr/>
          <p:nvPr/>
        </p:nvPicPr>
        <p:blipFill>
          <a:blip r:embed="rId1"/>
          <a:stretch/>
        </p:blipFill>
        <p:spPr>
          <a:xfrm>
            <a:off x="1071720" y="285840"/>
            <a:ext cx="6572160" cy="6072120"/>
          </a:xfrm>
          <a:prstGeom prst="rect">
            <a:avLst/>
          </a:prstGeom>
          <a:ln w="0">
            <a:noFill/>
          </a:ln>
        </p:spPr>
      </p:pic>
      <p:sp>
        <p:nvSpPr>
          <p:cNvPr id="14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C694-C956-4EB4-9553-11B000237C08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5508720" y="2276640"/>
            <a:ext cx="3311280" cy="3142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=100%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=200%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=0,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=1/4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=1/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=1/5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%=1,5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B8C0-3CD4-411E-A47B-0ED44657D962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395280" y="1197000"/>
            <a:ext cx="828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% от 100 </a:t>
            </a:r>
            <a:r>
              <a:rPr b="0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a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Найти число, если 3% этого числа равны 60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% от 100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% от числа составляют 14. Найдите число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% от числа составляет 250. Найдите это число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роцентов составляет число 250 от 1000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% от 100 </a:t>
            </a:r>
            <a:r>
              <a:rPr b="0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a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Сколько % составляет 200 м от 500 м</a:t>
            </a:r>
            <a:r>
              <a:rPr b="0" lang="ru-RU" sz="1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6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438120"/>
            <a:ext cx="415764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3" descr=""/>
          <p:cNvPicPr/>
          <p:nvPr/>
        </p:nvPicPr>
        <p:blipFill>
          <a:blip r:embed="rId1"/>
          <a:stretch/>
        </p:blipFill>
        <p:spPr>
          <a:xfrm>
            <a:off x="390600" y="109440"/>
            <a:ext cx="2577960" cy="11034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7120" y="1599840"/>
            <a:ext cx="4929120" cy="26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отреть различные  типы задач на проценты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ить алгоритм решения этих задач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ить знания к решению практических задач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9" name="Рисунок 5" descr="procent1.png"/>
          <p:cNvPicPr/>
          <p:nvPr/>
        </p:nvPicPr>
        <p:blipFill>
          <a:blip r:embed="rId2"/>
          <a:stretch/>
        </p:blipFill>
        <p:spPr>
          <a:xfrm>
            <a:off x="5357880" y="1714680"/>
            <a:ext cx="3427200" cy="4005000"/>
          </a:xfrm>
          <a:prstGeom prst="rect">
            <a:avLst/>
          </a:prstGeom>
          <a:ln w="0">
            <a:noFill/>
          </a:ln>
        </p:spPr>
      </p:pic>
      <p:sp>
        <p:nvSpPr>
          <p:cNvPr id="15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3433-3602-4972-831F-53029CDEB4DF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D1D6-12FC-4737-B279-F85EA52C6B60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971640" y="549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Как определять вид задачи на проценты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35000" y="1220760"/>
            <a:ext cx="8781840" cy="384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0" y="2976480"/>
            <a:ext cx="8408880" cy="5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1258920" y="1700280"/>
          <a:ext cx="6095880" cy="1112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он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5 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рахм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826920" y="3513240"/>
          <a:ext cx="6096240" cy="11127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он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Желе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,4 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55640" y="5424480"/>
          <a:ext cx="7056360" cy="1173240"/>
        </p:xfrm>
        <a:graphic>
          <a:graphicData uri="http://schemas.openxmlformats.org/drawingml/2006/table">
            <a:tbl>
              <a:tblPr/>
              <a:tblGrid>
                <a:gridCol w="2347920"/>
                <a:gridCol w="2360520"/>
                <a:gridCol w="2347920"/>
              </a:tblGrid>
              <a:tr h="39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              </a:t>
                      </a:r>
                      <a:r>
                        <a:rPr b="1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Зер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                     </a:t>
                      </a:r>
                      <a:r>
                        <a:rPr b="1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Всего посея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                 </a:t>
                      </a: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                   </a:t>
                      </a: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Взош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                 </a:t>
                      </a: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                      </a:t>
                      </a: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" name="Rectangle 4"/>
          <p:cNvSpPr/>
          <p:nvPr/>
        </p:nvSpPr>
        <p:spPr>
          <a:xfrm>
            <a:off x="309960" y="4970880"/>
            <a:ext cx="88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542121"/>
                </a:solidFill>
                <a:uFillTx/>
                <a:latin typeface="Calibri"/>
                <a:ea typeface="Times New Roman"/>
              </a:rPr>
              <a:t>3. Из 400 зерен пшеницы взошло 360. Определить процент всхожести семян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0:43:05Z</dcterms:created>
  <dc:creator/>
  <dc:description/>
  <dc:language>en-US</dc:language>
  <cp:lastModifiedBy/>
  <dcterms:modified xsi:type="dcterms:W3CDTF">2018-04-05T09:15:21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9</vt:lpwstr>
  </property>
  <property fmtid="{D5CDD505-2E9C-101B-9397-08002B2CF9AE}" pid="3" name="_TemplateID">
    <vt:lpwstr>TC100738461049</vt:lpwstr>
  </property>
</Properties>
</file>